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4269-756B-45C0-A6C2-D02112D2D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7965-8A4A-4FF5-84AB-E58C75E5D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A0CA-0D95-4895-82A8-50D9AB62F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7008-8BF2-4516-9F62-47F5B4688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13C93-6B50-41CD-8158-127B76CE6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7803A-E4FA-441A-BACF-71C608EF6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C1CB8-5C87-4426-824F-CB3212408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9A711-3328-463A-A683-1D3F0AD11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A2EE0-EC89-4F59-834A-9EB09D04C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482BB-4216-448A-B9EF-244381894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521DB-1BDB-4289-A85B-95448C03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8314-266F-4FA2-B793-813189671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7A7F0-CB1F-4F8F-96E0-DBC2F9387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CFC23-4B15-42CA-866D-1480E6C00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08BC2-630D-4119-9BEC-85513C0DF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FC152-390D-49D5-9B10-77B2AF1F4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98759-0492-4819-A92E-A81BCBD10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136CA-0164-4AA1-AD56-4351ACB0F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6293A-A6F3-4DFC-A9AA-379B7B4C6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F4721-AB19-4CCA-B0BD-0850CE0E9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83802-BC29-4E88-B0E5-91A8E46E1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B1408-5062-4AB9-8027-F5CD64CDA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BBC7-393A-4EEC-AC6D-F284AA147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1862F-FECB-4884-B0C0-EDFCF31BD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6BC72-EC5D-40DB-89BE-00E9908E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C5150-1719-4784-96FD-52CD8D66C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E4701-46AF-4EAF-AD14-DE7AA7358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AB269-EBBD-44F6-BF1B-02ED10F4C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5B8A0-8FCB-4612-A6E3-5AEB6E2A4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90107-52E6-4047-816B-C92BDF20E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A37D-6E86-4BE7-BCAA-2CC225989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D207-5DEE-4C76-8CD2-9B99BAD32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570F-0BD5-4BFF-BCA0-064BBE2EB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0060-6B03-42B7-A4E6-D68B378D4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C480-5F41-4EFE-AC2B-50EF2E91C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97AE-9131-4B71-8B45-8AB652E33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666FB-41F5-4E83-B22B-A94CD9CBD8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2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C8E99-302A-496C-A2B1-88D204AFBBA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9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F589F-8997-4ADB-8CF3-E12230F250E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8424720" cy="575928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11280" y="-243000"/>
            <a:ext cx="7772400" cy="12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ff"/>
                </a:solidFill>
                <a:latin typeface="Times New Roman"/>
              </a:rPr>
              <a:t>Впізнай казку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209080" cy="604836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82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ff"/>
                </a:solidFill>
                <a:latin typeface="Times New Roman"/>
              </a:rPr>
              <a:t>Рукавичк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209080" cy="56275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ff"/>
                </a:solidFill>
                <a:latin typeface="Times New Roman"/>
              </a:rPr>
              <a:t>Ріпк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8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8207280" cy="568836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ff"/>
                </a:solidFill>
                <a:latin typeface="Times New Roman"/>
              </a:rPr>
              <a:t>Колобо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8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rcRect l="0" t="23646" r="0" b="0"/>
          <a:stretch/>
        </p:blipFill>
        <p:spPr>
          <a:xfrm>
            <a:off x="611280" y="907920"/>
            <a:ext cx="8064360" cy="54468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ff"/>
                </a:solidFill>
                <a:latin typeface="Times New Roman"/>
              </a:rPr>
              <a:t>Цап і Баран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8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4000" y="907920"/>
            <a:ext cx="4457880" cy="2533680"/>
          </a:xfrm>
          <a:prstGeom prst="rect">
            <a:avLst/>
          </a:prstGeom>
          <a:ln w="0">
            <a:noFill/>
          </a:ln>
        </p:spPr>
      </p:pic>
      <p:sp>
        <p:nvSpPr>
          <p:cNvPr id="152" name="WordArt 18"/>
          <p:cNvSpPr txBox="1"/>
          <p:nvPr/>
        </p:nvSpPr>
        <p:spPr>
          <a:xfrm>
            <a:off x="2556000" y="4005360"/>
            <a:ext cx="41907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лодці!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3889440" cy="30956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859280" y="189000"/>
            <a:ext cx="3505320" cy="31986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2268360" y="3429000"/>
            <a:ext cx="428652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7778 -0.00209 L -0.42778 -0.00209 E">
                                      <p:cBhvr>
                                        <p:cTn id="78" dur="1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469 -0.01574 L 0.45469 -0.01574 E">
                                      <p:cBhvr>
                                        <p:cTn id="80" dur="1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path" presetID="4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972 -0.14583 L 0.13472 -0.14583 C 0.19079 -0.14583 0.25972 -0.23773 0.25972 -0.3125 L 0.25972 -0.47916 E">
                                      <p:cBhvr>
                                        <p:cTn id="84" dur="1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3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0.12083 L -0.00781 0.2875 C -0.00781 0.36227 0.06112 0.45416 0.11719 0.45416 L 0.24219 0.45416 E">
                                      <p:cBhvr>
                                        <p:cTn id="86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61" name="WordArt 18"/>
          <p:cNvSpPr txBox="1"/>
          <p:nvPr/>
        </p:nvSpPr>
        <p:spPr>
          <a:xfrm>
            <a:off x="2556000" y="4437000"/>
            <a:ext cx="419076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лодці!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4"/>
          <a:srcRect l="0" t="7396" r="0" b="0"/>
          <a:stretch/>
        </p:blipFill>
        <p:spPr>
          <a:xfrm>
            <a:off x="2556000" y="868320"/>
            <a:ext cx="4209840" cy="31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17:14:38Z</dcterms:created>
  <dc:creator>Customer</dc:creator>
  <dc:description/>
  <dc:language>en-US</dc:language>
  <cp:lastModifiedBy>Customer</cp:lastModifiedBy>
  <dcterms:modified xsi:type="dcterms:W3CDTF">2014-02-06T18:59:08Z</dcterms:modified>
  <cp:revision>16</cp:revision>
  <dc:subject/>
  <dc:title>Рукавичка</dc:title>
</cp:coreProperties>
</file>