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494A-62CD-4F24-ABE8-48FA61C2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A54C-AF10-4431-973C-C6C60BA4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D74C-3469-463E-847A-533CBD41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0DA-F95A-43C5-8966-B775D640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07BB-3B57-4B6A-8B3F-7D045657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8BB0-31E2-4F3C-85A4-DA210672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1F3E-812F-4D3A-A3C1-2021B3C7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E70B-6B94-4FF9-A04C-53916EE3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75DA-2CFE-47C1-BCEF-68A0F6BC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6EC-9021-4A48-BF5D-98732979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8895-B92F-48F2-B46D-2E30E0F9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4E03-B00E-4500-ACDD-05FC07DB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62D0-5A1F-43F1-9C98-B55A12537C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elen/&#1056;&#1072;&#1073;&#1086;&#1095;&#1080;&#1081;%20&#1089;&#1090;&#1086;&#1083;/&#1053;&#1086;&#1088;&#1084;&#1072;&#1090;&#1080;&#1074;&#1085;&#1110;%20&#1076;&#1086;&#1082;&#1091;&#1084;&#1077;&#1085;&#1090;&#1080;%2008.2012/&#1054;&#1088;&#1110;&#1108;&#1085;&#1090;&#1086;&#1074;&#1085;&#1080;&#1081;%20&#1075;&#1088;&#1072;&#1092;&#1110;&#1082;%20&#1087;&#1088;&#1086;&#1074;&#1077;&#1076;&#1077;&#1085;&#1085;&#1103;%20&#1075;&#1086;&#1076;&#1080;&#1085;%20&#1087;&#1089;&#1080;&#1093;&#1086;&#1083;&#1086;&#1075;&#1072;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shablony-dlya-prezentaziy-11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9680" y="1714680"/>
            <a:ext cx="7986600" cy="50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нінг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uk-UA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Попередження проявів дискримінації та расизму в учнівському середовищі. </a:t>
            </a:r>
            <a:br>
              <a:rPr sz="4000"/>
            </a:br>
            <a:r>
              <a:rPr b="1" lang="uk-UA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ізнай, прийми, теплом душі своєї обійми»</a:t>
            </a:r>
            <a:br>
              <a:rPr sz="4000"/>
            </a:br>
            <a:r>
              <a:rPr b="1" lang="uk-UA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актичний психолог </a:t>
            </a:r>
            <a:br>
              <a:rPr sz="2800"/>
            </a:br>
            <a:r>
              <a:rPr b="1" lang="uk-UA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атеринівської ЗОШ І-ІІІ ст.</a:t>
            </a:r>
            <a:br>
              <a:rPr sz="2800"/>
            </a:br>
            <a:r>
              <a:rPr b="1" lang="uk-UA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Чакубаш Вікторія Володимирівна</a:t>
            </a:r>
            <a:br>
              <a:rPr sz="6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9720" y="642600"/>
            <a:ext cx="7729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ипи стигми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3840" y="1571760"/>
            <a:ext cx="86439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Вроджена стигма:</a:t>
            </a:r>
            <a:r>
              <a:rPr b="0" lang="uk-UA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и, національності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релігії, які можуть передаватися у спадок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охоплювати всіх членів роди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Тілесні вад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ізного роду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зичні відхиле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Індивідуальні недоліки характеру, </a:t>
            </a:r>
            <a:br>
              <a:rPr sz="2400"/>
            </a:br>
            <a:r>
              <a:rPr b="1" lang="uk-UA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які сприймаються як слабкість волі: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имість, вживання наркотиків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мосексуалізм, втрата роботи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сутність певного місця проживання, спроби самогубства, радикальна політична позиція тощ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1157678_"/>
          <p:cNvPicPr/>
          <p:nvPr/>
        </p:nvPicPr>
        <p:blipFill>
          <a:blip r:embed="rId1"/>
          <a:srcRect l="18008" t="0" r="0" b="0"/>
          <a:stretch/>
        </p:blipFill>
        <p:spPr>
          <a:xfrm>
            <a:off x="5357880" y="2428920"/>
            <a:ext cx="1785960" cy="1446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E:\Старое\ХОНМИБО\33783897_558000.jpg"/>
          <p:cNvPicPr/>
          <p:nvPr/>
        </p:nvPicPr>
        <p:blipFill>
          <a:blip r:embed="rId2"/>
          <a:srcRect l="0" t="7510" r="10344" b="6115"/>
          <a:stretch/>
        </p:blipFill>
        <p:spPr>
          <a:xfrm>
            <a:off x="7072200" y="642960"/>
            <a:ext cx="1857600" cy="1643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E:\Старое\ХОНМИБО\203421_source.jpg"/>
          <p:cNvPicPr/>
          <p:nvPr/>
        </p:nvPicPr>
        <p:blipFill>
          <a:blip r:embed="rId3"/>
          <a:stretch/>
        </p:blipFill>
        <p:spPr>
          <a:xfrm>
            <a:off x="6429240" y="4000680"/>
            <a:ext cx="1798920" cy="1323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6760" y="642600"/>
            <a:ext cx="8372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Як виникає стигма?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28760" y="214272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ільство встановлює способи категоризації людей і визначає набір якостей, які вважаються нормальними і природними для кожної категорії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ершій зустрічі з незнайомцем перше враження про його зовнішність дозволяє віднести його до тієї чи іншої категорії і визначити його якості, тобто “соціальну ідентичність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. Гофм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4280" y="642600"/>
            <a:ext cx="7444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Як працює стигма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6760" y="1785600"/>
            <a:ext cx="8358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438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а, яка могла б легко брати участь у звичайній соціальній взаємодії, має певну особливість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а нав'язливо привертає до себе увагу і відвертає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нього співрозмовника, обмежуючи тим самим процес спілкування і перекриваючи шлях до інших особливостей цього індиві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438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438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ього є стигма, тобто небажана відмінність від норми, визначеної суспільством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1154327_"/>
          <p:cNvPicPr/>
          <p:nvPr/>
        </p:nvPicPr>
        <p:blipFill>
          <a:blip r:embed="rId1"/>
          <a:srcRect l="5868" t="0" r="3485" b="0"/>
          <a:stretch/>
        </p:blipFill>
        <p:spPr>
          <a:xfrm>
            <a:off x="1214280" y="571680"/>
            <a:ext cx="6572520" cy="524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p-50298-article"/>
          <p:cNvPicPr/>
          <p:nvPr/>
        </p:nvPicPr>
        <p:blipFill>
          <a:blip r:embed="rId1"/>
          <a:srcRect l="10608" t="0" r="30772" b="0"/>
          <a:stretch/>
        </p:blipFill>
        <p:spPr>
          <a:xfrm>
            <a:off x="571680" y="571680"/>
            <a:ext cx="3571560" cy="5171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E:\Старое\ХОНМИБО\092c0b872998f237e014269c410423bd.jpg"/>
          <p:cNvPicPr/>
          <p:nvPr/>
        </p:nvPicPr>
        <p:blipFill>
          <a:blip r:embed="rId2"/>
          <a:stretch/>
        </p:blipFill>
        <p:spPr>
          <a:xfrm>
            <a:off x="4357800" y="571680"/>
            <a:ext cx="42195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бальні прояви стигм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85880" y="1357200"/>
            <a:ext cx="75009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 повсякденному житті використовуються особливі терміни для позначення стигми </a:t>
            </a:r>
            <a:br>
              <a:rPr sz="2400"/>
            </a:b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 якості образного вислову, </a:t>
            </a:r>
            <a:br>
              <a:rPr sz="2400"/>
            </a:b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 задумуючись над їх початковим значення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1714680" y="5715000"/>
            <a:ext cx="4572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643040" y="2571840"/>
          <a:ext cx="6095880" cy="32004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і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ді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бі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кч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од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у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ю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хі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т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п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зофре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м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й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р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ьм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ІДоз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овнішня стигма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56760" y="1285560"/>
            <a:ext cx="85726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сується конкретних проявів стигми та дискримінації. Це стигма, яка міститься в площині соціальних стереотипів, упереджень, настанов, міфів суспіль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проявлятися у формах домінації, пригнічення, використання сили та контролю, агресії, категоризації, звинувачення, покарання, осуду, виключення, висміювання, обра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ника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– нетолерантне, нетерпиме ставлення до людей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боку оточуючи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9720" y="1000080"/>
            <a:ext cx="62866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игматизація та дискримінація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57120" y="221436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гматизація взаємопов'язана з дискримінаціє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римін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вчинки, спричинені стигмою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 здійснюються з метою девальвації (знецінення)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зниження життєвих можливостей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гматизованої люди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гматизація спричиняє дискримінацію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а, у свою чергу, зумовлює внутрішню стигму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а заохочує і підсилює стигматизацію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юючи таким чином замкнене ко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Що таке дискримінація?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28760" y="185688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Дискримін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лат. Discriminatio — розрізнення) визначається як навмисне обмеження прав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ни населення, окремих соціальних груп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індивідів за певною ознакою (раса, вік, стать, національність, релігійні переконання, сексуальна орієнтація, стан здоров’я, вид занять тощо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е обмеження може бути підкріплено законодавством (правова дискримінація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8999640" cy="675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4" descr="shablony-dlya-prezentaziy-11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9680" y="2214360"/>
            <a:ext cx="798660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ff"/>
              </a:solidFill>
              <a:latin typeface="Monotype Corsiva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857160" y="1214280"/>
            <a:ext cx="7286760" cy="5000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-47520" y="0"/>
            <a:ext cx="9191520" cy="689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-47520" y="0"/>
            <a:ext cx="9191520" cy="689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7640" y="12600"/>
            <a:ext cx="9126360" cy="6845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47520" y="0"/>
            <a:ext cx="9191520" cy="689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47520" y="0"/>
            <a:ext cx="9191520" cy="6894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shablony-dlya-prezentaziy-11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71680" y="2285640"/>
            <a:ext cx="72864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права «Защіпка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3" descr="shablony-dlya-prezentaziy-11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85880" y="2357280"/>
            <a:ext cx="728640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права «Дві історії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3" descr="shablony-dlya-prezentaziy-11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85880" y="2357280"/>
            <a:ext cx="728640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бота в групах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Що чекає на родини у далеких чужих країнах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3" descr="shablony-dlya-prezentaziy-11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85880" y="2357280"/>
            <a:ext cx="728640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бота в групах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Що чекає на родини у далеких чужих країнах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пропонуйте шляхи вирішення пробл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-47520" y="0"/>
            <a:ext cx="9191520" cy="689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4" descr="shablony-dlya-prezentaziy-11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85520" y="1856880"/>
            <a:ext cx="73580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прав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9720" y="2928960"/>
            <a:ext cx="71154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“</a:t>
            </a:r>
            <a:r>
              <a:rPr b="0" lang="uk-UA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ймаємо  правила роботи  групи”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-47520" y="0"/>
            <a:ext cx="9191520" cy="689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3" descr="shablony-dlya-prezentaziy-11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85880" y="2357280"/>
            <a:ext cx="728640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права «Серце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3" descr="shablony-dlya-prezentaziy-11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13880" y="2357280"/>
            <a:ext cx="73580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ов, повага, розуміння і чисте серце без образ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uk-UA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наче сонячне проміння  хай завжди зігрівають вас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shablony-dlya-prezentaziy-11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найомство «Бінго»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56800" y="2286000"/>
            <a:ext cx="728676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91440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Ім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’</a:t>
            </a:r>
            <a:r>
              <a:rPr b="1" lang="uk-UA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оббі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рія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говорення ситуації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28760" y="328572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ля організації плануванн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години психолога розробляєтьс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графік на місяц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5" descr="shablony-dlya-prezentaziy-11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Содержимое 2"/>
          <p:cNvSpPr/>
          <p:nvPr/>
        </p:nvSpPr>
        <p:spPr>
          <a:xfrm>
            <a:off x="1285920" y="2071800"/>
            <a:ext cx="764388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хоплююсь……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рію про…..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ийти переможцем зі складних життєвих ситуацій мені допомагають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2928960" y="128592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найомство «Бінго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5" descr="shablony-dlya-prezentaziy-11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785880" y="1928520"/>
            <a:ext cx="75009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прав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онячні промінчики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28440" y="3499920"/>
            <a:ext cx="700092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6" descr="shablony-dlya-prezentaziy-11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2143080"/>
            <a:ext cx="747252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бота в групах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вданн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найти ключові слова - понятт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оли виникла стигма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00040" y="1285560"/>
            <a:ext cx="81835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ки придумали термін 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стигма”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зви </a:t>
            </a:r>
            <a:br>
              <a:rPr sz="2400"/>
            </a:br>
            <a:r>
              <a:rPr b="1" lang="uk-UA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тілесних ознак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і демонстрували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сь незвичайне або погане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оральному статусі індивід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Вирізані або випечені та тілі людини знаки</a:t>
            </a:r>
            <a:r>
              <a:rPr b="1" lang="uk-UA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ли про те, що їх носій – раб, злочинець, зрадник, тобто людина, яка заплямувала себе ганьбою, той, кого варто уникати, особливо у публічних місця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з цей термін широко використовується, однак означає не стільки знак на тілі, скільки </a:t>
            </a:r>
            <a:r>
              <a:rPr b="1" lang="uk-UA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вказує на принизливий (ганебний)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 стату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дивіда як тако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E:\Старое\ХОНМИБО\стигма.jpg"/>
          <p:cNvPicPr/>
          <p:nvPr/>
        </p:nvPicPr>
        <p:blipFill>
          <a:blip r:embed="rId1"/>
          <a:srcRect l="0" t="15118" r="0" b="4219"/>
          <a:stretch/>
        </p:blipFill>
        <p:spPr>
          <a:xfrm>
            <a:off x="6215040" y="1763640"/>
            <a:ext cx="2354400" cy="1633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2720" y="285480"/>
            <a:ext cx="5715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Що таке стигма?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85840" y="1214280"/>
            <a:ext cx="8400960" cy="16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игм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глибоко дискредитуючий атрибут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ий проявляється в заниженні можливостей стигматизованої людини шляхом дискримінаційних ді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ffman, 1963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85840" y="3143160"/>
            <a:ext cx="837252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чені визначають стигму як певну негативно оцінену суспільством ознаку, яка визначає статус людини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поведінку оточуючих стосовно не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игм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 соціально сконструйованим явищем, яке призводить до знецінення людини і має негативний вплив на стигматизовану люд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08:12:52Z</dcterms:created>
  <dc:creator>helen</dc:creator>
  <dc:description/>
  <dc:language>en-US</dc:language>
  <cp:lastModifiedBy>XTreme</cp:lastModifiedBy>
  <dcterms:modified xsi:type="dcterms:W3CDTF">2017-12-06T18:13:01Z</dcterms:modified>
  <cp:revision>14</cp:revision>
  <dc:subject/>
  <dc:title>Методичні рекомендації щодо проведення годин психолога</dc:title>
</cp:coreProperties>
</file>