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gif" ContentType="image/gif"/>
  <Override PartName="/ppt/media/image26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4.png" ContentType="image/png"/>
  <Override PartName="/ppt/media/image21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A95-B4D0-46DA-A39E-C84EF787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4AF-BF94-4B95-B938-09DE04E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EE7-1EC5-47E5-A2D4-D9A0E98F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6D7-C72D-4CC4-8A22-7287CA22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6EE4-B651-43FD-8E97-77FB9FCA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6F51-DC7B-473D-91D2-EFBF350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B4F-0DFC-496E-AA78-C1F39C6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FB63-9A2C-4783-919F-05BD9AEE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4AE1-D56E-4747-A5C2-AB6B4FB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6C49-5D1A-4B03-A8EA-FC603EC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694B-1AF3-41C4-9A64-8DE99D5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8C7-8953-40CC-97EF-0480282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A536-4C5A-4E6D-8AE7-D0DFEFDF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7DCA-4FD5-4B1D-97C4-36741508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1F89-D14A-407D-8532-AA168047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4FD1-B894-4D2B-BC05-22F8C076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32D6-F728-4F6E-813C-0B62ACC9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0F5-FF67-4446-80F8-9CE6644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DAF-7C75-4C08-964F-834882BB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D64-EE88-4841-80FE-9D58AC5B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0D7-814E-4F70-A8BC-2E993C98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A18-6466-48FF-BBAF-67A37C90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E19-794E-41CD-9B39-9C681CA0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0E9-4978-46A1-85EE-43CAC1D8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міна Н.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D57E-6748-451E-A317-00AC438261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міна Н.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2849-F7C2-4F68-BADC-08BB990F66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13C3-2E1F-4A57-AA92-CE4FDAA93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M:\Doc\Картинки\осінь.jpg"/>
          <p:cNvPicPr/>
          <p:nvPr/>
        </p:nvPicPr>
        <p:blipFill>
          <a:blip r:embed="rId1"/>
          <a:stretch/>
        </p:blipFill>
        <p:spPr>
          <a:xfrm>
            <a:off x="539640" y="503280"/>
            <a:ext cx="806472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8DBD-EB07-4FFC-A2A6-E82F065836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Rectangle 4" descr=""/>
          <p:cNvPicPr/>
          <p:nvPr/>
        </p:nvPicPr>
        <p:blipFill>
          <a:blip r:embed="rId1"/>
          <a:stretch/>
        </p:blipFill>
        <p:spPr>
          <a:xfrm>
            <a:off x="-60480" y="804960"/>
            <a:ext cx="8886960" cy="3413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808360" cy="2735280"/>
          </a:xfrm>
          <a:prstGeom prst="rect">
            <a:avLst/>
          </a:prstGeom>
          <a:ln w="38160">
            <a:solidFill>
              <a:srgbClr val="fdbd40"/>
            </a:solidFill>
            <a:miter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85680" y="109440"/>
            <a:ext cx="8802720" cy="649296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5"/>
          <p:cNvSpPr/>
          <p:nvPr/>
        </p:nvSpPr>
        <p:spPr>
          <a:xfrm>
            <a:off x="6372360" y="6237360"/>
            <a:ext cx="25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C98E-D2E2-4391-8553-2DD11205EB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0258-D772-46AF-8AA4-EF0EF9AEB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MP90044910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4" descr=""/>
          <p:cNvPicPr/>
          <p:nvPr/>
        </p:nvPicPr>
        <p:blipFill>
          <a:blip r:embed="rId2"/>
          <a:stretch/>
        </p:blipFill>
        <p:spPr>
          <a:xfrm>
            <a:off x="281160" y="5016600"/>
            <a:ext cx="8789760" cy="1719000"/>
          </a:xfrm>
          <a:prstGeom prst="rect">
            <a:avLst/>
          </a:prstGeom>
          <a:ln w="0">
            <a:noFill/>
          </a:ln>
        </p:spPr>
      </p:pic>
      <p:pic>
        <p:nvPicPr>
          <p:cNvPr id="161" name="5fa0ad863bb9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5fa0ad863bb9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82048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8204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BB1F-D05E-44FD-97A6-ABBAF747DB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5" name="Picture 2" descr="C:\Documents and Settings\Admin\Рабочий стол\калина.jpg"/>
          <p:cNvPicPr/>
          <p:nvPr/>
        </p:nvPicPr>
        <p:blipFill>
          <a:blip r:embed="rId1"/>
          <a:stretch/>
        </p:blipFill>
        <p:spPr>
          <a:xfrm>
            <a:off x="507960" y="387360"/>
            <a:ext cx="812808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rl.foto.radikal.ru/0709/ff/7124920142b9.png"/>
          <p:cNvPicPr/>
          <p:nvPr/>
        </p:nvPicPr>
        <p:blipFill>
          <a:blip r:embed="rId1"/>
          <a:stretch/>
        </p:blipFill>
        <p:spPr>
          <a:xfrm rot="1555800">
            <a:off x="596520" y="623880"/>
            <a:ext cx="7726320" cy="6324480"/>
          </a:xfrm>
          <a:prstGeom prst="rect">
            <a:avLst/>
          </a:prstGeom>
          <a:ln w="0">
            <a:noFill/>
          </a:ln>
        </p:spPr>
      </p:pic>
      <p:pic>
        <p:nvPicPr>
          <p:cNvPr id="167" name="Заголовок 1" descr=""/>
          <p:cNvPicPr/>
          <p:nvPr/>
        </p:nvPicPr>
        <p:blipFill>
          <a:blip r:embed="rId2"/>
          <a:stretch/>
        </p:blipFill>
        <p:spPr>
          <a:xfrm>
            <a:off x="1755720" y="1695600"/>
            <a:ext cx="577224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8628-D2B7-4BD1-BE6E-E11F408A69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Рисунок 10" descr="1238328815_22_megalife.jpg"/>
          <p:cNvPicPr/>
          <p:nvPr/>
        </p:nvPicPr>
        <p:blipFill>
          <a:blip r:embed="rId3"/>
          <a:stretch/>
        </p:blipFill>
        <p:spPr>
          <a:xfrm>
            <a:off x="4932360" y="2852640"/>
            <a:ext cx="2160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631-8E57-4DAF-936A-3B2FAC52D3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2" name="Picture 2" descr="C:\Documents and Settings\Admin\Рабочий стол\шиповник.jpg"/>
          <p:cNvPicPr/>
          <p:nvPr/>
        </p:nvPicPr>
        <p:blipFill>
          <a:blip r:embed="rId1"/>
          <a:stretch/>
        </p:blipFill>
        <p:spPr>
          <a:xfrm>
            <a:off x="571680" y="571680"/>
            <a:ext cx="7810200" cy="5857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E321-6A57-4D46-B8E7-7333DFF44E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5" name="Picture 2" descr="C:\Documents and Settings\Admin\Рабочий стол\Ячмень 1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BCC-F198-4CDA-8F93-6BD001E2F0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Домашнє завдання:впр.140(3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1238328824_19_megalife.jpg"/>
          <p:cNvPicPr/>
          <p:nvPr/>
        </p:nvPicPr>
        <p:blipFill>
          <a:blip r:embed="rId1"/>
          <a:stretch/>
        </p:blipFill>
        <p:spPr>
          <a:xfrm>
            <a:off x="1285920" y="0"/>
            <a:ext cx="6626160" cy="5299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2219400" y="2292480"/>
            <a:ext cx="4522680" cy="2077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DDEA-AF2D-4536-8B90-1EC1176F71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F3AB-82EF-4EF0-A233-B9845D60A2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8" name="Picture 2" descr="C:\Documents and Settings\Admin\Рабочий стол\можжевельник.jpg"/>
          <p:cNvPicPr/>
          <p:nvPr/>
        </p:nvPicPr>
        <p:blipFill>
          <a:blip r:embed="rId1"/>
          <a:stretch/>
        </p:blipFill>
        <p:spPr>
          <a:xfrm>
            <a:off x="357120" y="214200"/>
            <a:ext cx="848700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6D9-350A-4362-B958-0CB9CFD0BF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179280" y="1557360"/>
            <a:ext cx="8856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Слова близькі за значенн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Синоні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-146160" y="328680"/>
            <a:ext cx="4254480" cy="1135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"/>
          <p:cNvPicPr/>
          <p:nvPr/>
        </p:nvPicPr>
        <p:blipFill>
          <a:blip r:embed="rId2"/>
          <a:stretch/>
        </p:blipFill>
        <p:spPr>
          <a:xfrm>
            <a:off x="6516720" y="4292640"/>
            <a:ext cx="1765440" cy="2016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D47F-1C0A-4304-9021-0C3142AFD7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482436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авдання уроку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3743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a26d18"/>
                </a:solidFill>
                <a:latin typeface="Times New Roman"/>
              </a:rPr>
              <a:t>формувати уміння добирати синоніми і використовувати їх у мовленні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d4500"/>
                </a:solidFill>
                <a:latin typeface="Times New Roman"/>
              </a:rPr>
              <a:t>збагачувати словниковий запас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d4500"/>
                </a:solidFill>
                <a:latin typeface="Times New Roman"/>
              </a:rPr>
              <a:t>вчити будувати реченн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knigi-169"/>
          <p:cNvPicPr/>
          <p:nvPr/>
        </p:nvPicPr>
        <p:blipFill>
          <a:blip r:embed="rId1"/>
          <a:stretch/>
        </p:blipFill>
        <p:spPr>
          <a:xfrm rot="675600">
            <a:off x="7192440" y="4565160"/>
            <a:ext cx="160200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1174-6AB7-4819-9D6D-73F8A76400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9" name="Picture 2" descr="C:\Documents and Settings\Admin\Рабочий стол\клен лист.jpg"/>
          <p:cNvPicPr/>
          <p:nvPr/>
        </p:nvPicPr>
        <p:blipFill>
          <a:blip r:embed="rId1"/>
          <a:stretch/>
        </p:blipFill>
        <p:spPr>
          <a:xfrm>
            <a:off x="1146240" y="857160"/>
            <a:ext cx="6850080" cy="5140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88C0-A307-4E98-B7B2-C99E223BB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ectangle 4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8772480" cy="202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MC900437990[1]"/>
          <p:cNvPicPr/>
          <p:nvPr/>
        </p:nvPicPr>
        <p:blipFill>
          <a:blip r:embed="rId2"/>
          <a:stretch/>
        </p:blipFill>
        <p:spPr>
          <a:xfrm>
            <a:off x="395280" y="2781360"/>
            <a:ext cx="2521080" cy="24001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427280" y="2636640"/>
            <a:ext cx="471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едставник від кожної групи ознайомлює з інформацією кл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7" descr="1238328653_4_megalife.jpg"/>
          <p:cNvPicPr/>
          <p:nvPr/>
        </p:nvPicPr>
        <p:blipFill>
          <a:blip r:embed="rId3"/>
          <a:stretch/>
        </p:blipFill>
        <p:spPr>
          <a:xfrm>
            <a:off x="3492360" y="2060640"/>
            <a:ext cx="5310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79CB-92F2-4BA7-B234-C930677938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ectangle 4" descr=""/>
          <p:cNvPicPr/>
          <p:nvPr/>
        </p:nvPicPr>
        <p:blipFill>
          <a:blip r:embed="rId1"/>
          <a:stretch/>
        </p:blipFill>
        <p:spPr>
          <a:xfrm>
            <a:off x="1579680" y="249120"/>
            <a:ext cx="4924440" cy="58467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447640" cy="30240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148" name="Picture 9" descr="MC900335748[1]"/>
          <p:cNvPicPr/>
          <p:nvPr/>
        </p:nvPicPr>
        <p:blipFill>
          <a:blip r:embed="rId3"/>
          <a:stretch/>
        </p:blipFill>
        <p:spPr>
          <a:xfrm>
            <a:off x="0" y="115920"/>
            <a:ext cx="177336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AFF-F3BF-4424-B11B-7871696277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ectangle 4" descr=""/>
          <p:cNvPicPr/>
          <p:nvPr/>
        </p:nvPicPr>
        <p:blipFill>
          <a:blip r:embed="rId1"/>
          <a:stretch/>
        </p:blipFill>
        <p:spPr>
          <a:xfrm>
            <a:off x="-12600" y="1620720"/>
            <a:ext cx="9296280" cy="2963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" descr=""/>
          <p:cNvPicPr/>
          <p:nvPr/>
        </p:nvPicPr>
        <p:blipFill>
          <a:blip r:embed="rId2"/>
          <a:stretch/>
        </p:blipFill>
        <p:spPr>
          <a:xfrm>
            <a:off x="6732720" y="4581360"/>
            <a:ext cx="1584360" cy="19162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152" name="Picture 9" descr="MC900335748[1]"/>
          <p:cNvPicPr/>
          <p:nvPr/>
        </p:nvPicPr>
        <p:blipFill>
          <a:blip r:embed="rId3"/>
          <a:stretch/>
        </p:blipFill>
        <p:spPr>
          <a:xfrm>
            <a:off x="0" y="115920"/>
            <a:ext cx="177336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28:09Z</dcterms:created>
  <dc:creator>НАТАЛІ</dc:creator>
  <dc:description/>
  <dc:language>en-US</dc:language>
  <cp:lastModifiedBy>Я</cp:lastModifiedBy>
  <dcterms:modified xsi:type="dcterms:W3CDTF">2017-07-16T09:07:11Z</dcterms:modified>
  <cp:revision>61</cp:revision>
  <dc:subject/>
  <dc:title>Українське читання             3 кл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43000000000001024140</vt:lpwstr>
  </property>
</Properties>
</file>