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09F-F16D-4CC6-AA34-8987CD19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78E-540B-4243-8E3C-47E7629A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384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EB3-0B2E-44B5-BA2E-589CA43E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784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5216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784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5216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A12-96EE-4DC2-91D6-98503DCB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0DCB-88E0-4BC6-9208-7F5510C5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7431-81EB-4EE4-B1B8-F856610A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B806-CBF8-4B5B-8A04-6DAD186F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6695-8A6D-4296-AEDA-2DD55520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03C1-A8F6-4E56-B9C9-B301433D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47F-CB6F-45E0-AECF-EC9EA910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01BE-C4E9-4935-8A21-72107809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60C-7F67-4E36-926D-DD43510E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384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57B4-1218-4601-ADC5-625C6E5F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5CF3-0F28-4189-A863-EBA392FE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DC1E-5547-4D1E-97B3-4C84E137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384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77E0-2B77-4A10-B0F0-198355FA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784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5216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784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5216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5BAC-0161-4225-BEED-B84541C8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CFC-A7EA-4A4F-958E-83EA8D24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F03-A3D0-468A-84C5-0E80DCC3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3D7-2AA1-4BB0-865C-EDD4EEBD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8BC-762C-42D1-8DEB-5F60DCF1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160-E500-4777-9990-4FFD805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384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759-C01F-4E9C-AEBB-7398571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384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C8A-E828-4759-BD35-6C639749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02C-789E-43D7-A109-06589AC3D9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573-1FEE-4DF4-B002-1FDBAFFE43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58672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Gabriola"/>
              </a:rPr>
              <a:t>Методика розвитку зв'язного мовлення старших дошкільників</a:t>
            </a:r>
            <a:endParaRPr b="0" lang="en-US" sz="4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320" y="388620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хователь-методист ДНЗ №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рохіна Н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витку монологічного мовлення дітей учать: 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ічно й послідовно будувати розповідь без повторів, пауз, зайвих жест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увати назву тексту, вживати різноманітні художньо-поетичні вирази, приказки, фразеологічні звороти, звертання, вигуки, вставні слова, пряму мо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533520" y="625320"/>
            <a:ext cx="81532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ти описові розповіді, загадки про іграшки, ситуації за змістом карт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ти сюжетні розповіді за змістом картин та на задану тем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вати розповіді з власного досвіду, творчі розповіді за опорними словами, продовження історії, розпочатої виховател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азувати оповідання та казки близько до тек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формою розповіді можуть бути: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81080"/>
            <a:ext cx="6400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ові 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виклад характерних ознак предмета або явищ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і -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передача подій, які змінюються в ча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ізновиди описових розповідей: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івняльна (опис двох предметів з контрастними ознаками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снювальна (розповідь з елементами розмірковування, доведення, у супроводі показу названих ді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пова структура творчих, вигаданих розповідей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позиц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зивається герой (або герої), іноді дається опис їх зовнішнього вигляд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’язк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розповідається, коли, де відбувалася дія далі дія розвивається, встановлюються зв’язки між епізод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’язк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  закінч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навчанні дітей розповіді застосовуються такі прийоми: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разок розповіді виховате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адання розповіді за частин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ективне складання розповідей та ін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інчення дітьми розповіді, розпочатої виховател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55800" y="1397160"/>
            <a:ext cx="716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а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відоме відтворення літературного тексту в усному мовленні. Це — складна діяльність, у якій беруть участь пам'ять, уява, мислення дити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 для переказу мають відповідати таким вимогам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ід добирати лише такі літературні тексти, які дитина зможе самостійно відтвори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ки та оповідання мають бути доступни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жі — добре знайомими дітям з інших творів, з яскраво вираженими рисами характеру, зрозумілими мотивами вчинкі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повіші способи організації переказу: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ий (цільний) переказ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аз за частинами (командами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ктивний переказ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ий перек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ковий пере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440" y="5569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1"/>
          <a:srcRect l="0" t="9714" r="0" b="9714"/>
          <a:stretch/>
        </p:blipFill>
        <p:spPr>
          <a:xfrm>
            <a:off x="1792440" y="533520"/>
            <a:ext cx="3465360" cy="2438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440" y="3048120"/>
            <a:ext cx="5486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ngsana New"/>
              </a:rPr>
              <a:t>Дякую за уваг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5400" spc="-1" strike="noStrike">
                <a:solidFill>
                  <a:srgbClr val="000000"/>
                </a:solidFill>
                <a:latin typeface="Gabriola"/>
                <a:ea typeface="Gautami"/>
              </a:rPr>
              <a:t>Слово відтворює світ всередині самої люди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'язне мовлення 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895480"/>
            <a:ext cx="74678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текст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ловесно виражений продукт мовленнєво-розумової діяльності людини, якому властива завершеність, структурна цілісність, визначена цілеспрямованість та прагматична настан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низ 1"/>
          <p:cNvSpPr/>
          <p:nvPr/>
        </p:nvSpPr>
        <p:spPr>
          <a:xfrm flipH="1">
            <a:off x="4114800" y="1523880"/>
            <a:ext cx="914400" cy="838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 діалогічної компетенції</a:t>
            </a:r>
            <a:r>
              <a:rPr b="0" lang="uk-UA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тина вільно, невимушено вступає в розмову з дітьми, дорослими, підтримує запропонований діалог відповідно до теми, не втручається в розмову інших. Будує запропонований діалог відповідно до ситуації, відповідає на запитання, звернені до дитини, за змістом картини, художніх творів. Виконує словесні доручення, звітує про їх виконанн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розвитку діалогічного мовлення: 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421920" algn="just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и дітей відповідати на запитання та звертатися до інших із запитання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увати розмову; продовжувати її відповідно до ситуації спілкуван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яти ініціативу в розмові з дорослими та діть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вати діалог на запропоновану т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форми діалогічного мовлення:</a:t>
            </a:r>
            <a:endParaRPr b="0" lang="en-US" sz="4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676520" y="2057400"/>
            <a:ext cx="3047760" cy="1828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м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"/>
          <p:cNvSpPr/>
          <p:nvPr/>
        </p:nvSpPr>
        <p:spPr>
          <a:xfrm>
            <a:off x="4724280" y="3886200"/>
            <a:ext cx="2895840" cy="1981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і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проведення розмови: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2120" y="1216080"/>
            <a:ext cx="869328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ібна довірлива, спокійна атмосфера в групі, повага з боку дорослих до особистості кожної дитини, її інтересів, нахилів, настро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ова має відбуватися в невимушеній, вільній, партнерській формі обміну репліками, запитаннями, поясненнями,  оцінками тощ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ка, тривалість, зміст розмови визначається ситуацією, педагогічними завданнями, бажанням дітей чи дорослих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іда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ий словесний метод навчання, який визначає зміст заняття з дітьми, специфічний вид занят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йом, важлива частина будь-якого заняття, наприклад, вступна, пояснювальна, узагальнювальна бесіда, бесіда-супровід будь-якої діяльності тощ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основні форми монологу: </a:t>
            </a:r>
            <a:endParaRPr b="0" lang="en-US" sz="4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8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а розповідь — дитина самостійно обирає зміст та форму свого висловлю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аз — матеріалом для висловлювання-відтворення є літературно-художній тек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ok</dc:creator>
  <dc:description/>
  <dc:language>en-US</dc:language>
  <cp:lastModifiedBy>UserXP</cp:lastModifiedBy>
  <dcterms:modified xsi:type="dcterms:W3CDTF">2017-10-29T13:22:1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