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BD8D-63D4-472A-9848-EE1389E3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AB00-C9A6-48DF-AAE9-4DD35848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CFFD-5C52-4AA2-98E0-62FAF4F6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5C88-2BDA-477E-993F-D9D0DD7E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15A6-F0D6-4FD1-A705-3ACCBBF8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34EB-3E6D-4CE1-A9D0-18F48424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F8B1-FC9F-4424-8018-E54E20CD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96F0-C2BD-47C5-8AD9-57AF5465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3A72-9334-4E12-84FA-22020550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567E-69F4-484A-9AD2-D65625A9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4418-59FB-43AF-8DBF-119FBC80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0194-5843-494F-A36B-386A35D0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2300-F3B9-492A-94ED-7F1C0EB8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FA9A-C29C-452D-967C-D5BF0C6F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6BB5-ADF0-4B41-82C7-9D0DBA9A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44AD-138D-488B-8292-2DB0A66E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2D3E-3B6F-4292-8136-D0542B57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A0D2E-2088-45AF-B57B-7C56DAD4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C39BE-F37A-40CB-9A7E-0D951916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3CE9D-8BC0-43E1-824F-416BDE1C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4BFEA-8204-457F-A21D-6E3D31C1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4D8A7-2BD8-44AE-A3D5-BD8FAF0B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359D-BB36-419E-8936-3618A876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0DECC-5004-4E46-B1B9-7DE78000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E077F-8A26-46BF-9BFB-9911F553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AE197-9A94-4C4F-AE90-896FBC33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F6421-1929-4A90-BB58-FFDD01B4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E9DFF-7D82-4432-8F78-CF571024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95350-2671-4264-A98E-A563EAC3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DEC5A-4B47-4187-A850-19014CC7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3B061-B3A7-4BFB-A928-F41E672B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A532E-A5C7-4787-827C-525C1465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D9F5D-3421-4BED-92AB-77EC33FF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288B-2AD1-41FC-BA38-2111DA4C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8017E-0F91-4F55-8BAD-1161C527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31544-26BE-40B4-B590-30DD1959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F34BE-821C-4FE2-BBA8-F7CC0922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CE6C8-78F2-45BB-995E-6B6765D9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A0FBD-C0F3-4F5B-95D9-C807CDE3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2D5A9-9CC4-42DF-8FAA-591890CB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E5AE6-E371-41D1-9093-8ECF5A2A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EE09F-535B-4A26-9626-0EBFF5A1B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9B0AE-F834-4123-A6AB-73090086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47CCA-468E-4C55-999D-031F67BA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F087-DE35-45A2-A005-6325A153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E14BF-D3FE-4B3F-992B-ED153DD7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AEE78-B2DC-4011-BBB9-6B42644B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8301F-84C6-45B3-AC5D-4CD661EC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A178B-A07A-45E9-95DF-106BD5E5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47C96-B757-4C11-846F-9A8FA4E0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632FE-BB7F-4906-947C-8AF820B6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2CC70-3735-4055-88E5-3A0AA520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F8EB9-D0B3-46CE-92A2-101FB037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11404-4BA0-423C-A4D9-5467026C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F16C4-4E21-4914-A3EE-220FC2F7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5FC6-F1E8-4449-BEAD-29A5CF77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8FAF1-C503-4E2E-9C97-50AB2B93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E603A-B2E3-4125-A890-DA5ED3C3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42F97-FF35-43D3-9026-17F273E4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13A00-A25B-4985-BFD0-0D4917A2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6F570-6CB8-4386-82D8-18B6900D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483F2-1609-48D9-ACA2-5E29EC21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92038-F880-4C83-A3F6-AC94706F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E3444-FEF9-4D96-AACF-6E30B2E3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971C5-DDD0-4834-877B-BD228C1E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DA46E-E13D-4DE7-AEE4-2B8B4D87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B54F-A937-4F90-8555-E39448B4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D1B88-9DE2-4EC4-AFE3-00DF4753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33430-3470-4F2B-AD7A-3EBAEBBE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2C1DB-45C8-4178-9F9A-1A283D30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92C64-8DFC-4185-816E-8114A8DB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382B1-C162-4472-AE01-17E3E21F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6C83D-535A-47B6-AA56-880B6E66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C06B3-3461-4307-B2DE-58291FC3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A1FE7-2B88-44A5-B98D-649F345A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F8946-C519-4A9D-929D-80A2F361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FA6A6-E7FF-4368-9C4E-DA7F4A14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F45-7FBF-46E2-BD40-8D081DCA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755BE-EC79-4E28-A6C5-F8D7AEC8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2C4ED-5072-418F-ADB5-DA3E35C5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C0BCD-DDF9-499F-8FD4-00F1BD76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443FC-3826-4B91-BEE8-9CCFB0D0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F7EDB-8A35-4F4C-8F7E-467235BE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14D96-658F-49DD-98FB-FA47FDD5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78BC0-B2C1-49F8-BAFC-7D96FCB3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0FADB-93AF-4469-926E-948D91AC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DD427-ED58-44D9-AF9D-49598ABD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768B8-51A3-4802-974B-94F68671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25D6-A1ED-4043-91CC-05F4B114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26BCC-54A5-4230-8493-0201AEA5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F758C-FB7B-4DC9-B4FB-49D91FB2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E8F07-9162-4940-91B1-151A193B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09488-691F-454F-BD90-67149CE0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7A77F-E25D-4078-87BA-A840F062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BC8FE-E23A-4EDE-9E6A-14157460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A6726-A4DC-4E19-8D6C-D308B2E6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uk-UA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69028DA-9B1F-4E3D-9161-95E7E3854A89}" type="slidenum">
              <a:rPr b="0" lang="uk-UA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uk-UA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4BA596-910A-4DFA-B89F-D46B7A87E377}" type="slidenum">
              <a:rPr b="0" lang="uk-UA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073e87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073e8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uk-UA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CF5A79-AAAC-413F-939F-D4A45F2E5F2E}" type="slidenum">
              <a:rPr b="0" lang="uk-UA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uk-UA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625E29-2A01-41CB-86E7-A70DF6341542}" type="slidenum">
              <a:rPr b="0" lang="uk-UA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uk-UA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F7BA45-945A-449E-A74D-A5B5D97A7D83}" type="slidenum">
              <a:rPr b="0" lang="uk-UA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uk-UA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CDF66E-B12B-4A2C-814D-B0AE31A4E786}" type="slidenum">
              <a:rPr b="0" lang="uk-UA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uk-UA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BDF3DF-7CA1-42AE-B132-C2265316D316}" type="slidenum">
              <a:rPr b="0" lang="uk-UA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45684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126960" y="6246360"/>
            <a:ext cx="28940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55596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uk-UA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39480D-0416-4168-878B-EB2AB5743E39}" type="slidenum">
              <a:rPr b="0" lang="uk-UA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8000" y="128160"/>
            <a:ext cx="8928000" cy="6613560"/>
          </a:xfrm>
          <a:prstGeom prst="rect">
            <a:avLst/>
          </a:prstGeom>
          <a:solidFill>
            <a:srgbClr val="5afbf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Candara"/>
              </a:rPr>
              <a:t>Загальне поняття про іменник</a:t>
            </a:r>
            <a:endParaRPr b="0" lang="en-US" sz="8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Candara"/>
              </a:rPr>
              <a:t>Розподільний диктант</a:t>
            </a:r>
            <a:br>
              <a:rPr sz="5400"/>
            </a:br>
            <a:r>
              <a:rPr b="1" lang="uk-UA" sz="3600" spc="-1" strike="noStrike">
                <a:solidFill>
                  <a:srgbClr val="ffff00"/>
                </a:solidFill>
                <a:latin typeface="Candara"/>
              </a:rPr>
              <a:t>дощ, сестра, тигр, товариш, хуртовина, синиця, зима, свято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andara"/>
              </a:rPr>
              <a:t>Істота</a:t>
            </a:r>
            <a:endParaRPr b="0" lang="en-US" sz="3200" spc="-1" strike="noStrike">
              <a:solidFill>
                <a:srgbClr val="c6e7fc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andara"/>
              </a:rPr>
              <a:t>Сестра</a:t>
            </a:r>
            <a:endParaRPr b="0" lang="en-US" sz="3200" spc="-1" strike="noStrike">
              <a:solidFill>
                <a:srgbClr val="c6e7fc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andara"/>
              </a:rPr>
              <a:t>Тигр</a:t>
            </a:r>
            <a:endParaRPr b="0" lang="en-US" sz="3200" spc="-1" strike="noStrike">
              <a:solidFill>
                <a:srgbClr val="c6e7fc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andara"/>
              </a:rPr>
              <a:t>Товариш </a:t>
            </a:r>
            <a:endParaRPr b="0" lang="en-US" sz="3200" spc="-1" strike="noStrike">
              <a:solidFill>
                <a:srgbClr val="c6e7fc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andara"/>
              </a:rPr>
              <a:t>Синиця </a:t>
            </a:r>
            <a:endParaRPr b="0" lang="en-US" sz="32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andara"/>
              </a:rPr>
              <a:t>Неістота</a:t>
            </a:r>
            <a:endParaRPr b="0" lang="en-US" sz="3200" spc="-1" strike="noStrike">
              <a:solidFill>
                <a:srgbClr val="c6e7fc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andara"/>
              </a:rPr>
              <a:t>Дощ </a:t>
            </a:r>
            <a:endParaRPr b="0" lang="en-US" sz="3200" spc="-1" strike="noStrike">
              <a:solidFill>
                <a:srgbClr val="c6e7fc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andara"/>
              </a:rPr>
              <a:t>Хуртовина</a:t>
            </a:r>
            <a:endParaRPr b="0" lang="en-US" sz="3200" spc="-1" strike="noStrike">
              <a:solidFill>
                <a:srgbClr val="c6e7fc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andara"/>
              </a:rPr>
              <a:t>Зима</a:t>
            </a:r>
            <a:endParaRPr b="0" lang="en-US" sz="3200" spc="-1" strike="noStrike">
              <a:solidFill>
                <a:srgbClr val="c6e7fc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andara"/>
              </a:rPr>
              <a:t>Свято </a:t>
            </a:r>
            <a:endParaRPr b="0" lang="en-US" sz="3200" spc="-1" strike="noStrike">
              <a:solidFill>
                <a:srgbClr val="c6e7fc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6481800"/>
          </a:xfrm>
          <a:prstGeom prst="rect">
            <a:avLst/>
          </a:prstGeom>
          <a:solidFill>
            <a:srgbClr val="31b6fd"/>
          </a:solidFill>
          <a:ln w="9360">
            <a:solidFill>
              <a:srgbClr val="2d83f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ndara"/>
              </a:rPr>
              <a:t>Дихальна гімнастика:</a:t>
            </a:r>
            <a:br>
              <a:rPr sz="7200"/>
            </a:br>
            <a:r>
              <a:rPr b="0" lang="ru-RU" sz="8800" spc="-1" strike="noStrike">
                <a:solidFill>
                  <a:srgbClr val="ffff00"/>
                </a:solidFill>
                <a:latin typeface="Candara"/>
              </a:rPr>
              <a:t>а, о, у, и, і, е</a:t>
            </a:r>
            <a:endParaRPr b="0" lang="en-US" sz="8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6626160"/>
          </a:xfrm>
          <a:prstGeom prst="rect">
            <a:avLst/>
          </a:prstGeom>
          <a:solidFill>
            <a:srgbClr val="5afbf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uk-UA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са, роса, коса, роса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0" lang="uk-UA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ре, море, море, горе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0" lang="uk-UA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на, вода, вода, вода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6626160"/>
          </a:xfrm>
          <a:prstGeom prst="rect">
            <a:avLst/>
          </a:prstGeom>
          <a:solidFill>
            <a:srgbClr val="5afbf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Сказав мудрець:</a:t>
            </a:r>
            <a:br>
              <a:rPr sz="4400"/>
            </a:br>
            <a:r>
              <a:rPr b="0" lang="uk-UA" sz="4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Живи, добро звершай!</a:t>
            </a:r>
            <a:br>
              <a:rPr sz="4400"/>
            </a:br>
            <a:r>
              <a:rPr b="0" lang="uk-UA" sz="4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Та нагород за це не вимагай!</a:t>
            </a:r>
            <a:br>
              <a:rPr sz="4400"/>
            </a:br>
            <a:r>
              <a:rPr b="0" lang="uk-UA" sz="4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Лише в добро і в вищу правду віра</a:t>
            </a:r>
            <a:br>
              <a:rPr sz="4400"/>
            </a:br>
            <a:r>
              <a:rPr b="0" lang="uk-UA" sz="4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Людину відрізняє від мавпи і від звіра.</a:t>
            </a:r>
            <a:br>
              <a:rPr sz="4400"/>
            </a:br>
            <a:r>
              <a:rPr b="0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ай оживає істина стара:</a:t>
            </a:r>
            <a:br>
              <a:rPr sz="4400"/>
            </a:br>
            <a:r>
              <a:rPr b="0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юдина починається з добра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6553080"/>
          </a:xfrm>
          <a:prstGeom prst="rect">
            <a:avLst/>
          </a:prstGeom>
          <a:solidFill>
            <a:srgbClr val="5afbf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8" name="Picture 2" descr="D:\іменник.gif"/>
          <p:cNvPicPr/>
          <p:nvPr/>
        </p:nvPicPr>
        <p:blipFill>
          <a:blip r:embed="rId1"/>
          <a:stretch/>
        </p:blipFill>
        <p:spPr>
          <a:xfrm>
            <a:off x="179280" y="95400"/>
            <a:ext cx="87854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solidFill>
            <a:srgbClr val="5afbf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Іменник</a:t>
            </a:r>
            <a:br>
              <a:rPr sz="9600"/>
            </a:br>
            <a:endParaRPr b="0" lang="en-US" sz="9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6240" y="61920"/>
            <a:ext cx="8929800" cy="6624720"/>
          </a:xfrm>
          <a:prstGeom prst="rect">
            <a:avLst/>
          </a:prstGeom>
          <a:solidFill>
            <a:srgbClr val="5afbf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ndara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1" name="Picture 3" descr="D:\батько.jpg"/>
          <p:cNvPicPr/>
          <p:nvPr/>
        </p:nvPicPr>
        <p:blipFill>
          <a:blip r:embed="rId1"/>
          <a:stretch/>
        </p:blipFill>
        <p:spPr>
          <a:xfrm rot="849600">
            <a:off x="6338880" y="318960"/>
            <a:ext cx="2603520" cy="19036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D:\прапор.jpg"/>
          <p:cNvPicPr/>
          <p:nvPr/>
        </p:nvPicPr>
        <p:blipFill>
          <a:blip r:embed="rId2"/>
          <a:stretch/>
        </p:blipFill>
        <p:spPr>
          <a:xfrm>
            <a:off x="4621320" y="3106800"/>
            <a:ext cx="2592360" cy="16556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D:\друг.jpg"/>
          <p:cNvPicPr/>
          <p:nvPr/>
        </p:nvPicPr>
        <p:blipFill>
          <a:blip r:embed="rId3"/>
          <a:stretch/>
        </p:blipFill>
        <p:spPr>
          <a:xfrm>
            <a:off x="3541680" y="1197000"/>
            <a:ext cx="2376360" cy="16556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D:\степ.jpg"/>
          <p:cNvPicPr/>
          <p:nvPr/>
        </p:nvPicPr>
        <p:blipFill>
          <a:blip r:embed="rId4"/>
          <a:stretch/>
        </p:blipFill>
        <p:spPr>
          <a:xfrm>
            <a:off x="1952640" y="5013360"/>
            <a:ext cx="2462040" cy="15843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D:\калина.jpg"/>
          <p:cNvPicPr/>
          <p:nvPr/>
        </p:nvPicPr>
        <p:blipFill>
          <a:blip r:embed="rId5"/>
          <a:stretch/>
        </p:blipFill>
        <p:spPr>
          <a:xfrm>
            <a:off x="5237280" y="4894200"/>
            <a:ext cx="1963800" cy="1656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8" descr="D:\воън.jpg"/>
          <p:cNvPicPr/>
          <p:nvPr/>
        </p:nvPicPr>
        <p:blipFill>
          <a:blip r:embed="rId6"/>
          <a:stretch/>
        </p:blipFill>
        <p:spPr>
          <a:xfrm>
            <a:off x="1933560" y="2747880"/>
            <a:ext cx="1847880" cy="20145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D:\белка.jpg"/>
          <p:cNvPicPr/>
          <p:nvPr/>
        </p:nvPicPr>
        <p:blipFill>
          <a:blip r:embed="rId7"/>
          <a:stretch/>
        </p:blipFill>
        <p:spPr>
          <a:xfrm rot="20960400">
            <a:off x="320760" y="431280"/>
            <a:ext cx="2411280" cy="1731960"/>
          </a:xfrm>
          <a:prstGeom prst="rect">
            <a:avLst/>
          </a:prstGeom>
          <a:ln w="0">
            <a:noFill/>
          </a:ln>
        </p:spPr>
      </p:pic>
      <p:sp>
        <p:nvSpPr>
          <p:cNvPr id="398" name="Овал 3"/>
          <p:cNvSpPr/>
          <p:nvPr/>
        </p:nvSpPr>
        <p:spPr>
          <a:xfrm>
            <a:off x="1116000" y="1700280"/>
            <a:ext cx="1871640" cy="93672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ndara"/>
              </a:rPr>
              <a:t>бі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Овал 4"/>
          <p:cNvSpPr/>
          <p:nvPr/>
        </p:nvSpPr>
        <p:spPr>
          <a:xfrm>
            <a:off x="6477120" y="1844640"/>
            <a:ext cx="2127240" cy="107964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ndara"/>
              </a:rPr>
              <a:t>бат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Овал 5"/>
          <p:cNvSpPr/>
          <p:nvPr/>
        </p:nvSpPr>
        <p:spPr>
          <a:xfrm>
            <a:off x="3851280" y="282600"/>
            <a:ext cx="1873080" cy="91440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ndara"/>
              </a:rPr>
              <a:t>д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Овал 6"/>
          <p:cNvSpPr/>
          <p:nvPr/>
        </p:nvSpPr>
        <p:spPr>
          <a:xfrm>
            <a:off x="468360" y="3500280"/>
            <a:ext cx="1800000" cy="91440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ndara"/>
              </a:rPr>
              <a:t>вої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Овал 7"/>
          <p:cNvSpPr/>
          <p:nvPr/>
        </p:nvSpPr>
        <p:spPr>
          <a:xfrm>
            <a:off x="6804000" y="3500280"/>
            <a:ext cx="2160720" cy="108108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ndara"/>
              </a:rPr>
              <a:t>прап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Овал 8"/>
          <p:cNvSpPr/>
          <p:nvPr/>
        </p:nvSpPr>
        <p:spPr>
          <a:xfrm>
            <a:off x="476280" y="5445000"/>
            <a:ext cx="1814400" cy="91440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ndara"/>
              </a:rPr>
              <a:t>сте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Овал 9"/>
          <p:cNvSpPr/>
          <p:nvPr/>
        </p:nvSpPr>
        <p:spPr>
          <a:xfrm>
            <a:off x="6659640" y="5300640"/>
            <a:ext cx="2305080" cy="105876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ndara"/>
              </a:rPr>
              <a:t>ка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6" name="Picture 2" descr="D:\істота.jpg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6626160"/>
          </a:xfrm>
          <a:prstGeom prst="rect">
            <a:avLst/>
          </a:prstGeom>
          <a:solidFill>
            <a:srgbClr val="5afbf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8" name="Picture 2" descr="D:\тризуб.jpg"/>
          <p:cNvPicPr/>
          <p:nvPr/>
        </p:nvPicPr>
        <p:blipFill>
          <a:blip r:embed="rId1"/>
          <a:stretch/>
        </p:blipFill>
        <p:spPr>
          <a:xfrm>
            <a:off x="900000" y="476280"/>
            <a:ext cx="2735280" cy="29527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D:\прапор.jpg"/>
          <p:cNvPicPr/>
          <p:nvPr/>
        </p:nvPicPr>
        <p:blipFill>
          <a:blip r:embed="rId2"/>
          <a:stretch/>
        </p:blipFill>
        <p:spPr>
          <a:xfrm>
            <a:off x="4643280" y="476280"/>
            <a:ext cx="4158000" cy="29527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D:\гымн.jpg"/>
          <p:cNvPicPr/>
          <p:nvPr/>
        </p:nvPicPr>
        <p:blipFill>
          <a:blip r:embed="rId3"/>
          <a:stretch/>
        </p:blipFill>
        <p:spPr>
          <a:xfrm>
            <a:off x="2411280" y="3573360"/>
            <a:ext cx="381636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6:48:28Z</dcterms:created>
  <dc:creator>studentipf</dc:creator>
  <dc:description/>
  <dc:language>en-US</dc:language>
  <cp:lastModifiedBy>user20</cp:lastModifiedBy>
  <dcterms:modified xsi:type="dcterms:W3CDTF">2017-12-04T10:40:38Z</dcterms:modified>
  <cp:revision>21</cp:revision>
  <dc:subject/>
  <dc:title>Що я знаю про Power Point </dc:title>
</cp:coreProperties>
</file>