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17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54D-C10A-4944-ACED-54A729C9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6FC-B067-4D40-9791-F2A8154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DF2-AB33-4570-9DC0-FC317546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A0E-6E32-4B4A-9DC3-E754BC98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9F5-19EB-4C97-B2C9-40826EFD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0225-EA0B-44DF-A90D-6AB434F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2442-D6E1-4534-BE0F-2A2D129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C8E9-69B2-48E3-B91B-12CDD88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031-C64F-42A0-BF52-5BF6C42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2A0E-4F5A-49FD-A6A5-C93A21DE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1ED-292F-45EE-91E1-7B36A30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4C1-04F2-4B14-9EF1-C0B935D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7D2-17D1-41DA-AE02-51BAE36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B243-B2D7-4153-AD25-38F7B0B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AD7-65EA-49CB-AEED-AF870A8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8C8-88DE-4F98-A259-B7BEE371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9257-F60F-4234-A3B2-1A62F56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300-EAC1-40F5-A5F3-A6907A6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EB3-6BEC-4A65-9065-993C372E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0E-C08E-49D8-A782-7D0729B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6A8-DF80-4A9D-9877-A74D13D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9E3-2DE4-4714-A78B-D641D5F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426-9D41-49C2-86AE-6FA6983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42B-DCFC-4A2C-9925-CBC689E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2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C42-7E71-4C1B-B08C-C2607520B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D3F2-E919-4738-9A62-4D65CA61E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1670040"/>
            <a:ext cx="8498160" cy="236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Объект 2" descr=""/>
          <p:cNvPicPr/>
          <p:nvPr/>
        </p:nvPicPr>
        <p:blipFill>
          <a:blip r:embed="rId1"/>
          <a:stretch/>
        </p:blipFill>
        <p:spPr>
          <a:xfrm>
            <a:off x="3500280" y="-1906560"/>
            <a:ext cx="1478160" cy="488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1028880" y="1357200"/>
            <a:ext cx="708660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тя Рог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3059280" y="2000160"/>
            <a:ext cx="3036600" cy="394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50920" y="333360"/>
            <a:ext cx="9078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Шкідливі звички, мов би ті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се ходять за тобо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 так чекають на ту м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Щоб потягнуть з собо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аркотики і цигарки, спирте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Це просто стра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к подружитися із ним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доров'ю буде кр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и за здоровий спосіб житт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5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670040"/>
            <a:ext cx="6492960" cy="236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2268360" y="2060640"/>
            <a:ext cx="4681800" cy="26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Житт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643280" y="472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694836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 flipH="1">
            <a:off x="610920" y="3429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H="1">
            <a:off x="1547640" y="4365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6300720" y="4292640"/>
            <a:ext cx="16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6084720" y="119664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500720" y="83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1979640" y="1413000"/>
            <a:ext cx="936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Я вважаю, що моє життя буде щасливим, якщо я матим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2925371125b6c0d3c40eb161b4358c005eeb4_s"/>
          <p:cNvPicPr/>
          <p:nvPr/>
        </p:nvPicPr>
        <p:blipFill>
          <a:blip r:embed="rId1"/>
          <a:stretch/>
        </p:blipFill>
        <p:spPr>
          <a:xfrm>
            <a:off x="1619280" y="1413000"/>
            <a:ext cx="2303280" cy="30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Nd9GcS8wS9Ga1Xih3IBi2Bm3kR_Wr3076CQJPkJLDIqyplr3MM6oJeW1g"/>
          <p:cNvPicPr/>
          <p:nvPr/>
        </p:nvPicPr>
        <p:blipFill>
          <a:blip r:embed="rId2"/>
          <a:stretch/>
        </p:blipFill>
        <p:spPr>
          <a:xfrm>
            <a:off x="5219640" y="1484280"/>
            <a:ext cx="2881440" cy="28782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9280" y="907920"/>
            <a:ext cx="273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удин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руз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ать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доров'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цук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доров'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2925371125b6c0d3c40eb161b4358c005eeb4_s"/>
          <p:cNvPicPr/>
          <p:nvPr/>
        </p:nvPicPr>
        <p:blipFill>
          <a:blip r:embed="rId1"/>
          <a:stretch/>
        </p:blipFill>
        <p:spPr>
          <a:xfrm>
            <a:off x="3348000" y="2349360"/>
            <a:ext cx="2303640" cy="3097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55520" y="46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5552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1714680" y="1052640"/>
            <a:ext cx="6673680" cy="482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2030400"/>
            <a:ext cx="5686200" cy="232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35:40Z</dcterms:created>
  <dc:creator>Администратор</dc:creator>
  <dc:description/>
  <dc:language>en-US</dc:language>
  <cp:lastModifiedBy>Windows User</cp:lastModifiedBy>
  <dcterms:modified xsi:type="dcterms:W3CDTF">2017-12-11T20:05:22Z</dcterms:modified>
  <cp:revision>65</cp:revision>
  <dc:subject/>
  <dc:title>Девіз</dc:title>
</cp:coreProperties>
</file>