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698-B83A-4399-809C-DAA2AEF0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A9E-62B1-4285-A7ED-3EAB39B7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60F-DE07-40CC-92BC-1A0DEFD1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853-7F6F-4840-937D-51B88501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AB7A-5999-4D8F-9430-D9BD7B7C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AE3D-9713-49ED-9FA0-E17D79A7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5906-62C4-41E8-92A1-004ED7F2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65DA-3044-4DF4-B06F-7280E6E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8C7D-ED5F-4263-9DA0-7B8033F0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B488-942A-4C3A-B094-E5EE8910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7504-060A-4C86-AD02-D89536F6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316-7B38-433C-A418-173A8CC3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F3A0-B8BD-4CA9-96BA-452790FD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FACF-46DA-4A79-B617-1435891F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2FE2-8889-4B38-A3F3-8829D72F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AFB9-C877-49F6-82B4-8D16A8E7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A5F2-C710-4D5E-A0EB-9DCA638F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351-6676-4F12-8B1B-319D4F50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501-B897-4292-84B7-96C45210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5E8-ED0F-42F8-A729-E1C7722B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16D-2659-4477-BE7A-62160299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B36-CB9C-41E9-92AF-E13E18A6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BEA-4E40-4CFF-BB42-D6841C8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A4D-C98B-4489-B2AB-B607E5DE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6daa2d"/>
              </a:gs>
              <a:gs pos="50000">
                <a:srgbClr val="92d050"/>
              </a:gs>
              <a:gs pos="100000">
                <a:srgbClr val="6daa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6daa2d"/>
                </a:gs>
                <a:gs pos="100000">
                  <a:srgbClr val="92d0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6daa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6daa2d"/>
                </a:gs>
                <a:gs pos="50000">
                  <a:srgbClr val="71bb96"/>
                </a:gs>
                <a:gs pos="100000">
                  <a:srgbClr val="6daa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9FA4-A71C-41EC-AC23-7198FA3A38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aa2d"/>
            </a:gs>
            <a:gs pos="50000">
              <a:srgbClr val="92d050"/>
            </a:gs>
            <a:gs pos="100000">
              <a:srgbClr val="6daa2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6daa2d"/>
              </a:gs>
              <a:gs pos="50000">
                <a:srgbClr val="92d050"/>
              </a:gs>
              <a:gs pos="100000">
                <a:srgbClr val="6daa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6daa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6daa2d"/>
                </a:gs>
                <a:gs pos="100000">
                  <a:srgbClr val="92d0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6daa2d"/>
                </a:gs>
                <a:gs pos="50000">
                  <a:srgbClr val="71bb96"/>
                </a:gs>
                <a:gs pos="100000">
                  <a:srgbClr val="6daa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2DE4-063D-4221-9A8F-88D9FB0AF2C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2" descr="Картинки по запросу merry christmas wallpap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8" descr="Картинки по запросу картинки christmas 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19640" y="4038120"/>
            <a:ext cx="141444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Рисунок 5" descr="Christmas-Greeting-card-background-wallpaper-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6" descr="Картинки по запросу merry christm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3:25:38Z</dcterms:created>
  <dc:creator>Face_off</dc:creator>
  <dc:description/>
  <dc:language>en-US</dc:language>
  <cp:lastModifiedBy>Admin</cp:lastModifiedBy>
  <dcterms:modified xsi:type="dcterms:W3CDTF">2017-12-06T16:51:38Z</dcterms:modified>
  <cp:revision>33</cp:revision>
  <dc:subject/>
  <dc:title>Что такое Рождество?</dc:title>
</cp:coreProperties>
</file>