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4F8-85BA-4A82-94ED-1A1A1419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BA6-6851-4314-BD5A-526E540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400-2719-4715-9698-143CD2D9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16C-D0B4-4EB4-9889-BA27C986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9DE1-406A-48C4-8C60-10B3A686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C2B3-B564-4CEB-B1ED-73C3B99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F96-1247-442D-84C1-B535859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3FA2-2BEC-436B-A7D5-4F7258B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4E3-013A-4DE4-B65C-8B26E2C7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3BF-4B92-417B-A123-9CDCB6B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8AE-074A-432D-9CA9-9B5C183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B1F-718A-464B-9AD3-1D6DDD89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D64B-3AD6-4463-A285-EB223FB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AFB8-FCED-4D7A-8809-652D07D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C41-0985-4066-920F-B133138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42E4-1E83-4392-82D5-35F13C5D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E211-823D-474D-9ACF-3F634014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0BC-8A79-4FD0-8DDD-2CD1DDF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A48-F128-4FDA-9DED-500343E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C11-8D3B-44D9-948C-91EB8C46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D96-C8BD-4B43-9442-F791267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7D4-855D-49C5-BCBD-5C7DAD5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AAB-6176-46AA-A399-C9E6BF0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C99-EF47-47F3-9593-A0CB843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555A-9814-4B28-8795-A2D582A9D6E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EEC-5C34-45F4-BD3B-9858948AD3C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4840" y="532440"/>
            <a:ext cx="682164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Алкоголь – це добро чи зло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064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З історії алкогол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 стародавній Індії алкогольні напої були складовою частиною релігійних церемоній. Найбільш поширеним було вино – дар богів. Покровителем вважався бог Діоніс. Першовідкривачі спирту в ХІ ст. лікар і монах-хімік настільки були вражені властивостями, що дали йому назву “алкоголь”, що в перекладі означає “ніжний”. Алхіміки назвали спирт “аква віва” – водою житт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5" descr="C:\Documents and Settings\Владелец\Application Data\Microsoft\Media Catalog\g0205330.WMF"/>
          <p:cNvPicPr/>
          <p:nvPr/>
        </p:nvPicPr>
        <p:blipFill>
          <a:blip r:embed="rId1"/>
          <a:stretch/>
        </p:blipFill>
        <p:spPr>
          <a:xfrm>
            <a:off x="3581280" y="4038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33200" y="5335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ода життя” зіграла з людиною злий жарт. Уже в працях Гіппократа п'янство розцінювалося як добровільне божевіл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 Китаї в 2286 р. до н.е. було видано закон, який передбачав суворе покарання за надмірне споживання алкогол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 єгиптян і римлян на банкетах на стіл ставили череп людини, аби нагадати про отруйність алкоголю; забороняли вживати спиртні напої в день весіл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акі закони були і на Русі. До ХІХ ст. Петровська горілка мала лише 14 градусі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C:\Documents and Settings\Владелец\Application Data\Microsoft\Media Catalog\BONES.WMF"/>
          <p:cNvPicPr/>
          <p:nvPr/>
        </p:nvPicPr>
        <p:blipFill>
          <a:blip r:embed="rId1"/>
          <a:stretch/>
        </p:blipFill>
        <p:spPr>
          <a:xfrm>
            <a:off x="3048120" y="3726000"/>
            <a:ext cx="39798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Що таке алкогол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Алкоголь – це результат ферментації зернових культур або фруктів. Цей процес винайшли древні греки. Вино, яке вони виготовляли містило не більше 15% алкоголю. Цікаво, що античні греки та римляни розводили вино водою, бо п'яний вважався у них диким варвар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ільш високий процент алкоголю (45 – 50%) досягається за допомогою дистиляції після процесу ферментації. Його почали застосовувати у Х ст. араби, виготовляючи спирт для медичних ці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Алкогольні напої можна розділити на три груп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Пиво (4 – 8% алкоголю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ино (10 – 15% алкоголю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Міцні алкогольні напої (40% і більш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C:\Documents and Settings\Владелец\Application Data\Microsoft\Media Catalog\g0410252.WMF"/>
          <p:cNvPicPr/>
          <p:nvPr/>
        </p:nvPicPr>
        <p:blipFill>
          <a:blip r:embed="rId1"/>
          <a:stretch/>
        </p:blipFill>
        <p:spPr>
          <a:xfrm>
            <a:off x="4572000" y="3657600"/>
            <a:ext cx="1752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Реакція організму на алкоголь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Реакція на алкоголь залежить від кількості випитого. Невелика доза має стимулюючий ефект, людина стає більш активною. Велика доза створює гальмуючий ефект, що постійно посилюєть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фект від алкоголю залежить від ваги, статі, витривалості людини, її характеру та настро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Алкоголь змінює свідомість людини, може стати причиною фізичної і психічної залежн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C:\Documents and Settings\Владелец\Application Data\Microsoft\Media Catalog\J0078712.WMF"/>
          <p:cNvPicPr/>
          <p:nvPr/>
        </p:nvPicPr>
        <p:blipFill>
          <a:blip r:embed="rId1"/>
          <a:stretch/>
        </p:blipFill>
        <p:spPr>
          <a:xfrm>
            <a:off x="5791320" y="4191120"/>
            <a:ext cx="2838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Вплив алкоголю на людський організм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Печінка.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Уражена печінка не встигає очищати організм від отрути та токсинів, що спричиняє до захворювань цукровим діабетом, гіпертонією, анемією, виразкою, туберкульозом, пневмонією, гепатитом та цирозом печі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Серце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. Алкоголь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спричиняє серцебиття до 180 ударів за хвилину. Серце стає в'ялим, працює погано, з'являється, слабкість, головний біль, запаморочення. Збільшується звертання крові, може утворитися тромб. Кожен 10 інфаркт –  наслідок вживання алкого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Головний мозок.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оникаючи до нервової системи, алкоголь гальмує проведення сигналів до мозку і від мозку, уповільнюючи швидкість реагування. Людина тупіє, починає забуватись, порушується координація рух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Легені.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Алкоголь уражає тканину легень, робить її вразливою до мікробів, спричиняє різні вірусні захворю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Verdana"/>
              </a:rPr>
              <a:t>Кров.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Алкоголь токсично діє на червоні та білі кров'яні тільця, знижує їх можливості. Через недостатню кількість кисню порушується робота всього організму, гірше зупиняються кровотечі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3366"/>
                </a:solidFill>
                <a:latin typeface="Verdana"/>
              </a:rPr>
              <a:t>Чому підлітки починають пити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Щоб бути подібними до старш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Щоб самоутвердит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Щоб звільнитися від нудьг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Щоб не вирізнятись з-поміж інших членів груп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слідження показують: 32% алкоголіків звикли до алкоголю у віці до 10 років, 64% - 11 – 15 років, тобто 96%  - в дитячому та юнацькому віці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11-21T19:48:38Z</dcterms:modified>
  <cp:revision>21</cp:revision>
  <dc:subject/>
  <dc:title>PowerPoint Presentation</dc:title>
</cp:coreProperties>
</file>