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DCBB-8FF0-448F-B4EA-A02B0C3341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C7C4-7A9C-4119-884C-375D3A7CF1A4}" type="slidenum"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5789-10BC-4684-A596-1D6E883AAF1E}" type="slidenum"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A88C-DE99-4F96-85B6-8C2FB78B38A2}" type="slidenum"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CE1C-2552-4C9F-A11C-D985E48F11B8}" type="slidenum"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9A1D-EE89-41F0-A9B0-EF42E51F252E}" type="slidenum"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CC9A-1B82-4A24-B374-8947E839EA17}" type="slidenum"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3068-5F78-4324-82CD-D257D19CF4D4}" type="slidenum"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F74A-009F-4D0B-9557-C6538FD02515}" type="slidenum"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A592-8B1A-4199-96A5-822E9DE03C0C}" type="slidenum"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48DA-B38B-4ACC-BC1F-2D81F48609D4}" type="slidenum"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F12A-F170-40B1-94AB-CEBE2E3C6ED2}" type="slidenum"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D6E1-5622-416F-BA5B-FD3843CEDAAD}" type="slidenum"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541A-FB32-4E28-87BE-291D4B883A24}" type="slidenum"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19FD-6084-4746-AA2C-7E64404907F0}" type="slidenum"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E64F-A7FC-455C-AFDA-0DF45D72D021}" type="slidenum"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3C6F-6724-4374-9355-1AD0D03EE7D2}" type="slidenum"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D1B4-6972-4A74-9650-C22510487DE0}" type="slidenum"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848-3050-423B-ABFC-0005E6EF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13D-1544-4EF2-AABD-6CDE0241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6B3-BDFB-4A9C-9B32-6FDDBCCF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EC4-80E9-42AB-868E-190AAB8C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8906-8B9A-4B18-B091-B6FEDA94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62A2-BA8D-4438-886A-C8B97296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C973-ADFE-4498-9A44-77A603FF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1CCA-8C5C-4654-9841-BC388F19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F13E-C8E7-49A3-808E-C78FDFAF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880F-EF79-4691-87FA-33FDEDC1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AFFE-F1B6-4C44-82F4-E711D57D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80B-4D45-4031-89AF-D2B235F8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2068-8C79-4A32-B7CD-6227577E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619C-CC7F-44AC-B3BC-0607EFBD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8539-BE01-4D06-A121-BEC68FCA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4EA7-37E0-44EF-86B3-DE09F4A8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220F-252C-401C-B591-55A7E9E8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7FA-92EA-4DAF-8FD8-E7BD98D2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6A0-9FFF-455C-8751-721B67FD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D1B-250B-4D16-8847-996018B2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FB9-DE30-447A-BA55-2E883671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FA4-AC65-4AF5-B95A-5CA708B8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4B5-D062-4ED5-BD47-2B601608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995C-1C91-4795-AE59-261B76C2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E23A-7597-4684-B157-B10D3C62B7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91AF-4FC9-4732-B1AD-B8B6C54BA7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ahoma"/>
              </a:rPr>
              <a:t>Тема. </a:t>
            </a:r>
            <a:br>
              <a:rPr sz="4800"/>
            </a:br>
            <a:r>
              <a:rPr b="1" i="1" lang="uk-UA" sz="4800" spc="-1" strike="noStrike">
                <a:solidFill>
                  <a:srgbClr val="ffff00"/>
                </a:solidFill>
                <a:latin typeface="Tahoma"/>
              </a:rPr>
              <a:t>Київська </a:t>
            </a:r>
            <a:r>
              <a:rPr b="0" lang="uk-UA" sz="4800" spc="-1" strike="noStrike">
                <a:solidFill>
                  <a:srgbClr val="ffff00"/>
                </a:solidFill>
                <a:latin typeface="Arial Black"/>
              </a:rPr>
              <a:t>держава</a:t>
            </a:r>
            <a:r>
              <a:rPr b="0" i="1" lang="uk-UA" sz="4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uk-UA" sz="4800" spc="-1" strike="noStrike">
                <a:solidFill>
                  <a:srgbClr val="ffff00"/>
                </a:solidFill>
                <a:latin typeface="Tahoma"/>
              </a:rPr>
              <a:t>Русь - Україна в період розквіту.</a:t>
            </a:r>
            <a:br>
              <a:rPr sz="4800"/>
            </a:br>
            <a:r>
              <a:rPr b="1" i="1" lang="uk-UA" sz="4800" spc="-1" strike="noStrike">
                <a:solidFill>
                  <a:srgbClr val="ffff00"/>
                </a:solidFill>
                <a:latin typeface="Tahoma"/>
              </a:rPr>
              <a:t>Володимир Великий та Ярослав Мудрий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411444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i="1" lang="uk-UA" sz="32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i="1" lang="uk-UA" sz="32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i="1" lang="uk-UA" sz="3200" spc="-1" strike="noStrike">
                <a:solidFill>
                  <a:srgbClr val="33cc33"/>
                </a:solidFill>
                <a:latin typeface="Tahoma"/>
              </a:rPr>
              <a:t>	</a:t>
            </a:r>
            <a:r>
              <a:rPr b="1" i="1" lang="uk-UA" sz="3600" spc="-1" strike="noStrike">
                <a:solidFill>
                  <a:srgbClr val="ff0000"/>
                </a:solidFill>
                <a:latin typeface="Tahoma"/>
              </a:rPr>
              <a:t>Урок-екскурсі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244440"/>
            <a:ext cx="8690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e5ffff"/>
                </a:solidFill>
                <a:latin typeface="Aparajita"/>
              </a:rPr>
              <a:t>Чому Володимир прийняв</a:t>
            </a:r>
            <a:br>
              <a:rPr sz="4800"/>
            </a:br>
            <a:r>
              <a:rPr b="0" i="1" lang="uk-UA" sz="4800" spc="-1" strike="noStrike">
                <a:solidFill>
                  <a:srgbClr val="e5ffff"/>
                </a:solidFill>
                <a:latin typeface="Aparajita"/>
              </a:rPr>
              <a:t>християнство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еред тим, як прийняти віру князь скликав раду, де його вразила розповідь про християнство, а коли Володимир занедужав-охрестився та видужав. Князь дуже змінився: став жертвувати гроші, будував церкви (Десятинна церква), скасував смертну ка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126452077444b52cf19ea93003e2f30b0b4f6eb966"/>
          <p:cNvPicPr/>
          <p:nvPr/>
        </p:nvPicPr>
        <p:blipFill>
          <a:blip r:embed="rId2"/>
          <a:stretch/>
        </p:blipFill>
        <p:spPr>
          <a:xfrm>
            <a:off x="5410080" y="4076640"/>
            <a:ext cx="3573720" cy="257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25014919_Kreschenie_kievlyan"/>
          <p:cNvPicPr/>
          <p:nvPr/>
        </p:nvPicPr>
        <p:blipFill>
          <a:blip r:embed="rId3"/>
          <a:stretch/>
        </p:blipFill>
        <p:spPr>
          <a:xfrm>
            <a:off x="5334120" y="1628640"/>
            <a:ext cx="3547800" cy="22320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6"/>
          <p:cNvSpPr txBox="1"/>
          <p:nvPr/>
        </p:nvSpPr>
        <p:spPr>
          <a:xfrm rot="5400000">
            <a:off x="2644560" y="3908160"/>
            <a:ext cx="468324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88 - хрещення Русі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622840" y="3789360"/>
            <a:ext cx="31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Хрещення кия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546880" y="6589800"/>
            <a:ext cx="3444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004080" y="658980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Володимир в Херсоне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9279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uk-UA" sz="4800" spc="-1" strike="noStrike">
                <a:solidFill>
                  <a:srgbClr val="0033cc"/>
                </a:solidFill>
                <a:latin typeface="Tahoma"/>
              </a:rPr>
              <a:t>Князь Ярослав продовжувач справи свого батька</a:t>
            </a:r>
            <a:br>
              <a:rPr sz="4000"/>
            </a:br>
            <a:r>
              <a:rPr b="0" lang="uk-UA" sz="3600" spc="-1" strike="noStrike">
                <a:solidFill>
                  <a:srgbClr val="336699"/>
                </a:solidFill>
                <a:latin typeface="Tahoma"/>
              </a:rPr>
              <a:t>(1019 – 1054)</a:t>
            </a:r>
            <a:br>
              <a:rPr sz="3600"/>
            </a:br>
            <a:r>
              <a:rPr b="0" lang="uk-UA" sz="36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0" lang="uk-UA" sz="36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0" lang="uk-UA" sz="36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0" lang="uk-UA" sz="3600" spc="-1" strike="noStrike">
                <a:solidFill>
                  <a:srgbClr val="00ccff"/>
                </a:solidFill>
                <a:latin typeface="Tahoma"/>
              </a:rPr>
              <a:t>в історію Ярослав </a:t>
            </a:r>
            <a:br>
              <a:rPr sz="3600"/>
            </a:br>
            <a:r>
              <a:rPr b="0" lang="uk-UA" sz="36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uk-UA" sz="36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uk-UA" sz="3600" spc="-1" strike="noStrike">
                <a:solidFill>
                  <a:srgbClr val="00ccff"/>
                </a:solidFill>
                <a:latin typeface="Tahoma"/>
              </a:rPr>
              <a:t>ввійшов як</a:t>
            </a:r>
            <a:br>
              <a:rPr sz="3600"/>
            </a:br>
            <a:r>
              <a:rPr b="0" lang="uk-UA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uk-UA" sz="3600" spc="-1" strike="noStrike">
                <a:solidFill>
                  <a:srgbClr val="ff0000"/>
                </a:solidFill>
                <a:latin typeface="Tahoma"/>
              </a:rPr>
              <a:t>Мудрий</a:t>
            </a:r>
            <a:br>
              <a:rPr sz="3600"/>
            </a:br>
            <a:r>
              <a:rPr b="0" lang="uk-UA" sz="3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uk-UA" sz="3600" spc="-1" strike="noStrike">
                <a:solidFill>
                  <a:srgbClr val="ffcc00"/>
                </a:solidFill>
                <a:latin typeface="Tahoma"/>
              </a:rPr>
              <a:t>Тесть </a:t>
            </a:r>
            <a:br>
              <a:rPr sz="3600"/>
            </a:br>
            <a:r>
              <a:rPr b="0" lang="uk-UA" sz="36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uk-UA" sz="3600" spc="-1" strike="noStrike">
                <a:solidFill>
                  <a:srgbClr val="ffcc00"/>
                </a:solidFill>
                <a:latin typeface="Tahoma"/>
              </a:rPr>
              <a:t>Європ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5" name="Picture 3" descr="File_36924997NuU"/>
          <p:cNvPicPr/>
          <p:nvPr/>
        </p:nvPicPr>
        <p:blipFill>
          <a:blip r:embed="rId2"/>
          <a:stretch/>
        </p:blipFill>
        <p:spPr>
          <a:xfrm>
            <a:off x="179280" y="2421000"/>
            <a:ext cx="320040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uk-UA" sz="4800" spc="-1" strike="noStrike">
                <a:solidFill>
                  <a:srgbClr val="e5ffff"/>
                </a:solidFill>
                <a:latin typeface="Tahoma"/>
              </a:rPr>
              <a:t>Зміцнення держави за часів Ярослав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Завершив об'єднання руських земель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Розбив печенігів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Укладав вигідні шлюби своїх дітей з королівськими родинами Європ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9246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e5ffff"/>
                </a:solidFill>
                <a:latin typeface="Tahoma"/>
              </a:rPr>
              <a:t>Розбудова Києв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9" name="Picture 4" descr="Yaroslav_the_Wise"/>
          <p:cNvPicPr/>
          <p:nvPr/>
        </p:nvPicPr>
        <p:blipFill>
          <a:blip r:embed="rId2"/>
          <a:stretch/>
        </p:blipFill>
        <p:spPr>
          <a:xfrm>
            <a:off x="5796000" y="1341360"/>
            <a:ext cx="2590920" cy="2808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Srebrenik_3"/>
          <p:cNvPicPr/>
          <p:nvPr/>
        </p:nvPicPr>
        <p:blipFill>
          <a:blip r:embed="rId3"/>
          <a:stretch/>
        </p:blipFill>
        <p:spPr>
          <a:xfrm>
            <a:off x="4643280" y="4622760"/>
            <a:ext cx="4038840" cy="1467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4"/>
          <a:srcRect l="0" t="3513" r="3569" b="5261"/>
          <a:stretch/>
        </p:blipFill>
        <p:spPr>
          <a:xfrm>
            <a:off x="250920" y="1916280"/>
            <a:ext cx="4114800" cy="39621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"/>
          <p:cNvSpPr/>
          <p:nvPr/>
        </p:nvSpPr>
        <p:spPr>
          <a:xfrm>
            <a:off x="990720" y="6248520"/>
            <a:ext cx="40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Софійський собо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5927760" y="6308640"/>
            <a:ext cx="26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Срібники Яросл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6080040" y="415116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Літописец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e5ffff"/>
                </a:solidFill>
                <a:latin typeface="Tahoma"/>
              </a:rPr>
              <a:t>Церковне й культурне життя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6" name="Picture 3" descr="rus051"/>
          <p:cNvPicPr/>
          <p:nvPr/>
        </p:nvPicPr>
        <p:blipFill>
          <a:blip r:embed="rId2"/>
          <a:stretch/>
        </p:blipFill>
        <p:spPr>
          <a:xfrm>
            <a:off x="6804000" y="3645000"/>
            <a:ext cx="2208240" cy="2984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sofia_kiev_freska2"/>
          <p:cNvPicPr/>
          <p:nvPr/>
        </p:nvPicPr>
        <p:blipFill>
          <a:blip r:embed="rId3"/>
          <a:stretch/>
        </p:blipFill>
        <p:spPr>
          <a:xfrm>
            <a:off x="6227640" y="1066680"/>
            <a:ext cx="2916360" cy="20750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304920" y="1676520"/>
            <a:ext cx="6095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33cc"/>
                </a:solidFill>
                <a:latin typeface="Arial"/>
                <a:ea typeface="Arial"/>
              </a:rPr>
              <a:t>Перша збірка законів. “Руська  прав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33cc"/>
                </a:solidFill>
                <a:latin typeface="Arial"/>
                <a:ea typeface="Arial"/>
              </a:rPr>
              <a:t>1037-спорудження храму Св. Софії у Києві, створення першої бібліоте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33cc"/>
                </a:solidFill>
                <a:latin typeface="Arial"/>
                <a:ea typeface="Arial"/>
              </a:rPr>
              <a:t>1051-заснування Києво-Печерського монасти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33cc"/>
                </a:solidFill>
                <a:latin typeface="Arial"/>
                <a:ea typeface="Arial"/>
              </a:rPr>
              <a:t>1051-обрання київським митрополитом русича Іларі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 flipV="1" rot="10800000">
            <a:off x="6225840" y="3140640"/>
            <a:ext cx="291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66ffff"/>
                </a:solidFill>
                <a:latin typeface="Arial Black"/>
                <a:ea typeface="Arial"/>
              </a:rPr>
              <a:t>Фрески Софійського собор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uk-UA" sz="4800" spc="-1" strike="noStrike">
                <a:solidFill>
                  <a:srgbClr val="e5ffff"/>
                </a:solidFill>
                <a:latin typeface="Tahoma"/>
              </a:rPr>
              <a:t>Закріплення знань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Якою справою уславив своє ім'я Володимир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Чому князя Ярослава називали “Мудрим”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Спробуйте переконати, всі присутніх на уроці, що саме за часів князювання Володимира та Ярослава Київська Русь досягла свого розквіт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e5ffff"/>
                </a:solidFill>
                <a:latin typeface="Tahoma"/>
              </a:rPr>
              <a:t>Підсумок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7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600" spc="-1" strike="noStrike">
                <a:solidFill>
                  <a:srgbClr val="ffff00"/>
                </a:solidFill>
                <a:latin typeface="Tahoma"/>
              </a:rPr>
              <a:t>найвагоміший внесок у розбудову і зміцнення Київської держави зробили князі Володимир Великий і Ярослав Мудрий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uk-UA" sz="3600" spc="-1" strike="noStrike">
                <a:solidFill>
                  <a:srgbClr val="ffff00"/>
                </a:solidFill>
                <a:latin typeface="Tahoma"/>
              </a:rPr>
              <a:t>слава Києва тієї пори лунала не лише на Русі, а й на Заход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uk-UA" sz="3600" spc="-1" strike="noStrike">
                <a:solidFill>
                  <a:srgbClr val="ffff00"/>
                </a:solidFill>
                <a:latin typeface="Tahoma"/>
              </a:rPr>
              <a:t>імена Володимира Великого та Ярослава Мудрого шановані й нин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Tahoma"/>
              </a:rPr>
              <a:t>Домашнє завдання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cc"/>
                </a:solidFill>
                <a:latin typeface="Tahoma"/>
              </a:rPr>
              <a:t>1) Опрацювати параграф 6 - 7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cc"/>
                </a:solidFill>
                <a:latin typeface="Tahoma"/>
              </a:rPr>
              <a:t>2) Підготуватися до рольової гр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385120" cy="13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 u="sng">
                <a:solidFill>
                  <a:srgbClr val="33cc33"/>
                </a:solidFill>
                <a:uFillTx/>
                <a:latin typeface="Tahoma"/>
              </a:rPr>
              <a:t>Мета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33cc"/>
                </a:solidFill>
                <a:latin typeface="Tahoma"/>
              </a:rPr>
              <a:t>Познайомитися з подіями, що відбувалися в період правління Володимира Великого та Ярослава Мудрого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33cc"/>
                </a:solidFill>
                <a:latin typeface="Tahoma"/>
              </a:rPr>
              <a:t>Дослідити як відбувалася розбудова </a:t>
            </a:r>
            <a:r>
              <a:rPr b="1" i="1" lang="uk-UA" sz="3600" spc="-1" strike="noStrike">
                <a:solidFill>
                  <a:srgbClr val="0000cc"/>
                </a:solidFill>
                <a:latin typeface="Tahoma"/>
              </a:rPr>
              <a:t>Київської держав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3366"/>
                </a:solidFill>
                <a:latin typeface="Tahoma"/>
              </a:rPr>
              <a:t>ПРО КОГО ЙДЕ МОВА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Tahoma"/>
              </a:rPr>
              <a:t>Нестор - літописець порівнював цю історичну особу з яскравою зорею, що передує сходу Сонця. Православна церква прилучила її до лику святих. Цій особі після скількох воєн вдалося зберігати спокій у країні та зміцнити міжнародне становищ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437760"/>
            <a:ext cx="807732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e5ffff"/>
                </a:solidFill>
                <a:latin typeface="Tahoma"/>
              </a:rPr>
              <a:t>ПРО КОГО ЙДЕ МОВА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Tahoma"/>
              </a:rPr>
              <a:t>Його ім'я перекладається як мудрий, віщий, святий. Своєю діяльністю сприяв зміцненню Київської держави, виходу її на міжнародну арену. На воротах Константинополя зміг прибити свій щи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e5ffff"/>
                </a:solidFill>
                <a:latin typeface="Tahoma"/>
              </a:rPr>
              <a:t>ПРО КОГО ЙДЕ МОВА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Tahoma"/>
              </a:rPr>
              <a:t>Про нього кажуть: хоробрий воїн, давньоруський спартанець, перший запорожець на Київському столі </a:t>
            </a:r>
            <a:r>
              <a:rPr b="0" i="1" lang="uk-UA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uk-UA" sz="4800" spc="-1" strike="noStrike">
                <a:solidFill>
                  <a:srgbClr val="e5ffff"/>
                </a:solidFill>
                <a:latin typeface="Tahoma"/>
              </a:rPr>
              <a:t>План вивчення тем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1.Князь Володимир – людина і державний діяч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заходи Володимира по зміцненні і     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розбудові   держави;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прийняття християнства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2. Ярослав Мудрий – продовжувач справи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свого батька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піднесення могутності Київської держави;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культурно-церковне життя за часів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Ярослава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uk-UA" sz="4800" spc="-1" strike="noStrike">
                <a:solidFill>
                  <a:srgbClr val="003366"/>
                </a:solidFill>
                <a:latin typeface="Tahoma"/>
              </a:rPr>
              <a:t>Князь Володимир: людина і державець</a:t>
            </a:r>
            <a:br>
              <a:rPr sz="4800"/>
            </a:br>
            <a:r>
              <a:rPr b="0" lang="ru-RU" sz="4800" spc="-1" strike="noStrike">
                <a:solidFill>
                  <a:srgbClr val="003366"/>
                </a:solidFill>
                <a:latin typeface="Tahoma"/>
              </a:rPr>
              <a:t>(980-1015)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266688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99"/>
                </a:solidFill>
                <a:latin typeface="Tahoma"/>
              </a:rPr>
              <a:t>В історію Володимир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99"/>
                </a:solidFill>
                <a:latin typeface="Tahoma"/>
              </a:rPr>
              <a:t>ввійшов як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Tahoma"/>
              </a:rPr>
              <a:t>ВЕЛИ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0000"/>
                </a:solidFill>
                <a:latin typeface="Tahoma"/>
              </a:rPr>
              <a:t>КРАСНЕ СОНЕЧК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cc66"/>
                </a:solidFill>
                <a:latin typeface="Tahoma"/>
              </a:rPr>
              <a:t>СВЯТ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6600ff"/>
                </a:solidFill>
                <a:latin typeface="Tahoma"/>
              </a:rPr>
              <a:t>ХРЕСТИТЕЛ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3300"/>
                </a:solidFill>
                <a:latin typeface="Tahoma"/>
              </a:rPr>
              <a:t>РІВНОАПОСТОЛЬ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5867280" y="2421000"/>
            <a:ext cx="327672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uk-UA" sz="4800" spc="-1" strike="noStrike">
                <a:solidFill>
                  <a:srgbClr val="e5ffff"/>
                </a:solidFill>
                <a:latin typeface="Tahoma"/>
              </a:rPr>
              <a:t>Князь Володимир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06640" y="1700280"/>
            <a:ext cx="74325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Будував міста-фортеці, оборонні укріпленн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Родових князів замінив своїми синами та родичам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Боровся з печенігам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Карбував золоті та срібні монет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Запровадив християнство та сприяв побудові церк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3366ff"/>
                </a:solidFill>
                <a:uFillTx/>
                <a:latin typeface="Tahoma"/>
              </a:rPr>
              <a:t>Кроки побудови сильної держав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Picture 11" descr="27"/>
          <p:cNvPicPr/>
          <p:nvPr/>
        </p:nvPicPr>
        <p:blipFill>
          <a:blip r:embed="rId2"/>
          <a:stretch/>
        </p:blipFill>
        <p:spPr>
          <a:xfrm>
            <a:off x="4038480" y="1773360"/>
            <a:ext cx="5105520" cy="2232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IMGR2"/>
          <p:cNvPicPr/>
          <p:nvPr/>
        </p:nvPicPr>
        <p:blipFill>
          <a:blip r:embed="rId3"/>
          <a:stretch/>
        </p:blipFill>
        <p:spPr>
          <a:xfrm>
            <a:off x="228600" y="4005360"/>
            <a:ext cx="4724280" cy="254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Володимир_Великий"/>
          <p:cNvPicPr/>
          <p:nvPr/>
        </p:nvPicPr>
        <p:blipFill>
          <a:blip r:embed="rId4"/>
          <a:stretch/>
        </p:blipFill>
        <p:spPr>
          <a:xfrm>
            <a:off x="687240" y="2268360"/>
            <a:ext cx="1981440" cy="1397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b1"/>
          <p:cNvPicPr/>
          <p:nvPr/>
        </p:nvPicPr>
        <p:blipFill>
          <a:blip r:embed="rId5"/>
          <a:stretch/>
        </p:blipFill>
        <p:spPr>
          <a:xfrm>
            <a:off x="5105520" y="4365720"/>
            <a:ext cx="3733560" cy="2111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9"/>
          <p:cNvSpPr/>
          <p:nvPr/>
        </p:nvSpPr>
        <p:spPr>
          <a:xfrm>
            <a:off x="5619600" y="393372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  <a:ea typeface="Arial"/>
              </a:rPr>
              <a:t>Збір дани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5257800" y="649116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5165640" y="6437160"/>
            <a:ext cx="344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Побудова церк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517680" y="3573360"/>
            <a:ext cx="27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cc"/>
                </a:solidFill>
                <a:latin typeface="Arial"/>
                <a:ea typeface="Arial"/>
              </a:rPr>
              <a:t>Злотник Володими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762120" y="6491160"/>
            <a:ext cx="313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762120" y="6491160"/>
            <a:ext cx="37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  <a:ea typeface="Arial"/>
              </a:rPr>
              <a:t>Велич Киє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5T11:10:48Z</dcterms:created>
  <dc:creator>User</dc:creator>
  <dc:description/>
  <dc:language>en-US</dc:language>
  <cp:lastModifiedBy>User</cp:lastModifiedBy>
  <dcterms:modified xsi:type="dcterms:W3CDTF">2018-01-05T11:36:23Z</dcterms:modified>
  <cp:revision>2</cp:revision>
  <dc:subject/>
  <dc:title>Тема.  Київська держава Русь - Україна в період розквіту. Володимир Великий та Ярослав Мудрий</dc:title>
</cp:coreProperties>
</file>