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343-69E3-4004-8758-FAFBB9E68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0D37-123B-4F30-A237-AF29FAB96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904-3EE4-4DF6-9D55-9987F808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AC1-95D2-4BB8-A63B-5C28378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FD7-2812-4B43-B3E4-0CA6015E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212-DF4D-4CB4-908E-DDD8BA75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885D-ED98-4FD8-BAA0-04551376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B61D-1643-43D5-AD83-F5C5FEF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FB2-5C77-4BE8-8CAC-C232E3C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3A0-3994-44EC-BF66-D3024FA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68D1-FA14-4AD1-80BC-4FED983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ED7C-9A0A-49B4-9B36-61F27D8E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2A83-4B51-4772-961B-186A0ED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E45-7A6C-42FE-A4B1-4443BDAF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ACCF-9726-4643-AA48-5063E5C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FD9E-18A5-46E3-B5E4-A2DDB19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46E-6FC5-492F-8C9F-3C242FF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FBE8-8242-4A0E-8620-4293D3C9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0047-3049-4EEF-B9AC-5BEEF2F2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F43-9D7A-4021-B9A4-D7C7C8E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4E0-437D-46C9-A8DC-9D19833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C44-D5D3-499A-A949-9E5E5F1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72E-84E4-4223-BBC5-CB085693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93B-81FE-436E-8B75-5AB826E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092-CC53-41E7-9CD6-7448B9A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142-B5D7-4AE6-9D99-181FB6C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5F5-7C9B-46C0-838B-B474BE6F68E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E501-F25E-4860-BFE4-FCD37051288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11" descr="tibetan-f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3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ЗНАЙ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00"/>
                </a:solidFill>
                <a:latin typeface="Times New Roman"/>
              </a:rPr>
              <a:t>ЛЮБИ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b050"/>
                </a:solidFill>
                <a:latin typeface="Times New Roman"/>
              </a:rPr>
              <a:t>БЕРЕЖИ!”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241800" cy="1219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1. До якої групи рослин належить? (Водорості, мохи, хвощі, папороті, хвойні та квіткові рослин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2. Це дерево, кущ чи трав'яниста рослин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3. Органи росли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4. Однорічна, дворічна чи багаторічна рослин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5. Чим корисн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Содержимое 3" descr="03 Калина.jpg"/>
          <p:cNvPicPr/>
          <p:nvPr/>
        </p:nvPicPr>
        <p:blipFill>
          <a:blip r:embed="rId2"/>
          <a:stretch/>
        </p:blipFill>
        <p:spPr>
          <a:xfrm>
            <a:off x="3575160" y="1281240"/>
            <a:ext cx="51116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785880" y="1428840"/>
          <a:ext cx="7665840" cy="1714320"/>
        </p:xfrm>
        <a:graphic>
          <a:graphicData uri="http://schemas.openxmlformats.org/drawingml/2006/table">
            <a:tbl>
              <a:tblPr/>
              <a:tblGrid>
                <a:gridCol w="7665840"/>
              </a:tblGrid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арини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14240" y="5000760"/>
          <a:ext cx="7643880" cy="18572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лини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0" name="Прямая со стрелкой 11"/>
          <p:cNvCxnSpPr/>
          <p:nvPr/>
        </p:nvCxnSpPr>
        <p:spPr>
          <a:xfrm>
            <a:off x="4500720" y="3214440"/>
            <a:ext cx="2160" cy="1797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3"/>
          <p:cNvCxnSpPr/>
          <p:nvPr/>
        </p:nvCxnSpPr>
        <p:spPr>
          <a:xfrm flipV="1">
            <a:off x="4141800" y="3142800"/>
            <a:ext cx="2160" cy="1859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1ряд.− За якими ознаками тварини подібні до інших живих організмів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2ряд.−Назви особливі ознаки твари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3ряд.−Для чого тварини переміщуютьс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2" descr=""/>
          <p:cNvPicPr/>
          <p:nvPr/>
        </p:nvPicPr>
        <p:blipFill>
          <a:blip r:embed="rId2"/>
          <a:stretch/>
        </p:blipFill>
        <p:spPr>
          <a:xfrm>
            <a:off x="96840" y="1573200"/>
            <a:ext cx="82422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1 груп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иберіть одну з тварин і розкажіть про неї за пла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Ознаки тварин як живого організ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Особливі озн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Чим живить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.Яку користь приносить людя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6504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28760" y="1571760"/>
          <a:ext cx="8229600" cy="1562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ільні і подібні озна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хають, живляться, ростуть, розвиваються, розмножуються, вмираю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мінні озна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28760" y="3143160"/>
          <a:ext cx="8215200" cy="384012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вле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л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жу створюють сам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ереміщуються з одного місця в інше, але деякі органи рухаю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ар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ляться рослинами або твари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іщуються з одного місця в інш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6504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28760" y="1571760"/>
          <a:ext cx="8229600" cy="1592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ільні і подібні о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хають,живляться,ростуть,розвиваються,розмножуються,вмираю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мінні озна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760" y="3143160"/>
          <a:ext cx="8215200" cy="192564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вле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л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жу створюють сам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ереміщуються з одного місця в інше,але деякі органи рухаю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ар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ляться рослинами або твари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іщуються с одного місця в інш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14:50Z</dcterms:created>
  <dc:creator>Стас</dc:creator>
  <dc:description/>
  <dc:language>en-US</dc:language>
  <cp:lastModifiedBy>Admin</cp:lastModifiedBy>
  <dcterms:modified xsi:type="dcterms:W3CDTF">2011-12-06T18:41:22Z</dcterms:modified>
  <cp:revision>59</cp:revision>
  <dc:subject/>
  <dc:title>Тварини - живі організми.Як розрізняють тварин</dc:title>
</cp:coreProperties>
</file>