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7BD-1C7C-45C1-94C5-A13C2270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D46-09BB-476B-BB75-1AD527D8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569-4265-4102-97B5-798D5804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5BB-4041-4A85-945E-FE051F78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20A-CA41-4A91-80C1-D4219E55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1AB-72B3-4052-8908-9A77BC4C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A29-4744-4766-9DA3-743FA9BA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D6C-50DD-4380-9E70-5AB140AC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719-5177-4B95-A4E2-1E408FBD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D31-D7AD-4E4B-8A65-D3F31184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604-12CB-4105-B346-0CAF068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BE0-D7E3-4771-A004-63BF9FEA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3DB4-83CF-45EF-92B8-27A4C3E454A1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готувала Косенко Л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читель початкових класів КУ ССШ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d2d8a"/>
                </a:solidFill>
                <a:latin typeface="Arial"/>
              </a:rPr>
              <a:t>« Цілий день перед телевізо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d2d8a"/>
                </a:solidFill>
                <a:latin typeface="Arial"/>
              </a:rPr>
              <a:t>– </a:t>
            </a:r>
            <a:r>
              <a:rPr b="0" lang="uk-UA" sz="4000" spc="-1" strike="noStrike">
                <a:solidFill>
                  <a:srgbClr val="2d2d8a"/>
                </a:solidFill>
                <a:latin typeface="Arial"/>
              </a:rPr>
              <a:t>це добр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3" descr=""/>
          <p:cNvPicPr/>
          <p:nvPr/>
        </p:nvPicPr>
        <p:blipFill>
          <a:blip r:embed="rId1"/>
          <a:stretch/>
        </p:blipFill>
        <p:spPr>
          <a:xfrm>
            <a:off x="2693880" y="201600"/>
            <a:ext cx="3786120" cy="160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235320" y="3141720"/>
            <a:ext cx="285912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828720" y="2000160"/>
            <a:ext cx="8004240" cy="24321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" descr=""/>
          <p:cNvPicPr/>
          <p:nvPr/>
        </p:nvPicPr>
        <p:blipFill>
          <a:blip r:embed="rId2"/>
          <a:stretch/>
        </p:blipFill>
        <p:spPr>
          <a:xfrm>
            <a:off x="2554200" y="487440"/>
            <a:ext cx="44690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755640" y="2749680"/>
            <a:ext cx="71262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3902040" y="5983200"/>
            <a:ext cx="115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26920" y="3492360"/>
            <a:ext cx="3529080" cy="2827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1109520" y="1206360"/>
            <a:ext cx="72532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форма групової роботи, яка  забезпечує активну участь і творчу взаємодію учасників між собою і з учител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1328760" y="274680"/>
            <a:ext cx="6553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324000" y="2133720"/>
            <a:ext cx="7993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33cc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- це стан повного фізичного, духовного та соціального благополуччя, а не тільки відсутність хвороб або фізичних ва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3316320" y="347760"/>
            <a:ext cx="29019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539640" y="620640"/>
            <a:ext cx="8064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971640" y="1052640"/>
            <a:ext cx="7200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Всесвітня організація охорони здоров'я</a:t>
            </a:r>
            <a:endParaRPr b="1" lang="en-US" sz="2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клала перелік із 10 продуктів,</a:t>
            </a:r>
            <a:endParaRPr b="1" lang="en-US" sz="2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без яких неможливо дотримуватися </a:t>
            </a:r>
            <a:endParaRPr b="1" lang="en-US" sz="2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здорового способу життя:</a:t>
            </a:r>
            <a:endParaRPr b="1" lang="en-US" sz="2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900000" y="3429000"/>
            <a:ext cx="6408720" cy="3024360"/>
          </a:xfrm>
          <a:custGeom>
            <a:avLst/>
            <a:gdLst>
              <a:gd name="textAreaLeft" fmla="*/ 0 w 6408720"/>
              <a:gd name="textAreaRight" fmla="*/ 6409080 w 6408720"/>
              <a:gd name="textAreaTop" fmla="*/ 392040 h 3024360"/>
              <a:gd name="textAreaBottom" fmla="*/ 26323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476360" y="4076640"/>
            <a:ext cx="5183280" cy="3529080"/>
          </a:xfrm>
          <a:custGeom>
            <a:avLst/>
            <a:gdLst>
              <a:gd name="textAreaLeft" fmla="*/ 0 w 5183280"/>
              <a:gd name="textAreaRight" fmla="*/ 5183640 w 5183280"/>
              <a:gd name="textAreaTop" fmla="*/ 457200 h 3529080"/>
              <a:gd name="textAreaBottom" fmla="*/ 307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5" name="Picture 19" descr=""/>
          <p:cNvPicPr/>
          <p:nvPr/>
        </p:nvPicPr>
        <p:blipFill>
          <a:blip r:embed="rId1"/>
          <a:srcRect l="0" t="0" r="-245" b="0"/>
          <a:stretch/>
        </p:blipFill>
        <p:spPr>
          <a:xfrm>
            <a:off x="3741840" y="3103560"/>
            <a:ext cx="176688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WordArt 21"/>
          <p:cNvSpPr txBox="1"/>
          <p:nvPr/>
        </p:nvSpPr>
        <p:spPr>
          <a:xfrm>
            <a:off x="1258920" y="4105440"/>
            <a:ext cx="165744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орква</a:t>
            </a:r>
            <a:endParaRPr b="1" lang="en-US" sz="2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7" name="WordArt 24"/>
          <p:cNvSpPr txBox="1"/>
          <p:nvPr/>
        </p:nvSpPr>
        <p:spPr>
          <a:xfrm>
            <a:off x="1260360" y="3429000"/>
            <a:ext cx="17272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блука</a:t>
            </a:r>
            <a:endParaRPr b="1" lang="en-US" sz="2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1301760" y="4694400"/>
            <a:ext cx="161460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капуста</a:t>
            </a:r>
            <a:endParaRPr b="1" lang="en-US" sz="2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" name="WordArt 26"/>
          <p:cNvSpPr txBox="1"/>
          <p:nvPr/>
        </p:nvSpPr>
        <p:spPr>
          <a:xfrm>
            <a:off x="826920" y="5237280"/>
            <a:ext cx="266544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елений чай</a:t>
            </a:r>
            <a:endParaRPr b="1" lang="en-US" sz="2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WordArt 27"/>
          <p:cNvSpPr txBox="1"/>
          <p:nvPr/>
        </p:nvSpPr>
        <p:spPr>
          <a:xfrm>
            <a:off x="2698920" y="5834160"/>
            <a:ext cx="17287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цибуля</a:t>
            </a:r>
            <a:endParaRPr b="1" lang="en-US" sz="2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1" name="WordArt 28"/>
          <p:cNvSpPr txBox="1"/>
          <p:nvPr/>
        </p:nvSpPr>
        <p:spPr>
          <a:xfrm>
            <a:off x="4859280" y="5934240"/>
            <a:ext cx="1297080" cy="31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алат</a:t>
            </a:r>
            <a:endParaRPr b="1" lang="en-US" sz="2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29"/>
          <p:cNvSpPr txBox="1"/>
          <p:nvPr/>
        </p:nvSpPr>
        <p:spPr>
          <a:xfrm>
            <a:off x="6012000" y="3500280"/>
            <a:ext cx="2016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мідори</a:t>
            </a:r>
            <a:endParaRPr b="1" lang="en-US" sz="2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WordArt 30"/>
          <p:cNvSpPr txBox="1"/>
          <p:nvPr/>
        </p:nvSpPr>
        <p:spPr>
          <a:xfrm>
            <a:off x="6012000" y="4149720"/>
            <a:ext cx="19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чорниця</a:t>
            </a:r>
            <a:endParaRPr b="1" lang="en-US" sz="2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WordArt 31"/>
          <p:cNvSpPr txBox="1"/>
          <p:nvPr/>
        </p:nvSpPr>
        <p:spPr>
          <a:xfrm>
            <a:off x="5999040" y="4653000"/>
            <a:ext cx="231804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ерець чілі</a:t>
            </a:r>
            <a:endParaRPr b="1" lang="en-US" sz="2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5" name="WordArt 32"/>
          <p:cNvSpPr txBox="1"/>
          <p:nvPr/>
        </p:nvSpPr>
        <p:spPr>
          <a:xfrm>
            <a:off x="6154560" y="5300640"/>
            <a:ext cx="1657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броколі</a:t>
            </a:r>
            <a:endParaRPr b="1" lang="en-US" sz="2800" spc="1" strike="noStrike">
              <a:ln w="324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1500120"/>
            <a:ext cx="8472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2127240" y="274680"/>
            <a:ext cx="5114880" cy="16034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"/>
          <p:cNvPicPr/>
          <p:nvPr/>
        </p:nvPicPr>
        <p:blipFill>
          <a:blip r:embed="rId2"/>
          <a:srcRect l="6044" t="16666" r="6686" b="2888"/>
          <a:stretch/>
        </p:blipFill>
        <p:spPr>
          <a:xfrm>
            <a:off x="4724280" y="1387440"/>
            <a:ext cx="3776760" cy="5072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900000" y="1628640"/>
            <a:ext cx="352764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99"/>
                </a:solidFill>
                <a:latin typeface="Times New Roman"/>
              </a:rPr>
              <a:t>« І  словом, і розумом, життям своїм мудрець».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ихайло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валинський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итсев йивородз бісопс ятти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Line 4"/>
          <p:cNvSpPr/>
          <p:nvPr/>
        </p:nvSpPr>
        <p:spPr>
          <a:xfrm flipV="1">
            <a:off x="4716360" y="155556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 flipH="1">
            <a:off x="898200" y="3284640"/>
            <a:ext cx="86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>
            <a:off x="7093080" y="3357720"/>
            <a:ext cx="7938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Line 10"/>
          <p:cNvSpPr/>
          <p:nvPr/>
        </p:nvSpPr>
        <p:spPr>
          <a:xfrm flipH="1" flipV="1">
            <a:off x="2123640" y="2060280"/>
            <a:ext cx="792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 flipH="1">
            <a:off x="5363640" y="3289320"/>
            <a:ext cx="19080" cy="107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1692360" y="2709720"/>
            <a:ext cx="536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здоровий спосіб життя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16"/>
          <p:cNvSpPr txBox="1"/>
          <p:nvPr/>
        </p:nvSpPr>
        <p:spPr>
          <a:xfrm>
            <a:off x="757080" y="1557360"/>
            <a:ext cx="251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зитивні емоції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18"/>
          <p:cNvSpPr txBox="1"/>
          <p:nvPr/>
        </p:nvSpPr>
        <p:spPr>
          <a:xfrm>
            <a:off x="3132000" y="105264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доровий відпочинок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WordArt 19"/>
          <p:cNvSpPr txBox="1"/>
          <p:nvPr/>
        </p:nvSpPr>
        <p:spPr>
          <a:xfrm>
            <a:off x="6156360" y="1628640"/>
            <a:ext cx="19778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исна їж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20"/>
          <p:cNvSpPr txBox="1"/>
          <p:nvPr/>
        </p:nvSpPr>
        <p:spPr>
          <a:xfrm>
            <a:off x="468360" y="3860640"/>
            <a:ext cx="25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собиста гігієн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21"/>
          <p:cNvSpPr txBox="1"/>
          <p:nvPr/>
        </p:nvSpPr>
        <p:spPr>
          <a:xfrm>
            <a:off x="5219640" y="4653000"/>
            <a:ext cx="93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орт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22"/>
          <p:cNvSpPr txBox="1"/>
          <p:nvPr/>
        </p:nvSpPr>
        <p:spPr>
          <a:xfrm>
            <a:off x="6380280" y="3933720"/>
            <a:ext cx="229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гартуванн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23"/>
          <p:cNvSpPr txBox="1"/>
          <p:nvPr/>
        </p:nvSpPr>
        <p:spPr>
          <a:xfrm>
            <a:off x="2724120" y="4508640"/>
            <a:ext cx="206388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ідмова від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шкідливих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ичок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Line 25"/>
          <p:cNvSpPr/>
          <p:nvPr/>
        </p:nvSpPr>
        <p:spPr>
          <a:xfrm flipV="1">
            <a:off x="6012000" y="2060280"/>
            <a:ext cx="72072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Line 26"/>
          <p:cNvSpPr/>
          <p:nvPr/>
        </p:nvSpPr>
        <p:spPr>
          <a:xfrm flipH="1">
            <a:off x="3850920" y="3289320"/>
            <a:ext cx="19080" cy="107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8:43:29Z</dcterms:created>
  <dc:creator>Natali</dc:creator>
  <dc:description/>
  <dc:language>en-US</dc:language>
  <cp:lastModifiedBy>User</cp:lastModifiedBy>
  <dcterms:modified xsi:type="dcterms:W3CDTF">2017-12-12T08:53:15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0c0000000000010251600207f7000400038000</vt:lpwstr>
  </property>
</Properties>
</file>