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8B9A-432E-4550-BC66-6148773AD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2DC0-775D-4AF8-B40E-38A2410F2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869E-2D6D-4A87-9129-ACE6BE75A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49CA-8F8C-4EDD-83ED-74FE9A53F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0EC12-6688-4599-927F-2A1A67DB6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FF2ED-7643-4E4C-BC32-EEFA567B5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A1648-8F36-4717-9984-284330738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A99E9-45C5-4ED9-B302-E654FA26B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BB907-D4D2-462F-87EA-FAA223A00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49FA2-B277-45B3-96E9-0CB7E6C60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6B432-EC1B-4E4F-9F49-21AB875F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6269-108A-498E-8B0E-AB48E1347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4ACA2-DAB8-4220-9D7D-74C6EF49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0BCA8-689D-4D7E-96A5-17D5E01F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CE858-5669-413D-91E4-E43A35DCD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D9E82-B4E1-4D1A-BCC4-1F40EF45D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8E807-5973-4B06-9C48-587982B88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041D64-3EC1-45CB-BDC0-AED9944F6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E3DCF4-CDD4-44D2-BF13-5959E0C60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6F6B82-650F-4A01-B883-16207BED7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D45F35-82AE-4A49-8DC7-35769420A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80F2F0-C7BD-4106-B9FB-2E99DAD6B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B801-0889-4876-9629-03E7831BB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D3B233-6DCC-437C-A454-58224EAC0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1D337B-B0EA-43F6-8E0A-30412B74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7B383F-E5A7-46B1-9FB9-07F394B5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CC5526-EB22-42C8-ABE2-3090D3AD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3B3819-38F6-42C8-87C9-4FC386896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E982A2-7A29-4A8C-9276-9B5E4C03B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027894-DA12-40EB-BBC2-BC4C878A3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3177FD-E358-4651-A0C2-9878E0AC1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56846C-6176-4A0A-8D13-45F411EF9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0EECBB-748B-4EF1-8DB2-B354F9BB7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B2A8-31FE-4B37-9417-06EF9096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536989-6E4B-4691-8B3C-B7E9E6AD7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A604BF-CD07-4B30-8F64-19842FF62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B9A258-A828-4DC2-8FF2-036729170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86D12D-6603-4AD8-8B9C-FFD02E43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E5DFFF-2A2A-46E6-94F9-5FE1538B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5FAF53-5E9F-44B0-9F4B-B44B8152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422256-4979-4684-A98A-9F0B3CBB5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E6714D-E945-47C0-97A3-CFBE7D68F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149A77-C8E0-4CA2-A4A6-45B98D9C4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175454-9A54-40DE-813A-A3D5EC832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A066-D97C-4890-8B0D-E1A4E2D7C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3D6A40-AFB5-49A5-AB6D-74772B767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B7EB8C-4B27-425F-A0BE-2E3319DBA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134A78-1E4F-43FF-81E9-CC171D8E3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C1E2EA-64D0-4355-A850-61FD0B20B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CD635B-32EE-4DC1-9D1F-7A6E01F28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F584E0-739A-4547-BCAA-B46EB848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CF3303-3192-4437-8B3B-8C9E524E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D2EF33-B231-4148-A69D-A3D5E080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8D3CBA-DC52-4DD2-A28B-A14A502B3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96D031-42E2-4946-9471-7318FF088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C804-0792-4A3D-B560-35E909D27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AE6E06-70F4-4198-BA78-5BE213C39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BBC1E5-039A-43F5-BA75-35A6C54D7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A8FAD-FEC8-441E-85F5-EB27D44A5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26399-165B-4BF7-B0FF-85608C378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2B080E-B24C-4D06-AE38-AC4F93D71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F9661-07C8-4854-844E-479476A8C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CE74E3-7A59-4899-8678-DAD070A33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4D8EE-1298-4F59-8F5E-EAFF1E27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2082B-9C38-45A6-AF29-68903E5F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4547C-2ADC-45B3-A325-0FE7D0FE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39F3-4A14-4BD7-AF81-1B1B3728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D7DE6-A38B-411B-9A86-C35AD778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8FB02-C47A-46F3-8860-18E8688DD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7F92E-3E81-40D8-8704-64C1ED323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53F38-3474-4206-BE21-49C0ED82D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845D3-0263-4B56-B70E-6EA9E1B87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F61AD1-FBC3-4090-A101-D6158453B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4A3EC0-6199-4EF8-B5E5-BEC359B06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F60ABA-B2D1-46C5-849E-F2DD04EE8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FEC6E-3B13-4EB1-B395-543E25D9E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218F23-F896-4462-B8CA-41D3A5FB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C4A7-4B0C-4B8B-8464-4B8F61AB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B66AE7-827D-4D3D-8884-E1891093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DD84E-BC6F-4007-BEA6-8F777CE6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9EE73-BA72-42F6-87DC-F27226A6F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FF890-9C78-4E20-80FA-934F3FF58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EDA429-D76D-4FFD-B6AA-E1EE00DAE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E74A-A776-4780-938B-AC523976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0A426-3415-4F61-80E0-806F8D5FAE07}" type="slidenum">
              <a:rPr b="1" lang="uk-U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8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9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0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1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2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13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14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16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оугольник 1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Овал 1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19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21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22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Прямая соединительная линия 25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7EA07-F65C-44B0-8E3A-90A7D5E34D1C}" type="slidenum">
              <a:rPr b="1" lang="uk-U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7C7EC-C72A-4BFC-BDBB-0E989E117B5A}" type="slidenum">
              <a:rPr b="1" lang="uk-U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ая соединительная линия 9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ая соединительная линия 7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ая соединительная линия 8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ая соединительная линия 10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оугольник 11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12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Овал 1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1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sldNum" idx="1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B7512-6FEB-42DD-9E5F-C7B9FA6651E8}" type="slidenum">
              <a:rPr b="1" lang="uk-U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ftr" idx="1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Прямая соединительная линия 8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Овал 1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Прямая соединительная линия 9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2" name="Прямоугольник 10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Прямая соединительная линия 11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Прямая соединительная линия 18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Прямая соединительная линия 19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01221-25DE-418F-9DA9-A6F2920FBA32}" type="slidenum">
              <a:rPr b="1" lang="uk-U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48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545454"/>
                </a:gs>
                <a:gs pos="100000">
                  <a:srgbClr val="4e4e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545454"/>
                </a:gs>
                <a:gs pos="100000">
                  <a:srgbClr val="6464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ce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dc4d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8dc4d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C6387-9436-41F0-BD6F-F61E202C40E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292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545454"/>
                </a:gs>
                <a:gs pos="100000">
                  <a:srgbClr val="46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545454"/>
                </a:gs>
                <a:gs pos="100000">
                  <a:srgbClr val="6464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42E13-632B-4938-94F6-F480321A929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4d4ce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d4d4ce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7918560" cy="540072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4356000" y="40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400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Содержимое 3" descr="SOBOR01 009_0002.jpg"/>
          <p:cNvPicPr/>
          <p:nvPr/>
        </p:nvPicPr>
        <p:blipFill>
          <a:blip r:embed="rId1"/>
          <a:stretch/>
        </p:blipFill>
        <p:spPr>
          <a:xfrm>
            <a:off x="250920" y="260280"/>
            <a:ext cx="7850160" cy="6337440"/>
          </a:xfrm>
          <a:prstGeom prst="rect">
            <a:avLst/>
          </a:prstGeom>
          <a:ln w="0">
            <a:noFill/>
          </a:ln>
        </p:spPr>
      </p:pic>
    </p:spTree>
  </p:cSld>
  <p:transition advTm="4000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8064360" cy="5092920"/>
          </a:xfrm>
          <a:prstGeom prst="rect">
            <a:avLst/>
          </a:prstGeom>
          <a:ln w="0">
            <a:noFill/>
          </a:ln>
        </p:spPr>
      </p:pic>
    </p:spTree>
  </p:cSld>
  <p:transition advTm="4000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8429400" cy="5400720"/>
          </a:xfrm>
          <a:prstGeom prst="rect">
            <a:avLst/>
          </a:prstGeom>
          <a:ln w="0">
            <a:noFill/>
          </a:ln>
        </p:spPr>
      </p:pic>
    </p:spTree>
  </p:cSld>
  <p:transition advTm="4000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pic>
        <p:nvPicPr>
          <p:cNvPr id="339" name="Рисунок 8" descr="IMG.jpg"/>
          <p:cNvPicPr/>
          <p:nvPr/>
        </p:nvPicPr>
        <p:blipFill>
          <a:blip r:embed="rId1"/>
          <a:stretch/>
        </p:blipFill>
        <p:spPr>
          <a:xfrm>
            <a:off x="250920" y="260280"/>
            <a:ext cx="8424720" cy="6408720"/>
          </a:xfrm>
          <a:prstGeom prst="rect">
            <a:avLst/>
          </a:prstGeom>
          <a:ln w="0">
            <a:noFill/>
          </a:ln>
        </p:spPr>
      </p:pic>
    </p:spTree>
  </p:cSld>
  <p:transition advTm="4000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Содержимое 4" descr="sivryuki_21-600x468.jpg"/>
          <p:cNvPicPr/>
          <p:nvPr/>
        </p:nvPicPr>
        <p:blipFill>
          <a:blip r:embed="rId1"/>
          <a:stretch/>
        </p:blipFill>
        <p:spPr>
          <a:xfrm>
            <a:off x="250920" y="333360"/>
            <a:ext cx="7777080" cy="6191280"/>
          </a:xfrm>
          <a:prstGeom prst="rect">
            <a:avLst/>
          </a:prstGeom>
          <a:ln w="0">
            <a:noFill/>
          </a:ln>
        </p:spPr>
      </p:pic>
    </p:spTree>
  </p:cSld>
  <p:transition advTm="4000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pic>
        <p:nvPicPr>
          <p:cNvPr id="342" name="Содержимое 5" descr="457846.jpg"/>
          <p:cNvPicPr/>
          <p:nvPr/>
        </p:nvPicPr>
        <p:blipFill>
          <a:blip r:embed="rId1"/>
          <a:stretch/>
        </p:blipFill>
        <p:spPr>
          <a:xfrm>
            <a:off x="250920" y="189000"/>
            <a:ext cx="8424720" cy="6408720"/>
          </a:xfrm>
          <a:prstGeom prst="rect">
            <a:avLst/>
          </a:prstGeom>
          <a:ln w="0">
            <a:noFill/>
          </a:ln>
        </p:spPr>
      </p:pic>
      <p:pic>
        <p:nvPicPr>
          <p:cNvPr id="343" name="Рисунок 6" descr="IMG.jpg"/>
          <p:cNvPicPr/>
          <p:nvPr/>
        </p:nvPicPr>
        <p:blipFill>
          <a:blip r:embed="rId2"/>
          <a:stretch/>
        </p:blipFill>
        <p:spPr>
          <a:xfrm>
            <a:off x="250920" y="260280"/>
            <a:ext cx="4892760" cy="2952720"/>
          </a:xfrm>
          <a:prstGeom prst="rect">
            <a:avLst/>
          </a:prstGeom>
          <a:ln w="0">
            <a:noFill/>
          </a:ln>
        </p:spPr>
      </p:pic>
      <p:pic>
        <p:nvPicPr>
          <p:cNvPr id="344" name="Рисунок 7" descr="IMG_0001.jpg"/>
          <p:cNvPicPr/>
          <p:nvPr/>
        </p:nvPicPr>
        <p:blipFill>
          <a:blip r:embed="rId3"/>
          <a:stretch/>
        </p:blipFill>
        <p:spPr>
          <a:xfrm>
            <a:off x="4572000" y="3068640"/>
            <a:ext cx="4227480" cy="3529080"/>
          </a:xfrm>
          <a:prstGeom prst="rect">
            <a:avLst/>
          </a:prstGeom>
          <a:ln w="0">
            <a:noFill/>
          </a:ln>
        </p:spPr>
      </p:pic>
    </p:spTree>
  </p:cSld>
  <p:transition advTm="4000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Содержимое 7" descr="file.jpg"/>
          <p:cNvPicPr/>
          <p:nvPr/>
        </p:nvPicPr>
        <p:blipFill>
          <a:blip r:embed="rId1"/>
          <a:stretch/>
        </p:blipFill>
        <p:spPr>
          <a:xfrm>
            <a:off x="250920" y="260280"/>
            <a:ext cx="7850160" cy="6245280"/>
          </a:xfrm>
          <a:prstGeom prst="rect">
            <a:avLst/>
          </a:prstGeom>
          <a:ln w="0">
            <a:noFill/>
          </a:ln>
        </p:spPr>
      </p:pic>
    </p:spTree>
  </p:cSld>
  <p:transition advTm="4000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Содержимое 3" descr="89179.jpg"/>
          <p:cNvPicPr/>
          <p:nvPr/>
        </p:nvPicPr>
        <p:blipFill>
          <a:blip r:embed="rId1"/>
          <a:stretch/>
        </p:blipFill>
        <p:spPr>
          <a:xfrm>
            <a:off x="179280" y="333360"/>
            <a:ext cx="7921800" cy="6191280"/>
          </a:xfrm>
          <a:prstGeom prst="rect">
            <a:avLst/>
          </a:prstGeom>
          <a:ln w="0">
            <a:noFill/>
          </a:ln>
        </p:spPr>
      </p:pic>
    </p:spTree>
  </p:cSld>
  <p:transition advTm="4000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8280360" cy="5616360"/>
          </a:xfrm>
          <a:prstGeom prst="rect">
            <a:avLst/>
          </a:prstGeom>
          <a:ln w="0">
            <a:noFill/>
          </a:ln>
        </p:spPr>
      </p:pic>
    </p:spTree>
  </p:cSld>
  <p:transition advTm="4000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Содержимое 3" descr="250px-Kursk_Soviet_machineguns.JPG"/>
          <p:cNvPicPr/>
          <p:nvPr/>
        </p:nvPicPr>
        <p:blipFill>
          <a:blip r:embed="rId1"/>
          <a:stretch/>
        </p:blipFill>
        <p:spPr>
          <a:xfrm>
            <a:off x="395280" y="404640"/>
            <a:ext cx="7705800" cy="5904000"/>
          </a:xfrm>
          <a:prstGeom prst="rect">
            <a:avLst/>
          </a:prstGeom>
          <a:ln w="0">
            <a:noFill/>
          </a:ln>
        </p:spPr>
      </p:pic>
    </p:spTree>
  </p:cSld>
  <p:transition advTm="4000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7947000" cy="5184720"/>
          </a:xfrm>
          <a:prstGeom prst="rect">
            <a:avLst/>
          </a:prstGeom>
          <a:ln w="0">
            <a:noFill/>
          </a:ln>
        </p:spPr>
      </p:pic>
    </p:spTree>
  </p:cSld>
  <p:transition advTm="5000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20:51:57Z</dcterms:created>
  <dc:creator>User</dc:creator>
  <dc:description/>
  <dc:language>en-US</dc:language>
  <cp:lastModifiedBy>1</cp:lastModifiedBy>
  <dcterms:modified xsi:type="dcterms:W3CDTF">2012-11-14T15:37:55Z</dcterms:modified>
  <cp:revision>3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e13000000000001024140</vt:lpwstr>
  </property>
</Properties>
</file>