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19D6-7B5A-490C-B065-E54CFE1B1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48E1-C2F1-4332-85FA-3FB7C52B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B30C-3A0C-4521-B434-4E8B8D75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92C4-4DFC-4D13-867C-5CF7F1FB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DE4D-064C-45EF-A55A-001BEFEF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6C7E-CB88-4A3E-8A26-30C0DD65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5C6DB-A19D-4C3C-B51C-F8D9BE30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1D38-123C-45CF-B114-616AF1DB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F806-7B94-4CC6-BD00-BE4ABB84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5783-1C98-4BB0-82F4-698F19558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5FAD-2901-49C3-8831-AF60F535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B608-CA11-4439-BA3F-FB84E2FC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001C-C01F-43F4-8402-DCCC3757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3C56-F0A8-4FA2-8259-DFA85FC0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C3BB-4BC8-43ED-80ED-9A6ADC24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AC2C-341D-467F-80DF-7A8C2198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62A7-374A-45D9-8237-9D5D524C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E44C-A7E4-494C-9D08-640833FB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4D56-45F2-4BE6-A06B-1216047C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BDC6-ED2C-4A05-B7F6-0EBF21B1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98F6-382D-47E8-935A-188CF966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8C6A-7378-47A8-8C23-E7B8A9E0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C886-44A4-4D81-B407-C214D45A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5366-AEA6-4AC6-B720-D5AAE881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5193-BA2D-4E4E-9B1B-462DE42989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9EED-EED8-4F07-88AC-EB40E9AB9BC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1" lang="uk-UA" sz="3600" spc="-1" strike="noStrike">
                <a:solidFill>
                  <a:srgbClr val="feec94"/>
                </a:solidFill>
                <a:latin typeface="Times New Roman"/>
              </a:rPr>
              <a:t>О.Генрі «Останній листок». </a:t>
            </a:r>
            <a:br>
              <a:rPr sz="3600"/>
            </a:br>
            <a:r>
              <a:rPr b="1" lang="uk-UA" sz="3600" spc="-1" strike="noStrike">
                <a:solidFill>
                  <a:srgbClr val="feec94"/>
                </a:solidFill>
                <a:latin typeface="Times New Roman"/>
              </a:rPr>
              <a:t>Новела “Останній листок” – гімн людині, котра здатна на самопожертву заради ближнього. Специфіка розкриття образу Бермана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Презентація зображення скульптур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Мікеланджело «Мойсей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eec94"/>
                </a:solidFill>
                <a:latin typeface="Times New Roman"/>
              </a:rPr>
              <a:t>З перелічених якостей людей підкресліть, аргументуючи свій вибір, ті, що були притаманні героєві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Вміння співчува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Мудрі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Миролюбні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Почуття власної гідності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Обов’язкові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Доброт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Терпимі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Витрим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Вміння проща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Небайдужі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Почуття відповідальності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Дисципліновані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Правдиві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Ініціативні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Чуйні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Доброзичливі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Веселі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Мужні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Скромні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Вміння працювати в колективі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Сміливі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Щедрі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Цілеспрямовані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Слухняні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Надійні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Готовність до самопожертв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Тактовні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Чесні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Вірніст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Милосерд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Доброта, милосердя, чуйність, співпереживання, уміння розділити чужий біль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Group 12"/>
          <p:cNvGrpSpPr/>
          <p:nvPr/>
        </p:nvGrpSpPr>
        <p:grpSpPr>
          <a:xfrm>
            <a:off x="2410920" y="2420280"/>
            <a:ext cx="4706280" cy="2810520"/>
            <a:chOff x="2410920" y="2420280"/>
            <a:chExt cx="4706280" cy="2810520"/>
          </a:xfrm>
        </p:grpSpPr>
        <p:cxnSp>
          <p:nvCxnSpPr>
            <p:cNvPr id="151" name="AutoShape 13"/>
            <p:cNvCxnSpPr/>
            <p:nvPr/>
          </p:nvCxnSpPr>
          <p:spPr>
            <a:xfrm>
              <a:off x="2410920" y="4826160"/>
              <a:ext cx="2538360" cy="4050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152" name="AutoShape 14"/>
            <p:cNvCxnSpPr/>
            <p:nvPr/>
          </p:nvCxnSpPr>
          <p:spPr>
            <a:xfrm flipV="1">
              <a:off x="4948920" y="4588920"/>
              <a:ext cx="2168640" cy="642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153" name="AutoShape 15"/>
            <p:cNvCxnSpPr/>
            <p:nvPr/>
          </p:nvCxnSpPr>
          <p:spPr>
            <a:xfrm flipV="1">
              <a:off x="2410920" y="2476800"/>
              <a:ext cx="1454040" cy="23497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154" name="AutoShape 16"/>
            <p:cNvCxnSpPr/>
            <p:nvPr/>
          </p:nvCxnSpPr>
          <p:spPr>
            <a:xfrm flipH="1" flipV="1">
              <a:off x="4775760" y="2618280"/>
              <a:ext cx="173520" cy="26128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155" name="AutoShape 17"/>
            <p:cNvCxnSpPr/>
            <p:nvPr/>
          </p:nvCxnSpPr>
          <p:spPr>
            <a:xfrm flipH="1" flipV="1">
              <a:off x="5551560" y="2420280"/>
              <a:ext cx="1564920" cy="21690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156" name="AutoShape 18"/>
            <p:cNvCxnSpPr/>
            <p:nvPr/>
          </p:nvCxnSpPr>
          <p:spPr>
            <a:xfrm>
              <a:off x="3864240" y="2476440"/>
              <a:ext cx="911880" cy="1422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157" name="AutoShape 19"/>
            <p:cNvCxnSpPr/>
            <p:nvPr/>
          </p:nvCxnSpPr>
          <p:spPr>
            <a:xfrm flipV="1">
              <a:off x="4776120" y="2420280"/>
              <a:ext cx="776880" cy="1983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</p:grpSp>
      <p:cxnSp>
        <p:nvCxnSpPr>
          <p:cNvPr id="158" name="AutoShape 27"/>
          <p:cNvCxnSpPr/>
          <p:nvPr/>
        </p:nvCxnSpPr>
        <p:spPr>
          <a:xfrm flipV="1">
            <a:off x="3924000" y="2349000"/>
            <a:ext cx="1677240" cy="1152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eec94"/>
                </a:solidFill>
                <a:latin typeface="Times New Roman"/>
              </a:rPr>
              <a:t>Самостійна робота учнів:</a:t>
            </a:r>
            <a:br>
              <a:rPr sz="3200"/>
            </a:br>
            <a:r>
              <a:rPr b="1" lang="uk-UA" sz="32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feec94"/>
                </a:solidFill>
                <a:latin typeface="Times New Roman"/>
              </a:rPr>
              <a:t>заповнення таблиці «Риси характеру Бермана»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39640" y="2060640"/>
          <a:ext cx="8158320" cy="1873080"/>
        </p:xfrm>
        <a:graphic>
          <a:graphicData uri="http://schemas.openxmlformats.org/drawingml/2006/table">
            <a:tbl>
              <a:tblPr/>
              <a:tblGrid>
                <a:gridCol w="4079880"/>
                <a:gridCol w="4078440"/>
              </a:tblGrid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зитивні риси характеру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гативні риси характеру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Метод “Вільний мікрофон”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Закінчити речення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        “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Про Бермана я думаю…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eec94"/>
                </a:solidFill>
                <a:latin typeface="Times New Roman"/>
              </a:rPr>
              <a:t>Домашнє завдання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Творча робота. Доберіть приклади з власного життя до таких тверджень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«Добро може бути лише…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«Жити – означає…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«Робити добро – означає…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eec94"/>
                </a:solidFill>
                <a:latin typeface="Times New Roman"/>
              </a:rPr>
              <a:t>Теоретичне лото.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uk-UA" sz="2000" spc="-1" strike="noStrike">
                <a:solidFill>
                  <a:srgbClr val="feec94"/>
                </a:solidFill>
                <a:latin typeface="Times New Roman"/>
              </a:rPr>
              <a:t>Учням пропонується знайти відповідність між теоретичним поняттям та визначенням.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1. Протиставлення у художньому твор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2. Ставлення до людини як до найвищої цінност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3. Виразна подробиця, засіб словесного мистецтва, якому властива особлива змістова наповненіс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4. Невеликий розповідний твір про якусь незвичайну подію з несподіваним фінал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А) іронія;  Б) антитеза;  В) гуманізм;  Г) новел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Д) художня детал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uk-UA" sz="6000" spc="-1" strike="noStrike">
                <a:solidFill>
                  <a:srgbClr val="ffffff"/>
                </a:solidFill>
                <a:latin typeface="Times New Roman"/>
              </a:rPr>
              <a:t>Шквал запитань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eec94"/>
                </a:solidFill>
                <a:latin typeface="Times New Roman"/>
              </a:rPr>
              <a:t>Словникова робот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Times New Roman"/>
              </a:rPr>
              <a:t>Шедевр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– 1. Символ достатку (в новелі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2. Визначний твір мистецтв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3. Світ Добра, Щирості, Любов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Times New Roman"/>
              </a:rPr>
              <a:t>Плющ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– (в античній міфології) – символ безсмертя та буяння житт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Times New Roman"/>
              </a:rPr>
              <a:t>Листя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– людське житт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Times New Roman"/>
              </a:rPr>
              <a:t>Листок плюща, намальований Берманом,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- символ щирості людського серця, здатного творити добр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Цитатна доріжк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Краща у світі мета – бути хорошою людиною (Цицерон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ерлина любить ховатися в непоказній оболонці (японське прислів’я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Я не знаю вищого подвигу, аніж подати руку занепалому духом (М.Гоголь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Голос краси звучить тихо: його вловлюють лише найчутливіші вуха (Ф.Ніцш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І серед людей більше копій, ніж оригіналів (П.Пікассо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Треба бути людиною, незважаючи на всю жорстокість навколишнього світу, і це важливо (О.Генрі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Бути людиною – означає відчувати, що ти за все відповідаєш (А. де Сент-Екзюпері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Байдужість – це найбільша жорстокість (Т.Вознюк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Усна зв’язна розповідь учнів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про роль і місце образ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uk-UA" sz="4400" spc="-1" strike="noStrike">
                <a:solidFill>
                  <a:srgbClr val="ffffff"/>
                </a:solidFill>
                <a:latin typeface="Times New Roman"/>
              </a:rPr>
              <a:t>Бермана в новелі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1:28:11Z</dcterms:created>
  <dc:creator>Алина</dc:creator>
  <dc:description/>
  <dc:language>en-US</dc:language>
  <cp:lastModifiedBy>Пользователь</cp:lastModifiedBy>
  <dcterms:modified xsi:type="dcterms:W3CDTF">2018-01-28T20:44:39Z</dcterms:modified>
  <cp:revision>6</cp:revision>
  <dc:subject/>
  <dc:title>О.Генрі «Останній листок». Взаємо порозуміння та прагнення зробити добро іншим як засіб подолання життєвих негараздів. Втілення в образі Бермана найкращих людських ри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