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CA51-0C97-48A7-AD6C-A5F409937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664F-0337-43E3-93CA-655BC8F1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0D60-2637-41A1-B5AB-2B50FFCB5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15BE-7084-4683-8BBE-02133209B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60D4-A8D8-42F7-8B9A-55196725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C3F0-0446-4D41-B336-E56700C9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0035-86F7-4A03-AB9F-47C92E0C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7C7B-D58C-445C-8B85-33A66FC1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EE73-40B7-47AD-9ACA-2E13AE0E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AFF4-1966-45D4-8A0D-F22AA166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03E4-E118-4413-AF55-ECA3CD5A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8009-67AC-4E91-897E-D33961E2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0047-8D9D-4192-AD93-3B7F784CAE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4" descr=""/>
          <p:cNvPicPr/>
          <p:nvPr/>
        </p:nvPicPr>
        <p:blipFill>
          <a:blip r:embed="rId1"/>
          <a:stretch/>
        </p:blipFill>
        <p:spPr>
          <a:xfrm>
            <a:off x="-66600" y="189000"/>
            <a:ext cx="896148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28240" y="380880"/>
            <a:ext cx="42670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Синтетичні миючі засоб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нцип дії такий же, як у ми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Їх переваг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зчини мають нейтральне, а не лужне середовищ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берігають свою дію в твердій воді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лі магнію і кальцію розчиняють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Залишки пральних порошків дуже повільно розкладаються біологічним шляхом, що веде до забруднення навколишнього середовищ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7" descr="Удивление (3)"/>
          <p:cNvPicPr/>
          <p:nvPr/>
        </p:nvPicPr>
        <p:blipFill>
          <a:blip r:embed="rId2"/>
          <a:stretch/>
        </p:blipFill>
        <p:spPr>
          <a:xfrm>
            <a:off x="7667640" y="476280"/>
            <a:ext cx="114948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76440" y="1071720"/>
          <a:ext cx="7772400" cy="51400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46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ліки мил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ага СМЗ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0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гано відмиває у твердій воді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ре відмиває лише у гарячій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лідок гідролізу утворюється луг, який роз’їдає руки, подразнює очі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існі сорти мила добувають з харчової сировини – жиру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йна дія у 2-3 рази вища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води нижча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ре миє у твердій воді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івартість у 2.5 раза нижч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Rectangle 1"/>
          <p:cNvSpPr/>
          <p:nvPr/>
        </p:nvSpPr>
        <p:spPr>
          <a:xfrm>
            <a:off x="685800" y="3184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b050"/>
                </a:solidFill>
                <a:latin typeface="Times New Roman"/>
              </a:rPr>
              <a:t>Коли ж з</a:t>
            </a:r>
            <a:r>
              <a:rPr b="1" lang="en-US" sz="6000" spc="-1" strike="noStrike">
                <a:solidFill>
                  <a:srgbClr val="00b050"/>
                </a:solidFill>
                <a:latin typeface="Times New Roman"/>
              </a:rPr>
              <a:t>’</a:t>
            </a:r>
            <a:r>
              <a:rPr b="1" lang="uk-UA" sz="6000" spc="-1" strike="noStrike">
                <a:solidFill>
                  <a:srgbClr val="00b050"/>
                </a:solidFill>
                <a:latin typeface="Times New Roman"/>
              </a:rPr>
              <a:t>явилось мило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9" descr="Восклицание (2)"/>
          <p:cNvPicPr/>
          <p:nvPr/>
        </p:nvPicPr>
        <p:blipFill>
          <a:blip r:embed="rId2"/>
          <a:stretch/>
        </p:blipFill>
        <p:spPr>
          <a:xfrm>
            <a:off x="0" y="620640"/>
            <a:ext cx="1206360" cy="703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2579760" y="2495520"/>
            <a:ext cx="38638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2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СКЛАД МИЛА ТА ЙОГО МИЮЧА ДІЯ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" descr="Восклицание (2)"/>
          <p:cNvPicPr/>
          <p:nvPr/>
        </p:nvPicPr>
        <p:blipFill>
          <a:blip r:embed="rId2"/>
          <a:stretch/>
        </p:blipFill>
        <p:spPr>
          <a:xfrm>
            <a:off x="0" y="620640"/>
            <a:ext cx="120636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ідроліз жиру в лужному середовищ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В присутності NaOH або Na2CO3) називається омиленням жирів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O–CO–R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H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– COO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–O–CO–R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3 NaOH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   +  R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COONa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O–CO–R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                           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H       R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OON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сіль карбонової кислоти-мило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4"/>
          <p:cNvSpPr/>
          <p:nvPr/>
        </p:nvSpPr>
        <p:spPr>
          <a:xfrm>
            <a:off x="468360" y="29242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5"/>
          <p:cNvSpPr/>
          <p:nvPr/>
        </p:nvSpPr>
        <p:spPr>
          <a:xfrm>
            <a:off x="468360" y="3357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6"/>
          <p:cNvSpPr/>
          <p:nvPr/>
        </p:nvSpPr>
        <p:spPr>
          <a:xfrm>
            <a:off x="4500720" y="28526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7"/>
          <p:cNvSpPr/>
          <p:nvPr/>
        </p:nvSpPr>
        <p:spPr>
          <a:xfrm>
            <a:off x="45007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8"/>
          <p:cNvSpPr/>
          <p:nvPr/>
        </p:nvSpPr>
        <p:spPr>
          <a:xfrm>
            <a:off x="4140360" y="3213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9" descr="Восклицание (2)"/>
          <p:cNvPicPr/>
          <p:nvPr/>
        </p:nvPicPr>
        <p:blipFill>
          <a:blip r:embed="rId2"/>
          <a:stretch/>
        </p:blipFill>
        <p:spPr>
          <a:xfrm>
            <a:off x="0" y="620640"/>
            <a:ext cx="120636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80520" y="228600"/>
            <a:ext cx="85345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Ми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тверді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2800" spc="-1" strike="noStrike">
                <a:solidFill>
                  <a:srgbClr val="0066ff"/>
                </a:solidFill>
                <a:latin typeface="Times New Roman"/>
              </a:rPr>
              <a:t>рідк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натрієві)               (калієві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исоціюють як сильні електролі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OON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OO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N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Поляр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астина молекули - (-COO-Na 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Гідрофільна, тобто розчиняється у воді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Неполяр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астина молекули - R (радикал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Гидрофобна, тобто нерозчинні у воді, але розчинна в жирах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6"/>
          <p:cNvSpPr/>
          <p:nvPr/>
        </p:nvSpPr>
        <p:spPr>
          <a:xfrm>
            <a:off x="1828800" y="53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7"/>
          <p:cNvSpPr/>
          <p:nvPr/>
        </p:nvSpPr>
        <p:spPr>
          <a:xfrm>
            <a:off x="4495680" y="53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8"/>
          <p:cNvSpPr/>
          <p:nvPr/>
        </p:nvSpPr>
        <p:spPr>
          <a:xfrm>
            <a:off x="1828800" y="533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9"/>
          <p:cNvSpPr/>
          <p:nvPr/>
        </p:nvSpPr>
        <p:spPr>
          <a:xfrm flipH="1">
            <a:off x="3962160" y="533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0"/>
          <p:cNvSpPr/>
          <p:nvPr/>
        </p:nvSpPr>
        <p:spPr>
          <a:xfrm>
            <a:off x="3048120" y="2819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1" descr="Животные (2)"/>
          <p:cNvPicPr/>
          <p:nvPr/>
        </p:nvPicPr>
        <p:blipFill>
          <a:blip r:embed="rId2"/>
          <a:stretch/>
        </p:blipFill>
        <p:spPr>
          <a:xfrm>
            <a:off x="7596360" y="333360"/>
            <a:ext cx="117792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440" y="12193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62120" y="456840"/>
            <a:ext cx="7696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Неполярн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інці молекули мила занурюються у в краплі олії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Полярні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рбоксилат- аніони залишаються у водному розчині. На поверхні олії - однойменні заряди, вони відштовхуються і олія розбивається на дрібні частки, які мають іонну оболонку з аніонів. Ця оболонка охороняє частки від злитт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творюється пі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7"/>
          <p:cNvSpPr/>
          <p:nvPr/>
        </p:nvSpPr>
        <p:spPr>
          <a:xfrm>
            <a:off x="3059280" y="1916280"/>
            <a:ext cx="45720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12"/>
          <p:cNvSpPr/>
          <p:nvPr/>
        </p:nvSpPr>
        <p:spPr>
          <a:xfrm>
            <a:off x="609480" y="1905120"/>
            <a:ext cx="609840" cy="660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4" descr="Книги (40)"/>
          <p:cNvPicPr/>
          <p:nvPr/>
        </p:nvPicPr>
        <p:blipFill>
          <a:blip r:embed="rId2"/>
          <a:stretch/>
        </p:blipFill>
        <p:spPr>
          <a:xfrm>
            <a:off x="7956720" y="260280"/>
            <a:ext cx="95400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В твердій вод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(містить катіони кальцію і магнію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C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C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(C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)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мість піни в воді утворюються пластівці осаду, мило витрачається мар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4"/>
          <p:cNvSpPr/>
          <p:nvPr/>
        </p:nvSpPr>
        <p:spPr>
          <a:xfrm>
            <a:off x="373392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Удивление (3)"/>
          <p:cNvPicPr/>
          <p:nvPr/>
        </p:nvPicPr>
        <p:blipFill>
          <a:blip r:embed="rId2"/>
          <a:stretch/>
        </p:blipFill>
        <p:spPr>
          <a:xfrm>
            <a:off x="7164360" y="4869000"/>
            <a:ext cx="114948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395280" y="479520"/>
            <a:ext cx="8469360" cy="61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абораторна робот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Порівняння властивостей розчинів мила і прального порошку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Мета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РІВНЯТИ ВЛАСТИВОСТІ РОЗЧИНІВ МИЛА І ПРАЛЬНОГО ПОРОШ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6:09:45Z</dcterms:created>
  <dc:creator>Елена</dc:creator>
  <dc:description/>
  <dc:language>en-US</dc:language>
  <cp:lastModifiedBy>Nastya Klyueva</cp:lastModifiedBy>
  <dcterms:modified xsi:type="dcterms:W3CDTF">2018-01-01T16:13:53Z</dcterms:modified>
  <cp:revision>36</cp:revision>
  <dc:subject/>
  <dc:title>Мыла</dc:title>
</cp:coreProperties>
</file>