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365C-5D0E-4232-A900-34BE487E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C1FF-CB2A-4924-8421-981AF1A8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B0E63-7DFE-4B57-8F47-FC41176C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9DA10-1D40-4B65-84A9-F27EA225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FC69E-5464-47D5-855F-C9AE3224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6CC29-246D-4EAB-9154-8DFA9878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CCA6E-9FD6-4CC4-A7E8-0E663178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ED141-3EBA-43F9-A1F4-4AD59498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D7631-E605-41C5-9F30-BF9BAA0C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9BB19-5D6B-4818-A8F7-2AC412AF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6DF33-CA06-487E-A873-5A11B2AFD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01434-1958-42E1-8F97-9FCDE6FB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2EAD-D585-4502-81DB-33FF86F9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0AE65-2634-4620-8B5B-6326DDE4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DE772-EBE0-49CF-AF92-12FF11B3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10AA9-55C9-4353-8C27-4E2A40E5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23182-D7EA-4C0C-BEC9-F7CE4952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FA3F4-0506-4A6E-834B-6F18B354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06B66-8F64-4CC1-9AC9-40B1CC0E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27EEAF-D169-4E0E-9400-744D021E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6F680-D59D-4F10-B155-030A5299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D0AA0-0F4A-4CF2-8CC2-25E92392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7E313-8BDC-4B13-A6D1-BA62AE787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8DB7-F702-409F-B16B-D5CAD6C0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7DF87-632F-4218-B09E-422A3BAF7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27815-BD10-46D9-B4AE-44409BA7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6255B-121F-4E85-A27F-A910E0A1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AB039-0821-4F48-B532-F4BC9AF0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CAAAC-E219-4F40-92BF-48ACC961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23825-E715-4747-ADD3-E7F13F80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17372-B256-4DFE-8DA9-EEBA8D6A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83AD6-459C-415B-8371-9C862DB6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D909A-7845-4EBD-B7BC-80C9393D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F41D4-0163-4EFE-AC4C-6F1DA02F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2578-028B-4190-8981-C350E008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DA54C-F32B-47E1-BDA8-1016E8A2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8AD0C-D37E-4A69-B4C3-240096F72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D5AB4-F246-42C6-B503-00033352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6C706A-AA33-463A-9801-68E0EEE5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CAFF5-FEB3-4A90-A815-C684DC9A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729F08-E9A5-4F3D-AFFE-39AC2093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C984CF-0C1C-49A6-9E7F-77603A3F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B5D23-976A-46AA-955F-46C7253A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4717A5-CFBA-447F-BE34-B1802128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96E3A-FB55-4E1E-A0E1-7B5A68FB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DAB0-F14C-476B-8F41-A738E4F7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E03F1-5D47-4A57-BF69-2E66E77D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748E9-00DF-45C6-8B71-587A4C1C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F40B52-5FB0-4333-96BA-16043067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E245A5-B298-417A-B4A0-6B3B5DAE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313C7A-9D2F-48CE-BC0B-03B8E86E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2C09-1CE7-43B4-A700-9B89B010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BF21-B7E7-4168-92C7-28449C96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0FC2-57E1-4000-A4BC-4A54BB4B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A707-B523-4DB2-AFB4-A38848B7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9A94-4641-4C18-A15D-A42EEA91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A46C-62A3-4D13-A2F6-4B37B90F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66CA-9CF0-4026-9F1B-3F17FD57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661D-7494-45B6-B527-0935B829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DFE5-4B18-4AEB-9566-9FBAAB65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EB0B-0BF6-486E-870D-E7112BF8C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2FD2-D091-4520-ADFB-93894E93B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A374B-AB8E-4223-93E6-1DDFC7870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FFA9F-D772-470C-B074-B907FD2D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9E097-876E-40A9-B2A8-93CDB7EE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04F8A-F8A2-44F2-8E86-4AF48143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18F02-A73B-4F29-A9DD-78931DE2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6717-EB62-4003-8F93-D745F558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B1284-C3E7-46D6-8514-8CDBF20B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BA93E-8597-4B96-9901-AEC4C3D9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80A06-4605-4A0F-B113-20EB7F91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8E99E-3D4A-46A0-BDE0-447504AE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3D52C-823E-4A41-AA92-D444E476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0B077-E6A1-4317-ADE7-59CF3068C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C6A49-FB28-4B52-8DA3-77677C9D1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05B61-86A7-42E5-B634-6077168A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E649C-158C-42D5-8C1A-FC713E81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248E1-7DDF-4EC5-A61C-B514CC7D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7E1A-3E7A-4032-B07F-C04A2A55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E64B6-C087-45AD-AB65-C16AA234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49E9D-AB47-46E9-AC39-CAE20EED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E0E48-A7A8-4832-AE13-9452C67B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85B2C-5D57-4332-A7A2-36F054FB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2C6E1-3C70-44DD-BBCD-8CBC9839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EF2EE-E2F7-4446-8CF8-4CE9E3A5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F14B1-EED3-4CAB-BDEE-B189CC4B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64D16-78A5-4881-8E35-E88A6C92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15665-E9B7-4456-8AA8-E37F5CB4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5964B-6AF3-4920-88D0-1B9079FE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D72C-6BF2-4620-8289-84BF4E8A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3D3FC-086B-4919-83D8-740F4706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D0FC1-7700-4512-B181-8501733A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AABC5-60EF-4EA7-BCAD-7FDDEB5D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E8017-56DC-4FC1-B4A5-720A7A1C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29AF7-26FA-4742-87E9-09D5588E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932D1-7AA9-4E5F-B317-5412E1AE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98798-EC1D-4EC4-8F8E-1B032CC1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6236E-3713-4A93-83F8-EB1924DF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006C7-AC56-4025-B386-897CF244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0E631-0C3F-48FB-9DEF-309ADAA0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8C70-7115-42B7-9696-361D4BA2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597D6-87C6-4B79-BD26-8BB6AC7A9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7C074-66DE-4977-9202-C73BDA84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4F42F-2DD7-4E3A-A76B-7AE3CB48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DFD8A-F0D4-499C-94DF-DC158A50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3A2F4-A750-46FF-812C-9BE0D3E2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FBBB9-C442-493D-A533-960C91C0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16DEA-58A9-49B5-938A-2A0C3470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58D79-31FB-42A7-9A91-CDD6EE0A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03EE3-F264-4F19-B262-2C44A23C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1D9F9-7B41-4E2B-BB93-270E632C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D642-D615-483E-95C8-23724586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3F75A-41CB-4B70-B6FE-CADC9E2B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424F5-1AEA-428C-B425-D94F01C90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8BDEB-EF48-4D37-90B3-42CDCA23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E5238-7BB4-41A2-AC17-BF19C696C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3E869-CDE4-48AD-A56C-C082A125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7CFFA-FC58-4035-B7BF-49DB6152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B7459-727C-49A6-B27A-1DC8FF6B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FEA1D-1CFF-4151-9E32-8889B075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68CEC-01AC-43B6-80C1-9A45B033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F1189-FFF6-47A2-B4EE-5ABB45A8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ABA6-6112-475E-BDEF-1A0F0569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E18F6-DA2C-4DD7-8E2D-EEF41258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23D39-2005-43CA-B494-D4628904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50CC1-9153-449B-B46B-508181F1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FF38F-1DAB-49AC-9438-3A483D2F1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F5C2C-D280-405E-9AF6-673078DD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1AF69-DC75-4867-83CF-76B7B28A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CBBA6-7477-41C7-A30A-995A89CD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B1BA7-315E-4DAD-83DD-35B60861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F1536-6911-4E9C-8364-B0EBF8AB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6CCE4-2EAA-48CE-B391-9041DF51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1E26-7626-4D6A-A64E-0796E94B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48F67-B33D-4484-BABD-995F7851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8BB63-5542-4BA3-81D5-611431B4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B45D4-A683-4587-A2EF-A9BBC4C1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584DE-7AD9-482A-A1AE-D291C949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07A2F-0176-4DAA-B8F4-6F3A60C3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EC031-6948-4EA4-8556-73A11FF98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B712F-11EB-4716-9A80-262B91675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A206B-0449-4B67-A6B8-289D0A8E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360B0-90D6-410B-9985-C765C484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6047A-BDED-4643-B8DF-03967288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1475-11D4-4398-93F5-43179DAAFD1F}" type="datetime"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A52F-8825-4A40-B38A-7992E9E75B1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4569-FA1A-4023-A635-F7FB53EC52CA}" type="datetime"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1C9C-3782-421C-9F26-7DB3B6A48C7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6988-D648-418E-B020-D3DF35AD1932}" type="datetime"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1AF5-51AB-4C55-A247-6320E157FB5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0E23-2D8D-49B4-AEAB-065EC75B8C06}" type="datetime"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F743-87FB-4E22-9F75-344A53EDB68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6608-D887-4DC9-B253-E8AA59DA886E}" type="datetime"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CC78-E294-4190-A56C-B5815264E43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1E7D-5111-48C9-9A43-749F26A5429C}" type="datetime"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5A9C-A4FD-47D4-85DC-C8E6EAD1848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0E15-2C27-4F29-8E95-2362F5E4D702}" type="datetime"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32BE-6448-48E8-806D-F1492E40ED4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F6A8-3461-47C1-A8A2-00EE81E5C297}" type="datetime"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AD1F-63D5-4BA2-9B31-56AD363020D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C50D-9F25-40AF-9B36-F56DFC8C98D9}" type="datetime"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A6F8-2760-491F-AE41-2C2679C2B59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2F9F-F56D-42EE-B1B5-CF28FD1801DF}" type="datetime"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5A62-63E0-484E-823C-33FD2D7E86D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7428-E88C-4B6F-8B18-A52A42214069}" type="datetime"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5C7B-BCE4-43CE-B6EF-7583C903F4A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B334-BB97-4B59-8CE6-2363928B25CF}" type="datetime"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СЗОШ № 8 м.Хмельницького.  Кравчук Г.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1A76-CF11-44FE-AA43-45CD4D35DBC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Схема 2" descr=""/>
          <p:cNvPicPr/>
          <p:nvPr/>
        </p:nvPicPr>
        <p:blipFill>
          <a:blip r:embed="rId1"/>
          <a:stretch/>
        </p:blipFill>
        <p:spPr>
          <a:xfrm>
            <a:off x="195120" y="1268280"/>
            <a:ext cx="8680680" cy="36752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" descr="http://t3.gstatic.com/images?q=tbn:ANd9GcQ2oFAL5zwk6lBkYbN6_URuCouJ349fnBt-sBv1S0bVpqfHUG_9"/>
          <p:cNvPicPr/>
          <p:nvPr/>
        </p:nvPicPr>
        <p:blipFill>
          <a:blip r:embed="rId2"/>
          <a:stretch/>
        </p:blipFill>
        <p:spPr>
          <a:xfrm>
            <a:off x="3635280" y="4941720"/>
            <a:ext cx="2089080" cy="1524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DD76-1D3B-4235-91A4-EFD301F9A7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5" name="Группа 4"/>
          <p:cNvGrpSpPr/>
          <p:nvPr/>
        </p:nvGrpSpPr>
        <p:grpSpPr>
          <a:xfrm>
            <a:off x="893880" y="438120"/>
            <a:ext cx="5688000" cy="1079640"/>
            <a:chOff x="893880" y="438120"/>
            <a:chExt cx="5688000" cy="1079640"/>
          </a:xfrm>
        </p:grpSpPr>
        <p:grpSp>
          <p:nvGrpSpPr>
            <p:cNvPr id="496" name="Скругленный прямоугольник 5"/>
            <p:cNvGrpSpPr/>
            <p:nvPr/>
          </p:nvGrpSpPr>
          <p:grpSpPr>
            <a:xfrm>
              <a:off x="893880" y="450720"/>
              <a:ext cx="5688000" cy="1048680"/>
              <a:chOff x="893880" y="450720"/>
              <a:chExt cx="5688000" cy="1048680"/>
            </a:xfrm>
          </p:grpSpPr>
          <p:pic>
            <p:nvPicPr>
              <p:cNvPr id="497" name="Скругленный прямоугольник 5" descr=""/>
              <p:cNvPicPr/>
              <p:nvPr/>
            </p:nvPicPr>
            <p:blipFill>
              <a:blip r:embed="rId1"/>
              <a:stretch/>
            </p:blipFill>
            <p:spPr>
              <a:xfrm>
                <a:off x="893880" y="450720"/>
                <a:ext cx="5688000" cy="104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8" name=""/>
              <p:cNvSpPr/>
              <p:nvPr/>
            </p:nvSpPr>
            <p:spPr>
              <a:xfrm>
                <a:off x="990000" y="528120"/>
                <a:ext cx="5491440" cy="84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9" name="Скругленный прямоугольник 4"/>
            <p:cNvSpPr/>
            <p:nvPr/>
          </p:nvSpPr>
          <p:spPr>
            <a:xfrm>
              <a:off x="1127520" y="438120"/>
              <a:ext cx="53362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137160" bIns="137160" anchor="ctr">
              <a:no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1" i="1" lang="uk-UA" sz="3600" spc="-1" strike="noStrike">
                  <a:solidFill>
                    <a:srgbClr val="ffffff"/>
                  </a:solidFill>
                  <a:latin typeface="Calibri"/>
                </a:rPr>
                <a:t>Довільні покази слайдів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0" name="Схема 7" descr=""/>
          <p:cNvPicPr/>
          <p:nvPr/>
        </p:nvPicPr>
        <p:blipFill>
          <a:blip r:embed="rId2"/>
          <a:stretch/>
        </p:blipFill>
        <p:spPr>
          <a:xfrm>
            <a:off x="2127240" y="1712880"/>
            <a:ext cx="6778800" cy="1231920"/>
          </a:xfrm>
          <a:prstGeom prst="rect">
            <a:avLst/>
          </a:prstGeom>
          <a:ln w="0">
            <a:noFill/>
          </a:ln>
        </p:spPr>
      </p:pic>
      <p:grpSp>
        <p:nvGrpSpPr>
          <p:cNvPr id="501" name="Группа 8"/>
          <p:cNvGrpSpPr/>
          <p:nvPr/>
        </p:nvGrpSpPr>
        <p:grpSpPr>
          <a:xfrm>
            <a:off x="611280" y="3060720"/>
            <a:ext cx="7513560" cy="1025640"/>
            <a:chOff x="611280" y="3060720"/>
            <a:chExt cx="7513560" cy="1025640"/>
          </a:xfrm>
        </p:grpSpPr>
        <p:grpSp>
          <p:nvGrpSpPr>
            <p:cNvPr id="502" name="Скругленный прямоугольник 9"/>
            <p:cNvGrpSpPr/>
            <p:nvPr/>
          </p:nvGrpSpPr>
          <p:grpSpPr>
            <a:xfrm>
              <a:off x="611280" y="3060720"/>
              <a:ext cx="7513560" cy="1025640"/>
              <a:chOff x="611280" y="3060720"/>
              <a:chExt cx="7513560" cy="1025640"/>
            </a:xfrm>
          </p:grpSpPr>
          <p:pic>
            <p:nvPicPr>
              <p:cNvPr id="503" name="Скругленный прямоугольник 9" descr=""/>
              <p:cNvPicPr/>
              <p:nvPr/>
            </p:nvPicPr>
            <p:blipFill>
              <a:blip r:embed="rId3"/>
              <a:stretch/>
            </p:blipFill>
            <p:spPr>
              <a:xfrm>
                <a:off x="611280" y="3060720"/>
                <a:ext cx="7513560" cy="102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4" name=""/>
              <p:cNvSpPr/>
              <p:nvPr/>
            </p:nvSpPr>
            <p:spPr>
              <a:xfrm>
                <a:off x="716040" y="3133800"/>
                <a:ext cx="7304400" cy="83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5" name="Скругленный прямоугольник 4"/>
            <p:cNvSpPr/>
            <p:nvPr/>
          </p:nvSpPr>
          <p:spPr>
            <a:xfrm>
              <a:off x="822960" y="3350160"/>
              <a:ext cx="71823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lang="uk-UA" sz="3600" spc="-1" strike="noStrike">
                  <a:solidFill>
                    <a:srgbClr val="ffffff"/>
                  </a:solidFill>
                  <a:latin typeface="Calibri"/>
                </a:rPr>
                <a:t>Елементи управління в презентації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6" name="Схема 11" descr=""/>
          <p:cNvPicPr/>
          <p:nvPr/>
        </p:nvPicPr>
        <p:blipFill>
          <a:blip r:embed="rId4"/>
          <a:stretch/>
        </p:blipFill>
        <p:spPr>
          <a:xfrm>
            <a:off x="712800" y="5413320"/>
            <a:ext cx="7467480" cy="1073160"/>
          </a:xfrm>
          <a:prstGeom prst="rect">
            <a:avLst/>
          </a:prstGeom>
          <a:ln w="0">
            <a:noFill/>
          </a:ln>
        </p:spPr>
      </p:pic>
      <p:grpSp>
        <p:nvGrpSpPr>
          <p:cNvPr id="507" name="Группа 12"/>
          <p:cNvGrpSpPr/>
          <p:nvPr/>
        </p:nvGrpSpPr>
        <p:grpSpPr>
          <a:xfrm>
            <a:off x="1935000" y="4281480"/>
            <a:ext cx="6926400" cy="984240"/>
            <a:chOff x="1935000" y="4281480"/>
            <a:chExt cx="6926400" cy="984240"/>
          </a:xfrm>
        </p:grpSpPr>
        <p:grpSp>
          <p:nvGrpSpPr>
            <p:cNvPr id="508" name="Скругленный прямоугольник 13"/>
            <p:cNvGrpSpPr/>
            <p:nvPr/>
          </p:nvGrpSpPr>
          <p:grpSpPr>
            <a:xfrm>
              <a:off x="1935000" y="4281480"/>
              <a:ext cx="6926400" cy="984240"/>
              <a:chOff x="1935000" y="4281480"/>
              <a:chExt cx="6926400" cy="984240"/>
            </a:xfrm>
          </p:grpSpPr>
          <p:pic>
            <p:nvPicPr>
              <p:cNvPr id="509" name="Скругленный прямоугольник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1935000" y="4281480"/>
                <a:ext cx="6926400" cy="98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0" name=""/>
              <p:cNvSpPr/>
              <p:nvPr/>
            </p:nvSpPr>
            <p:spPr>
              <a:xfrm>
                <a:off x="2038320" y="4353840"/>
                <a:ext cx="6719760" cy="79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1" name="Скругленный прямоугольник 4"/>
            <p:cNvSpPr/>
            <p:nvPr/>
          </p:nvSpPr>
          <p:spPr>
            <a:xfrm>
              <a:off x="1991520" y="4305240"/>
              <a:ext cx="6699960" cy="85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137160" bIns="137160" anchor="ctr">
              <a:no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1" lang="uk-UA" sz="3600" spc="-1" strike="noStrike">
                  <a:solidFill>
                    <a:srgbClr val="ffffff"/>
                  </a:solidFill>
                  <a:latin typeface="Calibri"/>
                </a:rPr>
                <a:t>Управління показом презентації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split dir="out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323640" y="1339560"/>
            <a:ext cx="856908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Довільний показ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– це  іменована послідовність слайдів презентації, призначених для показу. Один слайд може входити одночасно в декілька довільних показів. Закладка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Показ слайд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3" name="Скругленный прямоугольник 6"/>
          <p:cNvGrpSpPr/>
          <p:nvPr/>
        </p:nvGrpSpPr>
        <p:grpSpPr>
          <a:xfrm>
            <a:off x="719280" y="371520"/>
            <a:ext cx="6357960" cy="1049400"/>
            <a:chOff x="719280" y="371520"/>
            <a:chExt cx="6357960" cy="1049400"/>
          </a:xfrm>
        </p:grpSpPr>
        <p:pic>
          <p:nvPicPr>
            <p:cNvPr id="514" name="Скругленный 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719280" y="371520"/>
              <a:ext cx="635796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817560" y="450720"/>
              <a:ext cx="6156360" cy="8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6" name="Скругленный прямоугольник 4"/>
          <p:cNvSpPr/>
          <p:nvPr/>
        </p:nvSpPr>
        <p:spPr>
          <a:xfrm>
            <a:off x="879480" y="333360"/>
            <a:ext cx="6248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137160" bIns="137160" anchor="ctr">
            <a:noAutofit/>
          </a:bodyPr>
          <a:p>
            <a:pPr algn="ctr"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i="1" lang="uk-UA" sz="3600" spc="-1" strike="noStrike">
                <a:solidFill>
                  <a:srgbClr val="ffffff"/>
                </a:solidFill>
                <a:latin typeface="Calibri"/>
              </a:rPr>
              <a:t>Довільні покази слайді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2" descr="C:\Users\School3\Downloads\Screenshot-2017-11-9 Інформатика-9 pdf(1).png"/>
          <p:cNvPicPr/>
          <p:nvPr/>
        </p:nvPicPr>
        <p:blipFill>
          <a:blip r:embed="rId2"/>
          <a:stretch/>
        </p:blipFill>
        <p:spPr>
          <a:xfrm>
            <a:off x="4500720" y="2924280"/>
            <a:ext cx="4319280" cy="2881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School3\Downloads\Screenshot-2017-11-9 Інформатика-9 pdf.png"/>
          <p:cNvPicPr/>
          <p:nvPr/>
        </p:nvPicPr>
        <p:blipFill>
          <a:blip r:embed="rId3"/>
          <a:stretch/>
        </p:blipFill>
        <p:spPr>
          <a:xfrm>
            <a:off x="324000" y="2924280"/>
            <a:ext cx="3960720" cy="2881080"/>
          </a:xfrm>
          <a:prstGeom prst="rect">
            <a:avLst/>
          </a:prstGeom>
          <a:ln w="0">
            <a:noFill/>
          </a:ln>
        </p:spPr>
      </p:pic>
      <p:sp>
        <p:nvSpPr>
          <p:cNvPr id="519" name="Управляющая кнопка: возврат 11"/>
          <p:cNvSpPr/>
          <p:nvPr/>
        </p:nvSpPr>
        <p:spPr>
          <a:xfrm>
            <a:off x="6659640" y="6237360"/>
            <a:ext cx="936720" cy="360360"/>
          </a:xfrm>
          <a:custGeom>
            <a:avLst/>
            <a:gdLst>
              <a:gd name="textAreaLeft" fmla="*/ 23040 w 936720"/>
              <a:gd name="textAreaRight" fmla="*/ 913680 w 936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113" h="21600">
                <a:moveTo>
                  <a:pt x="0" y="0"/>
                </a:moveTo>
                <a:lnTo>
                  <a:pt x="56113" y="0"/>
                </a:lnTo>
                <a:lnTo>
                  <a:pt x="56113" y="21600"/>
                </a:lnTo>
                <a:lnTo>
                  <a:pt x="0" y="21600"/>
                </a:lnTo>
                <a:close/>
              </a:path>
              <a:path fill="lightenLess" w="56113" h="21600">
                <a:moveTo>
                  <a:pt x="0" y="0"/>
                </a:moveTo>
                <a:lnTo>
                  <a:pt x="56113" y="0"/>
                </a:lnTo>
                <a:lnTo>
                  <a:pt x="54713" y="1400"/>
                </a:lnTo>
                <a:lnTo>
                  <a:pt x="1400" y="1400"/>
                </a:lnTo>
                <a:close/>
              </a:path>
              <a:path fill="darken" w="56113" h="21600">
                <a:moveTo>
                  <a:pt x="56113" y="0"/>
                </a:moveTo>
                <a:lnTo>
                  <a:pt x="56113" y="21600"/>
                </a:lnTo>
                <a:lnTo>
                  <a:pt x="54713" y="20200"/>
                </a:lnTo>
                <a:lnTo>
                  <a:pt x="54713" y="1400"/>
                </a:lnTo>
                <a:close/>
              </a:path>
              <a:path fill="darkenLess" w="56113" h="21600">
                <a:moveTo>
                  <a:pt x="561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3" y="20200"/>
                </a:lnTo>
                <a:close/>
              </a:path>
              <a:path fill="lighten" w="561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13" h="21600">
                <a:moveTo>
                  <a:pt x="21050" y="7493"/>
                </a:moveTo>
                <a:lnTo>
                  <a:pt x="24557" y="7493"/>
                </a:lnTo>
                <a:lnTo>
                  <a:pt x="24557" y="12828"/>
                </a:lnTo>
                <a:cubicBezTo>
                  <a:pt x="24557" y="13751"/>
                  <a:pt x="25358" y="14482"/>
                  <a:pt x="26394" y="14482"/>
                </a:cubicBezTo>
                <a:lnTo>
                  <a:pt x="28056" y="14482"/>
                </a:lnTo>
                <a:cubicBezTo>
                  <a:pt x="29092" y="14482"/>
                  <a:pt x="29893" y="13751"/>
                  <a:pt x="29893" y="12828"/>
                </a:cubicBezTo>
                <a:lnTo>
                  <a:pt x="29893" y="7493"/>
                </a:lnTo>
                <a:lnTo>
                  <a:pt x="28056" y="7493"/>
                </a:lnTo>
                <a:lnTo>
                  <a:pt x="31564" y="3985"/>
                </a:lnTo>
                <a:lnTo>
                  <a:pt x="35237" y="7493"/>
                </a:lnTo>
                <a:lnTo>
                  <a:pt x="33400" y="7493"/>
                </a:lnTo>
                <a:lnTo>
                  <a:pt x="33400" y="12828"/>
                </a:lnTo>
                <a:cubicBezTo>
                  <a:pt x="33400" y="15596"/>
                  <a:pt x="30824" y="18155"/>
                  <a:pt x="28056" y="18155"/>
                </a:cubicBezTo>
                <a:lnTo>
                  <a:pt x="26394" y="18155"/>
                </a:lnTo>
                <a:cubicBezTo>
                  <a:pt x="23626" y="18155"/>
                  <a:pt x="21050" y="15596"/>
                  <a:pt x="21050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Схема 3" descr=""/>
          <p:cNvPicPr/>
          <p:nvPr/>
        </p:nvPicPr>
        <p:blipFill>
          <a:blip r:embed="rId1"/>
          <a:stretch/>
        </p:blipFill>
        <p:spPr>
          <a:xfrm>
            <a:off x="835200" y="334800"/>
            <a:ext cx="7053120" cy="1176480"/>
          </a:xfrm>
          <a:prstGeom prst="rect">
            <a:avLst/>
          </a:prstGeom>
          <a:ln w="0">
            <a:noFill/>
          </a:ln>
        </p:spPr>
      </p:pic>
      <p:sp>
        <p:nvSpPr>
          <p:cNvPr id="521" name="Прямоугольник 5"/>
          <p:cNvSpPr/>
          <p:nvPr/>
        </p:nvSpPr>
        <p:spPr>
          <a:xfrm>
            <a:off x="446040" y="14731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Calibri"/>
              </a:rPr>
              <a:t>Гіперпосилання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використовують для зв’язку одного слайда з іншими, з веб-сторінкою або певним файл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Прямоугольник 6"/>
          <p:cNvSpPr/>
          <p:nvPr/>
        </p:nvSpPr>
        <p:spPr>
          <a:xfrm>
            <a:off x="534960" y="4100400"/>
            <a:ext cx="794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Гіперпосилання може бути прив’язане до будь-якого об’єкта, що є на слайді, і стає активним тільки після запуску презентації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Прямоугольник 7"/>
          <p:cNvSpPr/>
          <p:nvPr/>
        </p:nvSpPr>
        <p:spPr>
          <a:xfrm>
            <a:off x="1763640" y="4989600"/>
            <a:ext cx="671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У результаті наведення вказівника миші на нього він набуває вигляду долоні з витягнутим пальцем. У разі натискання лівої клавіші миші на об’єкті з гіперпосиланням здійснюється перехід за вказаною адресо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Прямоугольник 8" descr=""/>
          <p:cNvPicPr/>
          <p:nvPr/>
        </p:nvPicPr>
        <p:blipFill>
          <a:blip r:embed="rId2"/>
          <a:stretch/>
        </p:blipFill>
        <p:spPr>
          <a:xfrm>
            <a:off x="317520" y="4896000"/>
            <a:ext cx="1620720" cy="19126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2" descr="http://t3.gstatic.com/images?q=tbn:ANd9GcSh5c4sCvkoBMydsZ_xFf4X8_TdnY8L6LxPdTO5xlMQQ0YPkLLj"/>
          <p:cNvPicPr/>
          <p:nvPr/>
        </p:nvPicPr>
        <p:blipFill>
          <a:blip r:embed="rId3"/>
          <a:stretch/>
        </p:blipFill>
        <p:spPr>
          <a:xfrm>
            <a:off x="534960" y="2421000"/>
            <a:ext cx="2092320" cy="14097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" descr="http://t0.gstatic.com/images?q=tbn:ANd9GcTt1ts4gPfeRLEjVU0rlAJaYAFfrp_y0mSeHEr5DJynGz1Z_7xLyg"/>
          <p:cNvPicPr/>
          <p:nvPr/>
        </p:nvPicPr>
        <p:blipFill>
          <a:blip r:embed="rId4"/>
          <a:stretch/>
        </p:blipFill>
        <p:spPr>
          <a:xfrm>
            <a:off x="3348000" y="2382840"/>
            <a:ext cx="2376360" cy="14857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6" descr="http://t1.gstatic.com/images?q=tbn:ANd9GcTalirGQYcpydaDAypmLgpy7o_7wg-RsI_et6Mq3aEF3Jd0bpCw3A"/>
          <p:cNvPicPr/>
          <p:nvPr/>
        </p:nvPicPr>
        <p:blipFill>
          <a:blip r:embed="rId5"/>
          <a:stretch/>
        </p:blipFill>
        <p:spPr>
          <a:xfrm>
            <a:off x="6462720" y="2421000"/>
            <a:ext cx="2016000" cy="1485720"/>
          </a:xfrm>
          <a:prstGeom prst="rect">
            <a:avLst/>
          </a:prstGeom>
          <a:ln w="0">
            <a:noFill/>
          </a:ln>
        </p:spPr>
      </p:pic>
      <p:sp>
        <p:nvSpPr>
          <p:cNvPr id="528" name="Управляющая кнопка: возврат 1"/>
          <p:cNvSpPr/>
          <p:nvPr/>
        </p:nvSpPr>
        <p:spPr>
          <a:xfrm>
            <a:off x="7308720" y="6195960"/>
            <a:ext cx="898560" cy="403200"/>
          </a:xfrm>
          <a:custGeom>
            <a:avLst/>
            <a:gdLst>
              <a:gd name="textAreaLeft" fmla="*/ 25920 w 898560"/>
              <a:gd name="textAreaRight" fmla="*/ 872640 w 89856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48113" h="21600">
                <a:moveTo>
                  <a:pt x="0" y="0"/>
                </a:moveTo>
                <a:lnTo>
                  <a:pt x="48113" y="0"/>
                </a:lnTo>
                <a:lnTo>
                  <a:pt x="48113" y="21600"/>
                </a:lnTo>
                <a:lnTo>
                  <a:pt x="0" y="21600"/>
                </a:lnTo>
                <a:close/>
              </a:path>
              <a:path fill="lightenLess" w="48113" h="21600">
                <a:moveTo>
                  <a:pt x="0" y="0"/>
                </a:moveTo>
                <a:lnTo>
                  <a:pt x="48113" y="0"/>
                </a:lnTo>
                <a:lnTo>
                  <a:pt x="46713" y="1400"/>
                </a:lnTo>
                <a:lnTo>
                  <a:pt x="1400" y="1400"/>
                </a:lnTo>
                <a:close/>
              </a:path>
              <a:path fill="darken" w="48113" h="21600">
                <a:moveTo>
                  <a:pt x="48113" y="0"/>
                </a:moveTo>
                <a:lnTo>
                  <a:pt x="48113" y="21600"/>
                </a:lnTo>
                <a:lnTo>
                  <a:pt x="46713" y="20200"/>
                </a:lnTo>
                <a:lnTo>
                  <a:pt x="46713" y="1400"/>
                </a:lnTo>
                <a:close/>
              </a:path>
              <a:path fill="darkenLess" w="48113" h="21600">
                <a:moveTo>
                  <a:pt x="481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713" y="20200"/>
                </a:lnTo>
                <a:close/>
              </a:path>
              <a:path fill="lighten" w="481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113" h="21600">
                <a:moveTo>
                  <a:pt x="17050" y="7493"/>
                </a:moveTo>
                <a:lnTo>
                  <a:pt x="20558" y="7493"/>
                </a:lnTo>
                <a:lnTo>
                  <a:pt x="20558" y="12828"/>
                </a:lnTo>
                <a:cubicBezTo>
                  <a:pt x="20558" y="13751"/>
                  <a:pt x="21359" y="14482"/>
                  <a:pt x="22394" y="14482"/>
                </a:cubicBezTo>
                <a:lnTo>
                  <a:pt x="24057" y="14482"/>
                </a:lnTo>
                <a:cubicBezTo>
                  <a:pt x="25092" y="14482"/>
                  <a:pt x="25893" y="13751"/>
                  <a:pt x="25893" y="12828"/>
                </a:cubicBezTo>
                <a:lnTo>
                  <a:pt x="25893" y="7493"/>
                </a:lnTo>
                <a:lnTo>
                  <a:pt x="24057" y="7493"/>
                </a:lnTo>
                <a:lnTo>
                  <a:pt x="27564" y="3985"/>
                </a:lnTo>
                <a:lnTo>
                  <a:pt x="31237" y="7493"/>
                </a:lnTo>
                <a:lnTo>
                  <a:pt x="29401" y="7493"/>
                </a:lnTo>
                <a:lnTo>
                  <a:pt x="29401" y="12828"/>
                </a:lnTo>
                <a:cubicBezTo>
                  <a:pt x="29401" y="15596"/>
                  <a:pt x="26825" y="18155"/>
                  <a:pt x="24057" y="18155"/>
                </a:cubicBezTo>
                <a:lnTo>
                  <a:pt x="22394" y="18155"/>
                </a:lnTo>
                <a:cubicBezTo>
                  <a:pt x="19627" y="18155"/>
                  <a:pt x="17050" y="15596"/>
                  <a:pt x="17050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Рисунок 7" descr=""/>
          <p:cNvPicPr/>
          <p:nvPr/>
        </p:nvPicPr>
        <p:blipFill>
          <a:blip r:embed="rId1"/>
          <a:srcRect l="0" t="0" r="52736" b="44798"/>
          <a:stretch/>
        </p:blipFill>
        <p:spPr>
          <a:xfrm>
            <a:off x="378000" y="2179800"/>
            <a:ext cx="4914720" cy="3774960"/>
          </a:xfrm>
          <a:prstGeom prst="rect">
            <a:avLst/>
          </a:prstGeom>
          <a:ln w="0">
            <a:noFill/>
          </a:ln>
        </p:spPr>
      </p:pic>
      <p:pic>
        <p:nvPicPr>
          <p:cNvPr id="530" name="Схема 2" descr=""/>
          <p:cNvPicPr/>
          <p:nvPr/>
        </p:nvPicPr>
        <p:blipFill>
          <a:blip r:embed="rId2"/>
          <a:stretch/>
        </p:blipFill>
        <p:spPr>
          <a:xfrm>
            <a:off x="1620720" y="371520"/>
            <a:ext cx="6230880" cy="1103400"/>
          </a:xfrm>
          <a:prstGeom prst="rect">
            <a:avLst/>
          </a:prstGeom>
          <a:ln w="0">
            <a:noFill/>
          </a:ln>
        </p:spPr>
      </p:pic>
      <p:sp>
        <p:nvSpPr>
          <p:cNvPr id="531" name="Прямоугольник 3"/>
          <p:cNvSpPr/>
          <p:nvPr/>
        </p:nvSpPr>
        <p:spPr>
          <a:xfrm>
            <a:off x="5398920" y="3699000"/>
            <a:ext cx="32054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рок 2.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ибрати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об’єкт гіперпосилання та встановити його параметри (розміщення, підказк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Прямоугольник 5"/>
          <p:cNvSpPr/>
          <p:nvPr/>
        </p:nvSpPr>
        <p:spPr>
          <a:xfrm>
            <a:off x="539640" y="14698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 метою створення гіперпосилання необхідно виконати дії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Прямоугольник 6"/>
          <p:cNvSpPr/>
          <p:nvPr/>
        </p:nvSpPr>
        <p:spPr>
          <a:xfrm>
            <a:off x="5398920" y="2179800"/>
            <a:ext cx="32054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рок 1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. Команда </a:t>
            </a:r>
            <a:r>
              <a:rPr b="1" i="1" lang="uk-UA" sz="1800" spc="-1" strike="noStrike">
                <a:solidFill>
                  <a:srgbClr val="000000"/>
                </a:solidFill>
                <a:latin typeface="Calibri"/>
              </a:rPr>
              <a:t>Вставка</a:t>
            </a: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Гіперпосилання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..., або відповідна кнопка на панелі інструменті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Овал 8"/>
          <p:cNvSpPr/>
          <p:nvPr/>
        </p:nvSpPr>
        <p:spPr>
          <a:xfrm>
            <a:off x="1332000" y="2349360"/>
            <a:ext cx="71892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Овал 10"/>
          <p:cNvSpPr/>
          <p:nvPr/>
        </p:nvSpPr>
        <p:spPr>
          <a:xfrm>
            <a:off x="3780000" y="2529000"/>
            <a:ext cx="576000" cy="75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Овал 11"/>
          <p:cNvSpPr/>
          <p:nvPr/>
        </p:nvSpPr>
        <p:spPr>
          <a:xfrm>
            <a:off x="378000" y="4292640"/>
            <a:ext cx="664920" cy="696960"/>
          </a:xfrm>
          <a:prstGeom prst="ellipse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7" name="Прямая со стрелкой 21"/>
          <p:cNvCxnSpPr/>
          <p:nvPr/>
        </p:nvCxnSpPr>
        <p:spPr>
          <a:xfrm>
            <a:off x="1042560" y="4868640"/>
            <a:ext cx="289440" cy="121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38" name="Управляющая кнопка: возврат 1"/>
          <p:cNvSpPr/>
          <p:nvPr/>
        </p:nvSpPr>
        <p:spPr>
          <a:xfrm>
            <a:off x="7002360" y="6029280"/>
            <a:ext cx="1006560" cy="432000"/>
          </a:xfrm>
          <a:custGeom>
            <a:avLst/>
            <a:gdLst>
              <a:gd name="textAreaLeft" fmla="*/ 27720 w 1006560"/>
              <a:gd name="textAreaRight" fmla="*/ 978840 w 1006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04" h="21600">
                <a:moveTo>
                  <a:pt x="0" y="0"/>
                </a:moveTo>
                <a:lnTo>
                  <a:pt x="50304" y="0"/>
                </a:lnTo>
                <a:lnTo>
                  <a:pt x="50304" y="21600"/>
                </a:lnTo>
                <a:lnTo>
                  <a:pt x="0" y="21600"/>
                </a:lnTo>
                <a:close/>
              </a:path>
              <a:path fill="lightenLess" w="50304" h="21600">
                <a:moveTo>
                  <a:pt x="0" y="0"/>
                </a:moveTo>
                <a:lnTo>
                  <a:pt x="50304" y="0"/>
                </a:lnTo>
                <a:lnTo>
                  <a:pt x="48904" y="1400"/>
                </a:lnTo>
                <a:lnTo>
                  <a:pt x="1400" y="1400"/>
                </a:lnTo>
                <a:close/>
              </a:path>
              <a:path fill="darken" w="50304" h="21600">
                <a:moveTo>
                  <a:pt x="50304" y="0"/>
                </a:moveTo>
                <a:lnTo>
                  <a:pt x="50304" y="21600"/>
                </a:lnTo>
                <a:lnTo>
                  <a:pt x="48904" y="20200"/>
                </a:lnTo>
                <a:lnTo>
                  <a:pt x="48904" y="1400"/>
                </a:lnTo>
                <a:close/>
              </a:path>
              <a:path fill="darkenLess" w="50304" h="21600">
                <a:moveTo>
                  <a:pt x="50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04" y="20200"/>
                </a:lnTo>
                <a:close/>
              </a:path>
              <a:path fill="lighten" w="50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04" h="21600">
                <a:moveTo>
                  <a:pt x="18146" y="7493"/>
                </a:moveTo>
                <a:lnTo>
                  <a:pt x="21653" y="7493"/>
                </a:lnTo>
                <a:lnTo>
                  <a:pt x="21653" y="12828"/>
                </a:lnTo>
                <a:cubicBezTo>
                  <a:pt x="21653" y="13751"/>
                  <a:pt x="22454" y="14482"/>
                  <a:pt x="23490" y="14482"/>
                </a:cubicBezTo>
                <a:lnTo>
                  <a:pt x="25152" y="14482"/>
                </a:lnTo>
                <a:cubicBezTo>
                  <a:pt x="26188" y="14482"/>
                  <a:pt x="26989" y="13751"/>
                  <a:pt x="26989" y="12828"/>
                </a:cubicBezTo>
                <a:lnTo>
                  <a:pt x="26989" y="7493"/>
                </a:lnTo>
                <a:lnTo>
                  <a:pt x="25152" y="7493"/>
                </a:lnTo>
                <a:lnTo>
                  <a:pt x="28660" y="3985"/>
                </a:lnTo>
                <a:lnTo>
                  <a:pt x="32333" y="7493"/>
                </a:lnTo>
                <a:lnTo>
                  <a:pt x="30496" y="7493"/>
                </a:lnTo>
                <a:lnTo>
                  <a:pt x="30496" y="12828"/>
                </a:lnTo>
                <a:cubicBezTo>
                  <a:pt x="30496" y="15596"/>
                  <a:pt x="27920" y="18155"/>
                  <a:pt x="25152" y="18155"/>
                </a:cubicBezTo>
                <a:lnTo>
                  <a:pt x="23490" y="18155"/>
                </a:lnTo>
                <a:cubicBezTo>
                  <a:pt x="20722" y="18155"/>
                  <a:pt x="18146" y="15596"/>
                  <a:pt x="18146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Схема 2" descr=""/>
          <p:cNvPicPr/>
          <p:nvPr/>
        </p:nvPicPr>
        <p:blipFill>
          <a:blip r:embed="rId1"/>
          <a:stretch/>
        </p:blipFill>
        <p:spPr>
          <a:xfrm>
            <a:off x="804960" y="324000"/>
            <a:ext cx="7680240" cy="968400"/>
          </a:xfrm>
          <a:prstGeom prst="rect">
            <a:avLst/>
          </a:prstGeom>
          <a:ln w="0">
            <a:noFill/>
          </a:ln>
        </p:spPr>
      </p:pic>
      <p:sp>
        <p:nvSpPr>
          <p:cNvPr id="540" name="Прямоугольник 3"/>
          <p:cNvSpPr/>
          <p:nvPr/>
        </p:nvSpPr>
        <p:spPr>
          <a:xfrm>
            <a:off x="5332320" y="2116080"/>
            <a:ext cx="347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ля створення кнопок дій необхідно виконати команди: </a:t>
            </a: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Вставка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Фігури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→ вибрати необхідну кнопк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Прямоугольник 5"/>
          <p:cNvSpPr/>
          <p:nvPr/>
        </p:nvSpPr>
        <p:spPr>
          <a:xfrm>
            <a:off x="395280" y="119700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нопки дій дозволяють здійснювати керування презентацією, приєднувати файли та виконувати інші дії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Прямоугольник 6"/>
          <p:cNvSpPr/>
          <p:nvPr/>
        </p:nvSpPr>
        <p:spPr>
          <a:xfrm>
            <a:off x="5345280" y="3484440"/>
            <a:ext cx="338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Якщо ми виберемо порожню кнопку, то необхідно настроїти її дію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Прямоугольник 7"/>
          <p:cNvSpPr/>
          <p:nvPr/>
        </p:nvSpPr>
        <p:spPr>
          <a:xfrm>
            <a:off x="5477040" y="4687920"/>
            <a:ext cx="3120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ікно </a:t>
            </a:r>
            <a:r>
              <a:rPr b="1" i="1" lang="uk-UA" sz="1800" spc="-1" strike="noStrike">
                <a:solidFill>
                  <a:srgbClr val="000000"/>
                </a:solidFill>
                <a:latin typeface="Calibri"/>
              </a:rPr>
              <a:t>Настройка</a:t>
            </a: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дії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’являється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автоматич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Рисунок 8" descr=""/>
          <p:cNvPicPr/>
          <p:nvPr/>
        </p:nvPicPr>
        <p:blipFill>
          <a:blip r:embed="rId2"/>
          <a:srcRect l="3304" t="1845" r="54812" b="74331"/>
          <a:stretch/>
        </p:blipFill>
        <p:spPr>
          <a:xfrm>
            <a:off x="395280" y="2000160"/>
            <a:ext cx="4824360" cy="2220840"/>
          </a:xfrm>
          <a:prstGeom prst="rect">
            <a:avLst/>
          </a:prstGeom>
          <a:ln w="0">
            <a:noFill/>
          </a:ln>
        </p:spPr>
      </p:pic>
      <p:pic>
        <p:nvPicPr>
          <p:cNvPr id="545" name="Рисунок 9" descr=""/>
          <p:cNvPicPr/>
          <p:nvPr/>
        </p:nvPicPr>
        <p:blipFill>
          <a:blip r:embed="rId3"/>
          <a:srcRect l="3304" t="82397" r="54812" b="7539"/>
          <a:stretch/>
        </p:blipFill>
        <p:spPr>
          <a:xfrm>
            <a:off x="371520" y="4235400"/>
            <a:ext cx="4897440" cy="969840"/>
          </a:xfrm>
          <a:prstGeom prst="rect">
            <a:avLst/>
          </a:prstGeom>
          <a:ln w="0">
            <a:noFill/>
          </a:ln>
        </p:spPr>
      </p:pic>
      <p:sp>
        <p:nvSpPr>
          <p:cNvPr id="546" name="Овал 10"/>
          <p:cNvSpPr/>
          <p:nvPr/>
        </p:nvSpPr>
        <p:spPr>
          <a:xfrm>
            <a:off x="900000" y="2000160"/>
            <a:ext cx="1008000" cy="565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Овал 11"/>
          <p:cNvSpPr/>
          <p:nvPr/>
        </p:nvSpPr>
        <p:spPr>
          <a:xfrm>
            <a:off x="2195640" y="2708280"/>
            <a:ext cx="1008000" cy="565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Овал 12"/>
          <p:cNvSpPr/>
          <p:nvPr/>
        </p:nvSpPr>
        <p:spPr>
          <a:xfrm>
            <a:off x="2556000" y="4768920"/>
            <a:ext cx="2520720" cy="565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Управляющая кнопка: возврат 1"/>
          <p:cNvSpPr/>
          <p:nvPr/>
        </p:nvSpPr>
        <p:spPr>
          <a:xfrm>
            <a:off x="7072200" y="6093000"/>
            <a:ext cx="955800" cy="431640"/>
          </a:xfrm>
          <a:custGeom>
            <a:avLst/>
            <a:gdLst>
              <a:gd name="textAreaLeft" fmla="*/ 27720 w 955800"/>
              <a:gd name="textAreaRight" fmla="*/ 928080 w 9558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7808" h="21600">
                <a:moveTo>
                  <a:pt x="0" y="0"/>
                </a:moveTo>
                <a:lnTo>
                  <a:pt x="47808" y="0"/>
                </a:lnTo>
                <a:lnTo>
                  <a:pt x="47808" y="21600"/>
                </a:lnTo>
                <a:lnTo>
                  <a:pt x="0" y="21600"/>
                </a:lnTo>
                <a:close/>
              </a:path>
              <a:path fill="lightenLess" w="47808" h="21600">
                <a:moveTo>
                  <a:pt x="0" y="0"/>
                </a:moveTo>
                <a:lnTo>
                  <a:pt x="47808" y="0"/>
                </a:lnTo>
                <a:lnTo>
                  <a:pt x="46408" y="1400"/>
                </a:lnTo>
                <a:lnTo>
                  <a:pt x="1400" y="1400"/>
                </a:lnTo>
                <a:close/>
              </a:path>
              <a:path fill="darken" w="47808" h="21600">
                <a:moveTo>
                  <a:pt x="47808" y="0"/>
                </a:moveTo>
                <a:lnTo>
                  <a:pt x="47808" y="21600"/>
                </a:lnTo>
                <a:lnTo>
                  <a:pt x="46408" y="20200"/>
                </a:lnTo>
                <a:lnTo>
                  <a:pt x="46408" y="1400"/>
                </a:lnTo>
                <a:close/>
              </a:path>
              <a:path fill="darkenLess" w="47808" h="21600">
                <a:moveTo>
                  <a:pt x="478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408" y="20200"/>
                </a:lnTo>
                <a:close/>
              </a:path>
              <a:path fill="lighten" w="478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808" h="21600">
                <a:moveTo>
                  <a:pt x="16898" y="7493"/>
                </a:moveTo>
                <a:lnTo>
                  <a:pt x="20405" y="7493"/>
                </a:lnTo>
                <a:lnTo>
                  <a:pt x="20405" y="12828"/>
                </a:lnTo>
                <a:cubicBezTo>
                  <a:pt x="20405" y="13751"/>
                  <a:pt x="21206" y="14482"/>
                  <a:pt x="22242" y="14482"/>
                </a:cubicBezTo>
                <a:lnTo>
                  <a:pt x="23904" y="14482"/>
                </a:lnTo>
                <a:cubicBezTo>
                  <a:pt x="24940" y="14482"/>
                  <a:pt x="25740" y="13751"/>
                  <a:pt x="25740" y="12828"/>
                </a:cubicBezTo>
                <a:lnTo>
                  <a:pt x="25740" y="7493"/>
                </a:lnTo>
                <a:lnTo>
                  <a:pt x="23904" y="7493"/>
                </a:lnTo>
                <a:lnTo>
                  <a:pt x="27412" y="3985"/>
                </a:lnTo>
                <a:lnTo>
                  <a:pt x="31085" y="7493"/>
                </a:lnTo>
                <a:lnTo>
                  <a:pt x="29248" y="7493"/>
                </a:lnTo>
                <a:lnTo>
                  <a:pt x="29248" y="12828"/>
                </a:lnTo>
                <a:cubicBezTo>
                  <a:pt x="29248" y="15596"/>
                  <a:pt x="26672" y="18155"/>
                  <a:pt x="23904" y="18155"/>
                </a:cubicBezTo>
                <a:lnTo>
                  <a:pt x="22242" y="18155"/>
                </a:lnTo>
                <a:cubicBezTo>
                  <a:pt x="19474" y="18155"/>
                  <a:pt x="16898" y="15596"/>
                  <a:pt x="16898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457200" y="1345680"/>
            <a:ext cx="82296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и показу презента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ції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002060"/>
                </a:solidFill>
                <a:uFillTx/>
                <a:latin typeface="Calibri"/>
              </a:rPr>
              <a:t>керований доповідачем</a:t>
            </a:r>
            <a:r>
              <a:rPr b="0" i="1" lang="uk-UA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(повноекранний) – слайди змінює доповідач, користуючись мишею, пультом дистанційного керування, зображеним на екрані іншого монітор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2060"/>
                </a:solidFill>
                <a:uFillTx/>
                <a:latin typeface="Calibri"/>
              </a:rPr>
              <a:t>керований користувачем</a:t>
            </a:r>
            <a:r>
              <a:rPr b="0" i="1" lang="uk-UA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(віконний) – слайди виводяться у вікні, користувач змінює їх за допомогою смуги прокручуванн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002060"/>
                </a:solidFill>
                <a:uFillTx/>
                <a:latin typeface="Calibri"/>
              </a:rPr>
              <a:t>автоматичний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– змінення слайдів відбувається через певні проміжки часу, задані під час розроб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Picture 3" descr=""/>
          <p:cNvPicPr/>
          <p:nvPr/>
        </p:nvPicPr>
        <p:blipFill>
          <a:blip r:embed="rId1"/>
          <a:stretch/>
        </p:blipFill>
        <p:spPr>
          <a:xfrm>
            <a:off x="1035000" y="260280"/>
            <a:ext cx="7072200" cy="1085760"/>
          </a:xfrm>
          <a:prstGeom prst="rect">
            <a:avLst/>
          </a:prstGeom>
          <a:ln w="0">
            <a:noFill/>
          </a:ln>
        </p:spPr>
      </p:pic>
      <p:sp>
        <p:nvSpPr>
          <p:cNvPr id="552" name="Управляющая кнопка: возврат 1"/>
          <p:cNvSpPr/>
          <p:nvPr/>
        </p:nvSpPr>
        <p:spPr>
          <a:xfrm>
            <a:off x="7308720" y="6134040"/>
            <a:ext cx="935280" cy="360360"/>
          </a:xfrm>
          <a:custGeom>
            <a:avLst/>
            <a:gdLst>
              <a:gd name="textAreaLeft" fmla="*/ 23040 w 935280"/>
              <a:gd name="textAreaRight" fmla="*/ 912240 w 935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026" h="21600">
                <a:moveTo>
                  <a:pt x="0" y="0"/>
                </a:moveTo>
                <a:lnTo>
                  <a:pt x="56026" y="0"/>
                </a:lnTo>
                <a:lnTo>
                  <a:pt x="56026" y="21600"/>
                </a:lnTo>
                <a:lnTo>
                  <a:pt x="0" y="21600"/>
                </a:lnTo>
                <a:close/>
              </a:path>
              <a:path fill="lightenLess" w="56026" h="21600">
                <a:moveTo>
                  <a:pt x="0" y="0"/>
                </a:moveTo>
                <a:lnTo>
                  <a:pt x="56026" y="0"/>
                </a:lnTo>
                <a:lnTo>
                  <a:pt x="54626" y="1400"/>
                </a:lnTo>
                <a:lnTo>
                  <a:pt x="1400" y="1400"/>
                </a:lnTo>
                <a:close/>
              </a:path>
              <a:path fill="darken" w="56026" h="21600">
                <a:moveTo>
                  <a:pt x="56026" y="0"/>
                </a:moveTo>
                <a:lnTo>
                  <a:pt x="56026" y="21600"/>
                </a:lnTo>
                <a:lnTo>
                  <a:pt x="54626" y="20200"/>
                </a:lnTo>
                <a:lnTo>
                  <a:pt x="54626" y="1400"/>
                </a:lnTo>
                <a:close/>
              </a:path>
              <a:path fill="darkenLess" w="56026" h="21600">
                <a:moveTo>
                  <a:pt x="560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26" y="20200"/>
                </a:lnTo>
                <a:close/>
              </a:path>
              <a:path fill="lighten" w="560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026" h="21600">
                <a:moveTo>
                  <a:pt x="21007" y="7493"/>
                </a:moveTo>
                <a:lnTo>
                  <a:pt x="24514" y="7493"/>
                </a:lnTo>
                <a:lnTo>
                  <a:pt x="24514" y="12828"/>
                </a:lnTo>
                <a:cubicBezTo>
                  <a:pt x="24514" y="13751"/>
                  <a:pt x="25315" y="14482"/>
                  <a:pt x="26351" y="14482"/>
                </a:cubicBezTo>
                <a:lnTo>
                  <a:pt x="28013" y="14482"/>
                </a:lnTo>
                <a:cubicBezTo>
                  <a:pt x="29049" y="14482"/>
                  <a:pt x="29850" y="13751"/>
                  <a:pt x="29850" y="12828"/>
                </a:cubicBezTo>
                <a:lnTo>
                  <a:pt x="29850" y="7493"/>
                </a:lnTo>
                <a:lnTo>
                  <a:pt x="28013" y="7493"/>
                </a:lnTo>
                <a:lnTo>
                  <a:pt x="31521" y="3985"/>
                </a:lnTo>
                <a:lnTo>
                  <a:pt x="35194" y="7493"/>
                </a:lnTo>
                <a:lnTo>
                  <a:pt x="33357" y="7493"/>
                </a:lnTo>
                <a:lnTo>
                  <a:pt x="33357" y="12828"/>
                </a:lnTo>
                <a:cubicBezTo>
                  <a:pt x="33357" y="15596"/>
                  <a:pt x="30781" y="18155"/>
                  <a:pt x="28013" y="18155"/>
                </a:cubicBezTo>
                <a:lnTo>
                  <a:pt x="26351" y="18155"/>
                </a:lnTo>
                <a:cubicBezTo>
                  <a:pt x="23583" y="18155"/>
                  <a:pt x="21007" y="15596"/>
                  <a:pt x="21007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Схема 3" descr=""/>
          <p:cNvPicPr/>
          <p:nvPr/>
        </p:nvPicPr>
        <p:blipFill>
          <a:blip r:embed="rId1"/>
          <a:stretch/>
        </p:blipFill>
        <p:spPr>
          <a:xfrm>
            <a:off x="1925640" y="249120"/>
            <a:ext cx="6035760" cy="107316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91520" cy="27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Щоб роздрукувати презентацію, потрібно у вікні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Друк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зі списку режимів вибрати потрібний: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Слайди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- друкуються по одному на сторінку;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Видачі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– один або більше слайдів на сторінці із датою і номером сторінки;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Нотатки –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один слайд на сторінці й додані до нього нотатки;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– структура презентації  у вигляді багаторівневого спис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Picture 11" descr="C:\Users\School3\Downloads\Screenshot-2017-11-9 Інформатика-9 pdf(1).png"/>
          <p:cNvPicPr/>
          <p:nvPr/>
        </p:nvPicPr>
        <p:blipFill>
          <a:blip r:embed="rId2"/>
          <a:stretch/>
        </p:blipFill>
        <p:spPr>
          <a:xfrm>
            <a:off x="468360" y="3284640"/>
            <a:ext cx="7848720" cy="3038400"/>
          </a:xfrm>
          <a:prstGeom prst="rect">
            <a:avLst/>
          </a:prstGeom>
          <a:ln w="0">
            <a:noFill/>
          </a:ln>
        </p:spPr>
      </p:pic>
      <p:sp>
        <p:nvSpPr>
          <p:cNvPr id="556" name="Управляющая кнопка: возврат 11"/>
          <p:cNvSpPr/>
          <p:nvPr/>
        </p:nvSpPr>
        <p:spPr>
          <a:xfrm>
            <a:off x="7524720" y="6323040"/>
            <a:ext cx="1224000" cy="40464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65299" h="21600">
                <a:moveTo>
                  <a:pt x="0" y="0"/>
                </a:moveTo>
                <a:lnTo>
                  <a:pt x="65299" y="0"/>
                </a:lnTo>
                <a:lnTo>
                  <a:pt x="65299" y="21600"/>
                </a:lnTo>
                <a:lnTo>
                  <a:pt x="0" y="21600"/>
                </a:lnTo>
                <a:close/>
              </a:path>
              <a:path fill="lightenLess" w="65299" h="21600">
                <a:moveTo>
                  <a:pt x="0" y="0"/>
                </a:moveTo>
                <a:lnTo>
                  <a:pt x="65299" y="0"/>
                </a:lnTo>
                <a:lnTo>
                  <a:pt x="63899" y="1400"/>
                </a:lnTo>
                <a:lnTo>
                  <a:pt x="1400" y="1400"/>
                </a:lnTo>
                <a:close/>
              </a:path>
              <a:path fill="darken" w="65299" h="21600">
                <a:moveTo>
                  <a:pt x="65299" y="0"/>
                </a:moveTo>
                <a:lnTo>
                  <a:pt x="65299" y="21600"/>
                </a:lnTo>
                <a:lnTo>
                  <a:pt x="63899" y="20200"/>
                </a:lnTo>
                <a:lnTo>
                  <a:pt x="63899" y="1400"/>
                </a:lnTo>
                <a:close/>
              </a:path>
              <a:path fill="darkenLess" w="65299" h="21600">
                <a:moveTo>
                  <a:pt x="652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899" y="20200"/>
                </a:lnTo>
                <a:close/>
              </a:path>
              <a:path fill="lighten" w="652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299" h="21600">
                <a:moveTo>
                  <a:pt x="25643" y="7493"/>
                </a:moveTo>
                <a:lnTo>
                  <a:pt x="29151" y="7493"/>
                </a:lnTo>
                <a:lnTo>
                  <a:pt x="29151" y="12828"/>
                </a:lnTo>
                <a:cubicBezTo>
                  <a:pt x="29151" y="13751"/>
                  <a:pt x="29951" y="14482"/>
                  <a:pt x="30987" y="14482"/>
                </a:cubicBezTo>
                <a:lnTo>
                  <a:pt x="32650" y="14482"/>
                </a:lnTo>
                <a:cubicBezTo>
                  <a:pt x="33685" y="14482"/>
                  <a:pt x="34486" y="13751"/>
                  <a:pt x="34486" y="12828"/>
                </a:cubicBezTo>
                <a:lnTo>
                  <a:pt x="34486" y="7493"/>
                </a:lnTo>
                <a:lnTo>
                  <a:pt x="32650" y="7493"/>
                </a:lnTo>
                <a:lnTo>
                  <a:pt x="36157" y="3985"/>
                </a:lnTo>
                <a:lnTo>
                  <a:pt x="39830" y="7493"/>
                </a:lnTo>
                <a:lnTo>
                  <a:pt x="37994" y="7493"/>
                </a:lnTo>
                <a:lnTo>
                  <a:pt x="37994" y="12828"/>
                </a:lnTo>
                <a:cubicBezTo>
                  <a:pt x="37994" y="15596"/>
                  <a:pt x="35417" y="18155"/>
                  <a:pt x="32650" y="18155"/>
                </a:cubicBezTo>
                <a:lnTo>
                  <a:pt x="30987" y="18155"/>
                </a:lnTo>
                <a:cubicBezTo>
                  <a:pt x="28219" y="18155"/>
                  <a:pt x="25643" y="15596"/>
                  <a:pt x="25643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Прямоугольник 4"/>
          <p:cNvSpPr/>
          <p:nvPr/>
        </p:nvSpPr>
        <p:spPr>
          <a:xfrm>
            <a:off x="324000" y="1484280"/>
            <a:ext cx="8435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ідкрити презентацію Вправа 1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одайте довільні покази, що відповідають цим категорі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На другому слайді, що містить зміст презентації, встановити текстові гіперпосилання на всі слайд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одати до кожного слайда кнопку дії для повернення на другий слайд (список із переліком тобто зміст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ереглянути презентацію у вікні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Друк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берегти презентацію Вправа 14 у відповідну пап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Схема 6" descr=""/>
          <p:cNvPicPr/>
          <p:nvPr/>
        </p:nvPicPr>
        <p:blipFill>
          <a:blip r:embed="rId1"/>
          <a:stretch/>
        </p:blipFill>
        <p:spPr>
          <a:xfrm>
            <a:off x="2286000" y="536400"/>
            <a:ext cx="4791240" cy="8589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2" descr="http://t3.gstatic.com/images?q=tbn:ANd9GcQ2oFAL5zwk6lBkYbN6_URuCouJ349fnBt-sBv1S0bVpqfHUG_9"/>
          <p:cNvPicPr/>
          <p:nvPr/>
        </p:nvPicPr>
        <p:blipFill>
          <a:blip r:embed="rId2"/>
          <a:stretch/>
        </p:blipFill>
        <p:spPr>
          <a:xfrm>
            <a:off x="1069920" y="4959360"/>
            <a:ext cx="1098720" cy="1096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30T05:49:19Z</dcterms:created>
  <dc:creator>KEK$</dc:creator>
  <dc:description/>
  <dc:language>en-US</dc:language>
  <cp:lastModifiedBy>ИГОРЬ</cp:lastModifiedBy>
  <dcterms:modified xsi:type="dcterms:W3CDTF">2017-11-12T20:05:41Z</dcterms:modified>
  <cp:revision>72</cp:revision>
  <dc:subject/>
  <dc:title>Вивчаємо інформатику</dc:title>
</cp:coreProperties>
</file>