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5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1.png" ContentType="image/pn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AB9-F21A-432F-B8B1-DC71295C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803-718B-4CAD-9C47-89330AF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0E9-B86C-41E1-B022-538C2AFA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CA9-6A23-4737-8DE5-363B794A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D7B-35D3-41EF-8A27-A611AB72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E55-D60F-46F4-B88B-D078900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466-7012-4667-9F2D-24C46740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363-8553-495A-AAFB-A9ADE6B4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48D-960C-48BE-A513-DB55512E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C62-4447-4EB8-8FAA-CAC2332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C1B-5BAA-4CAF-86D6-BC0EDE7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EA5-B6E4-4FC9-A51F-B49E53AE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8AEC-AAC5-45D3-B4C0-16204EDF9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jpeg"/><Relationship Id="rId3" Type="http://schemas.openxmlformats.org/officeDocument/2006/relationships/image" Target="../media/image38.jpeg"/><Relationship Id="rId4" Type="http://schemas.openxmlformats.org/officeDocument/2006/relationships/image" Target="../media/image34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31.jpeg"/><Relationship Id="rId8" Type="http://schemas.openxmlformats.org/officeDocument/2006/relationships/image" Target="../media/image30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0643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ема уроку.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uk-UA" sz="4600" spc="-1" strike="noStrike">
                <a:solidFill>
                  <a:srgbClr val="000000"/>
                </a:solidFill>
                <a:latin typeface="Times New Roman"/>
              </a:rPr>
              <a:t>Образи тварин у мистецтві.</a:t>
            </a:r>
            <a:br>
              <a:rPr sz="4600"/>
            </a:br>
            <a:r>
              <a:rPr b="1" lang="uk-UA" sz="4600" spc="-1" strike="noStrike">
                <a:solidFill>
                  <a:srgbClr val="000000"/>
                </a:solidFill>
                <a:latin typeface="Times New Roman"/>
              </a:rPr>
              <a:t>Твори художників - анімалістів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393336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ктична робо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Небачена фантастична істота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Лев-v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95280" y="0"/>
            <a:ext cx="172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</a:rPr>
              <a:t>Звір гуляє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40653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492360" y="6237360"/>
            <a:ext cx="244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</a:rPr>
              <a:t>Квітковий цар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whila-this-beast-drinks-poison-a-snake-sucks-his-blood-1982_thumb_medium580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894200" y="0"/>
            <a:ext cx="424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00"/>
                </a:solidFill>
                <a:latin typeface="Times New Roman"/>
              </a:rPr>
              <a:t>Дика видра птичку ухопил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f18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20000" y="189000"/>
            <a:ext cx="21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Рябий зві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5036bedd59f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203640" y="6237360"/>
            <a:ext cx="4032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cc00"/>
                </a:solidFill>
                <a:latin typeface="Times New Roman"/>
              </a:rPr>
              <a:t>Дикий горботру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111529_jpg_16883_s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35640" y="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Дика волезах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11280" y="115560"/>
            <a:ext cx="4824360" cy="2808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Times New Roman"/>
              </a:rPr>
              <a:t>ЧОРНОБИЛЬСЬКА</a:t>
            </a:r>
            <a:br>
              <a:rPr sz="3500"/>
            </a:br>
            <a:r>
              <a:rPr b="1" lang="uk-UA" sz="3500" spc="-1" strike="noStrike">
                <a:solidFill>
                  <a:srgbClr val="000000"/>
                </a:solidFill>
                <a:latin typeface="Times New Roman"/>
              </a:rPr>
              <a:t>СЕРІЯ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Двоголовий бик"/>
          <p:cNvPicPr/>
          <p:nvPr/>
        </p:nvPicPr>
        <p:blipFill>
          <a:blip r:embed="rId1"/>
          <a:stretch/>
        </p:blipFill>
        <p:spPr>
          <a:xfrm>
            <a:off x="4140360" y="2997360"/>
            <a:ext cx="5003640" cy="3860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236000" y="6491160"/>
            <a:ext cx="190800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воголовий б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prempwg48"/>
          <p:cNvPicPr/>
          <p:nvPr/>
        </p:nvPicPr>
        <p:blipFill>
          <a:blip r:embed="rId2"/>
          <a:stretch/>
        </p:blipFill>
        <p:spPr>
          <a:xfrm>
            <a:off x="0" y="0"/>
            <a:ext cx="4140360" cy="306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y-that-nuclear-war-be-cursed-1978-thumb-600x443-26949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0" y="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Загроза вій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0" y="32846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Ядерна вій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monkey-riding-a-four-headed-beast-1982_thumb_medium580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124000" y="649116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впа, що їде на чотириголовому чудовись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this-beast-has-come-running-from-the-hill-1978_thumb_medium580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983280" y="63849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</a:rPr>
              <a:t>Собачка Ад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7335887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7640" y="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b00000"/>
                </a:solidFill>
                <a:latin typeface="Times New Roman"/>
              </a:rPr>
              <a:t>Гороховий зві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Organization Chart 8"/>
          <p:cNvGrpSpPr/>
          <p:nvPr/>
        </p:nvGrpSpPr>
        <p:grpSpPr>
          <a:xfrm>
            <a:off x="1547640" y="404640"/>
            <a:ext cx="6573600" cy="6047280"/>
            <a:chOff x="1547640" y="404640"/>
            <a:chExt cx="6573600" cy="6047280"/>
          </a:xfrm>
        </p:grpSpPr>
        <p:cxnSp>
          <p:nvCxnSpPr>
            <p:cNvPr id="44" name="_s1028"/>
            <p:cNvCxnSpPr>
              <a:stCxn id="45" idx="0"/>
              <a:endCxn id="46" idx="2"/>
            </p:cNvCxnSpPr>
            <p:nvPr/>
          </p:nvCxnSpPr>
          <p:spPr>
            <a:xfrm flipV="1">
              <a:off x="7137000" y="4183560"/>
              <a:ext cx="252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1029"/>
            <p:cNvCxnSpPr>
              <a:stCxn id="46" idx="0"/>
              <a:endCxn id="48" idx="2"/>
            </p:cNvCxnSpPr>
            <p:nvPr/>
          </p:nvCxnSpPr>
          <p:spPr>
            <a:xfrm flipV="1" rot="16200000">
              <a:off x="5607360" y="1141920"/>
              <a:ext cx="756360" cy="2303280"/>
            </a:xfrm>
            <a:prstGeom prst="bentConnector3">
              <a:avLst>
                <a:gd name="adj1" fmla="val 211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30"/>
            <p:cNvCxnSpPr>
              <a:stCxn id="50" idx="0"/>
              <a:endCxn id="48" idx="2"/>
            </p:cNvCxnSpPr>
            <p:nvPr/>
          </p:nvCxnSpPr>
          <p:spPr>
            <a:xfrm flipV="1">
              <a:off x="4834080" y="1915560"/>
              <a:ext cx="252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1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3305880" y="1143000"/>
              <a:ext cx="756360" cy="2301480"/>
            </a:xfrm>
            <a:prstGeom prst="bentConnector3">
              <a:avLst>
                <a:gd name="adj1" fmla="val 211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848400" y="404640"/>
              <a:ext cx="1972080" cy="1511640"/>
            </a:xfrm>
            <a:prstGeom prst="roundRect">
              <a:avLst>
                <a:gd name="adj" fmla="val 16667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Times New Roman"/>
                </a:rPr>
                <a:t>Цей урок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Times New Roman"/>
                </a:rPr>
                <a:t>навчить мен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1547640" y="2672280"/>
              <a:ext cx="1972080" cy="151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Визначати твори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художників -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анімалістів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34"/>
            <p:cNvSpPr/>
            <p:nvPr/>
          </p:nvSpPr>
          <p:spPr>
            <a:xfrm>
              <a:off x="3848400" y="2672280"/>
              <a:ext cx="1972080" cy="1511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Цінувати прекрасне 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вивчаючи творчість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художниці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Марії Приймаченко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1035"/>
            <p:cNvSpPr/>
            <p:nvPr/>
          </p:nvSpPr>
          <p:spPr>
            <a:xfrm>
              <a:off x="6149160" y="2672280"/>
              <a:ext cx="1972080" cy="151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Створювати небачену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фантастичну істоту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в стилі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наївного мистецтв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_s1036"/>
            <p:cNvSpPr/>
            <p:nvPr/>
          </p:nvSpPr>
          <p:spPr>
            <a:xfrm>
              <a:off x="6149160" y="4940280"/>
              <a:ext cx="1972080" cy="15116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Добирати потрібний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формат паперу дл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uk-UA" sz="1500" spc="-1" strike="noStrike">
                  <a:solidFill>
                    <a:srgbClr val="000000"/>
                  </a:solidFill>
                  <a:latin typeface="Times New Roman"/>
                </a:rPr>
                <a:t>задуманої роботи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22" descr="56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paint_tube_&amp;_brush_1"/>
          <p:cNvPicPr/>
          <p:nvPr/>
        </p:nvPicPr>
        <p:blipFill>
          <a:blip r:embed="rId1"/>
          <a:stretch/>
        </p:blipFill>
        <p:spPr>
          <a:xfrm>
            <a:off x="6300720" y="1413000"/>
            <a:ext cx="2843280" cy="2087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Інструктаж з ножицями"/>
          <p:cNvPicPr/>
          <p:nvPr/>
        </p:nvPicPr>
        <p:blipFill>
          <a:blip r:embed="rId2"/>
          <a:stretch/>
        </p:blipFill>
        <p:spPr>
          <a:xfrm>
            <a:off x="0" y="836640"/>
            <a:ext cx="6095880" cy="602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6"/>
          <p:cNvPicPr/>
          <p:nvPr/>
        </p:nvPicPr>
        <p:blipFill>
          <a:blip r:embed="rId3"/>
          <a:stretch/>
        </p:blipFill>
        <p:spPr>
          <a:xfrm>
            <a:off x="6300720" y="4005360"/>
            <a:ext cx="2843280" cy="2160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Правила техніки безпеки та гігіє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50920" y="3500280"/>
            <a:ext cx="158436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268360" y="3500280"/>
            <a:ext cx="158436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211640" y="3500280"/>
            <a:ext cx="165564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0" y="6162840"/>
            <a:ext cx="1979640" cy="100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40360" y="6162840"/>
            <a:ext cx="1944360" cy="100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050920" y="6162840"/>
            <a:ext cx="1979640" cy="100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227640" y="3500280"/>
            <a:ext cx="291636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6227640" y="6237360"/>
            <a:ext cx="2916360" cy="599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733588703"/>
          <p:cNvPicPr/>
          <p:nvPr/>
        </p:nvPicPr>
        <p:blipFill>
          <a:blip r:embed="rId1"/>
          <a:stretch/>
        </p:blipFill>
        <p:spPr>
          <a:xfrm>
            <a:off x="0" y="0"/>
            <a:ext cx="2928960" cy="253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this-beast-has-come-running-from-the-hill-1978_thumb_medium580_0"/>
          <p:cNvPicPr/>
          <p:nvPr/>
        </p:nvPicPr>
        <p:blipFill>
          <a:blip r:embed="rId2"/>
          <a:stretch/>
        </p:blipFill>
        <p:spPr>
          <a:xfrm>
            <a:off x="2916360" y="0"/>
            <a:ext cx="3024000" cy="2492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monkey-riding-a-four-headed-beast-1982_thumb_medium580_0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249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11529_jpg_16883_s2"/>
          <p:cNvPicPr/>
          <p:nvPr/>
        </p:nvPicPr>
        <p:blipFill>
          <a:blip r:embed="rId4"/>
          <a:stretch/>
        </p:blipFill>
        <p:spPr>
          <a:xfrm>
            <a:off x="0" y="2565360"/>
            <a:ext cx="2916360" cy="2087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5036bedd59f34"/>
          <p:cNvPicPr/>
          <p:nvPr/>
        </p:nvPicPr>
        <p:blipFill>
          <a:blip r:embed="rId5"/>
          <a:stretch/>
        </p:blipFill>
        <p:spPr>
          <a:xfrm>
            <a:off x="2916360" y="2492280"/>
            <a:ext cx="3024000" cy="2179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f1842"/>
          <p:cNvPicPr/>
          <p:nvPr/>
        </p:nvPicPr>
        <p:blipFill>
          <a:blip r:embed="rId6"/>
          <a:stretch/>
        </p:blipFill>
        <p:spPr>
          <a:xfrm>
            <a:off x="5940360" y="2492280"/>
            <a:ext cx="320364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whila-this-beast-drinks-poison-a-snake-sucks-his-blood-1982_thumb_medium580_0"/>
          <p:cNvPicPr/>
          <p:nvPr/>
        </p:nvPicPr>
        <p:blipFill>
          <a:blip r:embed="rId7"/>
          <a:stretch/>
        </p:blipFill>
        <p:spPr>
          <a:xfrm>
            <a:off x="0" y="4653000"/>
            <a:ext cx="291636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406530_600"/>
          <p:cNvPicPr/>
          <p:nvPr/>
        </p:nvPicPr>
        <p:blipFill>
          <a:blip r:embed="rId8"/>
          <a:stretch/>
        </p:blipFill>
        <p:spPr>
          <a:xfrm>
            <a:off x="2916360" y="4653000"/>
            <a:ext cx="302400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1351160157_article_imageimageuarticle"/>
          <p:cNvPicPr/>
          <p:nvPr/>
        </p:nvPicPr>
        <p:blipFill>
          <a:blip r:embed="rId9"/>
          <a:stretch/>
        </p:blipFill>
        <p:spPr>
          <a:xfrm>
            <a:off x="594036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9" descr="56"/>
          <p:cNvPicPr/>
          <p:nvPr/>
        </p:nvPicPr>
        <p:blipFill>
          <a:blip r:embed="rId1"/>
          <a:stretch/>
        </p:blipFill>
        <p:spPr>
          <a:xfrm rot="20099400">
            <a:off x="395280" y="620280"/>
            <a:ext cx="3635280" cy="276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alysh"/>
          <p:cNvPicPr/>
          <p:nvPr/>
        </p:nvPicPr>
        <p:blipFill>
          <a:blip r:embed="rId2"/>
          <a:stretch/>
        </p:blipFill>
        <p:spPr>
          <a:xfrm>
            <a:off x="0" y="4076640"/>
            <a:ext cx="349236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57"/>
          <p:cNvPicPr/>
          <p:nvPr/>
        </p:nvPicPr>
        <p:blipFill>
          <a:blip r:embed="rId3"/>
          <a:stretch/>
        </p:blipFill>
        <p:spPr>
          <a:xfrm>
            <a:off x="7697880" y="0"/>
            <a:ext cx="1446120" cy="17002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 rot="21001200">
            <a:off x="3632040" y="666360"/>
            <a:ext cx="4537080" cy="55436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80"/>
                </a:solidFill>
                <a:latin typeface="Times New Roman"/>
              </a:rPr>
              <a:t>Запрошуємо </a:t>
            </a:r>
            <a:br>
              <a:rPr sz="4000"/>
            </a:br>
            <a:r>
              <a:rPr b="1" lang="uk-UA" sz="4000" spc="-1" strike="noStrike">
                <a:solidFill>
                  <a:srgbClr val="800080"/>
                </a:solidFill>
                <a:latin typeface="Times New Roman"/>
              </a:rPr>
              <a:t>н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80"/>
                </a:solidFill>
                <a:latin typeface="Times New Roman"/>
              </a:rPr>
              <a:t>фантастич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80"/>
                </a:solidFill>
                <a:latin typeface="Times New Roman"/>
              </a:rPr>
              <a:t>вернісаж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Diagram 4"/>
          <p:cNvGrpSpPr/>
          <p:nvPr/>
        </p:nvGrpSpPr>
        <p:grpSpPr>
          <a:xfrm>
            <a:off x="1902240" y="333360"/>
            <a:ext cx="6493320" cy="5745960"/>
            <a:chOff x="1902240" y="333360"/>
            <a:chExt cx="6493320" cy="5745960"/>
          </a:xfrm>
        </p:grpSpPr>
        <p:sp>
          <p:nvSpPr>
            <p:cNvPr id="55" name="_s2052"/>
            <p:cNvSpPr/>
            <p:nvPr/>
          </p:nvSpPr>
          <p:spPr>
            <a:xfrm flipH="1" flipV="1">
              <a:off x="3988440" y="2039040"/>
              <a:ext cx="68292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2053"/>
            <p:cNvSpPr/>
            <p:nvPr/>
          </p:nvSpPr>
          <p:spPr>
            <a:xfrm>
              <a:off x="2772000" y="867240"/>
              <a:ext cx="1482120" cy="13269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Музи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2054"/>
            <p:cNvSpPr/>
            <p:nvPr/>
          </p:nvSpPr>
          <p:spPr>
            <a:xfrm flipH="1" flipV="1">
              <a:off x="3373200" y="2994840"/>
              <a:ext cx="104544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2055"/>
            <p:cNvSpPr/>
            <p:nvPr/>
          </p:nvSpPr>
          <p:spPr>
            <a:xfrm>
              <a:off x="1902240" y="2216160"/>
              <a:ext cx="1482120" cy="13269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</a:rPr>
                <a:t>Живопис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2056"/>
            <p:cNvSpPr/>
            <p:nvPr/>
          </p:nvSpPr>
          <p:spPr>
            <a:xfrm flipH="1">
              <a:off x="3586680" y="3606840"/>
              <a:ext cx="919800" cy="47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2057"/>
            <p:cNvSpPr/>
            <p:nvPr/>
          </p:nvSpPr>
          <p:spPr>
            <a:xfrm>
              <a:off x="2204280" y="3750840"/>
              <a:ext cx="1482120" cy="13269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</a:rPr>
                <a:t>Графік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2058"/>
            <p:cNvSpPr/>
            <p:nvPr/>
          </p:nvSpPr>
          <p:spPr>
            <a:xfrm flipH="1">
              <a:off x="4531680" y="3897720"/>
              <a:ext cx="363600" cy="89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2059"/>
            <p:cNvSpPr/>
            <p:nvPr/>
          </p:nvSpPr>
          <p:spPr>
            <a:xfrm>
              <a:off x="3537000" y="4752360"/>
              <a:ext cx="1482120" cy="13269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</a:rPr>
                <a:t>Архітектур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2060"/>
            <p:cNvSpPr/>
            <p:nvPr/>
          </p:nvSpPr>
          <p:spPr>
            <a:xfrm>
              <a:off x="5401440" y="3896640"/>
              <a:ext cx="363600" cy="89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2061"/>
            <p:cNvSpPr/>
            <p:nvPr/>
          </p:nvSpPr>
          <p:spPr>
            <a:xfrm>
              <a:off x="5277240" y="4752360"/>
              <a:ext cx="1482120" cy="13269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Декоративно- прикладне мистецтв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2062"/>
            <p:cNvSpPr/>
            <p:nvPr/>
          </p:nvSpPr>
          <p:spPr>
            <a:xfrm>
              <a:off x="5788440" y="3605040"/>
              <a:ext cx="920520" cy="47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2063"/>
            <p:cNvSpPr/>
            <p:nvPr/>
          </p:nvSpPr>
          <p:spPr>
            <a:xfrm>
              <a:off x="6611040" y="3750840"/>
              <a:ext cx="1482120" cy="1326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000000"/>
                  </a:solidFill>
                  <a:latin typeface="Arial"/>
                </a:rPr>
                <a:t>Скульптур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2064"/>
            <p:cNvSpPr/>
            <p:nvPr/>
          </p:nvSpPr>
          <p:spPr>
            <a:xfrm flipV="1">
              <a:off x="5875560" y="2994120"/>
              <a:ext cx="104760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2065"/>
            <p:cNvSpPr/>
            <p:nvPr/>
          </p:nvSpPr>
          <p:spPr>
            <a:xfrm>
              <a:off x="6913440" y="2215440"/>
              <a:ext cx="1482120" cy="13269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Танц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2066"/>
            <p:cNvSpPr/>
            <p:nvPr/>
          </p:nvSpPr>
          <p:spPr>
            <a:xfrm flipV="1">
              <a:off x="5622840" y="2037240"/>
              <a:ext cx="68400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2067"/>
            <p:cNvSpPr/>
            <p:nvPr/>
          </p:nvSpPr>
          <p:spPr>
            <a:xfrm>
              <a:off x="6042600" y="866160"/>
              <a:ext cx="1481760" cy="13269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Теа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2068"/>
            <p:cNvSpPr/>
            <p:nvPr/>
          </p:nvSpPr>
          <p:spPr>
            <a:xfrm flipV="1">
              <a:off x="5147280" y="1659600"/>
              <a:ext cx="0" cy="9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2069"/>
            <p:cNvSpPr/>
            <p:nvPr/>
          </p:nvSpPr>
          <p:spPr>
            <a:xfrm>
              <a:off x="4406760" y="333360"/>
              <a:ext cx="1482120" cy="13269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Кін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2070"/>
            <p:cNvSpPr/>
            <p:nvPr/>
          </p:nvSpPr>
          <p:spPr>
            <a:xfrm>
              <a:off x="4406760" y="2612520"/>
              <a:ext cx="1482120" cy="13269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ВИДИ МИСТЕЦТВ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Picture 29" descr="57"/>
          <p:cNvPicPr/>
          <p:nvPr/>
        </p:nvPicPr>
        <p:blipFill>
          <a:blip r:embed="rId1"/>
          <a:stretch/>
        </p:blipFill>
        <p:spPr>
          <a:xfrm>
            <a:off x="7591320" y="115920"/>
            <a:ext cx="1446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тародавні па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тки культури: наскельний розпис, стату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Кольорове зображення датоване 30000-10000роками"/>
          <p:cNvPicPr/>
          <p:nvPr/>
        </p:nvPicPr>
        <p:blipFill>
          <a:blip r:embed="rId1"/>
          <a:stretch/>
        </p:blipFill>
        <p:spPr>
          <a:xfrm>
            <a:off x="6227640" y="549360"/>
            <a:ext cx="2916360" cy="29509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77" name="Picture 5" descr="4CEAHCAC31HOJCAJYHAYNCABZV331CAM0706TCAKX50GPCA8W1KVNCAOA3S3YCA2LEK92CAGT7D1HCA4GKE0SCA7304FECA54HM87CA3FWTLJCAUX9E6ECA82PBH7CAWGXZOWCABMTOF4CA0RRCJCCAA8UZAZ"/>
          <p:cNvPicPr/>
          <p:nvPr/>
        </p:nvPicPr>
        <p:blipFill>
          <a:blip r:embed="rId2"/>
          <a:stretch/>
        </p:blipFill>
        <p:spPr>
          <a:xfrm>
            <a:off x="179280" y="549360"/>
            <a:ext cx="2808360" cy="3024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78" name="Picture 6" descr="6E0X3CAKG9QJWCAJDOVTGCA7W74FNCA7LVTKECA1KLJMTCAZ9UF55CAZ8VU99CAYDB2D6CA4S1VM7CAT5RX1TCA1XOSB8CASBVL7YCAPEAT40CAW4FM6GCAE0CGXPCA79ZFPVCAHAUMWKCAJI0WU9CAG11YPR"/>
          <p:cNvPicPr/>
          <p:nvPr/>
        </p:nvPicPr>
        <p:blipFill>
          <a:blip r:embed="rId3"/>
          <a:stretch/>
        </p:blipFill>
        <p:spPr>
          <a:xfrm>
            <a:off x="3203640" y="549360"/>
            <a:ext cx="2808360" cy="29509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79" name="Picture 7" descr="Петрогліфи на прибережних скелях"/>
          <p:cNvPicPr/>
          <p:nvPr/>
        </p:nvPicPr>
        <p:blipFill>
          <a:blip r:embed="rId4"/>
          <a:stretch/>
        </p:blipFill>
        <p:spPr>
          <a:xfrm>
            <a:off x="108000" y="3716280"/>
            <a:ext cx="2879640" cy="31417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80" name="Picture 8" descr="9,5 тисяч років-вік статуетки"/>
          <p:cNvPicPr/>
          <p:nvPr/>
        </p:nvPicPr>
        <p:blipFill>
          <a:blip r:embed="rId5"/>
          <a:stretch/>
        </p:blipFill>
        <p:spPr>
          <a:xfrm>
            <a:off x="3203640" y="3716280"/>
            <a:ext cx="3024000" cy="31417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81" name="Picture 10" descr="5 тис"/>
          <p:cNvPicPr/>
          <p:nvPr/>
        </p:nvPicPr>
        <p:blipFill>
          <a:blip r:embed="rId6"/>
          <a:stretch/>
        </p:blipFill>
        <p:spPr>
          <a:xfrm>
            <a:off x="6443640" y="3716280"/>
            <a:ext cx="2700360" cy="31417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0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Анімалістичний жанр - зображення тварин у живописі, скульптурі, графіц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В"/>
          <p:cNvPicPr/>
          <p:nvPr/>
        </p:nvPicPr>
        <p:blipFill>
          <a:blip r:embed="rId1"/>
          <a:stretch/>
        </p:blipFill>
        <p:spPr>
          <a:xfrm>
            <a:off x="4932360" y="765000"/>
            <a:ext cx="2239920" cy="20005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84" name="Picture 6" descr="Барсуки"/>
          <p:cNvPicPr/>
          <p:nvPr/>
        </p:nvPicPr>
        <p:blipFill>
          <a:blip r:embed="rId2"/>
          <a:stretch/>
        </p:blipFill>
        <p:spPr>
          <a:xfrm>
            <a:off x="2340000" y="692280"/>
            <a:ext cx="2448000" cy="20383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85" name="Picture 7" descr="Упакування промислових  товарів"/>
          <p:cNvPicPr/>
          <p:nvPr/>
        </p:nvPicPr>
        <p:blipFill>
          <a:blip r:embed="rId3"/>
          <a:stretch/>
        </p:blipFill>
        <p:spPr>
          <a:xfrm>
            <a:off x="6800760" y="5108400"/>
            <a:ext cx="2343240" cy="174960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86" name="Picture 8" descr="Монети"/>
          <p:cNvPicPr/>
          <p:nvPr/>
        </p:nvPicPr>
        <p:blipFill>
          <a:blip r:embed="rId4"/>
          <a:stretch/>
        </p:blipFill>
        <p:spPr>
          <a:xfrm>
            <a:off x="0" y="5084640"/>
            <a:ext cx="1692360" cy="17733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87" name="Picture 11" descr="Роберт Бейтман"/>
          <p:cNvPicPr/>
          <p:nvPr/>
        </p:nvPicPr>
        <p:blipFill>
          <a:blip r:embed="rId5"/>
          <a:stretch/>
        </p:blipFill>
        <p:spPr>
          <a:xfrm>
            <a:off x="0" y="692280"/>
            <a:ext cx="2232000" cy="201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12" descr="Плакат"/>
          <p:cNvPicPr/>
          <p:nvPr/>
        </p:nvPicPr>
        <p:blipFill>
          <a:blip r:embed="rId6"/>
          <a:stretch/>
        </p:blipFill>
        <p:spPr>
          <a:xfrm>
            <a:off x="4284720" y="5157720"/>
            <a:ext cx="2428920" cy="17002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89" name="Picture 13" descr="Евген Мих"/>
          <p:cNvPicPr/>
          <p:nvPr/>
        </p:nvPicPr>
        <p:blipFill>
          <a:blip r:embed="rId7"/>
          <a:stretch/>
        </p:blipFill>
        <p:spPr>
          <a:xfrm>
            <a:off x="7308720" y="692280"/>
            <a:ext cx="1727280" cy="2089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90" name="Picture 14" descr="Вітальна Листівка"/>
          <p:cNvPicPr/>
          <p:nvPr/>
        </p:nvPicPr>
        <p:blipFill>
          <a:blip r:embed="rId8"/>
          <a:stretch/>
        </p:blipFill>
        <p:spPr>
          <a:xfrm>
            <a:off x="1692360" y="5138640"/>
            <a:ext cx="2484360" cy="17193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91" name="Picture 18" descr="17TUKCAWNQVIFCAFQIIK7CA5P8T6YCACGX6PTCABRRGYUCAFF21HKCAYPK328CAEXADSLCA2P1WXHCAZ9C0EOCARPM113CA8ZR3I9CAY2IPW9CAWTCPTUCA1B4PZECAQNO8LICA9963OUCAQYLV7BCAMCWD87"/>
          <p:cNvPicPr/>
          <p:nvPr/>
        </p:nvPicPr>
        <p:blipFill>
          <a:blip r:embed="rId9"/>
          <a:stretch/>
        </p:blipFill>
        <p:spPr>
          <a:xfrm>
            <a:off x="1908000" y="2781360"/>
            <a:ext cx="2608560" cy="22604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92" name="Picture 20" descr="Скульптура з паперу"/>
          <p:cNvPicPr/>
          <p:nvPr/>
        </p:nvPicPr>
        <p:blipFill>
          <a:blip r:embed="rId10"/>
          <a:stretch/>
        </p:blipFill>
        <p:spPr>
          <a:xfrm>
            <a:off x="7020000" y="2781360"/>
            <a:ext cx="2124000" cy="223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93" name="Picture 23" descr="O3ZCWCACNEAB2CA11HSQ6CAOZ0T7MCAZZ08E0CAK2LK1FCAQ6S5CGCA7T4VJKCAVWT9WBCAJE7937CAA9H5RUCAHU6XAVCACSJITOCA2EE2JFCA2LHTSDCAAKZEOGCACL4UHRCAPNXSV2CAG0PGTDCADXXP28"/>
          <p:cNvPicPr/>
          <p:nvPr/>
        </p:nvPicPr>
        <p:blipFill>
          <a:blip r:embed="rId11"/>
          <a:stretch/>
        </p:blipFill>
        <p:spPr>
          <a:xfrm>
            <a:off x="0" y="2781360"/>
            <a:ext cx="1835280" cy="223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94" name="Picture 24" descr="Скульптура зі скла"/>
          <p:cNvPicPr/>
          <p:nvPr/>
        </p:nvPicPr>
        <p:blipFill>
          <a:blip r:embed="rId12"/>
          <a:stretch/>
        </p:blipFill>
        <p:spPr>
          <a:xfrm>
            <a:off x="4572000" y="2781360"/>
            <a:ext cx="2376360" cy="2303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РисунокКвіт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16"/>
          <p:cNvPicPr/>
          <p:nvPr/>
        </p:nvPicPr>
        <p:blipFill>
          <a:blip r:embed="rId2"/>
          <a:stretch/>
        </p:blipFill>
        <p:spPr>
          <a:xfrm>
            <a:off x="179280" y="189000"/>
            <a:ext cx="4500720" cy="3967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5292720" y="404640"/>
            <a:ext cx="30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Bookman Old Style"/>
              </a:rPr>
              <a:t>Марі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Bookman Old Style"/>
              </a:rPr>
              <a:t>Оксентії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Bookman Old Style"/>
              </a:rPr>
              <a:t>Приймачен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268360" y="4508640"/>
            <a:ext cx="31687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800000"/>
                </a:solidFill>
                <a:latin typeface="Times New Roman"/>
              </a:rPr>
              <a:t>Місце народження:</a:t>
            </a:r>
            <a:r>
              <a:rPr b="1" lang="uk-UA" sz="23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800000"/>
                </a:solidFill>
                <a:latin typeface="Times New Roman"/>
              </a:rPr>
              <a:t>село Болотня Київської області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800000"/>
                </a:solidFill>
                <a:latin typeface="Times New Roman"/>
              </a:rPr>
              <a:t>Роки життя:</a:t>
            </a:r>
            <a:r>
              <a:rPr b="1" lang="uk-UA" sz="23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800000"/>
                </a:solidFill>
                <a:latin typeface="Times New Roman"/>
              </a:rPr>
              <a:t>1909-1998 р.р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phoca_thumb_l_1%20(18)"/>
          <p:cNvPicPr/>
          <p:nvPr/>
        </p:nvPicPr>
        <p:blipFill>
          <a:blip r:embed="rId3"/>
          <a:stretch/>
        </p:blipFill>
        <p:spPr>
          <a:xfrm>
            <a:off x="5357880" y="2571840"/>
            <a:ext cx="3311280" cy="3646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BD21370_"/>
          <p:cNvPicPr/>
          <p:nvPr/>
        </p:nvPicPr>
        <p:blipFill>
          <a:blip r:embed="rId4"/>
          <a:stretch/>
        </p:blipFill>
        <p:spPr>
          <a:xfrm>
            <a:off x="4932360" y="189000"/>
            <a:ext cx="10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69_7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076720" y="6156360"/>
            <a:ext cx="40672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Їде осінь на кон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1351160157_article_imageimageuart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308720" y="6308640"/>
            <a:ext cx="1835280" cy="3988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Звір з Болот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101533291_163622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211640" y="6232680"/>
            <a:ext cx="151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Times New Roman"/>
              </a:rPr>
              <a:t>Баран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vic</cp:lastModifiedBy>
  <dcterms:modified xsi:type="dcterms:W3CDTF">2018-01-22T16:36:20Z</dcterms:modified>
  <cp:revision>37</cp:revision>
  <dc:subject/>
  <dc:title>Слайд 1</dc:title>
</cp:coreProperties>
</file>