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684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gallery.yopriceville.com/Free-Clipart-Pictures/Christmas-PNG/Christmas_" TargetMode="External"/><Relationship Id="rId2" Type="http://schemas.openxmlformats.org/officeDocument/2006/relationships/hyperlink" Target="https://www.ivgeo.net/wp-content/uploads/2009/12/christmas_gift.png" TargetMode="External"/><Relationship Id="rId3" Type="http://schemas.openxmlformats.org/officeDocument/2006/relationships/hyperlink" Target="https://www.ivgeo.net/wp-content/uploads/2009/12/christmas_gift.png" TargetMode="External"/><Relationship Id="rId4" Type="http://schemas.openxmlformats.org/officeDocument/2006/relationships/hyperlink" Target="https://static.turbosquid.com/Preview/2014/07/10__15_03_53/thumbnail" TargetMode="External"/><Relationship Id="rId5" Type="http://schemas.openxmlformats.org/officeDocument/2006/relationships/hyperlink" Target="https://static.turbosquid.com/Preview/2014/07/10__15_03_53/thumbnai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09480" y="1066680"/>
            <a:ext cx="7848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Arial"/>
              </a:rPr>
              <a:t>CHRISTMA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990033"/>
                </a:solidFill>
                <a:latin typeface="Arial"/>
              </a:rPr>
              <a:t>                    </a:t>
            </a:r>
            <a:r>
              <a:rPr b="1" lang="en-US" sz="5400" spc="-1" strike="noStrike">
                <a:solidFill>
                  <a:srgbClr val="990033"/>
                </a:solidFill>
                <a:latin typeface="Arial"/>
              </a:rPr>
              <a:t>IS COM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609480"/>
            <a:ext cx="80773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Bookman Old Style"/>
              </a:rPr>
              <a:t>Something you light that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Bookman Old Style"/>
              </a:rPr>
              <a:t>   </a:t>
            </a:r>
            <a:r>
              <a:rPr b="1" lang="en-US" sz="4400" spc="-1" strike="noStrike">
                <a:solidFill>
                  <a:srgbClr val="cc3300"/>
                </a:solidFill>
                <a:latin typeface="Bookman Old Style"/>
              </a:rPr>
              <a:t>rhymes with han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4562640" cy="354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6680" y="6858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Bookman Old Style"/>
              </a:rPr>
              <a:t>Something Santa gives you that rhymes with l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352680" cy="358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457200"/>
            <a:ext cx="76201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Bookman Old Style"/>
              </a:rPr>
              <a:t> </a:t>
            </a:r>
            <a:r>
              <a:rPr b="1" lang="en-US" sz="4400" spc="-1" strike="noStrike">
                <a:solidFill>
                  <a:srgbClr val="cc3300"/>
                </a:solidFill>
                <a:latin typeface="Bookman Old Style"/>
              </a:rPr>
              <a:t>Something Santa drives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Bookman Old Style"/>
              </a:rPr>
              <a:t>    </a:t>
            </a:r>
            <a:r>
              <a:rPr b="1" lang="en-US" sz="4400" spc="-1" strike="noStrike">
                <a:solidFill>
                  <a:srgbClr val="cc3300"/>
                </a:solidFill>
                <a:latin typeface="Bookman Old Style"/>
              </a:rPr>
              <a:t>that drives with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944" t="18869" r="0" b="5660"/>
          <a:stretch/>
        </p:blipFill>
        <p:spPr>
          <a:xfrm>
            <a:off x="3581280" y="2819520"/>
            <a:ext cx="50292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533520"/>
            <a:ext cx="807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Bookman Old Style"/>
              </a:rPr>
              <a:t>Something people sing at Christmas that rhymes     with barr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6544"/>
          <a:stretch/>
        </p:blipFill>
        <p:spPr>
          <a:xfrm>
            <a:off x="3886200" y="3048120"/>
            <a:ext cx="4952880" cy="358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43000" y="137160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6858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Bookman Old Style"/>
              </a:rPr>
              <a:t>A Christmas ornament that rhymes with lo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938760" cy="32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38080" y="91440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Bookman Old Style"/>
              </a:rPr>
              <a:t>Something you hang by the fireplace that rhymes   with ro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80988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457200"/>
            <a:ext cx="7772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Bookman Old Style"/>
              </a:rPr>
              <a:t> </a:t>
            </a:r>
            <a:r>
              <a:rPr b="1" lang="en-US" sz="4400" spc="-1" strike="noStrike">
                <a:solidFill>
                  <a:srgbClr val="cc3300"/>
                </a:solidFill>
                <a:latin typeface="Bookman Old Style"/>
              </a:rPr>
              <a:t>Something sweet that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Bookman Old Style"/>
              </a:rPr>
              <a:t>      </a:t>
            </a:r>
            <a:r>
              <a:rPr b="1" lang="en-US" sz="4400" spc="-1" strike="noStrike">
                <a:solidFill>
                  <a:srgbClr val="cc3300"/>
                </a:solidFill>
                <a:latin typeface="Bookman Old Style"/>
              </a:rPr>
              <a:t>rhymes with 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297180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12120" y="457200"/>
            <a:ext cx="8678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gallery.yopriceville.com/Free-Clipart-Pictures/Christmas-PNG/Christmas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andle_Clipart#.WkaIk7h1h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://www.ivgeo.net/wp-content/uploads/2009/12/christmas_gift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://static.turbosquid.com/Preview/2014/07/10__15_03_53/thumbnai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ng229313be-2a81-44a0-a863-46f4a026f9ecOrigina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s://comps.canstockphoto.com/multicultural-kids-wearing-xmas-hat-vector-clip-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csp4952391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s://pixabay.com/p-1841718/?no_re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s://gallery.yopriceville.com/Free-Clipart-Pictures/Christmas-PNG/Red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hristmas_Stocking_Transparent_PNG_Clip_Art_Image#.WkaPfLh1h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s://images.freeimages.com/images/preview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f04/christmas-elements-candy-144296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Игорь</cp:lastModifiedBy>
  <dcterms:modified xsi:type="dcterms:W3CDTF">2017-12-29T19:06:03Z</dcterms:modified>
  <cp:revision>9</cp:revision>
  <dc:subject/>
  <dc:title>Slide 1</dc:title>
</cp:coreProperties>
</file>