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8.png" ContentType="image/png"/>
  <Override PartName="/ppt/media/image29.jpeg" ContentType="image/jpeg"/>
  <Override PartName="/ppt/media/image12.jpeg" ContentType="image/jpeg"/>
  <Override PartName="/ppt/media/image37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D4B-77EA-42B7-8862-466F04A8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DB7-2781-4723-80FB-5B116297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7EB-F2A1-49BF-845F-A2E95D48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239-F5EA-4155-BCD2-826DF025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AFC-0B0D-410F-89F1-94D51D71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D0B-BE96-4E22-909E-6082837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F66-B0C9-4EFA-8373-7BC072BB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36D8-1E2B-4B5E-AAEB-7EB386E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9E7-4804-4EC8-991D-076E352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DF7D-DFDE-44DA-B108-C10F002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B218-A6C3-4392-A2D0-A2AD6AD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A74-6C5B-4FF3-8450-245F2EB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738-1A3B-4C7C-A50E-31B7887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3DB1-9D50-471F-A07F-4C06EEF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064C-F533-44BC-B9C0-651D646F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F68D-7070-4309-8F5C-9F4EB845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0F4-EBB8-48A7-8275-387FE524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97C-2EF9-46AE-A6E4-1CB8715B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78B-4C5C-4D14-84AB-12CE652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2B4-6B9C-4F15-B637-7C7BA271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C3A-90C9-457F-95F2-A955E09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750-3334-4050-A346-AF1BCD3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F39-CD3A-488F-AA5E-43FB456E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4A3-6AC4-4BA4-9A7A-169CF8E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6946-7B99-4DAB-B0C4-DA48522948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37F-F7DF-433D-A7F4-E1B172FBA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Пазл Ravensburger &quot;Животные Африки&quot;, 200 эл. Mix toys Идеальная це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038480" y="-228600"/>
            <a:ext cx="43578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Хто це? Що це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-17640"/>
            <a:ext cx="7391520" cy="6875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368360" cy="143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5686560" y="5715000"/>
            <a:ext cx="345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інікова паль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989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181560" y="5257800"/>
            <a:ext cx="296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иця фен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553080" y="228600"/>
            <a:ext cx="23907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стелі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Пустыня Намиб / Новости / КазГео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699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3520" y="152280"/>
            <a:ext cx="5105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урфірма "Намі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Sunland Baobab - A Bar Inside a Hollowed Out Tree Amusing Planet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775640" y="541800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7010280" y="5334120"/>
            <a:ext cx="1791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обаб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Проблема биологической целесообразности"/>
          <p:cNvPicPr/>
          <p:nvPr/>
        </p:nvPicPr>
        <p:blipFill>
          <a:blip r:embed="rId1"/>
          <a:stretch/>
        </p:blipFill>
        <p:spPr>
          <a:xfrm>
            <a:off x="1523880" y="1781280"/>
            <a:ext cx="7620120" cy="507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Hello from Toronto! - sSNAKESs : Reptile Forum"/>
          <p:cNvPicPr/>
          <p:nvPr/>
        </p:nvPicPr>
        <p:blipFill>
          <a:blip r:embed="rId2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6210360" y="609480"/>
            <a:ext cx="293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-секретар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6920" cy="5334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Слоновья трава заменит уголь - Нефть - сколько осталось. - У…"/>
          <p:cNvPicPr/>
          <p:nvPr/>
        </p:nvPicPr>
        <p:blipFill>
          <a:blip r:embed="rId2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5257800" y="914400"/>
            <a:ext cx="362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ова тра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775640" y="541800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7591320" y="5715000"/>
            <a:ext cx="15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соріг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7086600" y="304920"/>
            <a:ext cx="18763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вана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Blog Attachments Фото Альб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9320" y="-228600"/>
            <a:ext cx="5638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фірма "Конг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кофе Записи с меткой кофе Слезы нежности на ланитах рассвета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934320" y="502920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867280" y="548640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вове дерев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Красивый Жук-голиаф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10280" y="525780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6477120" y="5638680"/>
            <a:ext cx="2305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ук голі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africa"/>
          <p:cNvPicPr/>
          <p:nvPr/>
        </p:nvPicPr>
        <p:blipFill>
          <a:blip r:embed="rId1"/>
          <a:stretch/>
        </p:blipFill>
        <p:spPr>
          <a:xfrm>
            <a:off x="0" y="333360"/>
            <a:ext cx="6070680" cy="6524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038480" y="609480"/>
            <a:ext cx="4953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рфірма  "Гепарди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324480" y="4648320"/>
            <a:ext cx="175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ап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у меня глубокая нехватка познаний ботаники.в общем просьба:н…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6172200" y="4648320"/>
            <a:ext cx="1695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і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33920" y="457200"/>
            <a:ext cx="54100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огі екваторіальні ліс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Дуб хермесовый molbiol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876920" y="5029200"/>
            <a:ext cx="356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ічнозелені дуб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019920" y="464832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омнатные растения"/>
          <p:cNvPicPr/>
          <p:nvPr/>
        </p:nvPicPr>
        <p:blipFill>
          <a:blip r:embed="rId1"/>
          <a:stretch/>
        </p:blipFill>
        <p:spPr>
          <a:xfrm>
            <a:off x="1523880" y="0"/>
            <a:ext cx="557532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305320" y="4724280"/>
            <a:ext cx="38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икова пальм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Словарь охотника. С-Я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37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6553080" y="4572000"/>
            <a:ext cx="1390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к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бан-бородавочник &quot; Дикий портал"/>
          <p:cNvPicPr/>
          <p:nvPr/>
        </p:nvPicPr>
        <p:blipFill>
          <a:blip r:embed="rId1"/>
          <a:stretch/>
        </p:blipFill>
        <p:spPr>
          <a:xfrm>
            <a:off x="771480" y="895320"/>
            <a:ext cx="7601040" cy="506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0" y="4572000"/>
            <a:ext cx="4314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бан-бородавоч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53080" y="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276720" y="22860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ічнозелені ліси й чагарник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9" descr="afrika8"/>
          <p:cNvPicPr/>
          <p:nvPr/>
        </p:nvPicPr>
        <p:blipFill>
          <a:blip r:embed="rId1"/>
          <a:stretch/>
        </p:blipFill>
        <p:spPr>
          <a:xfrm>
            <a:off x="152280" y="-30240"/>
            <a:ext cx="8763120" cy="6888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371600" y="1295280"/>
            <a:ext cx="70866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рфірма "Вікторія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440" y="2895480"/>
            <a:ext cx="6667560" cy="3962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629400" y="762120"/>
            <a:ext cx="20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ільвечі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-25560"/>
            <a:ext cx="7467480" cy="6883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368360" cy="144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553080" y="5486400"/>
            <a:ext cx="2057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іє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2T11:4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