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0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02A-9BBC-4D04-9E04-4E487F09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73E-A650-4FAE-B1D4-C5C24E0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BDD-76D3-4B2E-9251-F8BD1D5A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5C1-13DB-4525-9696-178C86A2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6820-91E8-4B5E-ACE2-09FE52C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027C-2CC0-46C1-9FFA-8C5D818B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809-CDFC-4336-AE39-60DF5A6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22E7-CCC0-44A3-AE30-F74BF69C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54A3-1CED-421F-BDD6-17FBB231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3BC1-4645-4CB1-A603-67B1291D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B954-3098-4BEA-B720-20295AC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174-6EBF-4519-908D-DCC38B1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24EC-1A75-4FBA-BD28-C3C8C8D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407-2724-4122-B1B4-1384BAD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5AA-061F-4AA9-BE66-4E2000F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EE69-F070-4E43-92DE-BFF69E30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8C8-AC9B-46BD-941C-DC8EEACC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2F6-3304-4E3A-870A-28D94010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A04-40CF-4E0F-93B2-0E6A41B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E38-224E-493D-A7AE-14B16A4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4E2-F985-4168-AA29-CE21155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DCD-6654-4F96-BABE-13B6877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EAE-9902-45BB-868C-79F154A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F43-D12E-47BD-A94B-951B41F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8820-6BFD-47B8-A292-B17007879E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45E-95C4-44FD-BCF9-D26CC6E466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13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6.xml"/><Relationship Id="rId7" Type="http://schemas.openxmlformats.org/officeDocument/2006/relationships/slide" Target="slide11.xml"/><Relationship Id="rId8" Type="http://schemas.openxmlformats.org/officeDocument/2006/relationships/slide" Target="slide20.xml"/><Relationship Id="rId9" Type="http://schemas.openxmlformats.org/officeDocument/2006/relationships/slide" Target="slide14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9.xml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africa"/>
          <p:cNvPicPr/>
          <p:nvPr/>
        </p:nvPicPr>
        <p:blipFill>
          <a:blip r:embed="rId1"/>
          <a:stretch/>
        </p:blipFill>
        <p:spPr>
          <a:xfrm>
            <a:off x="0" y="333360"/>
            <a:ext cx="6070680" cy="6524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Valle di Ledro: your holiday between Lake and Mountains in Trentino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Бюро индивидуальных путешествий Landmark VIP Services приглашает вас провести лето в Африке со скидкой до 35% - Акции и спецпред"/>
          <p:cNvPicPr/>
          <p:nvPr/>
        </p:nvPicPr>
        <p:blipFill>
          <a:blip r:embed="rId3"/>
          <a:stretch/>
        </p:blipFill>
        <p:spPr>
          <a:xfrm>
            <a:off x="5334120" y="3886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Туристический портал &quot;Место Встречи&quot;"/>
          <p:cNvPicPr/>
          <p:nvPr/>
        </p:nvPicPr>
        <p:blipFill>
          <a:blip r:embed="rId4"/>
          <a:stretch/>
        </p:blipFill>
        <p:spPr>
          <a:xfrm>
            <a:off x="6705720" y="2438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LandCHUCK.travel - America's largest gay owned travel company - AL and CHUCK Travel"/>
          <p:cNvPicPr/>
          <p:nvPr/>
        </p:nvPicPr>
        <p:blipFill>
          <a:blip r:embed="rId5"/>
          <a:stretch/>
        </p:blipFill>
        <p:spPr>
          <a:xfrm>
            <a:off x="5029200" y="1262160"/>
            <a:ext cx="2733840" cy="185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География 10"/>
          <p:cNvPicPr/>
          <p:nvPr/>
        </p:nvPicPr>
        <p:blipFill>
          <a:blip r:embed="rId6"/>
          <a:stretch/>
        </p:blipFill>
        <p:spPr>
          <a:xfrm>
            <a:off x="0" y="4876920"/>
            <a:ext cx="1487520" cy="1981080"/>
          </a:xfrm>
          <a:prstGeom prst="rect">
            <a:avLst/>
          </a:prstGeom>
          <a:ln w="28440">
            <a:solidFill>
              <a:srgbClr val="003b76"/>
            </a:solidFill>
            <a:miter/>
          </a:ln>
        </p:spPr>
      </p:pic>
      <p:pic>
        <p:nvPicPr>
          <p:cNvPr id="161" name="" descr="МК Спутник - информационная сеть / Спутник.Туризм"/>
          <p:cNvPicPr/>
          <p:nvPr/>
        </p:nvPicPr>
        <p:blipFill>
          <a:blip r:embed="rId7"/>
          <a:srcRect l="3307" t="0" r="5197" b="0"/>
          <a:stretch/>
        </p:blipFill>
        <p:spPr>
          <a:xfrm>
            <a:off x="7232760" y="5257800"/>
            <a:ext cx="1952640" cy="1600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2" name="" descr="Жуткии традиции Массаи &quot; Позитивный журнал приколов - Самое смешное и шокирующее в сети"/>
          <p:cNvPicPr/>
          <p:nvPr/>
        </p:nvPicPr>
        <p:blipFill>
          <a:blip r:embed="rId8"/>
          <a:stretch/>
        </p:blipFill>
        <p:spPr>
          <a:xfrm>
            <a:off x="1447920" y="3352680"/>
            <a:ext cx="1693800" cy="224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547640" y="0"/>
            <a:ext cx="6337440" cy="400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вколо</a:t>
            </a:r>
            <a:endParaRPr b="0" lang="en-US" sz="54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адкової </a:t>
            </a:r>
            <a:endParaRPr b="0" lang="en-US" sz="54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фрики</a:t>
            </a:r>
            <a:endParaRPr b="0" lang="en-US" sz="54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5228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cc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cc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- подоро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cc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197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Люди якого племені мають дуже низький зріст 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443700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пігмеї до 140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Фото, описание, быт, культура некоторых африканских племен.Много текста и фото. - на бэби.ру"/>
          <p:cNvPicPr/>
          <p:nvPr/>
        </p:nvPicPr>
        <p:blipFill>
          <a:blip r:embed="rId3"/>
          <a:stretch/>
        </p:blipFill>
        <p:spPr>
          <a:xfrm>
            <a:off x="1004760" y="3313080"/>
            <a:ext cx="37116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9280" y="119700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Мову якого племені можна чути, але не можливо записати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?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386064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буш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1549440" cy="165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Наука и техника. Страница 654 - Новостей.COM"/>
          <p:cNvPicPr/>
          <p:nvPr/>
        </p:nvPicPr>
        <p:blipFill>
          <a:blip r:embed="rId3"/>
          <a:stretch/>
        </p:blipFill>
        <p:spPr>
          <a:xfrm>
            <a:off x="468360" y="3141720"/>
            <a:ext cx="44020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91628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ий народ проживає в Сахарі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3933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Туаре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500480" cy="1603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280" y="1197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ою мовою розмовляють египтян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арабсько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338292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1197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ий народ надає велике значення зачіскам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36450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са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751040" cy="1871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60036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11970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а світова релігія поширена у більшості африканських країн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3645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христия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175104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11280" y="76500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Високорозвинена країна Африки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П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516720" y="3933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11280" y="318924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05264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Найбільш багатонаціональна країна Африки. За чисельністю населення посідає 1 місце серед африканських краї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92720" y="4437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Нігер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42480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476280"/>
            <a:ext cx="853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39640" y="549360"/>
            <a:ext cx="7619760" cy="3276360"/>
            <a:chOff x="539640" y="549360"/>
            <a:chExt cx="7619760" cy="327636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rcRect l="0" t="0" r="1394" b="0"/>
            <a:stretch/>
          </p:blipFill>
          <p:spPr>
            <a:xfrm>
              <a:off x="539640" y="834480"/>
              <a:ext cx="2928600" cy="29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 txBox="1"/>
            <p:nvPr/>
          </p:nvSpPr>
          <p:spPr>
            <a:xfrm>
              <a:off x="3598200" y="750960"/>
              <a:ext cx="1195920" cy="268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5231880" y="710280"/>
              <a:ext cx="2558880" cy="2755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6" name=""/>
            <p:cNvSpPr txBox="1"/>
            <p:nvPr/>
          </p:nvSpPr>
          <p:spPr>
            <a:xfrm>
              <a:off x="7937280" y="549360"/>
              <a:ext cx="222120" cy="71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,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643280" y="4365720"/>
            <a:ext cx="33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Сомал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5003640" y="422100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Прапор Сомалі"/>
          <p:cNvPicPr/>
          <p:nvPr/>
        </p:nvPicPr>
        <p:blipFill>
          <a:blip r:embed="rId7"/>
          <a:stretch/>
        </p:blipFill>
        <p:spPr>
          <a:xfrm>
            <a:off x="684360" y="4365720"/>
            <a:ext cx="324000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0920" y="333360"/>
            <a:ext cx="871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Чудова риба є суд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Та вам скажу  - тут щось не т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Одну лиш літеру міня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Країну африканську м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39337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Суд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Южный Судан прекращает добычу нефти"/>
          <p:cNvPicPr/>
          <p:nvPr/>
        </p:nvPicPr>
        <p:blipFill>
          <a:blip r:embed="rId3"/>
          <a:stretch/>
        </p:blipFill>
        <p:spPr>
          <a:xfrm>
            <a:off x="684360" y="4076640"/>
            <a:ext cx="3384360" cy="24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42920" y="2205000"/>
            <a:ext cx="705636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СВОЯ ГРА</a:t>
            </a:r>
            <a:endParaRPr b="0" lang="en-US" sz="96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43">
            <a:hlinkClick r:id="rId3"/>
          </p:cNvPr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84360" y="6206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156440" y="620640"/>
            <a:ext cx="1303200" cy="144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Rotating World Globe Map"/>
          <p:cNvPicPr/>
          <p:nvPr/>
        </p:nvPicPr>
        <p:blipFill>
          <a:blip r:embed="rId6"/>
          <a:stretch/>
        </p:blipFill>
        <p:spPr>
          <a:xfrm>
            <a:off x="3419640" y="3500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276720" y="907920"/>
            <a:ext cx="280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кур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333360"/>
            <a:ext cx="88930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На карті лінія позначе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Але я знову схитрува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Не “Н” тут буква “В” призначе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Щоб ти країну відгада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6720" y="3933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Лівія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800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Прапор Лівії"/>
          <p:cNvPicPr/>
          <p:nvPr/>
        </p:nvPicPr>
        <p:blipFill>
          <a:blip r:embed="rId3"/>
          <a:stretch/>
        </p:blipFill>
        <p:spPr>
          <a:xfrm>
            <a:off x="611280" y="4149720"/>
            <a:ext cx="417672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0920" y="105264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Verdana"/>
              </a:rPr>
              <a:t>Про яку африканську країну давньогрецький учений Геродот говорив, що вона є даром річки</a:t>
            </a:r>
            <a:r>
              <a:rPr b="1" lang="ru-RU" sz="4000" spc="-1" strike="noStrike">
                <a:solidFill>
                  <a:srgbClr val="ffff99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393372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Егип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ЗЛЫЕ КРОКОДИЛЫ и ДОБРЫЕ ФАРАОНЫ. Поездка в Египет 10 - 17 января 2009 года - Страница 7"/>
          <p:cNvPicPr/>
          <p:nvPr/>
        </p:nvPicPr>
        <p:blipFill>
          <a:blip r:embed="rId3"/>
          <a:stretch/>
        </p:blipFill>
        <p:spPr>
          <a:xfrm>
            <a:off x="468360" y="350028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1125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До складу якого давнього материка входила Африка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3357720"/>
            <a:ext cx="38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Гондвана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326200" y="3789360"/>
            <a:ext cx="15494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95280" y="105264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Місця в Сахарі з багатою рослинніст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8720" y="429264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Оазиси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1366560" cy="1460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Все картинки - 128x160, 176x220, 240x320, аватары"/>
          <p:cNvPicPr/>
          <p:nvPr/>
        </p:nvPicPr>
        <p:blipFill>
          <a:blip r:embed="rId3"/>
          <a:stretch/>
        </p:blipFill>
        <p:spPr>
          <a:xfrm>
            <a:off x="1835280" y="2492280"/>
            <a:ext cx="275256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11280" y="549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а штучна водна протока відокремлює Африку від Азії 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Суєцький кан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1549440" cy="16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1263989256_sa22"/>
          <p:cNvPicPr/>
          <p:nvPr/>
        </p:nvPicPr>
        <p:blipFill>
          <a:blip r:embed="rId3"/>
          <a:stretch/>
        </p:blipFill>
        <p:spPr>
          <a:xfrm>
            <a:off x="900000" y="2997360"/>
            <a:ext cx="417348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42920" y="1125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 називається зона вологих екваторіальних лісів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393372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гіл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Лес, деревья, зелень - фото обои для рабочего стола компьютера #262"/>
          <p:cNvPicPr/>
          <p:nvPr/>
        </p:nvPicPr>
        <p:blipFill>
          <a:blip r:embed="rId3"/>
          <a:stretch/>
        </p:blipFill>
        <p:spPr>
          <a:xfrm>
            <a:off x="1042920" y="3213000"/>
            <a:ext cx="3984840" cy="29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26920" y="907920"/>
            <a:ext cx="853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Чому в Північній Африці пасати приносять сухе повітря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Дмуть з Євразі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Читать онлайн - Зигфрид Ауст. Погода Электронная библиотека e-libra.ru"/>
          <p:cNvPicPr/>
          <p:nvPr/>
        </p:nvPicPr>
        <p:blipFill>
          <a:blip r:embed="rId3"/>
          <a:stretch/>
        </p:blipFill>
        <p:spPr>
          <a:xfrm>
            <a:off x="539640" y="3141720"/>
            <a:ext cx="383076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003640" y="3933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Нгоронгоро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Музей человечества"/>
          <p:cNvPicPr/>
          <p:nvPr/>
        </p:nvPicPr>
        <p:blipFill>
          <a:blip r:embed="rId3"/>
          <a:stretch/>
        </p:blipFill>
        <p:spPr>
          <a:xfrm>
            <a:off x="5076720" y="260280"/>
            <a:ext cx="3810240" cy="2538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Эдем на дне кратера. Обсуждение на LiveInternet - Российский…"/>
          <p:cNvPicPr/>
          <p:nvPr/>
        </p:nvPicPr>
        <p:blipFill>
          <a:blip r:embed="rId4"/>
          <a:stretch/>
        </p:blipFill>
        <p:spPr>
          <a:xfrm>
            <a:off x="539640" y="3141720"/>
            <a:ext cx="4356360" cy="2819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5280" y="191628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Біосферний заповідник у кратері згаслого вулка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2627280" y="981000"/>
            <a:ext cx="86508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49360"/>
            <a:ext cx="2160360" cy="129528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276640"/>
            <a:ext cx="2160360" cy="12236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Населе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789360"/>
            <a:ext cx="2160360" cy="12240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5300640"/>
            <a:ext cx="2160720" cy="12240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екр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692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Внутрішні 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3635280" y="981000"/>
            <a:ext cx="86544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4716360" y="981000"/>
            <a:ext cx="86364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5796000" y="981000"/>
            <a:ext cx="93672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5" action="ppaction://hlinksldjump"/>
          </p:cNvPr>
          <p:cNvSpPr/>
          <p:nvPr/>
        </p:nvSpPr>
        <p:spPr>
          <a:xfrm>
            <a:off x="6948360" y="981000"/>
            <a:ext cx="93672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5373720"/>
            <a:ext cx="865080" cy="86508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5373720"/>
            <a:ext cx="863640" cy="8636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373720"/>
            <a:ext cx="936720" cy="8636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373720"/>
            <a:ext cx="936720" cy="8618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373720"/>
            <a:ext cx="1008360" cy="8636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2484360" y="3716280"/>
            <a:ext cx="100800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3564000" y="2492280"/>
            <a:ext cx="93672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3716280"/>
            <a:ext cx="93672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3716280"/>
            <a:ext cx="93672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8" action="ppaction://hlinksldjump"/>
          </p:cNvPr>
          <p:cNvSpPr/>
          <p:nvPr/>
        </p:nvSpPr>
        <p:spPr>
          <a:xfrm>
            <a:off x="6948360" y="3716280"/>
            <a:ext cx="100836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rId9" action="ppaction://hlinksldjump"/>
          </p:cNvPr>
          <p:cNvSpPr/>
          <p:nvPr/>
        </p:nvSpPr>
        <p:spPr>
          <a:xfrm>
            <a:off x="6948360" y="2492280"/>
            <a:ext cx="100656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10" action="ppaction://hlinksldjump"/>
          </p:cNvPr>
          <p:cNvSpPr/>
          <p:nvPr/>
        </p:nvSpPr>
        <p:spPr>
          <a:xfrm>
            <a:off x="5724360" y="2492280"/>
            <a:ext cx="100836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11" action="ppaction://hlinksldjump"/>
          </p:cNvPr>
          <p:cNvSpPr/>
          <p:nvPr/>
        </p:nvSpPr>
        <p:spPr>
          <a:xfrm>
            <a:off x="4643280" y="2492280"/>
            <a:ext cx="93672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3716280"/>
            <a:ext cx="93672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12" action="ppaction://hlinksldjump"/>
          </p:cNvPr>
          <p:cNvSpPr/>
          <p:nvPr/>
        </p:nvSpPr>
        <p:spPr>
          <a:xfrm>
            <a:off x="2484360" y="2492280"/>
            <a:ext cx="100800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5373720"/>
            <a:ext cx="1042920" cy="8636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07280" y="3716280"/>
            <a:ext cx="936720" cy="93672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13" action="ppaction://hlinksldjump"/>
          </p:cNvPr>
          <p:cNvSpPr/>
          <p:nvPr/>
        </p:nvSpPr>
        <p:spPr>
          <a:xfrm>
            <a:off x="8137440" y="2492280"/>
            <a:ext cx="100656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14" action="ppaction://hlinksldjump"/>
          </p:cNvPr>
          <p:cNvSpPr/>
          <p:nvPr/>
        </p:nvSpPr>
        <p:spPr>
          <a:xfrm>
            <a:off x="8028000" y="981000"/>
            <a:ext cx="936720" cy="86544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0920" y="1413000"/>
            <a:ext cx="85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е озеро Африки є повноводним лише тоді, коли на річці, яка в нього впадає, повінь</a:t>
            </a: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         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443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Ч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331308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1413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До басейну якого океану належить річка Замбезі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4437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Індійсь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4000" y="2349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Найдовше прісноводне озеро не тільки в Африці, але й світу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4869000"/>
            <a:ext cx="33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Танганьї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65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01744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836640"/>
            <a:ext cx="8532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Літеру залишу “Я”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Буде дівчинки ім</a:t>
            </a: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’</a:t>
            </a: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А коли на “А” міня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Назву озера вже м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407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Та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3313080" cy="18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5280" y="1268280"/>
            <a:ext cx="85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Африканська річка, прославлена творчістю письменника К. Чуковськог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Лімпоп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84720" y="4365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51928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1268280"/>
            <a:ext cx="8532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Comic Sans MS"/>
              </a:rPr>
              <a:t>Як називають сухі річища річок у Сахарі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9933"/>
                </a:solidFill>
                <a:latin typeface="Arial"/>
              </a:rPr>
              <a:t>Вад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436572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324180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User</cp:lastModifiedBy>
  <dcterms:modified xsi:type="dcterms:W3CDTF">2018-01-08T19:22:09Z</dcterms:modified>
  <cp:revision>33</cp:revision>
  <dc:subject/>
  <dc:title>Слайд 1</dc:title>
</cp:coreProperties>
</file>