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MS900097485%5B1%5D.wav" ContentType="audio/x-wav"/>
  <Override PartName="/ppt/media/image2.png" ContentType="image/png"/>
  <Override PartName="/ppt/media/image2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1BDF-5987-4661-98B1-793BDF7E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26A2-B634-4A46-85FC-A08B8EEE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79CE-917C-4446-99F0-E6CEAF69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AB81-E0BC-40FF-AB59-192A8F53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55B8-D043-4DFB-B003-59925A69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DD71-5F1D-4AA9-A16C-334CA74C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EEA1-138C-4BE1-AC88-A2912D08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4BB1-A249-45EC-AD18-13941A46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839C-5D02-4DF1-84BD-B2801778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2809-E952-4781-AE6D-A07DE059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CBBD-23BF-4839-9F11-D9CC66E2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A531-526F-4E9B-BC33-1C28B288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5301-96BC-4E64-87F8-73D1A707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0A27-3DCB-47E7-B15C-46C910C3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CE05-AF9A-4096-B45D-25E7D94C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9C78-0236-4083-9C1C-EB099E1D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987E-148F-41D1-ACA9-058E4454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FBE08-E37C-484B-9CD1-B2986024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DD54F-6C13-4B8B-AF4B-DCE0646D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13BB9-1A7D-4044-8AEB-5522D87E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81EF5-2E44-45C4-B710-355321C8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5596A-E020-4AF3-83D3-19EECB35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2694-D79A-424E-A9F5-0FB3C31F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8A91E-4119-4876-AE9B-70635CD9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1990D-EA85-419E-8685-64F1C0E8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8F0A3-C8FF-4306-96B7-BBA08929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392AC-4D86-4C8B-A33A-5A02039C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3DF06-F021-45F3-93C8-D76B2F3B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82187-B29D-4E24-B5C5-8950C4F1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16DF3-BC59-4AC5-84D1-260D9FBC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0A6B4-07FC-4E95-B253-A340AE0B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DE134-CFB0-4ABA-B1C7-FF8B4843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4BACB-BB7F-41F7-8247-734907BB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F6CA-19EE-4FBA-9440-5CADB697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FDA45-BAE6-40C7-8E2D-487C5192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CD680-BE41-4E63-B05B-7C77C701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173D4-FB83-458C-AE06-FDFABF1B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B1CEE-FA37-4FA4-8BDD-5C14F77E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3010E-8A2E-47DB-BF9C-CF40A82A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D481B-4389-4EA4-9519-F4304F30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BD9E8-7A98-4325-A005-C399A704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3EE73-EAA3-4E26-AD68-464EFEC9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054DD-96A5-41B6-B065-91967F3B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667D6-57CE-4273-B5AB-323DD539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55A1-D23F-499A-8C72-A7D2F509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21677-35E1-474B-B484-0E4AA22A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D6566-2DBB-482B-A4C6-2860A324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A8E83-4862-43CC-B81B-934EE283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93884-8A75-46BE-A3FE-4FA8B2C6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E31DD-B9C9-441A-B387-A818809D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2D3BE-8983-4A5C-A07C-0C6D9C1B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DB292-26FD-4D77-8709-59E9739A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B3F4C-BFC3-46FA-A2AA-7F2C6A75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FF13D-724F-4D89-8219-11C6E7AF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98EBE-5984-45A1-B2EB-5CBD1B44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039A-08E4-42DD-94BC-7C8FCAA1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C5B2F-601C-4C88-A5A7-024FFAAA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91EC7-9BB0-45ED-9958-964D8BDB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DE815-3243-42B4-A1CC-5424CF7B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CD6D9-B934-4412-A2C4-3A313C9B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4E665-A4EF-4011-A1CB-1C8A23D1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21529-EC43-425E-8747-087D1167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AF386-6911-44BA-B630-2B59B0D9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65487-E27D-4C43-9888-A7B135C4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B0820-1C32-44E2-B227-895E06B1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53108-A524-4383-991A-6C82858B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5181-02B9-4ED3-83A7-869698D9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A008F-BEE2-4139-92E5-211B235A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B6ADF-92C2-43A4-87B9-96550593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6FBEE-40C8-4E88-B866-463A1FD5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EA41D-0F97-496F-9EEB-2E2466A2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9D733-EFDB-4350-8E35-86B4B9F1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E69F1-A394-48FB-95DA-17A04128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385E7-3691-42D1-B08F-DFBFBF47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8ACDD-D236-4622-9C23-614A31E5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5BC3D-7A8A-4AD1-8E3C-6B26ED54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BFA9D-637A-4472-9D12-0CE77469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2163-2951-4175-B803-8B6254E9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6E747-2A41-4A4E-A71E-993046E7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0FB02-C236-42E9-BDDF-18DD4048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D4BBB-0AA2-41CA-9A39-CD81EE40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14D3B-73A1-48C6-8733-A5020DCF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F3E16-C7BD-4D56-ACDC-CD2B2B8B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47D2A-8864-4157-84B2-F72BE29D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48AAB-734E-42E8-B4EF-6B383694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978ED-6458-422A-84DF-B1A560C7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56BCE-5EF7-4580-B32F-9CF75DE3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1C857-2B12-4596-9AB7-AA5E8C12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F2E6-FC61-4B92-BF00-A0E666C4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3C746-4AF1-44EC-ADDD-C14E1D49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94B57-1DFC-46F7-ACAF-521FD560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CF913-2ADD-46B8-B8F5-0E6825F9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BA24A-0680-4DE8-A991-222371BB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2A500-90C9-403D-8160-5475CF76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2D36A-0445-4549-9863-5B86A2EC3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E8936-81D0-4519-9669-F0CAB0A2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3D71-2D90-4A5F-8789-F32B4A807DC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B24A-BA89-4E72-AC03-A3174633DEC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99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17E6-3BD6-4E22-912F-26B68DA7320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C95B-7E2F-4A92-A83C-72C11004C84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3FDC-50BE-4F29-9A34-50292C6266D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D1E1-CEB2-4079-A6C1-447D8F7665F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69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E6C5-E498-49A4-98BF-6C35DBEFA55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15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316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319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61B5-A213-48B1-A60C-7F9C3A5EBC1C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audio" Target="../media/MS900097485%5B1%5D.wav"/><Relationship Id="rId12" Type="http://schemas.openxmlformats.org/officeDocument/2006/relationships/audio" Target="../media/MS900097485%5B1%5D.wav"/><Relationship Id="rId13" Type="http://schemas.openxmlformats.org/officeDocument/2006/relationships/audio" Target="../media/MS900097485%5B1%5D.wav"/><Relationship Id="rId14" Type="http://schemas.openxmlformats.org/officeDocument/2006/relationships/audio" Target="../media/MS900097485%5B1%5D.wav"/><Relationship Id="rId15" Type="http://schemas.openxmlformats.org/officeDocument/2006/relationships/audio" Target="../media/MS900097485%5B1%5D.wav"/><Relationship Id="rId16" Type="http://schemas.openxmlformats.org/officeDocument/2006/relationships/audio" Target="../media/MS900097485%5B1%5D.wav"/><Relationship Id="rId1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audio" Target="../media/MS900097485%5B1%5D.wav"/><Relationship Id="rId12" Type="http://schemas.openxmlformats.org/officeDocument/2006/relationships/audio" Target="../media/MS900097485%5B1%5D.wav"/><Relationship Id="rId13" Type="http://schemas.openxmlformats.org/officeDocument/2006/relationships/audio" Target="../media/MS900097485%5B1%5D.wav"/><Relationship Id="rId14" Type="http://schemas.openxmlformats.org/officeDocument/2006/relationships/audio" Target="../media/MS900097485%5B1%5D.wav"/><Relationship Id="rId15" Type="http://schemas.openxmlformats.org/officeDocument/2006/relationships/audio" Target="../media/MS900097485%5B1%5D.wav"/><Relationship Id="rId16" Type="http://schemas.openxmlformats.org/officeDocument/2006/relationships/audio" Target="../media/MS900097485%5B1%5D.wav"/><Relationship Id="rId1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audio" Target="../media/MS900097485%5B1%5D.wav"/><Relationship Id="rId12" Type="http://schemas.openxmlformats.org/officeDocument/2006/relationships/audio" Target="../media/MS900097485%5B1%5D.wav"/><Relationship Id="rId13" Type="http://schemas.openxmlformats.org/officeDocument/2006/relationships/audio" Target="../media/MS900097485%5B1%5D.wav"/><Relationship Id="rId14" Type="http://schemas.openxmlformats.org/officeDocument/2006/relationships/audio" Target="../media/MS900097485%5B1%5D.wav"/><Relationship Id="rId15" Type="http://schemas.openxmlformats.org/officeDocument/2006/relationships/audio" Target="../media/MS900097485%5B1%5D.wav"/><Relationship Id="rId16" Type="http://schemas.openxmlformats.org/officeDocument/2006/relationships/audio" Target="../media/MS900097485%5B1%5D.wav"/><Relationship Id="rId1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audio" Target="../media/MS900097485%5B1%5D.wav"/><Relationship Id="rId12" Type="http://schemas.openxmlformats.org/officeDocument/2006/relationships/audio" Target="../media/MS900097485%5B1%5D.wav"/><Relationship Id="rId13" Type="http://schemas.openxmlformats.org/officeDocument/2006/relationships/audio" Target="../media/MS900097485%5B1%5D.wav"/><Relationship Id="rId14" Type="http://schemas.openxmlformats.org/officeDocument/2006/relationships/audio" Target="../media/MS900097485%5B1%5D.wav"/><Relationship Id="rId15" Type="http://schemas.openxmlformats.org/officeDocument/2006/relationships/audio" Target="../media/MS900097485%5B1%5D.wav"/><Relationship Id="rId16" Type="http://schemas.openxmlformats.org/officeDocument/2006/relationships/audio" Target="../media/MS900097485%5B1%5D.wav"/><Relationship Id="rId1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audio" Target="../media/MS900097485%5B1%5D.wav"/><Relationship Id="rId12" Type="http://schemas.openxmlformats.org/officeDocument/2006/relationships/audio" Target="../media/MS900097485%5B1%5D.wav"/><Relationship Id="rId13" Type="http://schemas.openxmlformats.org/officeDocument/2006/relationships/audio" Target="../media/MS900097485%5B1%5D.wav"/><Relationship Id="rId14" Type="http://schemas.openxmlformats.org/officeDocument/2006/relationships/audio" Target="../media/MS900097485%5B1%5D.wav"/><Relationship Id="rId15" Type="http://schemas.openxmlformats.org/officeDocument/2006/relationships/audio" Target="../media/MS900097485%5B1%5D.wav"/><Relationship Id="rId16" Type="http://schemas.openxmlformats.org/officeDocument/2006/relationships/audio" Target="../media/MS900097485%5B1%5D.wav"/><Relationship Id="rId1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audio" Target="../media/MS900097485%5B1%5D.wav"/><Relationship Id="rId12" Type="http://schemas.openxmlformats.org/officeDocument/2006/relationships/audio" Target="../media/MS900097485%5B1%5D.wav"/><Relationship Id="rId13" Type="http://schemas.openxmlformats.org/officeDocument/2006/relationships/audio" Target="../media/MS900097485%5B1%5D.wav"/><Relationship Id="rId14" Type="http://schemas.openxmlformats.org/officeDocument/2006/relationships/audio" Target="../media/MS900097485%5B1%5D.wav"/><Relationship Id="rId15" Type="http://schemas.openxmlformats.org/officeDocument/2006/relationships/audio" Target="../media/MS900097485%5B1%5D.wav"/><Relationship Id="rId16" Type="http://schemas.openxmlformats.org/officeDocument/2006/relationships/audio" Target="../media/MS900097485%5B1%5D.wav"/><Relationship Id="rId1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2"/>
          <p:cNvSpPr/>
          <p:nvPr/>
        </p:nvSpPr>
        <p:spPr>
          <a:xfrm>
            <a:off x="826920" y="189000"/>
            <a:ext cx="83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расноградський багатопрофільний ліц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расноградської районної державної адміністрац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Харківської обла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917640" y="5443560"/>
            <a:ext cx="75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закласний захід з математики для учнів 7-9-х клас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Підготувала: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Кізіченко Людмила Іванівна,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читель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9" descr=""/>
          <p:cNvPicPr/>
          <p:nvPr/>
        </p:nvPicPr>
        <p:blipFill>
          <a:blip r:embed="rId1"/>
          <a:srcRect l="7571" t="10478" r="12760" b="11123"/>
          <a:stretch/>
        </p:blipFill>
        <p:spPr>
          <a:xfrm>
            <a:off x="2332080" y="1781280"/>
            <a:ext cx="474516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Box 1"/>
          <p:cNvSpPr/>
          <p:nvPr/>
        </p:nvSpPr>
        <p:spPr>
          <a:xfrm>
            <a:off x="755640" y="170028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1908000" y="260280"/>
            <a:ext cx="6912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1. НАЗВА АРИФМЕТИЧНОЇ Д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1835280" y="1484280"/>
            <a:ext cx="6696000" cy="504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3"/>
          <p:cNvSpPr/>
          <p:nvPr/>
        </p:nvSpPr>
        <p:spPr>
          <a:xfrm>
            <a:off x="1835280" y="1484280"/>
            <a:ext cx="6696000" cy="720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давання                                    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6"/>
          <p:cNvSpPr/>
          <p:nvPr/>
        </p:nvSpPr>
        <p:spPr>
          <a:xfrm>
            <a:off x="1835280" y="2421000"/>
            <a:ext cx="6696000" cy="720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ноження                                   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7"/>
          <p:cNvSpPr/>
          <p:nvPr/>
        </p:nvSpPr>
        <p:spPr>
          <a:xfrm>
            <a:off x="1835280" y="3357720"/>
            <a:ext cx="6696000" cy="720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люс                                              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8"/>
          <p:cNvSpPr/>
          <p:nvPr/>
        </p:nvSpPr>
        <p:spPr>
          <a:xfrm>
            <a:off x="1835280" y="4221000"/>
            <a:ext cx="6697440" cy="720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ілення                                       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9"/>
          <p:cNvSpPr/>
          <p:nvPr/>
        </p:nvSpPr>
        <p:spPr>
          <a:xfrm>
            <a:off x="1835280" y="5084640"/>
            <a:ext cx="6696000" cy="720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інус                                     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20"/>
          <p:cNvSpPr/>
          <p:nvPr/>
        </p:nvSpPr>
        <p:spPr>
          <a:xfrm>
            <a:off x="1835280" y="5950080"/>
            <a:ext cx="6696000" cy="720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іднімання                                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21" descr=""/>
          <p:cNvPicPr/>
          <p:nvPr/>
        </p:nvPicPr>
        <p:blipFill>
          <a:blip r:embed="rId1"/>
          <a:srcRect l="19145" t="22330" r="13923" b="11718"/>
          <a:stretch/>
        </p:blipFill>
        <p:spPr>
          <a:xfrm>
            <a:off x="331920" y="6235560"/>
            <a:ext cx="658800" cy="6224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22" descr=""/>
          <p:cNvPicPr/>
          <p:nvPr/>
        </p:nvPicPr>
        <p:blipFill>
          <a:blip r:embed="rId2"/>
          <a:stretch/>
        </p:blipFill>
        <p:spPr>
          <a:xfrm>
            <a:off x="577800" y="6210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9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590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1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602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7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608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3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614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7" dur="1942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Box 1"/>
          <p:cNvSpPr/>
          <p:nvPr/>
        </p:nvSpPr>
        <p:spPr>
          <a:xfrm>
            <a:off x="755640" y="170028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1908000" y="260280"/>
            <a:ext cx="6912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2. ЯКІ БУВАЮТЬ КУТИ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1835280" y="1484280"/>
            <a:ext cx="6696000" cy="504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1835280" y="1484280"/>
            <a:ext cx="6696000" cy="720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Times New Roman"/>
              </a:rPr>
              <a:t>Прямі                                          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6"/>
          <p:cNvSpPr/>
          <p:nvPr/>
        </p:nvSpPr>
        <p:spPr>
          <a:xfrm>
            <a:off x="1835280" y="2421000"/>
            <a:ext cx="669600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Times New Roman"/>
              </a:rPr>
              <a:t>Гострі</a:t>
            </a:r>
            <a:r>
              <a:rPr b="1" lang="ru-RU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c1c1c"/>
                </a:solidFill>
                <a:latin typeface="Times New Roman"/>
              </a:rPr>
              <a:t>    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7"/>
          <p:cNvSpPr/>
          <p:nvPr/>
        </p:nvSpPr>
        <p:spPr>
          <a:xfrm>
            <a:off x="1835280" y="3357720"/>
            <a:ext cx="669600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Times New Roman"/>
              </a:rPr>
              <a:t>Тупі                                              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8"/>
          <p:cNvSpPr/>
          <p:nvPr/>
        </p:nvSpPr>
        <p:spPr>
          <a:xfrm>
            <a:off x="1835280" y="4221000"/>
            <a:ext cx="669744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Times New Roman"/>
              </a:rPr>
              <a:t>Вертикальні                           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"/>
          <p:cNvSpPr/>
          <p:nvPr/>
        </p:nvSpPr>
        <p:spPr>
          <a:xfrm>
            <a:off x="1835280" y="5084640"/>
            <a:ext cx="669600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Times New Roman"/>
              </a:rPr>
              <a:t>Різні                                             9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0"/>
          <p:cNvSpPr/>
          <p:nvPr/>
        </p:nvSpPr>
        <p:spPr>
          <a:xfrm>
            <a:off x="1835280" y="5950080"/>
            <a:ext cx="669600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Times New Roman"/>
              </a:rPr>
              <a:t>Заокруглені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ru-RU" sz="3200" spc="-1" strike="noStrike">
                <a:solidFill>
                  <a:srgbClr val="1c1c1c"/>
                </a:solidFill>
                <a:latin typeface="Times New Roman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1" descr=""/>
          <p:cNvPicPr/>
          <p:nvPr/>
        </p:nvPicPr>
        <p:blipFill>
          <a:blip r:embed="rId1"/>
          <a:srcRect l="19145" t="22330" r="13923" b="11718"/>
          <a:stretch/>
        </p:blipFill>
        <p:spPr>
          <a:xfrm>
            <a:off x="141120" y="6235560"/>
            <a:ext cx="659160" cy="6224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2" descr=""/>
          <p:cNvPicPr/>
          <p:nvPr/>
        </p:nvPicPr>
        <p:blipFill>
          <a:blip r:embed="rId2"/>
          <a:stretch/>
        </p:blipFill>
        <p:spPr>
          <a:xfrm>
            <a:off x="368280" y="6229440"/>
            <a:ext cx="29520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620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5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626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1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632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638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3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644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5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656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9" dur="1942" fill="hold"/>
                                        <p:tgtEl>
                                          <p:spTgt spid="5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Box 1"/>
          <p:cNvSpPr/>
          <p:nvPr/>
        </p:nvSpPr>
        <p:spPr>
          <a:xfrm>
            <a:off x="755640" y="170028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1908000" y="260280"/>
            <a:ext cx="6912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3. ДЕ ЗУСТРІЧАЄТЬСЯ ВИСО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1835280" y="1484280"/>
            <a:ext cx="6696000" cy="504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1835280" y="1484280"/>
            <a:ext cx="6696000" cy="720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трикутнику                           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1835280" y="2421000"/>
            <a:ext cx="6696000" cy="720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геометрії                                   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1835280" y="3357720"/>
            <a:ext cx="6696000" cy="720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горах                                            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1835280" y="4221000"/>
            <a:ext cx="6697440" cy="720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даху                                     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1835280" y="5084640"/>
            <a:ext cx="6696000" cy="720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приміщенні                                        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1835280" y="5950080"/>
            <a:ext cx="6696000" cy="720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горі                                     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1" descr=""/>
          <p:cNvPicPr/>
          <p:nvPr/>
        </p:nvPicPr>
        <p:blipFill>
          <a:blip r:embed="rId1"/>
          <a:srcRect l="19145" t="22330" r="13923" b="11718"/>
          <a:stretch/>
        </p:blipFill>
        <p:spPr>
          <a:xfrm>
            <a:off x="407880" y="5969160"/>
            <a:ext cx="658800" cy="6220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2" descr=""/>
          <p:cNvPicPr/>
          <p:nvPr/>
        </p:nvPicPr>
        <p:blipFill>
          <a:blip r:embed="rId2"/>
          <a:stretch/>
        </p:blipFill>
        <p:spPr>
          <a:xfrm>
            <a:off x="654120" y="59817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662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686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7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698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1" dur="1942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Box 1"/>
          <p:cNvSpPr/>
          <p:nvPr/>
        </p:nvSpPr>
        <p:spPr>
          <a:xfrm>
            <a:off x="755640" y="170028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1908000" y="260280"/>
            <a:ext cx="6912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4. КОМУ ПОТРІБНИЙ ЦИРКУЛ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1835280" y="1484280"/>
            <a:ext cx="6696000" cy="504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1835280" y="1484280"/>
            <a:ext cx="6696000" cy="720720"/>
          </a:xfrm>
          <a:prstGeom prst="rect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ню/учителю                         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1835280" y="2421000"/>
            <a:ext cx="6696000" cy="720720"/>
          </a:xfrm>
          <a:prstGeom prst="rect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ні                                                   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1835280" y="3357720"/>
            <a:ext cx="6696000" cy="720720"/>
          </a:xfrm>
          <a:prstGeom prst="rect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лу                                  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8"/>
          <p:cNvSpPr/>
          <p:nvPr/>
        </p:nvSpPr>
        <p:spPr>
          <a:xfrm>
            <a:off x="1835280" y="4221000"/>
            <a:ext cx="6697440" cy="720720"/>
          </a:xfrm>
          <a:prstGeom prst="rect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юдині                                     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9"/>
          <p:cNvSpPr/>
          <p:nvPr/>
        </p:nvSpPr>
        <p:spPr>
          <a:xfrm>
            <a:off x="1835280" y="5084640"/>
            <a:ext cx="6696000" cy="720720"/>
          </a:xfrm>
          <a:prstGeom prst="rect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тематику                                   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0"/>
          <p:cNvSpPr/>
          <p:nvPr/>
        </p:nvSpPr>
        <p:spPr>
          <a:xfrm>
            <a:off x="1835280" y="5950080"/>
            <a:ext cx="6696000" cy="720720"/>
          </a:xfrm>
          <a:prstGeom prst="rect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рхітектору                          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11" descr=""/>
          <p:cNvPicPr/>
          <p:nvPr/>
        </p:nvPicPr>
        <p:blipFill>
          <a:blip r:embed="rId1"/>
          <a:srcRect l="19145" t="22330" r="13923" b="11718"/>
          <a:stretch/>
        </p:blipFill>
        <p:spPr>
          <a:xfrm>
            <a:off x="227160" y="6111720"/>
            <a:ext cx="658800" cy="6224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2" descr=""/>
          <p:cNvPicPr/>
          <p:nvPr/>
        </p:nvPicPr>
        <p:blipFill>
          <a:blip r:embed="rId2"/>
          <a:stretch/>
        </p:blipFill>
        <p:spPr>
          <a:xfrm>
            <a:off x="482760" y="6086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704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9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710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5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716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7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728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3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734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9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740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3" dur="1942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Box 1"/>
          <p:cNvSpPr/>
          <p:nvPr/>
        </p:nvSpPr>
        <p:spPr>
          <a:xfrm>
            <a:off x="755640" y="170028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1908000" y="260280"/>
            <a:ext cx="6912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5. ЯКІ БУВАЮТЬ ВИРАЗ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1835280" y="1484280"/>
            <a:ext cx="6696000" cy="504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1835280" y="1484280"/>
            <a:ext cx="669600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ислові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6"/>
          <p:cNvSpPr/>
          <p:nvPr/>
        </p:nvSpPr>
        <p:spPr>
          <a:xfrm>
            <a:off x="1835280" y="2421000"/>
            <a:ext cx="669600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ізні                                               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1835280" y="3357720"/>
            <a:ext cx="669600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обові                                       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1835280" y="4221000"/>
            <a:ext cx="669744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уквені                                        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9"/>
          <p:cNvSpPr/>
          <p:nvPr/>
        </p:nvSpPr>
        <p:spPr>
          <a:xfrm>
            <a:off x="1835280" y="5084640"/>
            <a:ext cx="669600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гані                                          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0"/>
          <p:cNvSpPr/>
          <p:nvPr/>
        </p:nvSpPr>
        <p:spPr>
          <a:xfrm>
            <a:off x="1835280" y="5950080"/>
            <a:ext cx="669600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івні                                           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11" descr=""/>
          <p:cNvPicPr/>
          <p:nvPr/>
        </p:nvPicPr>
        <p:blipFill>
          <a:blip r:embed="rId1"/>
          <a:srcRect l="19145" t="22330" r="13923" b="11718"/>
          <a:stretch/>
        </p:blipFill>
        <p:spPr>
          <a:xfrm>
            <a:off x="169920" y="6235560"/>
            <a:ext cx="658800" cy="6224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2" descr=""/>
          <p:cNvPicPr/>
          <p:nvPr/>
        </p:nvPicPr>
        <p:blipFill>
          <a:blip r:embed="rId2"/>
          <a:stretch/>
        </p:blipFill>
        <p:spPr>
          <a:xfrm>
            <a:off x="396720" y="620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746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1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752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7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758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3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764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770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5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776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1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782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5" dur="1942" fill="hold"/>
                                        <p:tgtEl>
                                          <p:spTgt spid="6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1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15" descr=""/>
          <p:cNvPicPr/>
          <p:nvPr/>
        </p:nvPicPr>
        <p:blipFill>
          <a:blip r:embed="rId1"/>
          <a:srcRect l="0" t="0" r="0" b="182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605" name="Оркестр Поля Мориа - ОЧЕНЬ КРАСИВАЯ МЕЛОДИЯ (audiopoisk.com).mp3" descr=""/>
          <p:cNvPicPr/>
          <p:nvPr/>
        </p:nvPicPr>
        <p:blipFill>
          <a:blip r:embed="rId2"/>
          <a:stretch/>
        </p:blipFill>
        <p:spPr>
          <a:xfrm>
            <a:off x="865836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06" name="WordArt 23"/>
          <p:cNvSpPr txBox="1"/>
          <p:nvPr/>
        </p:nvSpPr>
        <p:spPr>
          <a:xfrm>
            <a:off x="2104920" y="2336760"/>
            <a:ext cx="5181840" cy="20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ітаємо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ареможців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3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794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7" dur="209274" fill="hold"/>
                                        <p:tgtEl>
                                          <p:spTgt spid="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2"/>
          <p:cNvSpPr/>
          <p:nvPr/>
        </p:nvSpPr>
        <p:spPr>
          <a:xfrm>
            <a:off x="2484360" y="2060640"/>
            <a:ext cx="4608720" cy="792000"/>
          </a:xfrm>
          <a:prstGeom prst="rect">
            <a:avLst/>
          </a:prstGeom>
          <a:solidFill>
            <a:srgbClr val="9999ff"/>
          </a:solidFill>
          <a:ln w="25560">
            <a:solidFill>
              <a:srgbClr val="324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3"/>
          <p:cNvSpPr/>
          <p:nvPr/>
        </p:nvSpPr>
        <p:spPr>
          <a:xfrm>
            <a:off x="2484360" y="2997360"/>
            <a:ext cx="4608720" cy="792000"/>
          </a:xfrm>
          <a:prstGeom prst="rect">
            <a:avLst/>
          </a:prstGeom>
          <a:solidFill>
            <a:srgbClr val="9999ff"/>
          </a:solidFill>
          <a:ln w="25560">
            <a:solidFill>
              <a:srgbClr val="324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4"/>
          <p:cNvSpPr/>
          <p:nvPr/>
        </p:nvSpPr>
        <p:spPr>
          <a:xfrm>
            <a:off x="2484360" y="3933720"/>
            <a:ext cx="4608720" cy="792360"/>
          </a:xfrm>
          <a:prstGeom prst="rect">
            <a:avLst/>
          </a:prstGeom>
          <a:solidFill>
            <a:srgbClr val="9999ff"/>
          </a:solidFill>
          <a:ln w="25560">
            <a:solidFill>
              <a:srgbClr val="324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2484360" y="4941720"/>
            <a:ext cx="4608720" cy="792360"/>
          </a:xfrm>
          <a:prstGeom prst="rect">
            <a:avLst/>
          </a:prstGeom>
          <a:solidFill>
            <a:srgbClr val="9999ff"/>
          </a:solidFill>
          <a:ln w="25560">
            <a:solidFill>
              <a:srgbClr val="324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6"/>
          <p:cNvSpPr/>
          <p:nvPr/>
        </p:nvSpPr>
        <p:spPr>
          <a:xfrm>
            <a:off x="2484360" y="5877000"/>
            <a:ext cx="4608720" cy="792000"/>
          </a:xfrm>
          <a:prstGeom prst="rect">
            <a:avLst/>
          </a:prstGeom>
          <a:solidFill>
            <a:srgbClr val="9999ff"/>
          </a:solidFill>
          <a:ln w="25560">
            <a:solidFill>
              <a:srgbClr val="324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8"/>
          <p:cNvSpPr/>
          <p:nvPr/>
        </p:nvSpPr>
        <p:spPr>
          <a:xfrm>
            <a:off x="2484360" y="1125360"/>
            <a:ext cx="4608720" cy="792360"/>
          </a:xfrm>
          <a:prstGeom prst="rect">
            <a:avLst/>
          </a:prstGeom>
          <a:solidFill>
            <a:srgbClr val="9999ff"/>
          </a:solidFill>
          <a:ln w="25560">
            <a:solidFill>
              <a:srgbClr val="324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9"/>
          <p:cNvSpPr/>
          <p:nvPr/>
        </p:nvSpPr>
        <p:spPr>
          <a:xfrm>
            <a:off x="2495520" y="1114560"/>
            <a:ext cx="46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Бухгалтер                   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0"/>
          <p:cNvSpPr/>
          <p:nvPr/>
        </p:nvSpPr>
        <p:spPr>
          <a:xfrm>
            <a:off x="2554200" y="2133720"/>
            <a:ext cx="449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Вчитель математики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1"/>
          <p:cNvSpPr/>
          <p:nvPr/>
        </p:nvSpPr>
        <p:spPr>
          <a:xfrm>
            <a:off x="2694600" y="2997360"/>
            <a:ext cx="45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Продавець                  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2"/>
          <p:cNvSpPr/>
          <p:nvPr/>
        </p:nvSpPr>
        <p:spPr>
          <a:xfrm>
            <a:off x="2694240" y="4005360"/>
            <a:ext cx="41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Касир                       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3"/>
          <p:cNvSpPr/>
          <p:nvPr/>
        </p:nvSpPr>
        <p:spPr>
          <a:xfrm>
            <a:off x="2333880" y="508464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Банкір                  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4"/>
          <p:cNvSpPr/>
          <p:nvPr/>
        </p:nvSpPr>
        <p:spPr>
          <a:xfrm>
            <a:off x="2695680" y="5950080"/>
            <a:ext cx="39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Програміст       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8"/>
          <p:cNvSpPr/>
          <p:nvPr/>
        </p:nvSpPr>
        <p:spPr>
          <a:xfrm>
            <a:off x="1908000" y="189000"/>
            <a:ext cx="6193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ПРОФЕСІЯ, ДЕ НАЙЧАСТІШ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УСТРІЧАЄТЬСЯ МАТЕ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5" descr="http://www.wordassociations.ru/image/600x/svg_to_png/Arnoud999_Right_or_wrong_5.png"/>
          <p:cNvPicPr/>
          <p:nvPr/>
        </p:nvPicPr>
        <p:blipFill>
          <a:blip r:embed="rId1"/>
          <a:stretch/>
        </p:blipFill>
        <p:spPr>
          <a:xfrm>
            <a:off x="1403280" y="177336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6" descr="http://www.wordassociations.ru/image/600x/svg_to_png/Arnoud999_Right_or_wrong_5.png"/>
          <p:cNvPicPr/>
          <p:nvPr/>
        </p:nvPicPr>
        <p:blipFill>
          <a:blip r:embed="rId2"/>
          <a:stretch/>
        </p:blipFill>
        <p:spPr>
          <a:xfrm>
            <a:off x="1422360" y="300672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7" descr="http://www.wordassociations.ru/image/600x/svg_to_png/Arnoud999_Right_or_wrong_5.png"/>
          <p:cNvPicPr/>
          <p:nvPr/>
        </p:nvPicPr>
        <p:blipFill>
          <a:blip r:embed="rId3"/>
          <a:stretch/>
        </p:blipFill>
        <p:spPr>
          <a:xfrm>
            <a:off x="1476360" y="4221000"/>
            <a:ext cx="523800" cy="524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8" descr="http://www.wordassociations.ru/image/600x/svg_to_png/Arnoud999_Right_or_wrong_5.png"/>
          <p:cNvPicPr/>
          <p:nvPr/>
        </p:nvPicPr>
        <p:blipFill>
          <a:blip r:embed="rId4"/>
          <a:stretch/>
        </p:blipFill>
        <p:spPr>
          <a:xfrm>
            <a:off x="8359920" y="18828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9" descr="http://www.wordassociations.ru/image/600x/svg_to_png/Arnoud999_Right_or_wrong_5.png"/>
          <p:cNvPicPr/>
          <p:nvPr/>
        </p:nvPicPr>
        <p:blipFill>
          <a:blip r:embed="rId5"/>
          <a:stretch/>
        </p:blipFill>
        <p:spPr>
          <a:xfrm>
            <a:off x="8331120" y="298764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60" descr="http://www.wordassociations.ru/image/600x/svg_to_png/Arnoud999_Right_or_wrong_5.png"/>
          <p:cNvPicPr/>
          <p:nvPr/>
        </p:nvPicPr>
        <p:blipFill>
          <a:blip r:embed="rId6"/>
          <a:stretch/>
        </p:blipFill>
        <p:spPr>
          <a:xfrm>
            <a:off x="8340840" y="42307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71"/>
          <p:cNvSpPr/>
          <p:nvPr/>
        </p:nvSpPr>
        <p:spPr>
          <a:xfrm>
            <a:off x="1312920" y="1619280"/>
            <a:ext cx="718920" cy="792000"/>
          </a:xfrm>
          <a:custGeom>
            <a:avLst/>
            <a:gdLst>
              <a:gd name="textAreaLeft" fmla="*/ 164160 w 718920"/>
              <a:gd name="textAreaRight" fmla="*/ 554760 w 71892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72"/>
          <p:cNvSpPr/>
          <p:nvPr/>
        </p:nvSpPr>
        <p:spPr>
          <a:xfrm>
            <a:off x="1332000" y="2852640"/>
            <a:ext cx="718920" cy="792360"/>
          </a:xfrm>
          <a:custGeom>
            <a:avLst/>
            <a:gdLst>
              <a:gd name="textAreaLeft" fmla="*/ 164160 w 718920"/>
              <a:gd name="textAreaRight" fmla="*/ 554760 w 71892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3"/>
          <p:cNvSpPr/>
          <p:nvPr/>
        </p:nvSpPr>
        <p:spPr>
          <a:xfrm>
            <a:off x="1403280" y="4076640"/>
            <a:ext cx="719280" cy="792360"/>
          </a:xfrm>
          <a:custGeom>
            <a:avLst/>
            <a:gdLst>
              <a:gd name="textAreaLeft" fmla="*/ 164160 w 719280"/>
              <a:gd name="textAreaRight" fmla="*/ 555120 w 71928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74"/>
          <p:cNvSpPr/>
          <p:nvPr/>
        </p:nvSpPr>
        <p:spPr>
          <a:xfrm>
            <a:off x="8244000" y="1700280"/>
            <a:ext cx="718920" cy="792000"/>
          </a:xfrm>
          <a:custGeom>
            <a:avLst/>
            <a:gdLst>
              <a:gd name="textAreaLeft" fmla="*/ 164160 w 718920"/>
              <a:gd name="textAreaRight" fmla="*/ 554760 w 71892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75"/>
          <p:cNvSpPr/>
          <p:nvPr/>
        </p:nvSpPr>
        <p:spPr>
          <a:xfrm>
            <a:off x="8244000" y="2852640"/>
            <a:ext cx="718920" cy="792360"/>
          </a:xfrm>
          <a:custGeom>
            <a:avLst/>
            <a:gdLst>
              <a:gd name="textAreaLeft" fmla="*/ 164160 w 718920"/>
              <a:gd name="textAreaRight" fmla="*/ 554760 w 71892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76"/>
          <p:cNvSpPr/>
          <p:nvPr/>
        </p:nvSpPr>
        <p:spPr>
          <a:xfrm>
            <a:off x="8244000" y="4076640"/>
            <a:ext cx="718920" cy="792360"/>
          </a:xfrm>
          <a:custGeom>
            <a:avLst/>
            <a:gdLst>
              <a:gd name="textAreaLeft" fmla="*/ 164160 w 718920"/>
              <a:gd name="textAreaRight" fmla="*/ 554760 w 71892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WordArt 78"/>
          <p:cNvSpPr txBox="1"/>
          <p:nvPr/>
        </p:nvSpPr>
        <p:spPr>
          <a:xfrm rot="5400000">
            <a:off x="-1876680" y="3297240"/>
            <a:ext cx="5438880" cy="695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РОСТА</a:t>
            </a:r>
            <a:endParaRPr b="1" lang="en-US" sz="32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4" name="WordArt 79"/>
          <p:cNvSpPr txBox="1"/>
          <p:nvPr/>
        </p:nvSpPr>
        <p:spPr>
          <a:xfrm rot="5400000">
            <a:off x="5286240" y="3506760"/>
            <a:ext cx="508608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ГРА</a:t>
            </a:r>
            <a:endParaRPr b="1" lang="en-US" sz="32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Прямоугольник 2"/>
          <p:cNvSpPr/>
          <p:nvPr/>
        </p:nvSpPr>
        <p:spPr>
          <a:xfrm>
            <a:off x="2484360" y="2060640"/>
            <a:ext cx="4608720" cy="792000"/>
          </a:xfrm>
          <a:prstGeom prst="rect">
            <a:avLst/>
          </a:prstGeom>
          <a:solidFill>
            <a:srgbClr val="9999ff"/>
          </a:solidFill>
          <a:ln w="25560">
            <a:solidFill>
              <a:srgbClr val="324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3"/>
          <p:cNvSpPr/>
          <p:nvPr/>
        </p:nvSpPr>
        <p:spPr>
          <a:xfrm>
            <a:off x="2484360" y="2997360"/>
            <a:ext cx="4608720" cy="792000"/>
          </a:xfrm>
          <a:prstGeom prst="rect">
            <a:avLst/>
          </a:prstGeom>
          <a:solidFill>
            <a:srgbClr val="9999ff"/>
          </a:solidFill>
          <a:ln w="25560">
            <a:solidFill>
              <a:srgbClr val="324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4"/>
          <p:cNvSpPr/>
          <p:nvPr/>
        </p:nvSpPr>
        <p:spPr>
          <a:xfrm>
            <a:off x="2484360" y="3933720"/>
            <a:ext cx="4608720" cy="792360"/>
          </a:xfrm>
          <a:prstGeom prst="rect">
            <a:avLst/>
          </a:prstGeom>
          <a:solidFill>
            <a:srgbClr val="9999ff"/>
          </a:solidFill>
          <a:ln w="25560">
            <a:solidFill>
              <a:srgbClr val="324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5"/>
          <p:cNvSpPr/>
          <p:nvPr/>
        </p:nvSpPr>
        <p:spPr>
          <a:xfrm>
            <a:off x="2484360" y="4941720"/>
            <a:ext cx="4608720" cy="792360"/>
          </a:xfrm>
          <a:prstGeom prst="rect">
            <a:avLst/>
          </a:prstGeom>
          <a:solidFill>
            <a:srgbClr val="9999ff"/>
          </a:solidFill>
          <a:ln w="25560">
            <a:solidFill>
              <a:srgbClr val="324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6"/>
          <p:cNvSpPr/>
          <p:nvPr/>
        </p:nvSpPr>
        <p:spPr>
          <a:xfrm>
            <a:off x="2484360" y="5877000"/>
            <a:ext cx="4608720" cy="792000"/>
          </a:xfrm>
          <a:prstGeom prst="rect">
            <a:avLst/>
          </a:prstGeom>
          <a:solidFill>
            <a:srgbClr val="9999ff"/>
          </a:solidFill>
          <a:ln w="25560">
            <a:solidFill>
              <a:srgbClr val="324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8"/>
          <p:cNvSpPr/>
          <p:nvPr/>
        </p:nvSpPr>
        <p:spPr>
          <a:xfrm>
            <a:off x="2484360" y="1125360"/>
            <a:ext cx="4608720" cy="792360"/>
          </a:xfrm>
          <a:prstGeom prst="rect">
            <a:avLst/>
          </a:prstGeom>
          <a:solidFill>
            <a:srgbClr val="9999ff"/>
          </a:solidFill>
          <a:ln w="25560">
            <a:solidFill>
              <a:srgbClr val="324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9"/>
          <p:cNvSpPr/>
          <p:nvPr/>
        </p:nvSpPr>
        <p:spPr>
          <a:xfrm>
            <a:off x="2786760" y="1268280"/>
            <a:ext cx="330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 Narrow"/>
                <a:ea typeface="Times New Roman"/>
              </a:rPr>
              <a:t>Парні /непарні   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0"/>
          <p:cNvSpPr/>
          <p:nvPr/>
        </p:nvSpPr>
        <p:spPr>
          <a:xfrm>
            <a:off x="2340000" y="2133720"/>
            <a:ext cx="48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1c1c1c"/>
                </a:solidFill>
                <a:latin typeface="Arial Narrow"/>
                <a:ea typeface="Times New Roman"/>
              </a:rPr>
              <a:t>Великі та маленькі  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1"/>
          <p:cNvSpPr/>
          <p:nvPr/>
        </p:nvSpPr>
        <p:spPr>
          <a:xfrm>
            <a:off x="2828520" y="2997360"/>
            <a:ext cx="35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 Narrow"/>
                <a:ea typeface="Times New Roman"/>
              </a:rPr>
              <a:t>Натуральні           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2"/>
          <p:cNvSpPr/>
          <p:nvPr/>
        </p:nvSpPr>
        <p:spPr>
          <a:xfrm>
            <a:off x="2738160" y="4005360"/>
            <a:ext cx="38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 Narrow"/>
                <a:ea typeface="Times New Roman"/>
              </a:rPr>
              <a:t>Дробові                    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3"/>
          <p:cNvSpPr/>
          <p:nvPr/>
        </p:nvSpPr>
        <p:spPr>
          <a:xfrm>
            <a:off x="2412720" y="5084640"/>
            <a:ext cx="435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1c1c1c"/>
                </a:solidFill>
                <a:latin typeface="Arial Narrow"/>
                <a:ea typeface="Times New Roman"/>
              </a:rPr>
              <a:t>Величезні</a:t>
            </a:r>
            <a:r>
              <a:rPr b="1" lang="ru-RU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               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4"/>
          <p:cNvSpPr/>
          <p:nvPr/>
        </p:nvSpPr>
        <p:spPr>
          <a:xfrm>
            <a:off x="2694600" y="5950080"/>
            <a:ext cx="37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Цілі                  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6"/>
          <p:cNvSpPr/>
          <p:nvPr/>
        </p:nvSpPr>
        <p:spPr>
          <a:xfrm>
            <a:off x="1908000" y="189000"/>
            <a:ext cx="6193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. ЯКІ БУВАЮТЬ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0" descr="http://www.wordassociations.ru/image/600x/svg_to_png/Arnoud999_Right_or_wrong_5.png"/>
          <p:cNvPicPr/>
          <p:nvPr/>
        </p:nvPicPr>
        <p:blipFill>
          <a:blip r:embed="rId1"/>
          <a:stretch/>
        </p:blipFill>
        <p:spPr>
          <a:xfrm>
            <a:off x="1355760" y="205596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1" descr="http://www.wordassociations.ru/image/600x/svg_to_png/Arnoud999_Right_or_wrong_5.png"/>
          <p:cNvPicPr/>
          <p:nvPr/>
        </p:nvPicPr>
        <p:blipFill>
          <a:blip r:embed="rId2"/>
          <a:stretch/>
        </p:blipFill>
        <p:spPr>
          <a:xfrm>
            <a:off x="1351080" y="306864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2" descr="http://www.wordassociations.ru/image/600x/svg_to_png/Arnoud999_Right_or_wrong_5.png"/>
          <p:cNvPicPr/>
          <p:nvPr/>
        </p:nvPicPr>
        <p:blipFill>
          <a:blip r:embed="rId3"/>
          <a:stretch/>
        </p:blipFill>
        <p:spPr>
          <a:xfrm>
            <a:off x="1360440" y="407664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3" descr="http://www.wordassociations.ru/image/600x/svg_to_png/Arnoud999_Right_or_wrong_5.png"/>
          <p:cNvPicPr/>
          <p:nvPr/>
        </p:nvPicPr>
        <p:blipFill>
          <a:blip r:embed="rId4"/>
          <a:stretch/>
        </p:blipFill>
        <p:spPr>
          <a:xfrm>
            <a:off x="8377200" y="202572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4" descr="http://www.wordassociations.ru/image/600x/svg_to_png/Arnoud999_Right_or_wrong_5.png"/>
          <p:cNvPicPr/>
          <p:nvPr/>
        </p:nvPicPr>
        <p:blipFill>
          <a:blip r:embed="rId5"/>
          <a:stretch/>
        </p:blipFill>
        <p:spPr>
          <a:xfrm>
            <a:off x="8367840" y="301932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5" descr="http://www.wordassociations.ru/image/600x/svg_to_png/Arnoud999_Right_or_wrong_5.png"/>
          <p:cNvPicPr/>
          <p:nvPr/>
        </p:nvPicPr>
        <p:blipFill>
          <a:blip r:embed="rId6"/>
          <a:stretch/>
        </p:blipFill>
        <p:spPr>
          <a:xfrm>
            <a:off x="8388360" y="4076640"/>
            <a:ext cx="523800" cy="52380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26"/>
          <p:cNvSpPr/>
          <p:nvPr/>
        </p:nvSpPr>
        <p:spPr>
          <a:xfrm>
            <a:off x="1258920" y="1916280"/>
            <a:ext cx="719280" cy="792000"/>
          </a:xfrm>
          <a:custGeom>
            <a:avLst/>
            <a:gdLst>
              <a:gd name="textAreaLeft" fmla="*/ 164160 w 719280"/>
              <a:gd name="textAreaRight" fmla="*/ 555120 w 71928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27"/>
          <p:cNvSpPr/>
          <p:nvPr/>
        </p:nvSpPr>
        <p:spPr>
          <a:xfrm>
            <a:off x="1258920" y="2924280"/>
            <a:ext cx="719280" cy="792000"/>
          </a:xfrm>
          <a:custGeom>
            <a:avLst/>
            <a:gdLst>
              <a:gd name="textAreaLeft" fmla="*/ 164160 w 719280"/>
              <a:gd name="textAreaRight" fmla="*/ 555120 w 71928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28"/>
          <p:cNvSpPr/>
          <p:nvPr/>
        </p:nvSpPr>
        <p:spPr>
          <a:xfrm>
            <a:off x="1258920" y="3933720"/>
            <a:ext cx="719280" cy="792360"/>
          </a:xfrm>
          <a:custGeom>
            <a:avLst/>
            <a:gdLst>
              <a:gd name="textAreaLeft" fmla="*/ 164160 w 719280"/>
              <a:gd name="textAreaRight" fmla="*/ 555120 w 71928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29"/>
          <p:cNvSpPr/>
          <p:nvPr/>
        </p:nvSpPr>
        <p:spPr>
          <a:xfrm>
            <a:off x="8267760" y="1843200"/>
            <a:ext cx="718920" cy="792000"/>
          </a:xfrm>
          <a:custGeom>
            <a:avLst/>
            <a:gdLst>
              <a:gd name="textAreaLeft" fmla="*/ 164160 w 718920"/>
              <a:gd name="textAreaRight" fmla="*/ 554760 w 71892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30"/>
          <p:cNvSpPr/>
          <p:nvPr/>
        </p:nvSpPr>
        <p:spPr>
          <a:xfrm>
            <a:off x="8258040" y="2879640"/>
            <a:ext cx="719280" cy="792360"/>
          </a:xfrm>
          <a:custGeom>
            <a:avLst/>
            <a:gdLst>
              <a:gd name="textAreaLeft" fmla="*/ 164160 w 719280"/>
              <a:gd name="textAreaRight" fmla="*/ 555120 w 71928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31"/>
          <p:cNvSpPr/>
          <p:nvPr/>
        </p:nvSpPr>
        <p:spPr>
          <a:xfrm>
            <a:off x="8307360" y="3933720"/>
            <a:ext cx="719280" cy="792360"/>
          </a:xfrm>
          <a:custGeom>
            <a:avLst/>
            <a:gdLst>
              <a:gd name="textAreaLeft" fmla="*/ 164160 w 719280"/>
              <a:gd name="textAreaRight" fmla="*/ 555120 w 71928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WordArt 32"/>
          <p:cNvSpPr txBox="1"/>
          <p:nvPr/>
        </p:nvSpPr>
        <p:spPr>
          <a:xfrm rot="5400000">
            <a:off x="-1876680" y="3297240"/>
            <a:ext cx="5438880" cy="695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РОСТА</a:t>
            </a:r>
            <a:endParaRPr b="1" lang="en-US" sz="32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1" name="WordArt 33"/>
          <p:cNvSpPr txBox="1"/>
          <p:nvPr/>
        </p:nvSpPr>
        <p:spPr>
          <a:xfrm rot="5400000">
            <a:off x="5314680" y="3678120"/>
            <a:ext cx="508644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ГРА</a:t>
            </a:r>
            <a:endParaRPr b="1" lang="en-US" sz="32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Прямоугольник 2"/>
          <p:cNvSpPr/>
          <p:nvPr/>
        </p:nvSpPr>
        <p:spPr>
          <a:xfrm>
            <a:off x="2484360" y="2060640"/>
            <a:ext cx="4608720" cy="792000"/>
          </a:xfrm>
          <a:prstGeom prst="rect">
            <a:avLst/>
          </a:prstGeom>
          <a:solidFill>
            <a:srgbClr val="9999ff"/>
          </a:solidFill>
          <a:ln w="25560">
            <a:solidFill>
              <a:srgbClr val="324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3"/>
          <p:cNvSpPr/>
          <p:nvPr/>
        </p:nvSpPr>
        <p:spPr>
          <a:xfrm>
            <a:off x="2484360" y="2997360"/>
            <a:ext cx="4608720" cy="792000"/>
          </a:xfrm>
          <a:prstGeom prst="rect">
            <a:avLst/>
          </a:prstGeom>
          <a:solidFill>
            <a:srgbClr val="9999ff"/>
          </a:solidFill>
          <a:ln w="25560">
            <a:solidFill>
              <a:srgbClr val="324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4"/>
          <p:cNvSpPr/>
          <p:nvPr/>
        </p:nvSpPr>
        <p:spPr>
          <a:xfrm>
            <a:off x="2484360" y="3933720"/>
            <a:ext cx="4608720" cy="792360"/>
          </a:xfrm>
          <a:prstGeom prst="rect">
            <a:avLst/>
          </a:prstGeom>
          <a:solidFill>
            <a:srgbClr val="9999ff"/>
          </a:solidFill>
          <a:ln w="25560">
            <a:solidFill>
              <a:srgbClr val="324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5"/>
          <p:cNvSpPr/>
          <p:nvPr/>
        </p:nvSpPr>
        <p:spPr>
          <a:xfrm>
            <a:off x="2484360" y="4941720"/>
            <a:ext cx="4608720" cy="792360"/>
          </a:xfrm>
          <a:prstGeom prst="rect">
            <a:avLst/>
          </a:prstGeom>
          <a:solidFill>
            <a:srgbClr val="9999ff"/>
          </a:solidFill>
          <a:ln w="25560">
            <a:solidFill>
              <a:srgbClr val="324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6"/>
          <p:cNvSpPr/>
          <p:nvPr/>
        </p:nvSpPr>
        <p:spPr>
          <a:xfrm>
            <a:off x="2484360" y="5877000"/>
            <a:ext cx="4608720" cy="792000"/>
          </a:xfrm>
          <a:prstGeom prst="rect">
            <a:avLst/>
          </a:prstGeom>
          <a:solidFill>
            <a:srgbClr val="9999ff"/>
          </a:solidFill>
          <a:ln w="25560">
            <a:solidFill>
              <a:srgbClr val="324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8"/>
          <p:cNvSpPr/>
          <p:nvPr/>
        </p:nvSpPr>
        <p:spPr>
          <a:xfrm>
            <a:off x="2484360" y="1125360"/>
            <a:ext cx="4608720" cy="792360"/>
          </a:xfrm>
          <a:prstGeom prst="rect">
            <a:avLst/>
          </a:prstGeom>
          <a:solidFill>
            <a:srgbClr val="9999ff"/>
          </a:solidFill>
          <a:ln w="25560">
            <a:solidFill>
              <a:srgbClr val="324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9"/>
          <p:cNvSpPr/>
          <p:nvPr/>
        </p:nvSpPr>
        <p:spPr>
          <a:xfrm>
            <a:off x="2621520" y="1268280"/>
            <a:ext cx="43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Квадрат                     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0"/>
          <p:cNvSpPr/>
          <p:nvPr/>
        </p:nvSpPr>
        <p:spPr>
          <a:xfrm>
            <a:off x="2553120" y="2133720"/>
            <a:ext cx="430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Трикутник            20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1"/>
          <p:cNvSpPr/>
          <p:nvPr/>
        </p:nvSpPr>
        <p:spPr>
          <a:xfrm>
            <a:off x="2698920" y="2997360"/>
            <a:ext cx="36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Прямокутник    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2"/>
          <p:cNvSpPr/>
          <p:nvPr/>
        </p:nvSpPr>
        <p:spPr>
          <a:xfrm>
            <a:off x="2692800" y="4005360"/>
            <a:ext cx="438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Коло                           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13"/>
          <p:cNvSpPr/>
          <p:nvPr/>
        </p:nvSpPr>
        <p:spPr>
          <a:xfrm>
            <a:off x="2340000" y="5084640"/>
            <a:ext cx="39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Чотирикутник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4"/>
          <p:cNvSpPr/>
          <p:nvPr/>
        </p:nvSpPr>
        <p:spPr>
          <a:xfrm>
            <a:off x="2696400" y="5950080"/>
            <a:ext cx="42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Трапеція              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6"/>
          <p:cNvSpPr/>
          <p:nvPr/>
        </p:nvSpPr>
        <p:spPr>
          <a:xfrm>
            <a:off x="1908000" y="189000"/>
            <a:ext cx="6193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. ЯКА ГЕОМЕТРИЧНА ФІГУРА ЗУСТРІЧАЄ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ЧАСТІШЕ В ЖИТ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0" descr="http://www.wordassociations.ru/image/600x/svg_to_png/Arnoud999_Right_or_wrong_5.png"/>
          <p:cNvPicPr/>
          <p:nvPr/>
        </p:nvPicPr>
        <p:blipFill>
          <a:blip r:embed="rId1"/>
          <a:stretch/>
        </p:blipFill>
        <p:spPr>
          <a:xfrm>
            <a:off x="8317080" y="206064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1" descr="http://www.wordassociations.ru/image/600x/svg_to_png/Arnoud999_Right_or_wrong_5.png"/>
          <p:cNvPicPr/>
          <p:nvPr/>
        </p:nvPicPr>
        <p:blipFill>
          <a:blip r:embed="rId2"/>
          <a:stretch/>
        </p:blipFill>
        <p:spPr>
          <a:xfrm>
            <a:off x="8369280" y="306864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22" descr="http://www.wordassociations.ru/image/600x/svg_to_png/Arnoud999_Right_or_wrong_5.png"/>
          <p:cNvPicPr/>
          <p:nvPr/>
        </p:nvPicPr>
        <p:blipFill>
          <a:blip r:embed="rId3"/>
          <a:stretch/>
        </p:blipFill>
        <p:spPr>
          <a:xfrm>
            <a:off x="8354880" y="4062240"/>
            <a:ext cx="524160" cy="52416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24"/>
          <p:cNvSpPr/>
          <p:nvPr/>
        </p:nvSpPr>
        <p:spPr>
          <a:xfrm>
            <a:off x="8228160" y="1940040"/>
            <a:ext cx="718920" cy="792000"/>
          </a:xfrm>
          <a:custGeom>
            <a:avLst/>
            <a:gdLst>
              <a:gd name="textAreaLeft" fmla="*/ 164160 w 718920"/>
              <a:gd name="textAreaRight" fmla="*/ 554760 w 71892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25"/>
          <p:cNvSpPr/>
          <p:nvPr/>
        </p:nvSpPr>
        <p:spPr>
          <a:xfrm>
            <a:off x="8269200" y="2901960"/>
            <a:ext cx="719280" cy="792000"/>
          </a:xfrm>
          <a:custGeom>
            <a:avLst/>
            <a:gdLst>
              <a:gd name="textAreaLeft" fmla="*/ 164160 w 719280"/>
              <a:gd name="textAreaRight" fmla="*/ 555120 w 71928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26"/>
          <p:cNvSpPr/>
          <p:nvPr/>
        </p:nvSpPr>
        <p:spPr>
          <a:xfrm>
            <a:off x="8259840" y="3936960"/>
            <a:ext cx="718920" cy="792360"/>
          </a:xfrm>
          <a:custGeom>
            <a:avLst/>
            <a:gdLst>
              <a:gd name="textAreaLeft" fmla="*/ 164160 w 718920"/>
              <a:gd name="textAreaRight" fmla="*/ 554760 w 71892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27" descr="http://www.wordassociations.ru/image/600x/svg_to_png/Arnoud999_Right_or_wrong_5.png"/>
          <p:cNvPicPr/>
          <p:nvPr/>
        </p:nvPicPr>
        <p:blipFill>
          <a:blip r:embed="rId4"/>
          <a:stretch/>
        </p:blipFill>
        <p:spPr>
          <a:xfrm>
            <a:off x="1488960" y="4005360"/>
            <a:ext cx="524160" cy="5238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8" descr="http://www.wordassociations.ru/image/600x/svg_to_png/Arnoud999_Right_or_wrong_5.png"/>
          <p:cNvPicPr/>
          <p:nvPr/>
        </p:nvPicPr>
        <p:blipFill>
          <a:blip r:embed="rId5"/>
          <a:stretch/>
        </p:blipFill>
        <p:spPr>
          <a:xfrm>
            <a:off x="1461960" y="3073320"/>
            <a:ext cx="524160" cy="5238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9" descr="http://www.wordassociations.ru/image/600x/svg_to_png/Arnoud999_Right_or_wrong_5.png"/>
          <p:cNvPicPr/>
          <p:nvPr/>
        </p:nvPicPr>
        <p:blipFill>
          <a:blip r:embed="rId6"/>
          <a:stretch/>
        </p:blipFill>
        <p:spPr>
          <a:xfrm>
            <a:off x="1444680" y="2151000"/>
            <a:ext cx="523800" cy="523800"/>
          </a:xfrm>
          <a:prstGeom prst="rect">
            <a:avLst/>
          </a:prstGeom>
          <a:ln w="0">
            <a:noFill/>
          </a:ln>
        </p:spPr>
      </p:pic>
      <p:sp>
        <p:nvSpPr>
          <p:cNvPr id="444" name="AutoShape 30"/>
          <p:cNvSpPr/>
          <p:nvPr/>
        </p:nvSpPr>
        <p:spPr>
          <a:xfrm>
            <a:off x="1360440" y="2057400"/>
            <a:ext cx="719280" cy="792000"/>
          </a:xfrm>
          <a:custGeom>
            <a:avLst/>
            <a:gdLst>
              <a:gd name="textAreaLeft" fmla="*/ 164160 w 719280"/>
              <a:gd name="textAreaRight" fmla="*/ 555120 w 71928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31"/>
          <p:cNvSpPr/>
          <p:nvPr/>
        </p:nvSpPr>
        <p:spPr>
          <a:xfrm>
            <a:off x="1352520" y="2963880"/>
            <a:ext cx="719280" cy="792000"/>
          </a:xfrm>
          <a:custGeom>
            <a:avLst/>
            <a:gdLst>
              <a:gd name="textAreaLeft" fmla="*/ 164160 w 719280"/>
              <a:gd name="textAreaRight" fmla="*/ 555120 w 71928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32"/>
          <p:cNvSpPr/>
          <p:nvPr/>
        </p:nvSpPr>
        <p:spPr>
          <a:xfrm>
            <a:off x="1373040" y="3870360"/>
            <a:ext cx="719280" cy="792000"/>
          </a:xfrm>
          <a:custGeom>
            <a:avLst/>
            <a:gdLst>
              <a:gd name="textAreaLeft" fmla="*/ 164160 w 719280"/>
              <a:gd name="textAreaRight" fmla="*/ 555120 w 71928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WordArt 34"/>
          <p:cNvSpPr txBox="1"/>
          <p:nvPr/>
        </p:nvSpPr>
        <p:spPr>
          <a:xfrm rot="5400000">
            <a:off x="-1981440" y="3573360"/>
            <a:ext cx="5438880" cy="695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РОСТА</a:t>
            </a:r>
            <a:endParaRPr b="1" lang="en-US" sz="32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8" name="WordArt 35"/>
          <p:cNvSpPr txBox="1"/>
          <p:nvPr/>
        </p:nvSpPr>
        <p:spPr>
          <a:xfrm rot="5400000">
            <a:off x="5314680" y="3639960"/>
            <a:ext cx="508644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ГРА</a:t>
            </a:r>
            <a:endParaRPr b="1" lang="en-US" sz="32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Прямоугольник 2"/>
          <p:cNvSpPr/>
          <p:nvPr/>
        </p:nvSpPr>
        <p:spPr>
          <a:xfrm>
            <a:off x="2597040" y="2049480"/>
            <a:ext cx="4608720" cy="7920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3"/>
          <p:cNvSpPr/>
          <p:nvPr/>
        </p:nvSpPr>
        <p:spPr>
          <a:xfrm>
            <a:off x="2568600" y="2986200"/>
            <a:ext cx="4608360" cy="7920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4"/>
          <p:cNvSpPr/>
          <p:nvPr/>
        </p:nvSpPr>
        <p:spPr>
          <a:xfrm>
            <a:off x="2568600" y="3921120"/>
            <a:ext cx="4608360" cy="7920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5"/>
          <p:cNvSpPr/>
          <p:nvPr/>
        </p:nvSpPr>
        <p:spPr>
          <a:xfrm>
            <a:off x="2568600" y="4859280"/>
            <a:ext cx="4608360" cy="79236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6"/>
          <p:cNvSpPr/>
          <p:nvPr/>
        </p:nvSpPr>
        <p:spPr>
          <a:xfrm>
            <a:off x="2568600" y="5794200"/>
            <a:ext cx="4608360" cy="79236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8"/>
          <p:cNvSpPr/>
          <p:nvPr/>
        </p:nvSpPr>
        <p:spPr>
          <a:xfrm>
            <a:off x="2568600" y="1116000"/>
            <a:ext cx="4608360" cy="7920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9"/>
          <p:cNvSpPr/>
          <p:nvPr/>
        </p:nvSpPr>
        <p:spPr>
          <a:xfrm>
            <a:off x="2911680" y="1197000"/>
            <a:ext cx="39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Паралелограм    40</a:t>
            </a:r>
            <a:r>
              <a:rPr b="0" lang="ru-RU" sz="32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0"/>
          <p:cNvSpPr/>
          <p:nvPr/>
        </p:nvSpPr>
        <p:spPr>
          <a:xfrm>
            <a:off x="2914200" y="2060640"/>
            <a:ext cx="38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Паралелепіпед    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1"/>
          <p:cNvSpPr/>
          <p:nvPr/>
        </p:nvSpPr>
        <p:spPr>
          <a:xfrm>
            <a:off x="2916360" y="306864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Коефіцієнт          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2"/>
          <p:cNvSpPr/>
          <p:nvPr/>
        </p:nvSpPr>
        <p:spPr>
          <a:xfrm>
            <a:off x="2841840" y="4005360"/>
            <a:ext cx="43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Перпендикуляр      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3"/>
          <p:cNvSpPr/>
          <p:nvPr/>
        </p:nvSpPr>
        <p:spPr>
          <a:xfrm>
            <a:off x="2766600" y="4869000"/>
            <a:ext cx="41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Абсциса                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14"/>
          <p:cNvSpPr/>
          <p:nvPr/>
        </p:nvSpPr>
        <p:spPr>
          <a:xfrm>
            <a:off x="2627280" y="5877000"/>
            <a:ext cx="46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Пропорційність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6"/>
          <p:cNvSpPr/>
          <p:nvPr/>
        </p:nvSpPr>
        <p:spPr>
          <a:xfrm>
            <a:off x="1476360" y="189000"/>
            <a:ext cx="712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КЕ НАЙВАЖЧЕ В НАПИСАН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ТЕМАТИЧНЕ СЛ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17" descr="http://www.wordassociations.ru/image/600x/svg_to_png/Arnoud999_Right_or_wrong_5.png"/>
          <p:cNvPicPr/>
          <p:nvPr/>
        </p:nvPicPr>
        <p:blipFill>
          <a:blip r:embed="rId1"/>
          <a:stretch/>
        </p:blipFill>
        <p:spPr>
          <a:xfrm>
            <a:off x="1405080" y="392112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http://www.wordassociations.ru/image/600x/svg_to_png/Arnoud999_Right_or_wrong_5.png"/>
          <p:cNvPicPr/>
          <p:nvPr/>
        </p:nvPicPr>
        <p:blipFill>
          <a:blip r:embed="rId2"/>
          <a:stretch/>
        </p:blipFill>
        <p:spPr>
          <a:xfrm>
            <a:off x="1432080" y="285264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9" descr="http://www.wordassociations.ru/image/600x/svg_to_png/Arnoud999_Right_or_wrong_5.png"/>
          <p:cNvPicPr/>
          <p:nvPr/>
        </p:nvPicPr>
        <p:blipFill>
          <a:blip r:embed="rId3"/>
          <a:stretch/>
        </p:blipFill>
        <p:spPr>
          <a:xfrm>
            <a:off x="8329680" y="2903400"/>
            <a:ext cx="523800" cy="5241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0" descr="http://www.wordassociations.ru/image/600x/svg_to_png/Arnoud999_Right_or_wrong_5.png"/>
          <p:cNvPicPr/>
          <p:nvPr/>
        </p:nvPicPr>
        <p:blipFill>
          <a:blip r:embed="rId4"/>
          <a:stretch/>
        </p:blipFill>
        <p:spPr>
          <a:xfrm>
            <a:off x="8345520" y="183204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1" descr="http://www.wordassociations.ru/image/600x/svg_to_png/Arnoud999_Right_or_wrong_5.png"/>
          <p:cNvPicPr/>
          <p:nvPr/>
        </p:nvPicPr>
        <p:blipFill>
          <a:blip r:embed="rId5"/>
          <a:stretch/>
        </p:blipFill>
        <p:spPr>
          <a:xfrm>
            <a:off x="8369280" y="400212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2" descr="http://www.wordassociations.ru/image/600x/svg_to_png/Arnoud999_Right_or_wrong_5.png"/>
          <p:cNvPicPr/>
          <p:nvPr/>
        </p:nvPicPr>
        <p:blipFill>
          <a:blip r:embed="rId6"/>
          <a:stretch/>
        </p:blipFill>
        <p:spPr>
          <a:xfrm>
            <a:off x="1413000" y="1792440"/>
            <a:ext cx="523800" cy="52380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23"/>
          <p:cNvSpPr/>
          <p:nvPr/>
        </p:nvSpPr>
        <p:spPr>
          <a:xfrm>
            <a:off x="1332000" y="1628640"/>
            <a:ext cx="718920" cy="792360"/>
          </a:xfrm>
          <a:custGeom>
            <a:avLst/>
            <a:gdLst>
              <a:gd name="textAreaLeft" fmla="*/ 164160 w 718920"/>
              <a:gd name="textAreaRight" fmla="*/ 554760 w 71892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24"/>
          <p:cNvSpPr/>
          <p:nvPr/>
        </p:nvSpPr>
        <p:spPr>
          <a:xfrm>
            <a:off x="1332000" y="2708280"/>
            <a:ext cx="718920" cy="792000"/>
          </a:xfrm>
          <a:custGeom>
            <a:avLst/>
            <a:gdLst>
              <a:gd name="textAreaLeft" fmla="*/ 164160 w 718920"/>
              <a:gd name="textAreaRight" fmla="*/ 554760 w 71892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25"/>
          <p:cNvSpPr/>
          <p:nvPr/>
        </p:nvSpPr>
        <p:spPr>
          <a:xfrm>
            <a:off x="1320840" y="3800520"/>
            <a:ext cx="718920" cy="792000"/>
          </a:xfrm>
          <a:custGeom>
            <a:avLst/>
            <a:gdLst>
              <a:gd name="textAreaLeft" fmla="*/ 164160 w 718920"/>
              <a:gd name="textAreaRight" fmla="*/ 554760 w 71892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6"/>
          <p:cNvSpPr/>
          <p:nvPr/>
        </p:nvSpPr>
        <p:spPr>
          <a:xfrm>
            <a:off x="8259840" y="1654200"/>
            <a:ext cx="718920" cy="792000"/>
          </a:xfrm>
          <a:custGeom>
            <a:avLst/>
            <a:gdLst>
              <a:gd name="textAreaLeft" fmla="*/ 164160 w 718920"/>
              <a:gd name="textAreaRight" fmla="*/ 554760 w 71892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7"/>
          <p:cNvSpPr/>
          <p:nvPr/>
        </p:nvSpPr>
        <p:spPr>
          <a:xfrm>
            <a:off x="8232840" y="2793960"/>
            <a:ext cx="718920" cy="792360"/>
          </a:xfrm>
          <a:custGeom>
            <a:avLst/>
            <a:gdLst>
              <a:gd name="textAreaLeft" fmla="*/ 164160 w 718920"/>
              <a:gd name="textAreaRight" fmla="*/ 554760 w 71892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28"/>
          <p:cNvSpPr/>
          <p:nvPr/>
        </p:nvSpPr>
        <p:spPr>
          <a:xfrm>
            <a:off x="8271000" y="3854520"/>
            <a:ext cx="718920" cy="792000"/>
          </a:xfrm>
          <a:custGeom>
            <a:avLst/>
            <a:gdLst>
              <a:gd name="textAreaLeft" fmla="*/ 164160 w 718920"/>
              <a:gd name="textAreaRight" fmla="*/ 554760 w 71892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WordArt 29"/>
          <p:cNvSpPr txBox="1"/>
          <p:nvPr/>
        </p:nvSpPr>
        <p:spPr>
          <a:xfrm rot="5400000">
            <a:off x="-1671840" y="3130560"/>
            <a:ext cx="4933800" cy="695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ОДВІЙНА</a:t>
            </a:r>
            <a:endParaRPr b="1" lang="en-US" sz="32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5" name="WordArt 30"/>
          <p:cNvSpPr txBox="1"/>
          <p:nvPr/>
        </p:nvSpPr>
        <p:spPr>
          <a:xfrm rot="5400000">
            <a:off x="5719320" y="3404880"/>
            <a:ext cx="4038480" cy="714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ГРА</a:t>
            </a:r>
            <a:endParaRPr b="1" lang="en-US" sz="32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Прямоугольник 2"/>
          <p:cNvSpPr/>
          <p:nvPr/>
        </p:nvSpPr>
        <p:spPr>
          <a:xfrm>
            <a:off x="2568600" y="2049480"/>
            <a:ext cx="4608360" cy="79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3"/>
          <p:cNvSpPr/>
          <p:nvPr/>
        </p:nvSpPr>
        <p:spPr>
          <a:xfrm>
            <a:off x="2568600" y="2986200"/>
            <a:ext cx="4608360" cy="79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4"/>
          <p:cNvSpPr/>
          <p:nvPr/>
        </p:nvSpPr>
        <p:spPr>
          <a:xfrm>
            <a:off x="2568600" y="3921120"/>
            <a:ext cx="4608360" cy="79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5"/>
          <p:cNvSpPr/>
          <p:nvPr/>
        </p:nvSpPr>
        <p:spPr>
          <a:xfrm>
            <a:off x="2568600" y="4859280"/>
            <a:ext cx="4608360" cy="79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6"/>
          <p:cNvSpPr/>
          <p:nvPr/>
        </p:nvSpPr>
        <p:spPr>
          <a:xfrm>
            <a:off x="2568600" y="5794200"/>
            <a:ext cx="4608360" cy="79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8"/>
          <p:cNvSpPr/>
          <p:nvPr/>
        </p:nvSpPr>
        <p:spPr>
          <a:xfrm>
            <a:off x="2568600" y="1116000"/>
            <a:ext cx="4608360" cy="79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9"/>
          <p:cNvSpPr/>
          <p:nvPr/>
        </p:nvSpPr>
        <p:spPr>
          <a:xfrm>
            <a:off x="2914920" y="1197000"/>
            <a:ext cx="40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Піфагор       </a:t>
            </a:r>
            <a:r>
              <a:rPr b="1" lang="ru-RU" sz="32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         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10"/>
          <p:cNvSpPr/>
          <p:nvPr/>
        </p:nvSpPr>
        <p:spPr>
          <a:xfrm>
            <a:off x="2912400" y="2060640"/>
            <a:ext cx="40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Декарт </a:t>
            </a:r>
            <a:r>
              <a:rPr b="1" lang="ru-RU" sz="32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                 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11"/>
          <p:cNvSpPr/>
          <p:nvPr/>
        </p:nvSpPr>
        <p:spPr>
          <a:xfrm>
            <a:off x="2916360" y="3068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Фалес                 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2"/>
          <p:cNvSpPr/>
          <p:nvPr/>
        </p:nvSpPr>
        <p:spPr>
          <a:xfrm>
            <a:off x="2838240" y="4005360"/>
            <a:ext cx="39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Вієт                 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13"/>
          <p:cNvSpPr/>
          <p:nvPr/>
        </p:nvSpPr>
        <p:spPr>
          <a:xfrm>
            <a:off x="2774520" y="4869000"/>
            <a:ext cx="38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Евклід               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14"/>
          <p:cNvSpPr/>
          <p:nvPr/>
        </p:nvSpPr>
        <p:spPr>
          <a:xfrm>
            <a:off x="2835000" y="5877000"/>
            <a:ext cx="397548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Бевз                   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6"/>
          <p:cNvSpPr/>
          <p:nvPr/>
        </p:nvSpPr>
        <p:spPr>
          <a:xfrm>
            <a:off x="1476360" y="189000"/>
            <a:ext cx="712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. НАЗВІТЬ ВІДОМОГО МАТЕ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17" descr="http://www.wordassociations.ru/image/600x/svg_to_png/Arnoud999_Right_or_wrong_5.png"/>
          <p:cNvPicPr/>
          <p:nvPr/>
        </p:nvPicPr>
        <p:blipFill>
          <a:blip r:embed="rId1"/>
          <a:stretch/>
        </p:blipFill>
        <p:spPr>
          <a:xfrm>
            <a:off x="1576440" y="450864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8" descr="http://www.wordassociations.ru/image/600x/svg_to_png/Arnoud999_Right_or_wrong_5.png"/>
          <p:cNvPicPr/>
          <p:nvPr/>
        </p:nvPicPr>
        <p:blipFill>
          <a:blip r:embed="rId2"/>
          <a:stretch/>
        </p:blipFill>
        <p:spPr>
          <a:xfrm>
            <a:off x="1581120" y="307332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9" descr="http://www.wordassociations.ru/image/600x/svg_to_png/Arnoud999_Right_or_wrong_5.png"/>
          <p:cNvPicPr/>
          <p:nvPr/>
        </p:nvPicPr>
        <p:blipFill>
          <a:blip r:embed="rId3"/>
          <a:stretch/>
        </p:blipFill>
        <p:spPr>
          <a:xfrm>
            <a:off x="8364600" y="2992320"/>
            <a:ext cx="523800" cy="5241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0" descr="http://www.wordassociations.ru/image/600x/svg_to_png/Arnoud999_Right_or_wrong_5.png"/>
          <p:cNvPicPr/>
          <p:nvPr/>
        </p:nvPicPr>
        <p:blipFill>
          <a:blip r:embed="rId4"/>
          <a:stretch/>
        </p:blipFill>
        <p:spPr>
          <a:xfrm>
            <a:off x="8313840" y="16876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1" descr="http://www.wordassociations.ru/image/600x/svg_to_png/Arnoud999_Right_or_wrong_5.png"/>
          <p:cNvPicPr/>
          <p:nvPr/>
        </p:nvPicPr>
        <p:blipFill>
          <a:blip r:embed="rId5"/>
          <a:stretch/>
        </p:blipFill>
        <p:spPr>
          <a:xfrm>
            <a:off x="8369280" y="4581360"/>
            <a:ext cx="523800" cy="5241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2" descr="http://www.wordassociations.ru/image/600x/svg_to_png/Arnoud999_Right_or_wrong_5.png"/>
          <p:cNvPicPr/>
          <p:nvPr/>
        </p:nvPicPr>
        <p:blipFill>
          <a:blip r:embed="rId6"/>
          <a:stretch/>
        </p:blipFill>
        <p:spPr>
          <a:xfrm>
            <a:off x="1576440" y="1614600"/>
            <a:ext cx="523800" cy="523800"/>
          </a:xfrm>
          <a:prstGeom prst="rect">
            <a:avLst/>
          </a:prstGeom>
          <a:ln w="0">
            <a:noFill/>
          </a:ln>
        </p:spPr>
      </p:pic>
      <p:sp>
        <p:nvSpPr>
          <p:cNvPr id="495" name="AutoShape 23"/>
          <p:cNvSpPr/>
          <p:nvPr/>
        </p:nvSpPr>
        <p:spPr>
          <a:xfrm>
            <a:off x="1476360" y="1484280"/>
            <a:ext cx="719280" cy="792360"/>
          </a:xfrm>
          <a:custGeom>
            <a:avLst/>
            <a:gdLst>
              <a:gd name="textAreaLeft" fmla="*/ 164160 w 719280"/>
              <a:gd name="textAreaRight" fmla="*/ 555120 w 71928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24"/>
          <p:cNvSpPr/>
          <p:nvPr/>
        </p:nvSpPr>
        <p:spPr>
          <a:xfrm>
            <a:off x="1476360" y="2924280"/>
            <a:ext cx="719280" cy="792000"/>
          </a:xfrm>
          <a:custGeom>
            <a:avLst/>
            <a:gdLst>
              <a:gd name="textAreaLeft" fmla="*/ 164160 w 719280"/>
              <a:gd name="textAreaRight" fmla="*/ 555120 w 71928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25"/>
          <p:cNvSpPr/>
          <p:nvPr/>
        </p:nvSpPr>
        <p:spPr>
          <a:xfrm>
            <a:off x="1476360" y="4365720"/>
            <a:ext cx="719280" cy="792000"/>
          </a:xfrm>
          <a:custGeom>
            <a:avLst/>
            <a:gdLst>
              <a:gd name="textAreaLeft" fmla="*/ 164160 w 719280"/>
              <a:gd name="textAreaRight" fmla="*/ 555120 w 71928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26"/>
          <p:cNvSpPr/>
          <p:nvPr/>
        </p:nvSpPr>
        <p:spPr>
          <a:xfrm>
            <a:off x="8209080" y="1535040"/>
            <a:ext cx="718920" cy="792360"/>
          </a:xfrm>
          <a:custGeom>
            <a:avLst/>
            <a:gdLst>
              <a:gd name="textAreaLeft" fmla="*/ 164160 w 718920"/>
              <a:gd name="textAreaRight" fmla="*/ 554760 w 71892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7"/>
          <p:cNvSpPr/>
          <p:nvPr/>
        </p:nvSpPr>
        <p:spPr>
          <a:xfrm>
            <a:off x="8269200" y="2841480"/>
            <a:ext cx="719280" cy="792360"/>
          </a:xfrm>
          <a:custGeom>
            <a:avLst/>
            <a:gdLst>
              <a:gd name="textAreaLeft" fmla="*/ 164160 w 719280"/>
              <a:gd name="textAreaRight" fmla="*/ 555120 w 71928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8"/>
          <p:cNvSpPr/>
          <p:nvPr/>
        </p:nvSpPr>
        <p:spPr>
          <a:xfrm>
            <a:off x="8272440" y="4424400"/>
            <a:ext cx="719280" cy="792000"/>
          </a:xfrm>
          <a:custGeom>
            <a:avLst/>
            <a:gdLst>
              <a:gd name="textAreaLeft" fmla="*/ 164160 w 719280"/>
              <a:gd name="textAreaRight" fmla="*/ 555120 w 71928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WordArt 29"/>
          <p:cNvSpPr txBox="1"/>
          <p:nvPr/>
        </p:nvSpPr>
        <p:spPr>
          <a:xfrm rot="5400000">
            <a:off x="-1633680" y="3159000"/>
            <a:ext cx="4934160" cy="695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ОДВІЙНА</a:t>
            </a:r>
            <a:endParaRPr b="1" lang="en-US" sz="32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2" name="WordArt 30"/>
          <p:cNvSpPr txBox="1"/>
          <p:nvPr/>
        </p:nvSpPr>
        <p:spPr>
          <a:xfrm rot="5400000">
            <a:off x="5710320" y="3138480"/>
            <a:ext cx="4038480" cy="714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ГРА</a:t>
            </a:r>
            <a:endParaRPr b="1" lang="en-US" sz="32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68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89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Прямоугольник 2"/>
          <p:cNvSpPr/>
          <p:nvPr/>
        </p:nvSpPr>
        <p:spPr>
          <a:xfrm>
            <a:off x="2352600" y="2193840"/>
            <a:ext cx="4608720" cy="792360"/>
          </a:xfrm>
          <a:prstGeom prst="rect">
            <a:avLst/>
          </a:prstGeom>
          <a:gradFill rotWithShape="0">
            <a:gsLst>
              <a:gs pos="0">
                <a:srgbClr val="d9aa00"/>
              </a:gs>
              <a:gs pos="100000">
                <a:srgbClr val="ffe400"/>
              </a:gs>
            </a:gsLst>
            <a:lin ang="16200000"/>
          </a:gradFill>
          <a:ln w="9360">
            <a:solidFill>
              <a:srgbClr val="ffc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3"/>
          <p:cNvSpPr/>
          <p:nvPr/>
        </p:nvSpPr>
        <p:spPr>
          <a:xfrm>
            <a:off x="2352600" y="3130560"/>
            <a:ext cx="4608720" cy="792000"/>
          </a:xfrm>
          <a:prstGeom prst="rect">
            <a:avLst/>
          </a:prstGeom>
          <a:gradFill rotWithShape="0">
            <a:gsLst>
              <a:gs pos="0">
                <a:srgbClr val="d9aa00"/>
              </a:gs>
              <a:gs pos="100000">
                <a:srgbClr val="ffe400"/>
              </a:gs>
            </a:gsLst>
            <a:lin ang="16200000"/>
          </a:gradFill>
          <a:ln w="9360">
            <a:solidFill>
              <a:srgbClr val="ffc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4"/>
          <p:cNvSpPr/>
          <p:nvPr/>
        </p:nvSpPr>
        <p:spPr>
          <a:xfrm>
            <a:off x="2352600" y="4065480"/>
            <a:ext cx="4608720" cy="792360"/>
          </a:xfrm>
          <a:prstGeom prst="rect">
            <a:avLst/>
          </a:prstGeom>
          <a:gradFill rotWithShape="0">
            <a:gsLst>
              <a:gs pos="0">
                <a:srgbClr val="d9aa00"/>
              </a:gs>
              <a:gs pos="100000">
                <a:srgbClr val="ffe400"/>
              </a:gs>
            </a:gsLst>
            <a:lin ang="16200000"/>
          </a:gradFill>
          <a:ln w="9360">
            <a:solidFill>
              <a:srgbClr val="ffc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5"/>
          <p:cNvSpPr/>
          <p:nvPr/>
        </p:nvSpPr>
        <p:spPr>
          <a:xfrm>
            <a:off x="2352600" y="5003640"/>
            <a:ext cx="4608720" cy="792360"/>
          </a:xfrm>
          <a:prstGeom prst="rect">
            <a:avLst/>
          </a:prstGeom>
          <a:gradFill rotWithShape="0">
            <a:gsLst>
              <a:gs pos="0">
                <a:srgbClr val="d9aa00"/>
              </a:gs>
              <a:gs pos="100000">
                <a:srgbClr val="ffe400"/>
              </a:gs>
            </a:gsLst>
            <a:lin ang="16200000"/>
          </a:gradFill>
          <a:ln w="9360">
            <a:solidFill>
              <a:srgbClr val="ffc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6"/>
          <p:cNvSpPr/>
          <p:nvPr/>
        </p:nvSpPr>
        <p:spPr>
          <a:xfrm>
            <a:off x="2352600" y="5954760"/>
            <a:ext cx="4608720" cy="792000"/>
          </a:xfrm>
          <a:prstGeom prst="rect">
            <a:avLst/>
          </a:prstGeom>
          <a:gradFill rotWithShape="0">
            <a:gsLst>
              <a:gs pos="0">
                <a:srgbClr val="d9aa00"/>
              </a:gs>
              <a:gs pos="100000">
                <a:srgbClr val="ffe400"/>
              </a:gs>
            </a:gsLst>
            <a:lin ang="16200000"/>
          </a:gradFill>
          <a:ln w="9360">
            <a:solidFill>
              <a:srgbClr val="ffc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8"/>
          <p:cNvSpPr/>
          <p:nvPr/>
        </p:nvSpPr>
        <p:spPr>
          <a:xfrm>
            <a:off x="2352600" y="1260360"/>
            <a:ext cx="4608720" cy="792360"/>
          </a:xfrm>
          <a:prstGeom prst="rect">
            <a:avLst/>
          </a:prstGeom>
          <a:gradFill rotWithShape="0">
            <a:gsLst>
              <a:gs pos="0">
                <a:srgbClr val="d9aa00"/>
              </a:gs>
              <a:gs pos="100000">
                <a:srgbClr val="ffe400"/>
              </a:gs>
            </a:gsLst>
            <a:lin ang="16200000"/>
          </a:gradFill>
          <a:ln w="9360">
            <a:solidFill>
              <a:srgbClr val="ffc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9"/>
          <p:cNvSpPr/>
          <p:nvPr/>
        </p:nvSpPr>
        <p:spPr>
          <a:xfrm>
            <a:off x="2491560" y="1341360"/>
            <a:ext cx="429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Це особисте                    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0"/>
          <p:cNvSpPr/>
          <p:nvPr/>
        </p:nvSpPr>
        <p:spPr>
          <a:xfrm>
            <a:off x="2268360" y="2349360"/>
            <a:ext cx="48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Не любив математику    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11"/>
          <p:cNvSpPr/>
          <p:nvPr/>
        </p:nvSpPr>
        <p:spPr>
          <a:xfrm>
            <a:off x="2344680" y="3213000"/>
            <a:ext cx="44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Грошей не вистачило   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2"/>
          <p:cNvSpPr/>
          <p:nvPr/>
        </p:nvSpPr>
        <p:spPr>
          <a:xfrm>
            <a:off x="2272680" y="4149720"/>
            <a:ext cx="39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Вони не творчі люди  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3"/>
          <p:cNvSpPr/>
          <p:nvPr/>
        </p:nvSpPr>
        <p:spPr>
          <a:xfrm>
            <a:off x="2346480" y="5084640"/>
            <a:ext cx="40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Вона жінка                  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4"/>
          <p:cNvSpPr/>
          <p:nvPr/>
        </p:nvSpPr>
        <p:spPr>
          <a:xfrm>
            <a:off x="2128320" y="6021360"/>
            <a:ext cx="46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Вони дуже розумні         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6"/>
          <p:cNvSpPr/>
          <p:nvPr/>
        </p:nvSpPr>
        <p:spPr>
          <a:xfrm>
            <a:off x="1403280" y="189000"/>
            <a:ext cx="712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ЧОМУ НОБЕЛІВСЬКА ПРЕМІ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НЕ ПРИСУДЖУЄТЬСЯ МАТЕМАТИК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17" descr="http://www.wordassociations.ru/image/600x/svg_to_png/Arnoud999_Right_or_wrong_5.png"/>
          <p:cNvPicPr/>
          <p:nvPr/>
        </p:nvPicPr>
        <p:blipFill>
          <a:blip r:embed="rId1"/>
          <a:stretch/>
        </p:blipFill>
        <p:spPr>
          <a:xfrm>
            <a:off x="1417680" y="314172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8" descr="http://www.wordassociations.ru/image/600x/svg_to_png/Arnoud999_Right_or_wrong_5.png"/>
          <p:cNvPicPr/>
          <p:nvPr/>
        </p:nvPicPr>
        <p:blipFill>
          <a:blip r:embed="rId2"/>
          <a:stretch/>
        </p:blipFill>
        <p:spPr>
          <a:xfrm>
            <a:off x="8317080" y="1628640"/>
            <a:ext cx="523800" cy="5241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9" descr="http://www.wordassociations.ru/image/600x/svg_to_png/Arnoud999_Right_or_wrong_5.png"/>
          <p:cNvPicPr/>
          <p:nvPr/>
        </p:nvPicPr>
        <p:blipFill>
          <a:blip r:embed="rId3"/>
          <a:stretch/>
        </p:blipFill>
        <p:spPr>
          <a:xfrm>
            <a:off x="1432080" y="5022720"/>
            <a:ext cx="523800" cy="5241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0" descr="http://www.wordassociations.ru/image/600x/svg_to_png/Arnoud999_Right_or_wrong_5.png"/>
          <p:cNvPicPr/>
          <p:nvPr/>
        </p:nvPicPr>
        <p:blipFill>
          <a:blip r:embed="rId4"/>
          <a:stretch/>
        </p:blipFill>
        <p:spPr>
          <a:xfrm>
            <a:off x="8373960" y="342432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1" descr="http://www.wordassociations.ru/image/600x/svg_to_png/Arnoud999_Right_or_wrong_5.png"/>
          <p:cNvPicPr/>
          <p:nvPr/>
        </p:nvPicPr>
        <p:blipFill>
          <a:blip r:embed="rId5"/>
          <a:stretch/>
        </p:blipFill>
        <p:spPr>
          <a:xfrm>
            <a:off x="8359920" y="50896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2" descr="http://www.wordassociations.ru/image/600x/svg_to_png/Arnoud999_Right_or_wrong_5.png"/>
          <p:cNvPicPr/>
          <p:nvPr/>
        </p:nvPicPr>
        <p:blipFill>
          <a:blip r:embed="rId6"/>
          <a:stretch/>
        </p:blipFill>
        <p:spPr>
          <a:xfrm>
            <a:off x="1432080" y="1628640"/>
            <a:ext cx="523800" cy="524160"/>
          </a:xfrm>
          <a:prstGeom prst="rect">
            <a:avLst/>
          </a:prstGeom>
          <a:ln w="0">
            <a:noFill/>
          </a:ln>
        </p:spPr>
      </p:pic>
      <p:sp>
        <p:nvSpPr>
          <p:cNvPr id="522" name="AutoShape 23"/>
          <p:cNvSpPr/>
          <p:nvPr/>
        </p:nvSpPr>
        <p:spPr>
          <a:xfrm>
            <a:off x="1332000" y="1484280"/>
            <a:ext cx="718920" cy="792360"/>
          </a:xfrm>
          <a:custGeom>
            <a:avLst/>
            <a:gdLst>
              <a:gd name="textAreaLeft" fmla="*/ 164160 w 718920"/>
              <a:gd name="textAreaRight" fmla="*/ 554760 w 71892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24"/>
          <p:cNvSpPr/>
          <p:nvPr/>
        </p:nvSpPr>
        <p:spPr>
          <a:xfrm>
            <a:off x="1332000" y="2992320"/>
            <a:ext cx="718920" cy="792360"/>
          </a:xfrm>
          <a:custGeom>
            <a:avLst/>
            <a:gdLst>
              <a:gd name="textAreaLeft" fmla="*/ 164160 w 718920"/>
              <a:gd name="textAreaRight" fmla="*/ 554760 w 71892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25"/>
          <p:cNvSpPr/>
          <p:nvPr/>
        </p:nvSpPr>
        <p:spPr>
          <a:xfrm>
            <a:off x="1332000" y="4869000"/>
            <a:ext cx="718920" cy="792000"/>
          </a:xfrm>
          <a:custGeom>
            <a:avLst/>
            <a:gdLst>
              <a:gd name="textAreaLeft" fmla="*/ 164160 w 718920"/>
              <a:gd name="textAreaRight" fmla="*/ 554760 w 71892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6"/>
          <p:cNvSpPr/>
          <p:nvPr/>
        </p:nvSpPr>
        <p:spPr>
          <a:xfrm>
            <a:off x="8196120" y="1533600"/>
            <a:ext cx="719280" cy="792000"/>
          </a:xfrm>
          <a:custGeom>
            <a:avLst/>
            <a:gdLst>
              <a:gd name="textAreaLeft" fmla="*/ 164160 w 719280"/>
              <a:gd name="textAreaRight" fmla="*/ 555120 w 71928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27"/>
          <p:cNvSpPr/>
          <p:nvPr/>
        </p:nvSpPr>
        <p:spPr>
          <a:xfrm>
            <a:off x="8269200" y="3281400"/>
            <a:ext cx="719280" cy="792000"/>
          </a:xfrm>
          <a:custGeom>
            <a:avLst/>
            <a:gdLst>
              <a:gd name="textAreaLeft" fmla="*/ 164160 w 719280"/>
              <a:gd name="textAreaRight" fmla="*/ 555120 w 71928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28"/>
          <p:cNvSpPr/>
          <p:nvPr/>
        </p:nvSpPr>
        <p:spPr>
          <a:xfrm>
            <a:off x="8259840" y="4946760"/>
            <a:ext cx="718920" cy="792000"/>
          </a:xfrm>
          <a:custGeom>
            <a:avLst/>
            <a:gdLst>
              <a:gd name="textAreaLeft" fmla="*/ 164160 w 718920"/>
              <a:gd name="textAreaRight" fmla="*/ 554760 w 71892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WordArt 30"/>
          <p:cNvSpPr txBox="1"/>
          <p:nvPr/>
        </p:nvSpPr>
        <p:spPr>
          <a:xfrm rot="5400000">
            <a:off x="-1885680" y="3487680"/>
            <a:ext cx="546732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ОТРІЙНА</a:t>
            </a:r>
            <a:endParaRPr b="1" lang="en-US" sz="32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9" name="WordArt 31"/>
          <p:cNvSpPr txBox="1"/>
          <p:nvPr/>
        </p:nvSpPr>
        <p:spPr>
          <a:xfrm rot="5400000">
            <a:off x="5305320" y="3457440"/>
            <a:ext cx="4686120" cy="628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ГРА</a:t>
            </a:r>
            <a:endParaRPr b="1" lang="en-US" sz="32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448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458" dur="5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465" dur="5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472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MS900097485%5B1%5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Прямоугольник 2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2340000" y="2133720"/>
            <a:ext cx="4773600" cy="963360"/>
          </a:xfrm>
          <a:prstGeom prst="rect">
            <a:avLst/>
          </a:prstGeom>
          <a:ln w="0">
            <a:noFill/>
          </a:ln>
        </p:spPr>
      </p:pic>
      <p:pic>
        <p:nvPicPr>
          <p:cNvPr id="531" name="Прямоугольник 3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2292480" y="3011400"/>
            <a:ext cx="4773600" cy="963720"/>
          </a:xfrm>
          <a:prstGeom prst="rect">
            <a:avLst/>
          </a:prstGeom>
          <a:ln w="0">
            <a:noFill/>
          </a:ln>
        </p:spPr>
      </p:pic>
      <p:pic>
        <p:nvPicPr>
          <p:cNvPr id="532" name="Прямоугольник 4" descr="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2340000" y="4005360"/>
            <a:ext cx="4773600" cy="963360"/>
          </a:xfrm>
          <a:prstGeom prst="rect">
            <a:avLst/>
          </a:prstGeom>
          <a:ln w="0">
            <a:noFill/>
          </a:ln>
        </p:spPr>
      </p:pic>
      <p:pic>
        <p:nvPicPr>
          <p:cNvPr id="533" name="Прямоугольник 5" descr=""/>
          <p:cNvPicPr/>
          <p:nvPr/>
        </p:nvPicPr>
        <p:blipFill>
          <a:blip r:embed="rId4">
            <a:lum bright="24000"/>
          </a:blip>
          <a:stretch/>
        </p:blipFill>
        <p:spPr>
          <a:xfrm>
            <a:off x="2340000" y="4941720"/>
            <a:ext cx="4773600" cy="963720"/>
          </a:xfrm>
          <a:prstGeom prst="rect">
            <a:avLst/>
          </a:prstGeom>
          <a:ln w="0">
            <a:noFill/>
          </a:ln>
        </p:spPr>
      </p:pic>
      <p:pic>
        <p:nvPicPr>
          <p:cNvPr id="534" name="Прямоугольник 6" descr=""/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2340000" y="5894280"/>
            <a:ext cx="4773600" cy="963720"/>
          </a:xfrm>
          <a:prstGeom prst="rect">
            <a:avLst/>
          </a:prstGeom>
          <a:ln w="0">
            <a:noFill/>
          </a:ln>
        </p:spPr>
      </p:pic>
      <p:pic>
        <p:nvPicPr>
          <p:cNvPr id="535" name="Прямоугольник 8" descr=""/>
          <p:cNvPicPr/>
          <p:nvPr/>
        </p:nvPicPr>
        <p:blipFill>
          <a:blip r:embed="rId6">
            <a:lum bright="24000"/>
          </a:blip>
          <a:stretch/>
        </p:blipFill>
        <p:spPr>
          <a:xfrm>
            <a:off x="2340000" y="1197000"/>
            <a:ext cx="4773600" cy="963720"/>
          </a:xfrm>
          <a:prstGeom prst="rect">
            <a:avLst/>
          </a:prstGeom>
          <a:ln w="0">
            <a:noFill/>
          </a:ln>
        </p:spPr>
      </p:pic>
      <p:sp>
        <p:nvSpPr>
          <p:cNvPr id="536" name="TextBox 9"/>
          <p:cNvSpPr/>
          <p:nvPr/>
        </p:nvSpPr>
        <p:spPr>
          <a:xfrm>
            <a:off x="2486160" y="1341360"/>
            <a:ext cx="45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«Вовк та семеро козенят»    </a:t>
            </a:r>
            <a:r>
              <a:rPr b="1" lang="ru-RU" sz="32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0"/>
          <p:cNvSpPr/>
          <p:nvPr/>
        </p:nvSpPr>
        <p:spPr>
          <a:xfrm>
            <a:off x="2411280" y="2349360"/>
            <a:ext cx="460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«Білосніжка та  сім гномів»</a:t>
            </a:r>
            <a:r>
              <a:rPr b="1" lang="ru-RU" sz="32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15</a:t>
            </a:r>
            <a:r>
              <a:rPr b="0" lang="ru-RU" sz="28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1"/>
          <p:cNvSpPr/>
          <p:nvPr/>
        </p:nvSpPr>
        <p:spPr>
          <a:xfrm>
            <a:off x="2556000" y="3141720"/>
            <a:ext cx="4537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«Донька-семирічка»              </a:t>
            </a:r>
            <a:r>
              <a:rPr b="1" lang="ru-RU" sz="32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2"/>
          <p:cNvSpPr/>
          <p:nvPr/>
        </p:nvSpPr>
        <p:spPr>
          <a:xfrm>
            <a:off x="2557800" y="4149720"/>
            <a:ext cx="42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«Цветик-семицветик»</a:t>
            </a:r>
            <a:r>
              <a:rPr b="1" lang="ru-RU" sz="36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13"/>
          <p:cNvSpPr/>
          <p:nvPr/>
        </p:nvSpPr>
        <p:spPr>
          <a:xfrm>
            <a:off x="2411280" y="5084640"/>
            <a:ext cx="46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«Сімь підземних королів»</a:t>
            </a:r>
            <a:r>
              <a:rPr b="1" lang="ru-RU" sz="32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4"/>
          <p:cNvSpPr/>
          <p:nvPr/>
        </p:nvSpPr>
        <p:spPr>
          <a:xfrm>
            <a:off x="2579760" y="6021360"/>
            <a:ext cx="43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Сімь Семеонів»</a:t>
            </a:r>
            <a:r>
              <a:rPr b="1" lang="ru-RU" sz="36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003219"/>
                </a:solidFill>
                <a:latin typeface="Times New Roman"/>
                <a:ea typeface="Times New Roman"/>
              </a:rPr>
              <a:t>240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6"/>
          <p:cNvSpPr/>
          <p:nvPr/>
        </p:nvSpPr>
        <p:spPr>
          <a:xfrm>
            <a:off x="1403280" y="189000"/>
            <a:ext cx="741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ЗВІТЬ КАЗКУ В НАЗВІ ЯКО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УСТРІЧАЄТЬСЯ ЧИСЛО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26" descr=""/>
          <p:cNvPicPr/>
          <p:nvPr/>
        </p:nvPicPr>
        <p:blipFill>
          <a:blip r:embed="rId7"/>
          <a:srcRect l="19145" t="22330" r="13923" b="11718"/>
          <a:stretch/>
        </p:blipFill>
        <p:spPr>
          <a:xfrm>
            <a:off x="8485200" y="6235560"/>
            <a:ext cx="658800" cy="6224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7" descr=""/>
          <p:cNvPicPr/>
          <p:nvPr/>
        </p:nvPicPr>
        <p:blipFill>
          <a:blip r:embed="rId8"/>
          <a:stretch/>
        </p:blipFill>
        <p:spPr>
          <a:xfrm>
            <a:off x="8696160" y="6219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5" name="WordArt 28"/>
          <p:cNvSpPr txBox="1"/>
          <p:nvPr/>
        </p:nvSpPr>
        <p:spPr>
          <a:xfrm rot="5400000">
            <a:off x="-2076840" y="3438360"/>
            <a:ext cx="56772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НАВПАКИ</a:t>
            </a:r>
            <a:endParaRPr b="1" lang="en-US" sz="32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6" name="WordArt 29"/>
          <p:cNvSpPr txBox="1"/>
          <p:nvPr/>
        </p:nvSpPr>
        <p:spPr>
          <a:xfrm rot="5400000">
            <a:off x="5176080" y="3100320"/>
            <a:ext cx="5105520" cy="80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ГРА</a:t>
            </a:r>
            <a:endParaRPr b="1" lang="en-US" sz="32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9" dur="2184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535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5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7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8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3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9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571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WordArt 4"/>
          <p:cNvSpPr txBox="1"/>
          <p:nvPr/>
        </p:nvSpPr>
        <p:spPr>
          <a:xfrm>
            <a:off x="1028880" y="2174760"/>
            <a:ext cx="7391160" cy="349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лик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3:44:43Z</dcterms:created>
  <dc:creator>user</dc:creator>
  <dc:description/>
  <dc:language>en-US</dc:language>
  <cp:lastModifiedBy>3q</cp:lastModifiedBy>
  <dcterms:modified xsi:type="dcterms:W3CDTF">2018-01-02T17:31:02Z</dcterms:modified>
  <cp:revision>45</cp:revision>
  <dc:subject/>
  <dc:title>Слайд 1</dc:title>
</cp:coreProperties>
</file>