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2757-7CA1-4121-A9A6-BF163F724D6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B7BF-5A8D-4848-8E74-705164235C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2F8B-28B1-424D-98DB-92E9B4AA0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09CA-EACB-4496-84FE-266D8569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A47C-A07D-41DF-9DF0-B6AB4BEA1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E363-F08F-4DB8-A25B-7B64A4381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64D9-D59C-463F-9302-9A07699F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377C-BA23-44A6-89E4-80FB9785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F9A6-56CF-4FAB-9DB2-23F7F98C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8BC5-4FCA-4D63-A001-A52A17DF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E714-0853-4B50-A635-AA59E1BA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9FE4-BF21-4113-AC09-F3139EED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E9DF-FFAA-47C5-A780-B869AB5C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3514-838D-4666-8912-1DB9AA09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2AA9-22B3-4831-A083-6DC3F897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6277-5C18-4422-98B1-BA284E68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253A-470E-484F-AF93-EC58CE57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091F-414B-40EE-88EA-FA3DA4783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78AB-3808-4D49-8B33-3D655170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8730-2BA0-46DF-8A3B-DB971C63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8CAA-FE7C-4D5B-9638-41FFFF2B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B99D-2152-455B-916C-08B3BE6C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7DC5-08B1-44D6-9E92-AF562F61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0168-D9D7-484B-86A8-90090135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111F-D5DF-45EA-AB60-0EDFF09A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FE9A-A4F6-499D-B8DD-73F9944D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E2C0-5C9E-4E7A-BA56-BD9CD8ABFCDC}" type="slidenum">
              <a:rPr b="0" lang="uk-U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CB4E-D0D0-4567-BA1E-043592F25AD1}" type="slidenum">
              <a:rPr b="0" lang="uk-UA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9.xml"/><Relationship Id="rId6" Type="http://schemas.openxmlformats.org/officeDocument/2006/relationships/slide" Target="slide20.xml"/><Relationship Id="rId7" Type="http://schemas.openxmlformats.org/officeDocument/2006/relationships/slide" Target="slide24.xml"/><Relationship Id="rId8" Type="http://schemas.openxmlformats.org/officeDocument/2006/relationships/slide" Target="slide21.xml"/><Relationship Id="rId9" Type="http://schemas.openxmlformats.org/officeDocument/2006/relationships/slide" Target="slide22.xml"/><Relationship Id="rId10" Type="http://schemas.openxmlformats.org/officeDocument/2006/relationships/slide" Target="slide23.xml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6.xml"/><Relationship Id="rId3" Type="http://schemas.openxmlformats.org/officeDocument/2006/relationships/slide" Target="slide27.xml"/><Relationship Id="rId4" Type="http://schemas.openxmlformats.org/officeDocument/2006/relationships/slide" Target="slide28.xml"/><Relationship Id="rId5" Type="http://schemas.openxmlformats.org/officeDocument/2006/relationships/slide" Target="slide29.xml"/><Relationship Id="rId6" Type="http://schemas.openxmlformats.org/officeDocument/2006/relationships/slide" Target="slide30.xml"/><Relationship Id="rId7" Type="http://schemas.openxmlformats.org/officeDocument/2006/relationships/slide" Target="slide34.xml"/><Relationship Id="rId8" Type="http://schemas.openxmlformats.org/officeDocument/2006/relationships/slide" Target="slide31.xml"/><Relationship Id="rId9" Type="http://schemas.openxmlformats.org/officeDocument/2006/relationships/slide" Target="slide32.xml"/><Relationship Id="rId10" Type="http://schemas.openxmlformats.org/officeDocument/2006/relationships/slide" Target="slide33.xm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6.xml"/><Relationship Id="rId3" Type="http://schemas.openxmlformats.org/officeDocument/2006/relationships/slide" Target="slide37.xml"/><Relationship Id="rId4" Type="http://schemas.openxmlformats.org/officeDocument/2006/relationships/slide" Target="slide38.xml"/><Relationship Id="rId5" Type="http://schemas.openxmlformats.org/officeDocument/2006/relationships/slide" Target="slide39.xml"/><Relationship Id="rId6" Type="http://schemas.openxmlformats.org/officeDocument/2006/relationships/slide" Target="slide40.xml"/><Relationship Id="rId7" Type="http://schemas.openxmlformats.org/officeDocument/2006/relationships/slide" Target="slide44.xml"/><Relationship Id="rId8" Type="http://schemas.openxmlformats.org/officeDocument/2006/relationships/slide" Target="slide41.xml"/><Relationship Id="rId9" Type="http://schemas.openxmlformats.org/officeDocument/2006/relationships/slide" Target="slide42.xml"/><Relationship Id="rId10" Type="http://schemas.openxmlformats.org/officeDocument/2006/relationships/slide" Target="slide43.xml"/><Relationship Id="rId1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4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" Target="slide47.xml"/><Relationship Id="rId3" Type="http://schemas.openxmlformats.org/officeDocument/2006/relationships/slide" Target="slide48.xml"/><Relationship Id="rId4" Type="http://schemas.openxmlformats.org/officeDocument/2006/relationships/slide" Target="slide49.xml"/><Relationship Id="rId5" Type="http://schemas.openxmlformats.org/officeDocument/2006/relationships/slide" Target="slide50.xml"/><Relationship Id="rId6" Type="http://schemas.openxmlformats.org/officeDocument/2006/relationships/slide" Target="slide51.xml"/><Relationship Id="rId7" Type="http://schemas.openxmlformats.org/officeDocument/2006/relationships/slide" Target="slide55.xml"/><Relationship Id="rId8" Type="http://schemas.openxmlformats.org/officeDocument/2006/relationships/slide" Target="slide52.xml"/><Relationship Id="rId9" Type="http://schemas.openxmlformats.org/officeDocument/2006/relationships/slide" Target="slide53.xml"/><Relationship Id="rId10" Type="http://schemas.openxmlformats.org/officeDocument/2006/relationships/slide" Target="slide54.xml"/><Relationship Id="rId1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" Target="slide45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5.xml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slide" Target="slide57.xml"/><Relationship Id="rId3" Type="http://schemas.openxmlformats.org/officeDocument/2006/relationships/slide" Target="slide58.xml"/><Relationship Id="rId4" Type="http://schemas.openxmlformats.org/officeDocument/2006/relationships/slide" Target="slide59.xml"/><Relationship Id="rId5" Type="http://schemas.openxmlformats.org/officeDocument/2006/relationships/slide" Target="slide60.xml"/><Relationship Id="rId6" Type="http://schemas.openxmlformats.org/officeDocument/2006/relationships/slide" Target="slide61.xml"/><Relationship Id="rId7" Type="http://schemas.openxmlformats.org/officeDocument/2006/relationships/slide" Target="slide65.xml"/><Relationship Id="rId8" Type="http://schemas.openxmlformats.org/officeDocument/2006/relationships/slide" Target="slide62.xml"/><Relationship Id="rId9" Type="http://schemas.openxmlformats.org/officeDocument/2006/relationships/slide" Target="slide63.xml"/><Relationship Id="rId10" Type="http://schemas.openxmlformats.org/officeDocument/2006/relationships/slide" Target="slide64.xml"/><Relationship Id="rId1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" Target="slide55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7.xml"/><Relationship Id="rId2" Type="http://schemas.openxmlformats.org/officeDocument/2006/relationships/slide" Target="slide68.xml"/><Relationship Id="rId3" Type="http://schemas.openxmlformats.org/officeDocument/2006/relationships/slide" Target="slide69.xml"/><Relationship Id="rId4" Type="http://schemas.openxmlformats.org/officeDocument/2006/relationships/slide" Target="slide70.xml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640" y="1699920"/>
            <a:ext cx="68104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ffff00"/>
                </a:solidFill>
                <a:latin typeface="Tahoma"/>
              </a:rPr>
              <a:t>БРЕЙН-РИНГ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99"/>
                </a:solidFill>
                <a:latin typeface="Tahoma"/>
              </a:rPr>
              <a:t>Природничий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8000"/>
                </a:solidFill>
                <a:latin typeface="Tahoma"/>
              </a:rPr>
              <a:t>Біологія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785880" y="1428840"/>
            <a:ext cx="7559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ahoma"/>
              </a:rPr>
              <a:t>Який плід тропічного дерева має назву птах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071880" y="5214960"/>
            <a:ext cx="2735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008000"/>
                </a:solidFill>
                <a:latin typeface="Tahoma"/>
              </a:rPr>
              <a:t>Ківі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76360" y="980640"/>
            <a:ext cx="2989440" cy="8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Tahoma"/>
              </a:rPr>
              <a:t>Хімія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203640" y="5229360"/>
            <a:ext cx="27352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Tahoma"/>
              </a:rPr>
              <a:t>Озо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684360" y="2276640"/>
            <a:ext cx="741672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ahoma"/>
              </a:rPr>
              <a:t>Як називається Газ, що утворюється під час грози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5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442908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9900"/>
                </a:solidFill>
                <a:latin typeface="Tahoma"/>
              </a:rPr>
              <a:t>Хімія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547640" y="2276640"/>
            <a:ext cx="6480360" cy="26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ahoma"/>
              </a:rPr>
              <a:t>На який елемент багата морська капуста 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1763640" y="4869000"/>
            <a:ext cx="5832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9900"/>
                </a:solidFill>
                <a:latin typeface="Tahoma"/>
              </a:rPr>
              <a:t>Йод</a:t>
            </a:r>
            <a:r>
              <a:rPr b="1" lang="uk-UA" sz="5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7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8000"/>
                </a:solidFill>
                <a:latin typeface="Tahoma"/>
              </a:rPr>
              <a:t>Хімія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1000080" y="2286000"/>
            <a:ext cx="75614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ahoma"/>
              </a:rPr>
              <a:t>Назвіть благородний метал, що розчиняється в «царській водці».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755640" y="5229360"/>
            <a:ext cx="7561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8000"/>
                </a:solidFill>
                <a:latin typeface="Tahoma"/>
              </a:rPr>
              <a:t>Золот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7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2636640"/>
            <a:ext cx="1079280" cy="15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800" spc="-1" strike="noStrike">
                <a:solidFill>
                  <a:srgbClr val="333399"/>
                </a:solidFill>
                <a:latin typeface="Tahoma"/>
              </a:rPr>
              <a:t>ІІ</a:t>
            </a:r>
            <a:endParaRPr b="0" lang="en-US" sz="8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AutoShape 3">
            <a:hlinkClick r:id="rId1" action="ppaction://hlinksldjump"/>
          </p:cNvPr>
          <p:cNvSpPr/>
          <p:nvPr/>
        </p:nvSpPr>
        <p:spPr>
          <a:xfrm>
            <a:off x="1908000" y="1052640"/>
            <a:ext cx="1872000" cy="1798560"/>
          </a:xfrm>
          <a:custGeom>
            <a:avLst/>
            <a:gdLst>
              <a:gd name="textAreaLeft" fmla="*/ 116280 w 1872000"/>
              <a:gd name="textAreaRight" fmla="*/ 1755720 w 1872000"/>
              <a:gd name="textAreaTop" fmla="*/ 116280 h 1798560"/>
              <a:gd name="textAreaBottom" fmla="*/ 1682280 h 1798560"/>
            </a:gdLst>
            <a:ahLst/>
            <a:rect l="textAreaLeft" t="textAreaTop" r="textAreaRight" b="textAreaBottom"/>
            <a:pathLst>
              <a:path w="22482" h="21600">
                <a:moveTo>
                  <a:pt x="0" y="0"/>
                </a:moveTo>
                <a:lnTo>
                  <a:pt x="22482" y="0"/>
                </a:lnTo>
                <a:lnTo>
                  <a:pt x="22482" y="21600"/>
                </a:lnTo>
                <a:lnTo>
                  <a:pt x="0" y="21600"/>
                </a:lnTo>
                <a:close/>
              </a:path>
              <a:path fill="lightenLess" w="22482" h="21600">
                <a:moveTo>
                  <a:pt x="0" y="0"/>
                </a:moveTo>
                <a:lnTo>
                  <a:pt x="22482" y="0"/>
                </a:lnTo>
                <a:lnTo>
                  <a:pt x="21082" y="1400"/>
                </a:lnTo>
                <a:lnTo>
                  <a:pt x="1400" y="1400"/>
                </a:lnTo>
                <a:close/>
              </a:path>
              <a:path fill="darken" w="22482" h="21600">
                <a:moveTo>
                  <a:pt x="22482" y="0"/>
                </a:moveTo>
                <a:lnTo>
                  <a:pt x="22482" y="21600"/>
                </a:lnTo>
                <a:lnTo>
                  <a:pt x="21082" y="20200"/>
                </a:lnTo>
                <a:lnTo>
                  <a:pt x="21082" y="1400"/>
                </a:lnTo>
                <a:close/>
              </a:path>
              <a:path fill="darkenLess" w="22482" h="21600">
                <a:moveTo>
                  <a:pt x="224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82" y="20200"/>
                </a:lnTo>
                <a:close/>
              </a:path>
              <a:path fill="lighten" w="224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Фі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">
            <a:hlinkClick r:id="rId2" action="ppaction://hlinksldjump"/>
          </p:cNvPr>
          <p:cNvSpPr/>
          <p:nvPr/>
        </p:nvSpPr>
        <p:spPr>
          <a:xfrm>
            <a:off x="1908000" y="2997360"/>
            <a:ext cx="1872000" cy="1728720"/>
          </a:xfrm>
          <a:custGeom>
            <a:avLst/>
            <a:gdLst>
              <a:gd name="textAreaLeft" fmla="*/ 111960 w 1872000"/>
              <a:gd name="textAreaRight" fmla="*/ 1760040 w 187200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3390" h="21600">
                <a:moveTo>
                  <a:pt x="0" y="0"/>
                </a:moveTo>
                <a:lnTo>
                  <a:pt x="23390" y="0"/>
                </a:lnTo>
                <a:lnTo>
                  <a:pt x="23390" y="21600"/>
                </a:lnTo>
                <a:lnTo>
                  <a:pt x="0" y="21600"/>
                </a:lnTo>
                <a:close/>
              </a:path>
              <a:path fill="lightenLess" w="23390" h="21600">
                <a:moveTo>
                  <a:pt x="0" y="0"/>
                </a:moveTo>
                <a:lnTo>
                  <a:pt x="23390" y="0"/>
                </a:lnTo>
                <a:lnTo>
                  <a:pt x="21990" y="1400"/>
                </a:lnTo>
                <a:lnTo>
                  <a:pt x="1400" y="1400"/>
                </a:lnTo>
                <a:close/>
              </a:path>
              <a:path fill="darken" w="23390" h="21600">
                <a:moveTo>
                  <a:pt x="23390" y="0"/>
                </a:moveTo>
                <a:lnTo>
                  <a:pt x="23390" y="21600"/>
                </a:lnTo>
                <a:lnTo>
                  <a:pt x="21990" y="20200"/>
                </a:lnTo>
                <a:lnTo>
                  <a:pt x="21990" y="1400"/>
                </a:lnTo>
                <a:close/>
              </a:path>
              <a:path fill="darkenLess" w="23390" h="21600">
                <a:moveTo>
                  <a:pt x="23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0" y="20200"/>
                </a:lnTo>
                <a:close/>
              </a:path>
              <a:path fill="lighten" w="23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Фі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5">
            <a:hlinkClick r:id="rId3" action="ppaction://hlinksldjump"/>
          </p:cNvPr>
          <p:cNvSpPr/>
          <p:nvPr/>
        </p:nvSpPr>
        <p:spPr>
          <a:xfrm>
            <a:off x="1908000" y="4869000"/>
            <a:ext cx="1872000" cy="1800000"/>
          </a:xfrm>
          <a:custGeom>
            <a:avLst/>
            <a:gdLst>
              <a:gd name="textAreaLeft" fmla="*/ 116640 w 1872000"/>
              <a:gd name="textAreaRight" fmla="*/ 1755360 w 1872000"/>
              <a:gd name="textAreaTop" fmla="*/ 116640 h 1800000"/>
              <a:gd name="textAreaBottom" fmla="*/ 1683360 h 1800000"/>
            </a:gdLst>
            <a:ahLst/>
            <a:rect l="textAreaLeft" t="textAreaTop" r="textAreaRight" b="textAreaBottom"/>
            <a:pathLst>
              <a:path w="22464" h="21600">
                <a:moveTo>
                  <a:pt x="0" y="0"/>
                </a:moveTo>
                <a:lnTo>
                  <a:pt x="22464" y="0"/>
                </a:lnTo>
                <a:lnTo>
                  <a:pt x="22464" y="21600"/>
                </a:lnTo>
                <a:lnTo>
                  <a:pt x="0" y="21600"/>
                </a:lnTo>
                <a:close/>
              </a:path>
              <a:path fill="lightenLess" w="22464" h="21600">
                <a:moveTo>
                  <a:pt x="0" y="0"/>
                </a:moveTo>
                <a:lnTo>
                  <a:pt x="22464" y="0"/>
                </a:lnTo>
                <a:lnTo>
                  <a:pt x="21064" y="1400"/>
                </a:lnTo>
                <a:lnTo>
                  <a:pt x="1400" y="1400"/>
                </a:lnTo>
                <a:close/>
              </a:path>
              <a:path fill="darken" w="22464" h="21600">
                <a:moveTo>
                  <a:pt x="22464" y="0"/>
                </a:moveTo>
                <a:lnTo>
                  <a:pt x="22464" y="21600"/>
                </a:lnTo>
                <a:lnTo>
                  <a:pt x="21064" y="20200"/>
                </a:lnTo>
                <a:lnTo>
                  <a:pt x="21064" y="1400"/>
                </a:lnTo>
                <a:close/>
              </a:path>
              <a:path fill="darkenLess" w="22464" h="21600">
                <a:moveTo>
                  <a:pt x="224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64" y="20200"/>
                </a:lnTo>
                <a:close/>
              </a:path>
              <a:path fill="lighten" w="224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Фі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6">
            <a:hlinkClick r:id="rId4" action="ppaction://hlinksldjump"/>
          </p:cNvPr>
          <p:cNvSpPr/>
          <p:nvPr/>
        </p:nvSpPr>
        <p:spPr>
          <a:xfrm>
            <a:off x="3924360" y="1052640"/>
            <a:ext cx="1873080" cy="1798560"/>
          </a:xfrm>
          <a:custGeom>
            <a:avLst/>
            <a:gdLst>
              <a:gd name="textAreaLeft" fmla="*/ 116280 w 1873080"/>
              <a:gd name="textAreaRight" fmla="*/ 1756800 w 1873080"/>
              <a:gd name="textAreaTop" fmla="*/ 116280 h 1798560"/>
              <a:gd name="textAreaBottom" fmla="*/ 1682280 h 1798560"/>
            </a:gdLst>
            <a:ahLst/>
            <a:rect l="textAreaLeft" t="textAreaTop" r="textAreaRight" b="textAreaBottom"/>
            <a:pathLst>
              <a:path w="22495" h="21600">
                <a:moveTo>
                  <a:pt x="0" y="0"/>
                </a:moveTo>
                <a:lnTo>
                  <a:pt x="22495" y="0"/>
                </a:lnTo>
                <a:lnTo>
                  <a:pt x="22495" y="21600"/>
                </a:lnTo>
                <a:lnTo>
                  <a:pt x="0" y="21600"/>
                </a:lnTo>
                <a:close/>
              </a:path>
              <a:path fill="lightenLess" w="22495" h="21600">
                <a:moveTo>
                  <a:pt x="0" y="0"/>
                </a:moveTo>
                <a:lnTo>
                  <a:pt x="22495" y="0"/>
                </a:lnTo>
                <a:lnTo>
                  <a:pt x="21095" y="1400"/>
                </a:lnTo>
                <a:lnTo>
                  <a:pt x="1400" y="1400"/>
                </a:lnTo>
                <a:close/>
              </a:path>
              <a:path fill="darken" w="22495" h="21600">
                <a:moveTo>
                  <a:pt x="22495" y="0"/>
                </a:moveTo>
                <a:lnTo>
                  <a:pt x="22495" y="21600"/>
                </a:lnTo>
                <a:lnTo>
                  <a:pt x="21095" y="20200"/>
                </a:lnTo>
                <a:lnTo>
                  <a:pt x="21095" y="1400"/>
                </a:lnTo>
                <a:close/>
              </a:path>
              <a:path fill="darkenLess" w="22495" h="21600">
                <a:moveTo>
                  <a:pt x="224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95" y="20200"/>
                </a:lnTo>
                <a:close/>
              </a:path>
              <a:path fill="lighten" w="224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Біолог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7">
            <a:hlinkClick r:id="rId5" action="ppaction://hlinksldjump"/>
          </p:cNvPr>
          <p:cNvSpPr/>
          <p:nvPr/>
        </p:nvSpPr>
        <p:spPr>
          <a:xfrm>
            <a:off x="3924360" y="2997360"/>
            <a:ext cx="1873080" cy="1725480"/>
          </a:xfrm>
          <a:custGeom>
            <a:avLst/>
            <a:gdLst>
              <a:gd name="textAreaLeft" fmla="*/ 111600 w 1873080"/>
              <a:gd name="textAreaRight" fmla="*/ 1761480 w 1873080"/>
              <a:gd name="textAreaTop" fmla="*/ 111600 h 1725480"/>
              <a:gd name="textAreaBottom" fmla="*/ 1613880 h 1725480"/>
            </a:gdLst>
            <a:ahLst/>
            <a:rect l="textAreaLeft" t="textAreaTop" r="textAreaRight" b="textAreaBottom"/>
            <a:pathLst>
              <a:path w="23447" h="21600">
                <a:moveTo>
                  <a:pt x="0" y="0"/>
                </a:moveTo>
                <a:lnTo>
                  <a:pt x="23447" y="0"/>
                </a:lnTo>
                <a:lnTo>
                  <a:pt x="23447" y="21600"/>
                </a:lnTo>
                <a:lnTo>
                  <a:pt x="0" y="21600"/>
                </a:lnTo>
                <a:close/>
              </a:path>
              <a:path fill="lightenLess" w="23447" h="21600">
                <a:moveTo>
                  <a:pt x="0" y="0"/>
                </a:moveTo>
                <a:lnTo>
                  <a:pt x="23447" y="0"/>
                </a:lnTo>
                <a:lnTo>
                  <a:pt x="22047" y="1400"/>
                </a:lnTo>
                <a:lnTo>
                  <a:pt x="1400" y="1400"/>
                </a:lnTo>
                <a:close/>
              </a:path>
              <a:path fill="darken" w="23447" h="21600">
                <a:moveTo>
                  <a:pt x="23447" y="0"/>
                </a:moveTo>
                <a:lnTo>
                  <a:pt x="23447" y="21600"/>
                </a:lnTo>
                <a:lnTo>
                  <a:pt x="22047" y="20200"/>
                </a:lnTo>
                <a:lnTo>
                  <a:pt x="22047" y="1400"/>
                </a:lnTo>
                <a:close/>
              </a:path>
              <a:path fill="darkenLess" w="23447" h="21600">
                <a:moveTo>
                  <a:pt x="23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47" y="20200"/>
                </a:lnTo>
                <a:close/>
              </a:path>
              <a:path fill="lighten" w="23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Біолог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8">
            <a:hlinkClick r:id="rId6" action="ppaction://hlinksldjump"/>
          </p:cNvPr>
          <p:cNvSpPr/>
          <p:nvPr/>
        </p:nvSpPr>
        <p:spPr>
          <a:xfrm>
            <a:off x="3924360" y="4869000"/>
            <a:ext cx="1873080" cy="1798560"/>
          </a:xfrm>
          <a:custGeom>
            <a:avLst/>
            <a:gdLst>
              <a:gd name="textAreaLeft" fmla="*/ 116280 w 1873080"/>
              <a:gd name="textAreaRight" fmla="*/ 1756800 w 1873080"/>
              <a:gd name="textAreaTop" fmla="*/ 116280 h 1798560"/>
              <a:gd name="textAreaBottom" fmla="*/ 1682280 h 1798560"/>
            </a:gdLst>
            <a:ahLst/>
            <a:rect l="textAreaLeft" t="textAreaTop" r="textAreaRight" b="textAreaBottom"/>
            <a:pathLst>
              <a:path w="22495" h="21600">
                <a:moveTo>
                  <a:pt x="0" y="0"/>
                </a:moveTo>
                <a:lnTo>
                  <a:pt x="22495" y="0"/>
                </a:lnTo>
                <a:lnTo>
                  <a:pt x="22495" y="21600"/>
                </a:lnTo>
                <a:lnTo>
                  <a:pt x="0" y="21600"/>
                </a:lnTo>
                <a:close/>
              </a:path>
              <a:path fill="lightenLess" w="22495" h="21600">
                <a:moveTo>
                  <a:pt x="0" y="0"/>
                </a:moveTo>
                <a:lnTo>
                  <a:pt x="22495" y="0"/>
                </a:lnTo>
                <a:lnTo>
                  <a:pt x="21095" y="1400"/>
                </a:lnTo>
                <a:lnTo>
                  <a:pt x="1400" y="1400"/>
                </a:lnTo>
                <a:close/>
              </a:path>
              <a:path fill="darken" w="22495" h="21600">
                <a:moveTo>
                  <a:pt x="22495" y="0"/>
                </a:moveTo>
                <a:lnTo>
                  <a:pt x="22495" y="21600"/>
                </a:lnTo>
                <a:lnTo>
                  <a:pt x="21095" y="20200"/>
                </a:lnTo>
                <a:lnTo>
                  <a:pt x="21095" y="1400"/>
                </a:lnTo>
                <a:close/>
              </a:path>
              <a:path fill="darkenLess" w="22495" h="21600">
                <a:moveTo>
                  <a:pt x="224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95" y="20200"/>
                </a:lnTo>
                <a:close/>
              </a:path>
              <a:path fill="lighten" w="224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Біолог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2">
            <a:hlinkClick r:id="rId7" action="ppaction://hlinksldjump"/>
          </p:cNvPr>
          <p:cNvSpPr/>
          <p:nvPr/>
        </p:nvSpPr>
        <p:spPr>
          <a:xfrm>
            <a:off x="108000" y="4005360"/>
            <a:ext cx="1439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ahoma"/>
              </a:rPr>
              <a:t>раун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3">
            <a:hlinkClick r:id="rId8" action="ppaction://hlinksldjump"/>
          </p:cNvPr>
          <p:cNvSpPr/>
          <p:nvPr/>
        </p:nvSpPr>
        <p:spPr>
          <a:xfrm>
            <a:off x="5940360" y="1052640"/>
            <a:ext cx="1873440" cy="1800000"/>
          </a:xfrm>
          <a:custGeom>
            <a:avLst/>
            <a:gdLst>
              <a:gd name="textAreaLeft" fmla="*/ 116640 w 1873440"/>
              <a:gd name="textAreaRight" fmla="*/ 1756800 w 1873440"/>
              <a:gd name="textAreaTop" fmla="*/ 116640 h 1800000"/>
              <a:gd name="textAreaBottom" fmla="*/ 1683360 h 1800000"/>
            </a:gdLst>
            <a:ahLst/>
            <a:rect l="textAreaLeft" t="textAreaTop" r="textAreaRight" b="textAreaBottom"/>
            <a:pathLst>
              <a:path w="22481" h="21600">
                <a:moveTo>
                  <a:pt x="0" y="0"/>
                </a:moveTo>
                <a:lnTo>
                  <a:pt x="22481" y="0"/>
                </a:lnTo>
                <a:lnTo>
                  <a:pt x="22481" y="21600"/>
                </a:lnTo>
                <a:lnTo>
                  <a:pt x="0" y="21600"/>
                </a:lnTo>
                <a:close/>
              </a:path>
              <a:path fill="lightenLess" w="22481" h="21600">
                <a:moveTo>
                  <a:pt x="0" y="0"/>
                </a:moveTo>
                <a:lnTo>
                  <a:pt x="22481" y="0"/>
                </a:lnTo>
                <a:lnTo>
                  <a:pt x="21081" y="1400"/>
                </a:lnTo>
                <a:lnTo>
                  <a:pt x="1400" y="1400"/>
                </a:lnTo>
                <a:close/>
              </a:path>
              <a:path fill="darken" w="22481" h="21600">
                <a:moveTo>
                  <a:pt x="22481" y="0"/>
                </a:moveTo>
                <a:lnTo>
                  <a:pt x="22481" y="21600"/>
                </a:lnTo>
                <a:lnTo>
                  <a:pt x="21081" y="20200"/>
                </a:lnTo>
                <a:lnTo>
                  <a:pt x="21081" y="1400"/>
                </a:lnTo>
                <a:close/>
              </a:path>
              <a:path fill="darkenLess" w="22481" h="21600">
                <a:moveTo>
                  <a:pt x="224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81" y="20200"/>
                </a:lnTo>
                <a:close/>
              </a:path>
              <a:path fill="lighten" w="224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Хім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4">
            <a:hlinkClick r:id="rId9" action="ppaction://hlinksldjump"/>
          </p:cNvPr>
          <p:cNvSpPr/>
          <p:nvPr/>
        </p:nvSpPr>
        <p:spPr>
          <a:xfrm>
            <a:off x="5940360" y="2997360"/>
            <a:ext cx="1871640" cy="1726920"/>
          </a:xfrm>
          <a:custGeom>
            <a:avLst/>
            <a:gdLst>
              <a:gd name="textAreaLeft" fmla="*/ 111600 w 1871640"/>
              <a:gd name="textAreaRight" fmla="*/ 1760040 w 1871640"/>
              <a:gd name="textAreaTop" fmla="*/ 111600 h 1726920"/>
              <a:gd name="textAreaBottom" fmla="*/ 1615320 h 1726920"/>
            </a:gdLst>
            <a:ahLst/>
            <a:rect l="textAreaLeft" t="textAreaTop" r="textAreaRight" b="textAreaBottom"/>
            <a:pathLst>
              <a:path w="23410" h="21600">
                <a:moveTo>
                  <a:pt x="0" y="0"/>
                </a:moveTo>
                <a:lnTo>
                  <a:pt x="23410" y="0"/>
                </a:lnTo>
                <a:lnTo>
                  <a:pt x="23410" y="21600"/>
                </a:lnTo>
                <a:lnTo>
                  <a:pt x="0" y="21600"/>
                </a:lnTo>
                <a:close/>
              </a:path>
              <a:path fill="lightenLess" w="23410" h="21600">
                <a:moveTo>
                  <a:pt x="0" y="0"/>
                </a:moveTo>
                <a:lnTo>
                  <a:pt x="23410" y="0"/>
                </a:lnTo>
                <a:lnTo>
                  <a:pt x="22010" y="1400"/>
                </a:lnTo>
                <a:lnTo>
                  <a:pt x="1400" y="1400"/>
                </a:lnTo>
                <a:close/>
              </a:path>
              <a:path fill="darken" w="23410" h="21600">
                <a:moveTo>
                  <a:pt x="23410" y="0"/>
                </a:moveTo>
                <a:lnTo>
                  <a:pt x="23410" y="21600"/>
                </a:lnTo>
                <a:lnTo>
                  <a:pt x="22010" y="20200"/>
                </a:lnTo>
                <a:lnTo>
                  <a:pt x="22010" y="1400"/>
                </a:lnTo>
                <a:close/>
              </a:path>
              <a:path fill="darkenLess" w="23410" h="21600">
                <a:moveTo>
                  <a:pt x="23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10" y="20200"/>
                </a:lnTo>
                <a:close/>
              </a:path>
              <a:path fill="lighten" w="23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Хім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5">
            <a:hlinkClick r:id="rId10" action="ppaction://hlinksldjump"/>
          </p:cNvPr>
          <p:cNvSpPr/>
          <p:nvPr/>
        </p:nvSpPr>
        <p:spPr>
          <a:xfrm>
            <a:off x="5940360" y="4869000"/>
            <a:ext cx="1871640" cy="1800000"/>
          </a:xfrm>
          <a:custGeom>
            <a:avLst/>
            <a:gdLst>
              <a:gd name="textAreaLeft" fmla="*/ 116640 w 1871640"/>
              <a:gd name="textAreaRight" fmla="*/ 1755000 w 1871640"/>
              <a:gd name="textAreaTop" fmla="*/ 116640 h 1800000"/>
              <a:gd name="textAreaBottom" fmla="*/ 1683360 h 1800000"/>
            </a:gdLst>
            <a:ahLst/>
            <a:rect l="textAreaLeft" t="textAreaTop" r="textAreaRight" b="textAreaBottom"/>
            <a:pathLst>
              <a:path w="22460" h="21600">
                <a:moveTo>
                  <a:pt x="0" y="0"/>
                </a:moveTo>
                <a:lnTo>
                  <a:pt x="22460" y="0"/>
                </a:lnTo>
                <a:lnTo>
                  <a:pt x="22460" y="21600"/>
                </a:lnTo>
                <a:lnTo>
                  <a:pt x="0" y="21600"/>
                </a:lnTo>
                <a:close/>
              </a:path>
              <a:path fill="lightenLess" w="22460" h="21600">
                <a:moveTo>
                  <a:pt x="0" y="0"/>
                </a:moveTo>
                <a:lnTo>
                  <a:pt x="22460" y="0"/>
                </a:lnTo>
                <a:lnTo>
                  <a:pt x="21060" y="1400"/>
                </a:lnTo>
                <a:lnTo>
                  <a:pt x="1400" y="1400"/>
                </a:lnTo>
                <a:close/>
              </a:path>
              <a:path fill="darken" w="22460" h="21600">
                <a:moveTo>
                  <a:pt x="22460" y="0"/>
                </a:moveTo>
                <a:lnTo>
                  <a:pt x="22460" y="21600"/>
                </a:lnTo>
                <a:lnTo>
                  <a:pt x="21060" y="20200"/>
                </a:lnTo>
                <a:lnTo>
                  <a:pt x="21060" y="1400"/>
                </a:lnTo>
                <a:close/>
              </a:path>
              <a:path fill="darkenLess" w="22460" h="21600">
                <a:moveTo>
                  <a:pt x="224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60" y="20200"/>
                </a:lnTo>
                <a:close/>
              </a:path>
              <a:path fill="lighten" w="224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Хім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1000" fill="hold"/>
                                        <p:tgtEl>
                                          <p:spTgt spid="16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" dur="1000" fill="hold"/>
                                        <p:tgtEl>
                                          <p:spTgt spid="16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5" dur="1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0" dur="1000" fill="hold"/>
                                        <p:tgtEl>
                                          <p:spTgt spid="16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" dur="1000" fill="hold"/>
                                        <p:tgtEl>
                                          <p:spTgt spid="16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0" dur="1000" fill="hold"/>
                                        <p:tgtEl>
                                          <p:spTgt spid="16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1000" fill="hold"/>
                                        <p:tgtEl>
                                          <p:spTgt spid="17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1000" fill="hold"/>
                                        <p:tgtEl>
                                          <p:spTgt spid="17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5" dur="1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76360" y="980640"/>
            <a:ext cx="2989440" cy="8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Tahoma"/>
              </a:rPr>
              <a:t>Фізика 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000240" y="4643280"/>
            <a:ext cx="3456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Tahoma"/>
              </a:rPr>
              <a:t>Деформаці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571680" y="2071800"/>
            <a:ext cx="83581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ahoma"/>
              </a:rPr>
              <a:t>Зміна форми і розмірів тіла в результаті дії на нього сили – це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442908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9900"/>
                </a:solidFill>
                <a:latin typeface="Tahoma"/>
              </a:rPr>
              <a:t>Фізика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214200" y="2928960"/>
            <a:ext cx="914400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ahoma"/>
              </a:rPr>
              <a:t>Які пристрої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ahoma"/>
              </a:rPr>
              <a:t>для нагромадження і збереження електричної енергії зображено на малюнку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"/>
          <p:cNvPicPr/>
          <p:nvPr/>
        </p:nvPicPr>
        <p:blipFill>
          <a:blip r:embed="rId1"/>
          <a:srcRect l="0" t="10753" r="44621" b="29035"/>
          <a:stretch/>
        </p:blipFill>
        <p:spPr>
          <a:xfrm>
            <a:off x="4143240" y="0"/>
            <a:ext cx="5000760" cy="306072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5">
            <a:hlinkClick r:id="rId2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1785960" y="5500800"/>
            <a:ext cx="705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9900"/>
                </a:solidFill>
                <a:latin typeface="Tahoma"/>
              </a:rPr>
              <a:t>Конденсатор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8000"/>
                </a:solidFill>
                <a:latin typeface="Tahoma"/>
              </a:rPr>
              <a:t>Фізика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714240" y="1785960"/>
            <a:ext cx="807264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ahoma"/>
                <a:ea typeface="Arial"/>
              </a:rPr>
              <a:t>Якщо на морозі видихнут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ahoma"/>
                <a:ea typeface="Arial"/>
              </a:rPr>
              <a:t>повітря, то утворюєтьс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ahoma"/>
                <a:ea typeface="Arial"/>
              </a:rPr>
              <a:t>туман. Чому? </a:t>
            </a: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1857240" y="4714920"/>
            <a:ext cx="52578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6600"/>
                </a:solidFill>
                <a:latin typeface="Tahoma"/>
              </a:rPr>
              <a:t>Водяна пара в результаті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6600"/>
                </a:solidFill>
                <a:latin typeface="Tahoma"/>
              </a:rPr>
              <a:t>охолодженн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6600"/>
                </a:solidFill>
                <a:latin typeface="Tahoma"/>
              </a:rPr>
              <a:t>конденсуєтьс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3743280" cy="105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Tahoma"/>
              </a:rPr>
              <a:t>Біологія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2357280" y="5214960"/>
            <a:ext cx="3961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0000"/>
                </a:solidFill>
                <a:latin typeface="Tahoma"/>
              </a:rPr>
              <a:t>Вод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1071720" y="1714680"/>
            <a:ext cx="705636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ahoma"/>
              </a:rPr>
              <a:t>Без якого мінералу людина не може жити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5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442908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9900"/>
                </a:solidFill>
                <a:latin typeface="Tahoma"/>
              </a:rPr>
              <a:t>Біологія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857160" y="1643040"/>
            <a:ext cx="74883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Tahoma"/>
              </a:rPr>
              <a:t>Хвороба що уражає імунітет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928880" y="5072040"/>
            <a:ext cx="496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9900"/>
                </a:solidFill>
                <a:latin typeface="Tahoma"/>
              </a:rPr>
              <a:t>СНІ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5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56840" y="2214360"/>
            <a:ext cx="7417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Arial"/>
              </a:rPr>
              <a:t>Думаємо колективно,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Arial"/>
              </a:rPr>
              <a:t>Працюємо оперативно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Arial"/>
              </a:rPr>
              <a:t>Сперечаємося доказово –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Arial"/>
              </a:rPr>
              <a:t>Це для всіх обов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uk-UA" sz="4400" spc="-1" strike="noStrike">
                <a:solidFill>
                  <a:srgbClr val="ffff00"/>
                </a:solidFill>
                <a:latin typeface="Arial"/>
              </a:rPr>
              <a:t>язково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8000"/>
                </a:solidFill>
                <a:latin typeface="Tahoma"/>
              </a:rPr>
              <a:t>Біологія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1214280" y="1785960"/>
            <a:ext cx="71298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ahoma"/>
              </a:rPr>
              <a:t>Хто вони: той, що найчастіше в мішку, та кращий друг його господаря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3286080" y="5429160"/>
            <a:ext cx="2735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8000"/>
                </a:solidFill>
                <a:latin typeface="Tahoma"/>
              </a:rPr>
              <a:t>Кіт і собака</a:t>
            </a:r>
            <a:r>
              <a:rPr b="0" lang="uk-UA" sz="6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6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76360" y="980640"/>
            <a:ext cx="2989440" cy="8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Tahoma"/>
              </a:rPr>
              <a:t>Хімія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1403280" y="5445000"/>
            <a:ext cx="6048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0000"/>
                </a:solidFill>
                <a:latin typeface="Tahoma"/>
              </a:rPr>
              <a:t>Вуглекислий газ</a:t>
            </a:r>
            <a:r>
              <a:rPr b="0" lang="uk-UA" sz="5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928800" y="1857240"/>
            <a:ext cx="76327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ahoma"/>
              </a:rPr>
              <a:t>Якщо на соду подіяти столовим оцтом, то утворюється речовина, що є розпушувачем тіста. Яка це речови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7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442908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9900"/>
                </a:solidFill>
                <a:latin typeface="Tahoma"/>
              </a:rPr>
              <a:t>Хімія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1428840" y="1785960"/>
            <a:ext cx="6480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ahoma"/>
              </a:rPr>
              <a:t>Як називається елемент – основа живої природи?</a:t>
            </a:r>
            <a:r>
              <a:rPr b="0" lang="uk-UA" sz="4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1763640" y="4869000"/>
            <a:ext cx="5832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9900"/>
                </a:solidFill>
                <a:latin typeface="Tahoma"/>
              </a:rPr>
              <a:t>Карбо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6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8000"/>
                </a:solidFill>
                <a:latin typeface="Tahoma"/>
              </a:rPr>
              <a:t>Хімія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928800" y="1857240"/>
            <a:ext cx="74563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ahoma"/>
              </a:rPr>
              <a:t>Речовина, що змінює своє забарвлення залежно від </a:t>
            </a: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pH</a:t>
            </a:r>
            <a:r>
              <a:rPr b="1" lang="uk-UA" sz="4800" spc="-1" strike="noStrike">
                <a:solidFill>
                  <a:srgbClr val="000000"/>
                </a:solidFill>
                <a:latin typeface="Tahoma"/>
              </a:rPr>
              <a:t> середовища</a:t>
            </a: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Arial"/>
              </a:rPr>
              <a:t>?</a:t>
            </a:r>
            <a:r>
              <a:rPr b="1" lang="uk-UA" sz="4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4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2428920" y="5357880"/>
            <a:ext cx="4608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8000"/>
                </a:solidFill>
                <a:latin typeface="Tahoma"/>
              </a:rPr>
              <a:t>Індикатор</a:t>
            </a:r>
            <a:r>
              <a:rPr b="1" lang="uk-UA" sz="5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2636640"/>
            <a:ext cx="1295280" cy="15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333399"/>
                </a:solidFill>
                <a:latin typeface="Tahoma"/>
              </a:rPr>
              <a:t>ІІІ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AutoShape 3">
            <a:hlinkClick r:id="rId1" action="ppaction://hlinksldjump"/>
          </p:cNvPr>
          <p:cNvSpPr/>
          <p:nvPr/>
        </p:nvSpPr>
        <p:spPr>
          <a:xfrm>
            <a:off x="1908000" y="1052640"/>
            <a:ext cx="1872000" cy="1798560"/>
          </a:xfrm>
          <a:custGeom>
            <a:avLst/>
            <a:gdLst>
              <a:gd name="textAreaLeft" fmla="*/ 116280 w 1872000"/>
              <a:gd name="textAreaRight" fmla="*/ 1755720 w 1872000"/>
              <a:gd name="textAreaTop" fmla="*/ 116280 h 1798560"/>
              <a:gd name="textAreaBottom" fmla="*/ 1682280 h 1798560"/>
            </a:gdLst>
            <a:ahLst/>
            <a:rect l="textAreaLeft" t="textAreaTop" r="textAreaRight" b="textAreaBottom"/>
            <a:pathLst>
              <a:path w="22482" h="21600">
                <a:moveTo>
                  <a:pt x="0" y="0"/>
                </a:moveTo>
                <a:lnTo>
                  <a:pt x="22482" y="0"/>
                </a:lnTo>
                <a:lnTo>
                  <a:pt x="22482" y="21600"/>
                </a:lnTo>
                <a:lnTo>
                  <a:pt x="0" y="21600"/>
                </a:lnTo>
                <a:close/>
              </a:path>
              <a:path fill="lightenLess" w="22482" h="21600">
                <a:moveTo>
                  <a:pt x="0" y="0"/>
                </a:moveTo>
                <a:lnTo>
                  <a:pt x="22482" y="0"/>
                </a:lnTo>
                <a:lnTo>
                  <a:pt x="21082" y="1400"/>
                </a:lnTo>
                <a:lnTo>
                  <a:pt x="1400" y="1400"/>
                </a:lnTo>
                <a:close/>
              </a:path>
              <a:path fill="darken" w="22482" h="21600">
                <a:moveTo>
                  <a:pt x="22482" y="0"/>
                </a:moveTo>
                <a:lnTo>
                  <a:pt x="22482" y="21600"/>
                </a:lnTo>
                <a:lnTo>
                  <a:pt x="21082" y="20200"/>
                </a:lnTo>
                <a:lnTo>
                  <a:pt x="21082" y="1400"/>
                </a:lnTo>
                <a:close/>
              </a:path>
              <a:path fill="darkenLess" w="22482" h="21600">
                <a:moveTo>
                  <a:pt x="224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82" y="20200"/>
                </a:lnTo>
                <a:close/>
              </a:path>
              <a:path fill="lighten" w="224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Фі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4">
            <a:hlinkClick r:id="rId2" action="ppaction://hlinksldjump"/>
          </p:cNvPr>
          <p:cNvSpPr/>
          <p:nvPr/>
        </p:nvSpPr>
        <p:spPr>
          <a:xfrm>
            <a:off x="1908000" y="2997360"/>
            <a:ext cx="1872000" cy="1728720"/>
          </a:xfrm>
          <a:custGeom>
            <a:avLst/>
            <a:gdLst>
              <a:gd name="textAreaLeft" fmla="*/ 111960 w 1872000"/>
              <a:gd name="textAreaRight" fmla="*/ 1760040 w 187200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3390" h="21600">
                <a:moveTo>
                  <a:pt x="0" y="0"/>
                </a:moveTo>
                <a:lnTo>
                  <a:pt x="23390" y="0"/>
                </a:lnTo>
                <a:lnTo>
                  <a:pt x="23390" y="21600"/>
                </a:lnTo>
                <a:lnTo>
                  <a:pt x="0" y="21600"/>
                </a:lnTo>
                <a:close/>
              </a:path>
              <a:path fill="lightenLess" w="23390" h="21600">
                <a:moveTo>
                  <a:pt x="0" y="0"/>
                </a:moveTo>
                <a:lnTo>
                  <a:pt x="23390" y="0"/>
                </a:lnTo>
                <a:lnTo>
                  <a:pt x="21990" y="1400"/>
                </a:lnTo>
                <a:lnTo>
                  <a:pt x="1400" y="1400"/>
                </a:lnTo>
                <a:close/>
              </a:path>
              <a:path fill="darken" w="23390" h="21600">
                <a:moveTo>
                  <a:pt x="23390" y="0"/>
                </a:moveTo>
                <a:lnTo>
                  <a:pt x="23390" y="21600"/>
                </a:lnTo>
                <a:lnTo>
                  <a:pt x="21990" y="20200"/>
                </a:lnTo>
                <a:lnTo>
                  <a:pt x="21990" y="1400"/>
                </a:lnTo>
                <a:close/>
              </a:path>
              <a:path fill="darkenLess" w="23390" h="21600">
                <a:moveTo>
                  <a:pt x="23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0" y="20200"/>
                </a:lnTo>
                <a:close/>
              </a:path>
              <a:path fill="lighten" w="23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Фі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5">
            <a:hlinkClick r:id="rId3" action="ppaction://hlinksldjump"/>
          </p:cNvPr>
          <p:cNvSpPr/>
          <p:nvPr/>
        </p:nvSpPr>
        <p:spPr>
          <a:xfrm>
            <a:off x="1908000" y="4869000"/>
            <a:ext cx="1872000" cy="1800000"/>
          </a:xfrm>
          <a:custGeom>
            <a:avLst/>
            <a:gdLst>
              <a:gd name="textAreaLeft" fmla="*/ 116640 w 1872000"/>
              <a:gd name="textAreaRight" fmla="*/ 1755360 w 1872000"/>
              <a:gd name="textAreaTop" fmla="*/ 116640 h 1800000"/>
              <a:gd name="textAreaBottom" fmla="*/ 1683360 h 1800000"/>
            </a:gdLst>
            <a:ahLst/>
            <a:rect l="textAreaLeft" t="textAreaTop" r="textAreaRight" b="textAreaBottom"/>
            <a:pathLst>
              <a:path w="22464" h="21600">
                <a:moveTo>
                  <a:pt x="0" y="0"/>
                </a:moveTo>
                <a:lnTo>
                  <a:pt x="22464" y="0"/>
                </a:lnTo>
                <a:lnTo>
                  <a:pt x="22464" y="21600"/>
                </a:lnTo>
                <a:lnTo>
                  <a:pt x="0" y="21600"/>
                </a:lnTo>
                <a:close/>
              </a:path>
              <a:path fill="lightenLess" w="22464" h="21600">
                <a:moveTo>
                  <a:pt x="0" y="0"/>
                </a:moveTo>
                <a:lnTo>
                  <a:pt x="22464" y="0"/>
                </a:lnTo>
                <a:lnTo>
                  <a:pt x="21064" y="1400"/>
                </a:lnTo>
                <a:lnTo>
                  <a:pt x="1400" y="1400"/>
                </a:lnTo>
                <a:close/>
              </a:path>
              <a:path fill="darken" w="22464" h="21600">
                <a:moveTo>
                  <a:pt x="22464" y="0"/>
                </a:moveTo>
                <a:lnTo>
                  <a:pt x="22464" y="21600"/>
                </a:lnTo>
                <a:lnTo>
                  <a:pt x="21064" y="20200"/>
                </a:lnTo>
                <a:lnTo>
                  <a:pt x="21064" y="1400"/>
                </a:lnTo>
                <a:close/>
              </a:path>
              <a:path fill="darkenLess" w="22464" h="21600">
                <a:moveTo>
                  <a:pt x="224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64" y="20200"/>
                </a:lnTo>
                <a:close/>
              </a:path>
              <a:path fill="lighten" w="224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Фі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">
            <a:hlinkClick r:id="rId4" action="ppaction://hlinksldjump"/>
          </p:cNvPr>
          <p:cNvSpPr/>
          <p:nvPr/>
        </p:nvSpPr>
        <p:spPr>
          <a:xfrm>
            <a:off x="3924360" y="1052640"/>
            <a:ext cx="1873080" cy="1798560"/>
          </a:xfrm>
          <a:custGeom>
            <a:avLst/>
            <a:gdLst>
              <a:gd name="textAreaLeft" fmla="*/ 116280 w 1873080"/>
              <a:gd name="textAreaRight" fmla="*/ 1756800 w 1873080"/>
              <a:gd name="textAreaTop" fmla="*/ 116280 h 1798560"/>
              <a:gd name="textAreaBottom" fmla="*/ 1682280 h 1798560"/>
            </a:gdLst>
            <a:ahLst/>
            <a:rect l="textAreaLeft" t="textAreaTop" r="textAreaRight" b="textAreaBottom"/>
            <a:pathLst>
              <a:path w="22495" h="21600">
                <a:moveTo>
                  <a:pt x="0" y="0"/>
                </a:moveTo>
                <a:lnTo>
                  <a:pt x="22495" y="0"/>
                </a:lnTo>
                <a:lnTo>
                  <a:pt x="22495" y="21600"/>
                </a:lnTo>
                <a:lnTo>
                  <a:pt x="0" y="21600"/>
                </a:lnTo>
                <a:close/>
              </a:path>
              <a:path fill="lightenLess" w="22495" h="21600">
                <a:moveTo>
                  <a:pt x="0" y="0"/>
                </a:moveTo>
                <a:lnTo>
                  <a:pt x="22495" y="0"/>
                </a:lnTo>
                <a:lnTo>
                  <a:pt x="21095" y="1400"/>
                </a:lnTo>
                <a:lnTo>
                  <a:pt x="1400" y="1400"/>
                </a:lnTo>
                <a:close/>
              </a:path>
              <a:path fill="darken" w="22495" h="21600">
                <a:moveTo>
                  <a:pt x="22495" y="0"/>
                </a:moveTo>
                <a:lnTo>
                  <a:pt x="22495" y="21600"/>
                </a:lnTo>
                <a:lnTo>
                  <a:pt x="21095" y="20200"/>
                </a:lnTo>
                <a:lnTo>
                  <a:pt x="21095" y="1400"/>
                </a:lnTo>
                <a:close/>
              </a:path>
              <a:path fill="darkenLess" w="22495" h="21600">
                <a:moveTo>
                  <a:pt x="224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95" y="20200"/>
                </a:lnTo>
                <a:close/>
              </a:path>
              <a:path fill="lighten" w="224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Біолог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">
            <a:hlinkClick r:id="rId5" action="ppaction://hlinksldjump"/>
          </p:cNvPr>
          <p:cNvSpPr/>
          <p:nvPr/>
        </p:nvSpPr>
        <p:spPr>
          <a:xfrm>
            <a:off x="3924360" y="2997360"/>
            <a:ext cx="1873080" cy="1725480"/>
          </a:xfrm>
          <a:custGeom>
            <a:avLst/>
            <a:gdLst>
              <a:gd name="textAreaLeft" fmla="*/ 111600 w 1873080"/>
              <a:gd name="textAreaRight" fmla="*/ 1761480 w 1873080"/>
              <a:gd name="textAreaTop" fmla="*/ 111600 h 1725480"/>
              <a:gd name="textAreaBottom" fmla="*/ 1613880 h 1725480"/>
            </a:gdLst>
            <a:ahLst/>
            <a:rect l="textAreaLeft" t="textAreaTop" r="textAreaRight" b="textAreaBottom"/>
            <a:pathLst>
              <a:path w="23447" h="21600">
                <a:moveTo>
                  <a:pt x="0" y="0"/>
                </a:moveTo>
                <a:lnTo>
                  <a:pt x="23447" y="0"/>
                </a:lnTo>
                <a:lnTo>
                  <a:pt x="23447" y="21600"/>
                </a:lnTo>
                <a:lnTo>
                  <a:pt x="0" y="21600"/>
                </a:lnTo>
                <a:close/>
              </a:path>
              <a:path fill="lightenLess" w="23447" h="21600">
                <a:moveTo>
                  <a:pt x="0" y="0"/>
                </a:moveTo>
                <a:lnTo>
                  <a:pt x="23447" y="0"/>
                </a:lnTo>
                <a:lnTo>
                  <a:pt x="22047" y="1400"/>
                </a:lnTo>
                <a:lnTo>
                  <a:pt x="1400" y="1400"/>
                </a:lnTo>
                <a:close/>
              </a:path>
              <a:path fill="darken" w="23447" h="21600">
                <a:moveTo>
                  <a:pt x="23447" y="0"/>
                </a:moveTo>
                <a:lnTo>
                  <a:pt x="23447" y="21600"/>
                </a:lnTo>
                <a:lnTo>
                  <a:pt x="22047" y="20200"/>
                </a:lnTo>
                <a:lnTo>
                  <a:pt x="22047" y="1400"/>
                </a:lnTo>
                <a:close/>
              </a:path>
              <a:path fill="darkenLess" w="23447" h="21600">
                <a:moveTo>
                  <a:pt x="23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47" y="20200"/>
                </a:lnTo>
                <a:close/>
              </a:path>
              <a:path fill="lighten" w="23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Біолог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8">
            <a:hlinkClick r:id="rId6" action="ppaction://hlinksldjump"/>
          </p:cNvPr>
          <p:cNvSpPr/>
          <p:nvPr/>
        </p:nvSpPr>
        <p:spPr>
          <a:xfrm>
            <a:off x="3924360" y="4869000"/>
            <a:ext cx="1873080" cy="1798560"/>
          </a:xfrm>
          <a:custGeom>
            <a:avLst/>
            <a:gdLst>
              <a:gd name="textAreaLeft" fmla="*/ 116280 w 1873080"/>
              <a:gd name="textAreaRight" fmla="*/ 1756800 w 1873080"/>
              <a:gd name="textAreaTop" fmla="*/ 116280 h 1798560"/>
              <a:gd name="textAreaBottom" fmla="*/ 1682280 h 1798560"/>
            </a:gdLst>
            <a:ahLst/>
            <a:rect l="textAreaLeft" t="textAreaTop" r="textAreaRight" b="textAreaBottom"/>
            <a:pathLst>
              <a:path w="22495" h="21600">
                <a:moveTo>
                  <a:pt x="0" y="0"/>
                </a:moveTo>
                <a:lnTo>
                  <a:pt x="22495" y="0"/>
                </a:lnTo>
                <a:lnTo>
                  <a:pt x="22495" y="21600"/>
                </a:lnTo>
                <a:lnTo>
                  <a:pt x="0" y="21600"/>
                </a:lnTo>
                <a:close/>
              </a:path>
              <a:path fill="lightenLess" w="22495" h="21600">
                <a:moveTo>
                  <a:pt x="0" y="0"/>
                </a:moveTo>
                <a:lnTo>
                  <a:pt x="22495" y="0"/>
                </a:lnTo>
                <a:lnTo>
                  <a:pt x="21095" y="1400"/>
                </a:lnTo>
                <a:lnTo>
                  <a:pt x="1400" y="1400"/>
                </a:lnTo>
                <a:close/>
              </a:path>
              <a:path fill="darken" w="22495" h="21600">
                <a:moveTo>
                  <a:pt x="22495" y="0"/>
                </a:moveTo>
                <a:lnTo>
                  <a:pt x="22495" y="21600"/>
                </a:lnTo>
                <a:lnTo>
                  <a:pt x="21095" y="20200"/>
                </a:lnTo>
                <a:lnTo>
                  <a:pt x="21095" y="1400"/>
                </a:lnTo>
                <a:close/>
              </a:path>
              <a:path fill="darkenLess" w="22495" h="21600">
                <a:moveTo>
                  <a:pt x="224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95" y="20200"/>
                </a:lnTo>
                <a:close/>
              </a:path>
              <a:path fill="lighten" w="224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Біолог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2">
            <a:hlinkClick r:id="rId7" action="ppaction://hlinksldjump"/>
          </p:cNvPr>
          <p:cNvSpPr/>
          <p:nvPr/>
        </p:nvSpPr>
        <p:spPr>
          <a:xfrm>
            <a:off x="179280" y="4149720"/>
            <a:ext cx="1440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ahoma"/>
              </a:rPr>
              <a:t>раун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3">
            <a:hlinkClick r:id="rId8" action="ppaction://hlinksldjump"/>
          </p:cNvPr>
          <p:cNvSpPr/>
          <p:nvPr/>
        </p:nvSpPr>
        <p:spPr>
          <a:xfrm>
            <a:off x="5940360" y="1052640"/>
            <a:ext cx="1800360" cy="1800000"/>
          </a:xfrm>
          <a:custGeom>
            <a:avLst/>
            <a:gdLst>
              <a:gd name="textAreaLeft" fmla="*/ 116640 w 1800360"/>
              <a:gd name="textAreaRight" fmla="*/ 1683720 w 1800360"/>
              <a:gd name="textAreaTop" fmla="*/ 116640 h 1800000"/>
              <a:gd name="textAreaBottom" fmla="*/ 1683360 h 1800000"/>
            </a:gdLst>
            <a:ahLst/>
            <a:rect l="textAreaLeft" t="textAreaTop" r="textAreaRight" b="textAreaBottom"/>
            <a:pathLst>
              <a:path w="21604" h="21600">
                <a:moveTo>
                  <a:pt x="0" y="0"/>
                </a:moveTo>
                <a:lnTo>
                  <a:pt x="21604" y="0"/>
                </a:lnTo>
                <a:lnTo>
                  <a:pt x="21604" y="21600"/>
                </a:lnTo>
                <a:lnTo>
                  <a:pt x="0" y="21600"/>
                </a:lnTo>
                <a:close/>
              </a:path>
              <a:path fill="lightenLess" w="21604" h="21600">
                <a:moveTo>
                  <a:pt x="0" y="0"/>
                </a:moveTo>
                <a:lnTo>
                  <a:pt x="21604" y="0"/>
                </a:lnTo>
                <a:lnTo>
                  <a:pt x="20204" y="1400"/>
                </a:lnTo>
                <a:lnTo>
                  <a:pt x="1400" y="1400"/>
                </a:lnTo>
                <a:close/>
              </a:path>
              <a:path fill="darken" w="21604" h="21600">
                <a:moveTo>
                  <a:pt x="21604" y="0"/>
                </a:moveTo>
                <a:lnTo>
                  <a:pt x="21604" y="21600"/>
                </a:lnTo>
                <a:lnTo>
                  <a:pt x="20204" y="20200"/>
                </a:lnTo>
                <a:lnTo>
                  <a:pt x="20204" y="1400"/>
                </a:lnTo>
                <a:close/>
              </a:path>
              <a:path fill="darkenLess" w="21604" h="21600">
                <a:moveTo>
                  <a:pt x="216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4" y="20200"/>
                </a:lnTo>
                <a:close/>
              </a:path>
              <a:path fill="lighten" w="216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Хім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4">
            <a:hlinkClick r:id="rId9" action="ppaction://hlinksldjump"/>
          </p:cNvPr>
          <p:cNvSpPr/>
          <p:nvPr/>
        </p:nvSpPr>
        <p:spPr>
          <a:xfrm>
            <a:off x="5940360" y="2997360"/>
            <a:ext cx="1800360" cy="1726920"/>
          </a:xfrm>
          <a:custGeom>
            <a:avLst/>
            <a:gdLst>
              <a:gd name="textAreaLeft" fmla="*/ 111600 w 1800360"/>
              <a:gd name="textAreaRight" fmla="*/ 1688760 w 1800360"/>
              <a:gd name="textAreaTop" fmla="*/ 111600 h 1726920"/>
              <a:gd name="textAreaBottom" fmla="*/ 1615320 h 1726920"/>
            </a:gdLst>
            <a:ahLst/>
            <a:rect l="textAreaLeft" t="textAreaTop" r="textAreaRight" b="textAreaBottom"/>
            <a:pathLst>
              <a:path w="22518" h="21600">
                <a:moveTo>
                  <a:pt x="0" y="0"/>
                </a:moveTo>
                <a:lnTo>
                  <a:pt x="22518" y="0"/>
                </a:lnTo>
                <a:lnTo>
                  <a:pt x="22518" y="21600"/>
                </a:lnTo>
                <a:lnTo>
                  <a:pt x="0" y="21600"/>
                </a:lnTo>
                <a:close/>
              </a:path>
              <a:path fill="lightenLess" w="22518" h="21600">
                <a:moveTo>
                  <a:pt x="0" y="0"/>
                </a:moveTo>
                <a:lnTo>
                  <a:pt x="22518" y="0"/>
                </a:lnTo>
                <a:lnTo>
                  <a:pt x="21118" y="1400"/>
                </a:lnTo>
                <a:lnTo>
                  <a:pt x="1400" y="1400"/>
                </a:lnTo>
                <a:close/>
              </a:path>
              <a:path fill="darken" w="22518" h="21600">
                <a:moveTo>
                  <a:pt x="22518" y="0"/>
                </a:moveTo>
                <a:lnTo>
                  <a:pt x="22518" y="21600"/>
                </a:lnTo>
                <a:lnTo>
                  <a:pt x="21118" y="20200"/>
                </a:lnTo>
                <a:lnTo>
                  <a:pt x="21118" y="1400"/>
                </a:lnTo>
                <a:close/>
              </a:path>
              <a:path fill="darkenLess" w="22518" h="21600">
                <a:moveTo>
                  <a:pt x="22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18" y="20200"/>
                </a:lnTo>
                <a:close/>
              </a:path>
              <a:path fill="lighten" w="22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Хім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5">
            <a:hlinkClick r:id="rId10" action="ppaction://hlinksldjump"/>
          </p:cNvPr>
          <p:cNvSpPr/>
          <p:nvPr/>
        </p:nvSpPr>
        <p:spPr>
          <a:xfrm>
            <a:off x="5940360" y="4869000"/>
            <a:ext cx="1800360" cy="1726920"/>
          </a:xfrm>
          <a:custGeom>
            <a:avLst/>
            <a:gdLst>
              <a:gd name="textAreaLeft" fmla="*/ 111600 w 1800360"/>
              <a:gd name="textAreaRight" fmla="*/ 1688760 w 1800360"/>
              <a:gd name="textAreaTop" fmla="*/ 111600 h 1726920"/>
              <a:gd name="textAreaBottom" fmla="*/ 1615320 h 1726920"/>
            </a:gdLst>
            <a:ahLst/>
            <a:rect l="textAreaLeft" t="textAreaTop" r="textAreaRight" b="textAreaBottom"/>
            <a:pathLst>
              <a:path w="22518" h="21600">
                <a:moveTo>
                  <a:pt x="0" y="0"/>
                </a:moveTo>
                <a:lnTo>
                  <a:pt x="22518" y="0"/>
                </a:lnTo>
                <a:lnTo>
                  <a:pt x="22518" y="21600"/>
                </a:lnTo>
                <a:lnTo>
                  <a:pt x="0" y="21600"/>
                </a:lnTo>
                <a:close/>
              </a:path>
              <a:path fill="lightenLess" w="22518" h="21600">
                <a:moveTo>
                  <a:pt x="0" y="0"/>
                </a:moveTo>
                <a:lnTo>
                  <a:pt x="22518" y="0"/>
                </a:lnTo>
                <a:lnTo>
                  <a:pt x="21118" y="1400"/>
                </a:lnTo>
                <a:lnTo>
                  <a:pt x="1400" y="1400"/>
                </a:lnTo>
                <a:close/>
              </a:path>
              <a:path fill="darken" w="22518" h="21600">
                <a:moveTo>
                  <a:pt x="22518" y="0"/>
                </a:moveTo>
                <a:lnTo>
                  <a:pt x="22518" y="21600"/>
                </a:lnTo>
                <a:lnTo>
                  <a:pt x="21118" y="20200"/>
                </a:lnTo>
                <a:lnTo>
                  <a:pt x="21118" y="1400"/>
                </a:lnTo>
                <a:close/>
              </a:path>
              <a:path fill="darkenLess" w="22518" h="21600">
                <a:moveTo>
                  <a:pt x="22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18" y="20200"/>
                </a:lnTo>
                <a:close/>
              </a:path>
              <a:path fill="lighten" w="22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Хім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1000" fill="hold"/>
                                        <p:tgtEl>
                                          <p:spTgt spid="21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9" dur="1000" fill="hold"/>
                                        <p:tgtEl>
                                          <p:spTgt spid="21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4" dur="1000" fill="hold"/>
                                        <p:tgtEl>
                                          <p:spTgt spid="21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9" dur="1000" fill="hold"/>
                                        <p:tgtEl>
                                          <p:spTgt spid="21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4" dur="1000" fill="hold"/>
                                        <p:tgtEl>
                                          <p:spTgt spid="21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9" dur="1000" fill="hold"/>
                                        <p:tgtEl>
                                          <p:spTgt spid="21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4" dur="1000" fill="hold"/>
                                        <p:tgtEl>
                                          <p:spTgt spid="21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9" dur="1000" fill="hold"/>
                                        <p:tgtEl>
                                          <p:spTgt spid="22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4" dur="1000" fill="hold"/>
                                        <p:tgtEl>
                                          <p:spTgt spid="22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76360" y="980640"/>
            <a:ext cx="2989440" cy="8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Tahoma"/>
              </a:rPr>
              <a:t>Фізика 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2340000" y="5157720"/>
            <a:ext cx="446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Arial"/>
              </a:rPr>
              <a:t>Коливанн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900000" y="2349360"/>
            <a:ext cx="73454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ahoma"/>
              </a:rPr>
              <a:t>Як називається рух, що повторюється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5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442908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9900"/>
                </a:solidFill>
                <a:latin typeface="Tahoma"/>
              </a:rPr>
              <a:t>Фізика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1071720" y="2276640"/>
            <a:ext cx="69562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ahoma"/>
              </a:rPr>
              <a:t>Що допоможе знайти голку в стіжку сіна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1763640" y="4869000"/>
            <a:ext cx="5832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9900"/>
                </a:solidFill>
                <a:latin typeface="Tahoma"/>
              </a:rPr>
              <a:t>Магні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5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8000"/>
                </a:solidFill>
                <a:latin typeface="Tahoma"/>
              </a:rPr>
              <a:t>Фізика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1857240" y="2643120"/>
            <a:ext cx="59072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ahoma"/>
              </a:rPr>
              <a:t>З грецької слово “вакуум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ahoma"/>
              </a:rPr>
              <a:t>перекладається як “пустота”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ahoma"/>
              </a:rPr>
              <a:t>Перекладіть з грецько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uk-UA" sz="4400" spc="-1" strike="noStrike">
                <a:solidFill>
                  <a:srgbClr val="000000"/>
                </a:solidFill>
                <a:latin typeface="Tahoma"/>
              </a:rPr>
              <a:t>слово “електрон”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500040" y="5214960"/>
            <a:ext cx="7920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8000"/>
                </a:solidFill>
                <a:latin typeface="Tahoma"/>
              </a:rPr>
              <a:t>Бурштин, янта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5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3743280" cy="105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Tahoma"/>
              </a:rPr>
              <a:t>Біологія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2643120" y="5143680"/>
            <a:ext cx="3960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0000"/>
                </a:solidFill>
                <a:latin typeface="Tahoma"/>
              </a:rPr>
              <a:t>Картопл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500040" y="2000160"/>
            <a:ext cx="842976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000000"/>
                </a:solidFill>
                <a:latin typeface="Tahoma"/>
              </a:rPr>
              <a:t>У індійців – «ПАПА»,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uk-UA" sz="5000" spc="-1" strike="noStrike">
                <a:solidFill>
                  <a:srgbClr val="000000"/>
                </a:solidFill>
                <a:latin typeface="Tahoma"/>
              </a:rPr>
              <a:t>у іспанців – «ТАРТУФОЛО». А у нас?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5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442908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9900"/>
                </a:solidFill>
                <a:latin typeface="Tahoma"/>
              </a:rPr>
              <a:t>Біологія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1000080" y="2071800"/>
            <a:ext cx="7488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ahoma"/>
              </a:rPr>
              <a:t>Яке дерево має най товщу кору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1285920" y="4786200"/>
            <a:ext cx="6337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9900"/>
                </a:solidFill>
                <a:latin typeface="Tahoma"/>
              </a:rPr>
              <a:t>Секво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5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4"/>
          <p:cNvSpPr txBox="1"/>
          <p:nvPr/>
        </p:nvSpPr>
        <p:spPr>
          <a:xfrm>
            <a:off x="826920" y="2060640"/>
            <a:ext cx="715644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ІДБІРКОВИЙ ТУР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8000"/>
                </a:solidFill>
                <a:latin typeface="Tahoma"/>
              </a:rPr>
              <a:t>Біологія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428760" y="1857240"/>
            <a:ext cx="8429400" cy="25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ahoma"/>
              </a:rPr>
              <a:t>Який птах є найкращим плавцем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2786040" y="5000760"/>
            <a:ext cx="3960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8000"/>
                </a:solidFill>
                <a:latin typeface="Tahoma"/>
              </a:rPr>
              <a:t>Пінгві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76360" y="980640"/>
            <a:ext cx="2989440" cy="8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Tahoma"/>
              </a:rPr>
              <a:t>Хімія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3059280" y="5229360"/>
            <a:ext cx="3240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0000"/>
                </a:solidFill>
                <a:latin typeface="Tahoma"/>
              </a:rPr>
              <a:t>Ртут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500040" y="2071800"/>
            <a:ext cx="842976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ahoma"/>
              </a:rPr>
              <a:t>У природі існує близько 80 металів, і лише один із них перебуває у рідкому стані. Назвіть цей метал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5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442908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9900"/>
                </a:solidFill>
                <a:latin typeface="Tahoma"/>
              </a:rPr>
              <a:t>Хімія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428760" y="1928880"/>
            <a:ext cx="85010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ahoma"/>
              </a:rPr>
              <a:t>Назва якої країни походить від назви одного з благородних металів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1763640" y="4869000"/>
            <a:ext cx="5832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9900"/>
                </a:solidFill>
                <a:latin typeface="Tahoma"/>
              </a:rPr>
              <a:t>Аргентин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6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8000"/>
                </a:solidFill>
                <a:latin typeface="Tahoma"/>
              </a:rPr>
              <a:t>Хімія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357120" y="2133720"/>
            <a:ext cx="86439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ahoma"/>
              </a:rPr>
              <a:t>Цей газ входить до складу повітря, але його називають «безжиттєвим». Який це газ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2357280" y="5143680"/>
            <a:ext cx="4896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8000"/>
                </a:solidFill>
                <a:latin typeface="Tahoma"/>
              </a:rPr>
              <a:t>Азо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6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3640" y="2636640"/>
            <a:ext cx="1223640" cy="16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333399"/>
                </a:solidFill>
                <a:latin typeface="Tahoma"/>
              </a:rPr>
              <a:t>І</a:t>
            </a:r>
            <a:r>
              <a:rPr b="0" lang="en-US" sz="8000" spc="-1" strike="noStrike">
                <a:solidFill>
                  <a:srgbClr val="333399"/>
                </a:solidFill>
                <a:latin typeface="Tahoma"/>
              </a:rPr>
              <a:t>V</a:t>
            </a:r>
            <a:endParaRPr b="0" lang="en-US" sz="8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AutoShape 3">
            <a:hlinkClick r:id="rId1" action="ppaction://hlinksldjump"/>
          </p:cNvPr>
          <p:cNvSpPr/>
          <p:nvPr/>
        </p:nvSpPr>
        <p:spPr>
          <a:xfrm>
            <a:off x="1908000" y="1052640"/>
            <a:ext cx="1872000" cy="1798560"/>
          </a:xfrm>
          <a:custGeom>
            <a:avLst/>
            <a:gdLst>
              <a:gd name="textAreaLeft" fmla="*/ 116280 w 1872000"/>
              <a:gd name="textAreaRight" fmla="*/ 1755720 w 1872000"/>
              <a:gd name="textAreaTop" fmla="*/ 116280 h 1798560"/>
              <a:gd name="textAreaBottom" fmla="*/ 1682280 h 1798560"/>
            </a:gdLst>
            <a:ahLst/>
            <a:rect l="textAreaLeft" t="textAreaTop" r="textAreaRight" b="textAreaBottom"/>
            <a:pathLst>
              <a:path w="22482" h="21600">
                <a:moveTo>
                  <a:pt x="0" y="0"/>
                </a:moveTo>
                <a:lnTo>
                  <a:pt x="22482" y="0"/>
                </a:lnTo>
                <a:lnTo>
                  <a:pt x="22482" y="21600"/>
                </a:lnTo>
                <a:lnTo>
                  <a:pt x="0" y="21600"/>
                </a:lnTo>
                <a:close/>
              </a:path>
              <a:path fill="lightenLess" w="22482" h="21600">
                <a:moveTo>
                  <a:pt x="0" y="0"/>
                </a:moveTo>
                <a:lnTo>
                  <a:pt x="22482" y="0"/>
                </a:lnTo>
                <a:lnTo>
                  <a:pt x="21082" y="1400"/>
                </a:lnTo>
                <a:lnTo>
                  <a:pt x="1400" y="1400"/>
                </a:lnTo>
                <a:close/>
              </a:path>
              <a:path fill="darken" w="22482" h="21600">
                <a:moveTo>
                  <a:pt x="22482" y="0"/>
                </a:moveTo>
                <a:lnTo>
                  <a:pt x="22482" y="21600"/>
                </a:lnTo>
                <a:lnTo>
                  <a:pt x="21082" y="20200"/>
                </a:lnTo>
                <a:lnTo>
                  <a:pt x="21082" y="1400"/>
                </a:lnTo>
                <a:close/>
              </a:path>
              <a:path fill="darkenLess" w="22482" h="21600">
                <a:moveTo>
                  <a:pt x="224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82" y="20200"/>
                </a:lnTo>
                <a:close/>
              </a:path>
              <a:path fill="lighten" w="224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Фі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4">
            <a:hlinkClick r:id="rId2" action="ppaction://hlinksldjump"/>
          </p:cNvPr>
          <p:cNvSpPr/>
          <p:nvPr/>
        </p:nvSpPr>
        <p:spPr>
          <a:xfrm>
            <a:off x="1908000" y="2997360"/>
            <a:ext cx="1872000" cy="1728720"/>
          </a:xfrm>
          <a:custGeom>
            <a:avLst/>
            <a:gdLst>
              <a:gd name="textAreaLeft" fmla="*/ 111960 w 1872000"/>
              <a:gd name="textAreaRight" fmla="*/ 1760040 w 187200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3390" h="21600">
                <a:moveTo>
                  <a:pt x="0" y="0"/>
                </a:moveTo>
                <a:lnTo>
                  <a:pt x="23390" y="0"/>
                </a:lnTo>
                <a:lnTo>
                  <a:pt x="23390" y="21600"/>
                </a:lnTo>
                <a:lnTo>
                  <a:pt x="0" y="21600"/>
                </a:lnTo>
                <a:close/>
              </a:path>
              <a:path fill="lightenLess" w="23390" h="21600">
                <a:moveTo>
                  <a:pt x="0" y="0"/>
                </a:moveTo>
                <a:lnTo>
                  <a:pt x="23390" y="0"/>
                </a:lnTo>
                <a:lnTo>
                  <a:pt x="21990" y="1400"/>
                </a:lnTo>
                <a:lnTo>
                  <a:pt x="1400" y="1400"/>
                </a:lnTo>
                <a:close/>
              </a:path>
              <a:path fill="darken" w="23390" h="21600">
                <a:moveTo>
                  <a:pt x="23390" y="0"/>
                </a:moveTo>
                <a:lnTo>
                  <a:pt x="23390" y="21600"/>
                </a:lnTo>
                <a:lnTo>
                  <a:pt x="21990" y="20200"/>
                </a:lnTo>
                <a:lnTo>
                  <a:pt x="21990" y="1400"/>
                </a:lnTo>
                <a:close/>
              </a:path>
              <a:path fill="darkenLess" w="23390" h="21600">
                <a:moveTo>
                  <a:pt x="23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0" y="20200"/>
                </a:lnTo>
                <a:close/>
              </a:path>
              <a:path fill="lighten" w="23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Фі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5">
            <a:hlinkClick r:id="rId3" action="ppaction://hlinksldjump"/>
          </p:cNvPr>
          <p:cNvSpPr/>
          <p:nvPr/>
        </p:nvSpPr>
        <p:spPr>
          <a:xfrm>
            <a:off x="1908000" y="4869000"/>
            <a:ext cx="1872000" cy="1800000"/>
          </a:xfrm>
          <a:custGeom>
            <a:avLst/>
            <a:gdLst>
              <a:gd name="textAreaLeft" fmla="*/ 116640 w 1872000"/>
              <a:gd name="textAreaRight" fmla="*/ 1755360 w 1872000"/>
              <a:gd name="textAreaTop" fmla="*/ 116640 h 1800000"/>
              <a:gd name="textAreaBottom" fmla="*/ 1683360 h 1800000"/>
            </a:gdLst>
            <a:ahLst/>
            <a:rect l="textAreaLeft" t="textAreaTop" r="textAreaRight" b="textAreaBottom"/>
            <a:pathLst>
              <a:path w="22464" h="21600">
                <a:moveTo>
                  <a:pt x="0" y="0"/>
                </a:moveTo>
                <a:lnTo>
                  <a:pt x="22464" y="0"/>
                </a:lnTo>
                <a:lnTo>
                  <a:pt x="22464" y="21600"/>
                </a:lnTo>
                <a:lnTo>
                  <a:pt x="0" y="21600"/>
                </a:lnTo>
                <a:close/>
              </a:path>
              <a:path fill="lightenLess" w="22464" h="21600">
                <a:moveTo>
                  <a:pt x="0" y="0"/>
                </a:moveTo>
                <a:lnTo>
                  <a:pt x="22464" y="0"/>
                </a:lnTo>
                <a:lnTo>
                  <a:pt x="21064" y="1400"/>
                </a:lnTo>
                <a:lnTo>
                  <a:pt x="1400" y="1400"/>
                </a:lnTo>
                <a:close/>
              </a:path>
              <a:path fill="darken" w="22464" h="21600">
                <a:moveTo>
                  <a:pt x="22464" y="0"/>
                </a:moveTo>
                <a:lnTo>
                  <a:pt x="22464" y="21600"/>
                </a:lnTo>
                <a:lnTo>
                  <a:pt x="21064" y="20200"/>
                </a:lnTo>
                <a:lnTo>
                  <a:pt x="21064" y="1400"/>
                </a:lnTo>
                <a:close/>
              </a:path>
              <a:path fill="darkenLess" w="22464" h="21600">
                <a:moveTo>
                  <a:pt x="224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64" y="20200"/>
                </a:lnTo>
                <a:close/>
              </a:path>
              <a:path fill="lighten" w="224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Фі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6">
            <a:hlinkClick r:id="rId4" action="ppaction://hlinksldjump"/>
          </p:cNvPr>
          <p:cNvSpPr/>
          <p:nvPr/>
        </p:nvSpPr>
        <p:spPr>
          <a:xfrm>
            <a:off x="3924360" y="1052640"/>
            <a:ext cx="1873080" cy="1798560"/>
          </a:xfrm>
          <a:custGeom>
            <a:avLst/>
            <a:gdLst>
              <a:gd name="textAreaLeft" fmla="*/ 116280 w 1873080"/>
              <a:gd name="textAreaRight" fmla="*/ 1756800 w 1873080"/>
              <a:gd name="textAreaTop" fmla="*/ 116280 h 1798560"/>
              <a:gd name="textAreaBottom" fmla="*/ 1682280 h 1798560"/>
            </a:gdLst>
            <a:ahLst/>
            <a:rect l="textAreaLeft" t="textAreaTop" r="textAreaRight" b="textAreaBottom"/>
            <a:pathLst>
              <a:path w="22495" h="21600">
                <a:moveTo>
                  <a:pt x="0" y="0"/>
                </a:moveTo>
                <a:lnTo>
                  <a:pt x="22495" y="0"/>
                </a:lnTo>
                <a:lnTo>
                  <a:pt x="22495" y="21600"/>
                </a:lnTo>
                <a:lnTo>
                  <a:pt x="0" y="21600"/>
                </a:lnTo>
                <a:close/>
              </a:path>
              <a:path fill="lightenLess" w="22495" h="21600">
                <a:moveTo>
                  <a:pt x="0" y="0"/>
                </a:moveTo>
                <a:lnTo>
                  <a:pt x="22495" y="0"/>
                </a:lnTo>
                <a:lnTo>
                  <a:pt x="21095" y="1400"/>
                </a:lnTo>
                <a:lnTo>
                  <a:pt x="1400" y="1400"/>
                </a:lnTo>
                <a:close/>
              </a:path>
              <a:path fill="darken" w="22495" h="21600">
                <a:moveTo>
                  <a:pt x="22495" y="0"/>
                </a:moveTo>
                <a:lnTo>
                  <a:pt x="22495" y="21600"/>
                </a:lnTo>
                <a:lnTo>
                  <a:pt x="21095" y="20200"/>
                </a:lnTo>
                <a:lnTo>
                  <a:pt x="21095" y="1400"/>
                </a:lnTo>
                <a:close/>
              </a:path>
              <a:path fill="darkenLess" w="22495" h="21600">
                <a:moveTo>
                  <a:pt x="224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95" y="20200"/>
                </a:lnTo>
                <a:close/>
              </a:path>
              <a:path fill="lighten" w="224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Біолог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7">
            <a:hlinkClick r:id="rId5" action="ppaction://hlinksldjump"/>
          </p:cNvPr>
          <p:cNvSpPr/>
          <p:nvPr/>
        </p:nvSpPr>
        <p:spPr>
          <a:xfrm>
            <a:off x="3924360" y="2997360"/>
            <a:ext cx="1873080" cy="1725480"/>
          </a:xfrm>
          <a:custGeom>
            <a:avLst/>
            <a:gdLst>
              <a:gd name="textAreaLeft" fmla="*/ 111600 w 1873080"/>
              <a:gd name="textAreaRight" fmla="*/ 1761480 w 1873080"/>
              <a:gd name="textAreaTop" fmla="*/ 111600 h 1725480"/>
              <a:gd name="textAreaBottom" fmla="*/ 1613880 h 1725480"/>
            </a:gdLst>
            <a:ahLst/>
            <a:rect l="textAreaLeft" t="textAreaTop" r="textAreaRight" b="textAreaBottom"/>
            <a:pathLst>
              <a:path w="23447" h="21600">
                <a:moveTo>
                  <a:pt x="0" y="0"/>
                </a:moveTo>
                <a:lnTo>
                  <a:pt x="23447" y="0"/>
                </a:lnTo>
                <a:lnTo>
                  <a:pt x="23447" y="21600"/>
                </a:lnTo>
                <a:lnTo>
                  <a:pt x="0" y="21600"/>
                </a:lnTo>
                <a:close/>
              </a:path>
              <a:path fill="lightenLess" w="23447" h="21600">
                <a:moveTo>
                  <a:pt x="0" y="0"/>
                </a:moveTo>
                <a:lnTo>
                  <a:pt x="23447" y="0"/>
                </a:lnTo>
                <a:lnTo>
                  <a:pt x="22047" y="1400"/>
                </a:lnTo>
                <a:lnTo>
                  <a:pt x="1400" y="1400"/>
                </a:lnTo>
                <a:close/>
              </a:path>
              <a:path fill="darken" w="23447" h="21600">
                <a:moveTo>
                  <a:pt x="23447" y="0"/>
                </a:moveTo>
                <a:lnTo>
                  <a:pt x="23447" y="21600"/>
                </a:lnTo>
                <a:lnTo>
                  <a:pt x="22047" y="20200"/>
                </a:lnTo>
                <a:lnTo>
                  <a:pt x="22047" y="1400"/>
                </a:lnTo>
                <a:close/>
              </a:path>
              <a:path fill="darkenLess" w="23447" h="21600">
                <a:moveTo>
                  <a:pt x="23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47" y="20200"/>
                </a:lnTo>
                <a:close/>
              </a:path>
              <a:path fill="lighten" w="23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Біолог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8">
            <a:hlinkClick r:id="rId6" action="ppaction://hlinksldjump"/>
          </p:cNvPr>
          <p:cNvSpPr/>
          <p:nvPr/>
        </p:nvSpPr>
        <p:spPr>
          <a:xfrm>
            <a:off x="3924360" y="4869000"/>
            <a:ext cx="1873080" cy="1798560"/>
          </a:xfrm>
          <a:custGeom>
            <a:avLst/>
            <a:gdLst>
              <a:gd name="textAreaLeft" fmla="*/ 116280 w 1873080"/>
              <a:gd name="textAreaRight" fmla="*/ 1756800 w 1873080"/>
              <a:gd name="textAreaTop" fmla="*/ 116280 h 1798560"/>
              <a:gd name="textAreaBottom" fmla="*/ 1682280 h 1798560"/>
            </a:gdLst>
            <a:ahLst/>
            <a:rect l="textAreaLeft" t="textAreaTop" r="textAreaRight" b="textAreaBottom"/>
            <a:pathLst>
              <a:path w="22495" h="21600">
                <a:moveTo>
                  <a:pt x="0" y="0"/>
                </a:moveTo>
                <a:lnTo>
                  <a:pt x="22495" y="0"/>
                </a:lnTo>
                <a:lnTo>
                  <a:pt x="22495" y="21600"/>
                </a:lnTo>
                <a:lnTo>
                  <a:pt x="0" y="21600"/>
                </a:lnTo>
                <a:close/>
              </a:path>
              <a:path fill="lightenLess" w="22495" h="21600">
                <a:moveTo>
                  <a:pt x="0" y="0"/>
                </a:moveTo>
                <a:lnTo>
                  <a:pt x="22495" y="0"/>
                </a:lnTo>
                <a:lnTo>
                  <a:pt x="21095" y="1400"/>
                </a:lnTo>
                <a:lnTo>
                  <a:pt x="1400" y="1400"/>
                </a:lnTo>
                <a:close/>
              </a:path>
              <a:path fill="darken" w="22495" h="21600">
                <a:moveTo>
                  <a:pt x="22495" y="0"/>
                </a:moveTo>
                <a:lnTo>
                  <a:pt x="22495" y="21600"/>
                </a:lnTo>
                <a:lnTo>
                  <a:pt x="21095" y="20200"/>
                </a:lnTo>
                <a:lnTo>
                  <a:pt x="21095" y="1400"/>
                </a:lnTo>
                <a:close/>
              </a:path>
              <a:path fill="darkenLess" w="22495" h="21600">
                <a:moveTo>
                  <a:pt x="224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95" y="20200"/>
                </a:lnTo>
                <a:close/>
              </a:path>
              <a:path fill="lighten" w="224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Біолог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2">
            <a:hlinkClick r:id="rId7" action="ppaction://hlinksldjump"/>
          </p:cNvPr>
          <p:cNvSpPr/>
          <p:nvPr/>
        </p:nvSpPr>
        <p:spPr>
          <a:xfrm>
            <a:off x="179280" y="4149720"/>
            <a:ext cx="1440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ahoma"/>
              </a:rPr>
              <a:t>раун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13">
            <a:hlinkClick r:id="rId8" action="ppaction://hlinksldjump"/>
          </p:cNvPr>
          <p:cNvSpPr/>
          <p:nvPr/>
        </p:nvSpPr>
        <p:spPr>
          <a:xfrm>
            <a:off x="5940360" y="1052640"/>
            <a:ext cx="1800360" cy="1800000"/>
          </a:xfrm>
          <a:custGeom>
            <a:avLst/>
            <a:gdLst>
              <a:gd name="textAreaLeft" fmla="*/ 116640 w 1800360"/>
              <a:gd name="textAreaRight" fmla="*/ 1683720 w 1800360"/>
              <a:gd name="textAreaTop" fmla="*/ 116640 h 1800000"/>
              <a:gd name="textAreaBottom" fmla="*/ 1683360 h 1800000"/>
            </a:gdLst>
            <a:ahLst/>
            <a:rect l="textAreaLeft" t="textAreaTop" r="textAreaRight" b="textAreaBottom"/>
            <a:pathLst>
              <a:path w="21604" h="21600">
                <a:moveTo>
                  <a:pt x="0" y="0"/>
                </a:moveTo>
                <a:lnTo>
                  <a:pt x="21604" y="0"/>
                </a:lnTo>
                <a:lnTo>
                  <a:pt x="21604" y="21600"/>
                </a:lnTo>
                <a:lnTo>
                  <a:pt x="0" y="21600"/>
                </a:lnTo>
                <a:close/>
              </a:path>
              <a:path fill="lightenLess" w="21604" h="21600">
                <a:moveTo>
                  <a:pt x="0" y="0"/>
                </a:moveTo>
                <a:lnTo>
                  <a:pt x="21604" y="0"/>
                </a:lnTo>
                <a:lnTo>
                  <a:pt x="20204" y="1400"/>
                </a:lnTo>
                <a:lnTo>
                  <a:pt x="1400" y="1400"/>
                </a:lnTo>
                <a:close/>
              </a:path>
              <a:path fill="darken" w="21604" h="21600">
                <a:moveTo>
                  <a:pt x="21604" y="0"/>
                </a:moveTo>
                <a:lnTo>
                  <a:pt x="21604" y="21600"/>
                </a:lnTo>
                <a:lnTo>
                  <a:pt x="20204" y="20200"/>
                </a:lnTo>
                <a:lnTo>
                  <a:pt x="20204" y="1400"/>
                </a:lnTo>
                <a:close/>
              </a:path>
              <a:path fill="darkenLess" w="21604" h="21600">
                <a:moveTo>
                  <a:pt x="216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4" y="20200"/>
                </a:lnTo>
                <a:close/>
              </a:path>
              <a:path fill="lighten" w="216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Хім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4">
            <a:hlinkClick r:id="rId9" action="ppaction://hlinksldjump"/>
          </p:cNvPr>
          <p:cNvSpPr/>
          <p:nvPr/>
        </p:nvSpPr>
        <p:spPr>
          <a:xfrm>
            <a:off x="6012000" y="2997360"/>
            <a:ext cx="1728720" cy="1726920"/>
          </a:xfrm>
          <a:custGeom>
            <a:avLst/>
            <a:gdLst>
              <a:gd name="textAreaLeft" fmla="*/ 111600 w 1728720"/>
              <a:gd name="textAreaRight" fmla="*/ 1617120 w 1728720"/>
              <a:gd name="textAreaTop" fmla="*/ 111600 h 1726920"/>
              <a:gd name="textAreaBottom" fmla="*/ 1615320 h 1726920"/>
            </a:gdLst>
            <a:ahLst/>
            <a:rect l="textAreaLeft" t="textAreaTop" r="textAreaRight" b="textAreaBottom"/>
            <a:pathLst>
              <a:path w="21623" h="21600">
                <a:moveTo>
                  <a:pt x="0" y="0"/>
                </a:moveTo>
                <a:lnTo>
                  <a:pt x="21623" y="0"/>
                </a:lnTo>
                <a:lnTo>
                  <a:pt x="21623" y="21600"/>
                </a:lnTo>
                <a:lnTo>
                  <a:pt x="0" y="21600"/>
                </a:lnTo>
                <a:close/>
              </a:path>
              <a:path fill="lightenLess" w="21623" h="21600">
                <a:moveTo>
                  <a:pt x="0" y="0"/>
                </a:moveTo>
                <a:lnTo>
                  <a:pt x="21623" y="0"/>
                </a:lnTo>
                <a:lnTo>
                  <a:pt x="20223" y="1400"/>
                </a:lnTo>
                <a:lnTo>
                  <a:pt x="1400" y="1400"/>
                </a:lnTo>
                <a:close/>
              </a:path>
              <a:path fill="darken" w="21623" h="21600">
                <a:moveTo>
                  <a:pt x="21623" y="0"/>
                </a:moveTo>
                <a:lnTo>
                  <a:pt x="21623" y="21600"/>
                </a:lnTo>
                <a:lnTo>
                  <a:pt x="20223" y="20200"/>
                </a:lnTo>
                <a:lnTo>
                  <a:pt x="20223" y="1400"/>
                </a:lnTo>
                <a:close/>
              </a:path>
              <a:path fill="darkenLess" w="21623" h="21600">
                <a:moveTo>
                  <a:pt x="216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3" y="20200"/>
                </a:lnTo>
                <a:close/>
              </a:path>
              <a:path fill="lighten" w="216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Хім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5">
            <a:hlinkClick r:id="rId10" action="ppaction://hlinksldjump"/>
          </p:cNvPr>
          <p:cNvSpPr/>
          <p:nvPr/>
        </p:nvSpPr>
        <p:spPr>
          <a:xfrm>
            <a:off x="6012000" y="4869000"/>
            <a:ext cx="1728720" cy="1728720"/>
          </a:xfrm>
          <a:custGeom>
            <a:avLst/>
            <a:gdLst>
              <a:gd name="textAreaLeft" fmla="*/ 111960 w 1728720"/>
              <a:gd name="textAreaRight" fmla="*/ 1616760 w 172872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Хім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3" dur="1000" fill="hold"/>
                                        <p:tgtEl>
                                          <p:spTgt spid="25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8" dur="1000" fill="hold"/>
                                        <p:tgtEl>
                                          <p:spTgt spid="26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9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340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3" dur="1000" fill="hold"/>
                                        <p:tgtEl>
                                          <p:spTgt spid="26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345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8" dur="1000" fill="hold"/>
                                        <p:tgtEl>
                                          <p:spTgt spid="26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3" dur="1000" fill="hold"/>
                                        <p:tgtEl>
                                          <p:spTgt spid="26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8" dur="1000" fill="hold"/>
                                        <p:tgtEl>
                                          <p:spTgt spid="26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3" dur="1000" fill="hold"/>
                                        <p:tgtEl>
                                          <p:spTgt spid="26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365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8" dur="1000" fill="hold"/>
                                        <p:tgtEl>
                                          <p:spTgt spid="26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3" dur="1000" fill="hold"/>
                                        <p:tgtEl>
                                          <p:spTgt spid="26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76360" y="980640"/>
            <a:ext cx="2989440" cy="8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Tahoma"/>
              </a:rPr>
              <a:t>Фізика 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357120" y="2500200"/>
            <a:ext cx="8786880" cy="24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200" spc="-1" strike="noStrike">
                <a:solidFill>
                  <a:srgbClr val="000000"/>
                </a:solidFill>
                <a:latin typeface="Arial"/>
              </a:rPr>
              <a:t>В інструкції до мобільного телефону Nokia 3310 неодноразово зустрічається фраза, яку вам треба закінчити «Щоб використовувати цю функцію, телефон …»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5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500040" y="5715000"/>
            <a:ext cx="72151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Tahoma"/>
                <a:ea typeface="Arial"/>
              </a:rPr>
              <a:t>Повинен бути вімкнен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442908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9900"/>
                </a:solidFill>
                <a:latin typeface="Tahoma"/>
              </a:rPr>
              <a:t>Фізика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928800" y="1857240"/>
            <a:ext cx="771516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000000"/>
                </a:solidFill>
                <a:latin typeface="Tahoma"/>
              </a:rPr>
              <a:t>Яку фізичну величину вимірює електричний лічильник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1143000" y="4714920"/>
            <a:ext cx="70722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36107"/>
                </a:solidFill>
                <a:latin typeface="Tahoma"/>
              </a:rPr>
              <a:t>Роботу електричног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36107"/>
                </a:solidFill>
                <a:latin typeface="Tahoma"/>
              </a:rPr>
              <a:t>струм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5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8000"/>
                </a:solidFill>
                <a:latin typeface="Tahoma"/>
              </a:rPr>
              <a:t>Фізика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571680" y="1857240"/>
            <a:ext cx="80722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ahoma"/>
              </a:rPr>
              <a:t>Як називається процес переходу речовин з рідкого стану в твердий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1785960" y="5500800"/>
            <a:ext cx="547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8000"/>
                </a:solidFill>
                <a:latin typeface="Tahoma"/>
              </a:rPr>
              <a:t>Кристалізаці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5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3743280" cy="105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Tahoma"/>
              </a:rPr>
              <a:t>Біологія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2357280" y="5000760"/>
            <a:ext cx="3888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0000"/>
                </a:solidFill>
                <a:latin typeface="Tahoma"/>
              </a:rPr>
              <a:t>2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500040" y="2000160"/>
            <a:ext cx="828684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ahoma"/>
              </a:rPr>
              <a:t>Скільки амінокислот у людини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5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442908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9900"/>
                </a:solidFill>
                <a:latin typeface="Tahoma"/>
              </a:rPr>
              <a:t>Біологія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857160" y="1643040"/>
            <a:ext cx="79200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Tahoma"/>
              </a:rPr>
              <a:t>Яка тварина бігає найшвидше?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1643040" y="4643280"/>
            <a:ext cx="5832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9900"/>
                </a:solidFill>
                <a:latin typeface="Tahoma"/>
              </a:rPr>
              <a:t>Гепар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5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0920" y="2636640"/>
            <a:ext cx="863640" cy="15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333399"/>
                </a:solidFill>
                <a:latin typeface="Tahoma"/>
              </a:rPr>
              <a:t>І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AutoShape 4">
            <a:hlinkClick r:id="rId1" action="ppaction://hlinksldjump"/>
          </p:cNvPr>
          <p:cNvSpPr/>
          <p:nvPr/>
        </p:nvSpPr>
        <p:spPr>
          <a:xfrm>
            <a:off x="1908000" y="1052640"/>
            <a:ext cx="1872000" cy="1798560"/>
          </a:xfrm>
          <a:custGeom>
            <a:avLst/>
            <a:gdLst>
              <a:gd name="textAreaLeft" fmla="*/ 116280 w 1872000"/>
              <a:gd name="textAreaRight" fmla="*/ 1755720 w 1872000"/>
              <a:gd name="textAreaTop" fmla="*/ 116280 h 1798560"/>
              <a:gd name="textAreaBottom" fmla="*/ 1682280 h 1798560"/>
            </a:gdLst>
            <a:ahLst/>
            <a:rect l="textAreaLeft" t="textAreaTop" r="textAreaRight" b="textAreaBottom"/>
            <a:pathLst>
              <a:path w="22482" h="21600">
                <a:moveTo>
                  <a:pt x="0" y="0"/>
                </a:moveTo>
                <a:lnTo>
                  <a:pt x="22482" y="0"/>
                </a:lnTo>
                <a:lnTo>
                  <a:pt x="22482" y="21600"/>
                </a:lnTo>
                <a:lnTo>
                  <a:pt x="0" y="21600"/>
                </a:lnTo>
                <a:close/>
              </a:path>
              <a:path fill="lightenLess" w="22482" h="21600">
                <a:moveTo>
                  <a:pt x="0" y="0"/>
                </a:moveTo>
                <a:lnTo>
                  <a:pt x="22482" y="0"/>
                </a:lnTo>
                <a:lnTo>
                  <a:pt x="21082" y="1400"/>
                </a:lnTo>
                <a:lnTo>
                  <a:pt x="1400" y="1400"/>
                </a:lnTo>
                <a:close/>
              </a:path>
              <a:path fill="darken" w="22482" h="21600">
                <a:moveTo>
                  <a:pt x="22482" y="0"/>
                </a:moveTo>
                <a:lnTo>
                  <a:pt x="22482" y="21600"/>
                </a:lnTo>
                <a:lnTo>
                  <a:pt x="21082" y="20200"/>
                </a:lnTo>
                <a:lnTo>
                  <a:pt x="21082" y="1400"/>
                </a:lnTo>
                <a:close/>
              </a:path>
              <a:path fill="darkenLess" w="22482" h="21600">
                <a:moveTo>
                  <a:pt x="224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82" y="20200"/>
                </a:lnTo>
                <a:close/>
              </a:path>
              <a:path fill="lighten" w="224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Фі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>
            <a:hlinkClick r:id="rId2" action="ppaction://hlinksldjump"/>
          </p:cNvPr>
          <p:cNvSpPr/>
          <p:nvPr/>
        </p:nvSpPr>
        <p:spPr>
          <a:xfrm>
            <a:off x="1908000" y="2997360"/>
            <a:ext cx="1872000" cy="1728720"/>
          </a:xfrm>
          <a:custGeom>
            <a:avLst/>
            <a:gdLst>
              <a:gd name="textAreaLeft" fmla="*/ 111960 w 1872000"/>
              <a:gd name="textAreaRight" fmla="*/ 1760040 w 187200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3390" h="21600">
                <a:moveTo>
                  <a:pt x="0" y="0"/>
                </a:moveTo>
                <a:lnTo>
                  <a:pt x="23390" y="0"/>
                </a:lnTo>
                <a:lnTo>
                  <a:pt x="23390" y="21600"/>
                </a:lnTo>
                <a:lnTo>
                  <a:pt x="0" y="21600"/>
                </a:lnTo>
                <a:close/>
              </a:path>
              <a:path fill="lightenLess" w="23390" h="21600">
                <a:moveTo>
                  <a:pt x="0" y="0"/>
                </a:moveTo>
                <a:lnTo>
                  <a:pt x="23390" y="0"/>
                </a:lnTo>
                <a:lnTo>
                  <a:pt x="21990" y="1400"/>
                </a:lnTo>
                <a:lnTo>
                  <a:pt x="1400" y="1400"/>
                </a:lnTo>
                <a:close/>
              </a:path>
              <a:path fill="darken" w="23390" h="21600">
                <a:moveTo>
                  <a:pt x="23390" y="0"/>
                </a:moveTo>
                <a:lnTo>
                  <a:pt x="23390" y="21600"/>
                </a:lnTo>
                <a:lnTo>
                  <a:pt x="21990" y="20200"/>
                </a:lnTo>
                <a:lnTo>
                  <a:pt x="21990" y="1400"/>
                </a:lnTo>
                <a:close/>
              </a:path>
              <a:path fill="darkenLess" w="23390" h="21600">
                <a:moveTo>
                  <a:pt x="23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0" y="20200"/>
                </a:lnTo>
                <a:close/>
              </a:path>
              <a:path fill="lighten" w="23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Фі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7">
            <a:hlinkClick r:id="rId3" action="ppaction://hlinksldjump"/>
          </p:cNvPr>
          <p:cNvSpPr/>
          <p:nvPr/>
        </p:nvSpPr>
        <p:spPr>
          <a:xfrm>
            <a:off x="1908000" y="4869000"/>
            <a:ext cx="1872000" cy="1800000"/>
          </a:xfrm>
          <a:custGeom>
            <a:avLst/>
            <a:gdLst>
              <a:gd name="textAreaLeft" fmla="*/ 116640 w 1872000"/>
              <a:gd name="textAreaRight" fmla="*/ 1755360 w 1872000"/>
              <a:gd name="textAreaTop" fmla="*/ 116640 h 1800000"/>
              <a:gd name="textAreaBottom" fmla="*/ 1683360 h 1800000"/>
            </a:gdLst>
            <a:ahLst/>
            <a:rect l="textAreaLeft" t="textAreaTop" r="textAreaRight" b="textAreaBottom"/>
            <a:pathLst>
              <a:path w="22464" h="21600">
                <a:moveTo>
                  <a:pt x="0" y="0"/>
                </a:moveTo>
                <a:lnTo>
                  <a:pt x="22464" y="0"/>
                </a:lnTo>
                <a:lnTo>
                  <a:pt x="22464" y="21600"/>
                </a:lnTo>
                <a:lnTo>
                  <a:pt x="0" y="21600"/>
                </a:lnTo>
                <a:close/>
              </a:path>
              <a:path fill="lightenLess" w="22464" h="21600">
                <a:moveTo>
                  <a:pt x="0" y="0"/>
                </a:moveTo>
                <a:lnTo>
                  <a:pt x="22464" y="0"/>
                </a:lnTo>
                <a:lnTo>
                  <a:pt x="21064" y="1400"/>
                </a:lnTo>
                <a:lnTo>
                  <a:pt x="1400" y="1400"/>
                </a:lnTo>
                <a:close/>
              </a:path>
              <a:path fill="darken" w="22464" h="21600">
                <a:moveTo>
                  <a:pt x="22464" y="0"/>
                </a:moveTo>
                <a:lnTo>
                  <a:pt x="22464" y="21600"/>
                </a:lnTo>
                <a:lnTo>
                  <a:pt x="21064" y="20200"/>
                </a:lnTo>
                <a:lnTo>
                  <a:pt x="21064" y="1400"/>
                </a:lnTo>
                <a:close/>
              </a:path>
              <a:path fill="darkenLess" w="22464" h="21600">
                <a:moveTo>
                  <a:pt x="224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64" y="20200"/>
                </a:lnTo>
                <a:close/>
              </a:path>
              <a:path fill="lighten" w="224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Фі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8">
            <a:hlinkClick r:id="rId4" action="ppaction://hlinksldjump"/>
          </p:cNvPr>
          <p:cNvSpPr/>
          <p:nvPr/>
        </p:nvSpPr>
        <p:spPr>
          <a:xfrm>
            <a:off x="3924360" y="1052640"/>
            <a:ext cx="1873080" cy="1798560"/>
          </a:xfrm>
          <a:custGeom>
            <a:avLst/>
            <a:gdLst>
              <a:gd name="textAreaLeft" fmla="*/ 116280 w 1873080"/>
              <a:gd name="textAreaRight" fmla="*/ 1756800 w 1873080"/>
              <a:gd name="textAreaTop" fmla="*/ 116280 h 1798560"/>
              <a:gd name="textAreaBottom" fmla="*/ 1682280 h 1798560"/>
            </a:gdLst>
            <a:ahLst/>
            <a:rect l="textAreaLeft" t="textAreaTop" r="textAreaRight" b="textAreaBottom"/>
            <a:pathLst>
              <a:path w="22495" h="21600">
                <a:moveTo>
                  <a:pt x="0" y="0"/>
                </a:moveTo>
                <a:lnTo>
                  <a:pt x="22495" y="0"/>
                </a:lnTo>
                <a:lnTo>
                  <a:pt x="22495" y="21600"/>
                </a:lnTo>
                <a:lnTo>
                  <a:pt x="0" y="21600"/>
                </a:lnTo>
                <a:close/>
              </a:path>
              <a:path fill="lightenLess" w="22495" h="21600">
                <a:moveTo>
                  <a:pt x="0" y="0"/>
                </a:moveTo>
                <a:lnTo>
                  <a:pt x="22495" y="0"/>
                </a:lnTo>
                <a:lnTo>
                  <a:pt x="21095" y="1400"/>
                </a:lnTo>
                <a:lnTo>
                  <a:pt x="1400" y="1400"/>
                </a:lnTo>
                <a:close/>
              </a:path>
              <a:path fill="darken" w="22495" h="21600">
                <a:moveTo>
                  <a:pt x="22495" y="0"/>
                </a:moveTo>
                <a:lnTo>
                  <a:pt x="22495" y="21600"/>
                </a:lnTo>
                <a:lnTo>
                  <a:pt x="21095" y="20200"/>
                </a:lnTo>
                <a:lnTo>
                  <a:pt x="21095" y="1400"/>
                </a:lnTo>
                <a:close/>
              </a:path>
              <a:path fill="darkenLess" w="22495" h="21600">
                <a:moveTo>
                  <a:pt x="224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95" y="20200"/>
                </a:lnTo>
                <a:close/>
              </a:path>
              <a:path fill="lighten" w="224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Біолог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9">
            <a:hlinkClick r:id="rId5" action="ppaction://hlinksldjump"/>
          </p:cNvPr>
          <p:cNvSpPr/>
          <p:nvPr/>
        </p:nvSpPr>
        <p:spPr>
          <a:xfrm>
            <a:off x="3924360" y="2997360"/>
            <a:ext cx="1873080" cy="1725480"/>
          </a:xfrm>
          <a:custGeom>
            <a:avLst/>
            <a:gdLst>
              <a:gd name="textAreaLeft" fmla="*/ 111600 w 1873080"/>
              <a:gd name="textAreaRight" fmla="*/ 1761480 w 1873080"/>
              <a:gd name="textAreaTop" fmla="*/ 111600 h 1725480"/>
              <a:gd name="textAreaBottom" fmla="*/ 1613880 h 1725480"/>
            </a:gdLst>
            <a:ahLst/>
            <a:rect l="textAreaLeft" t="textAreaTop" r="textAreaRight" b="textAreaBottom"/>
            <a:pathLst>
              <a:path w="23447" h="21600">
                <a:moveTo>
                  <a:pt x="0" y="0"/>
                </a:moveTo>
                <a:lnTo>
                  <a:pt x="23447" y="0"/>
                </a:lnTo>
                <a:lnTo>
                  <a:pt x="23447" y="21600"/>
                </a:lnTo>
                <a:lnTo>
                  <a:pt x="0" y="21600"/>
                </a:lnTo>
                <a:close/>
              </a:path>
              <a:path fill="lightenLess" w="23447" h="21600">
                <a:moveTo>
                  <a:pt x="0" y="0"/>
                </a:moveTo>
                <a:lnTo>
                  <a:pt x="23447" y="0"/>
                </a:lnTo>
                <a:lnTo>
                  <a:pt x="22047" y="1400"/>
                </a:lnTo>
                <a:lnTo>
                  <a:pt x="1400" y="1400"/>
                </a:lnTo>
                <a:close/>
              </a:path>
              <a:path fill="darken" w="23447" h="21600">
                <a:moveTo>
                  <a:pt x="23447" y="0"/>
                </a:moveTo>
                <a:lnTo>
                  <a:pt x="23447" y="21600"/>
                </a:lnTo>
                <a:lnTo>
                  <a:pt x="22047" y="20200"/>
                </a:lnTo>
                <a:lnTo>
                  <a:pt x="22047" y="1400"/>
                </a:lnTo>
                <a:close/>
              </a:path>
              <a:path fill="darkenLess" w="23447" h="21600">
                <a:moveTo>
                  <a:pt x="23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47" y="20200"/>
                </a:lnTo>
                <a:close/>
              </a:path>
              <a:path fill="lighten" w="23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Біолог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0">
            <a:hlinkClick r:id="rId6" action="ppaction://hlinksldjump"/>
          </p:cNvPr>
          <p:cNvSpPr/>
          <p:nvPr/>
        </p:nvSpPr>
        <p:spPr>
          <a:xfrm>
            <a:off x="3924360" y="4869000"/>
            <a:ext cx="1873080" cy="1798560"/>
          </a:xfrm>
          <a:custGeom>
            <a:avLst/>
            <a:gdLst>
              <a:gd name="textAreaLeft" fmla="*/ 116280 w 1873080"/>
              <a:gd name="textAreaRight" fmla="*/ 1756800 w 1873080"/>
              <a:gd name="textAreaTop" fmla="*/ 116280 h 1798560"/>
              <a:gd name="textAreaBottom" fmla="*/ 1682280 h 1798560"/>
            </a:gdLst>
            <a:ahLst/>
            <a:rect l="textAreaLeft" t="textAreaTop" r="textAreaRight" b="textAreaBottom"/>
            <a:pathLst>
              <a:path w="22495" h="21600">
                <a:moveTo>
                  <a:pt x="0" y="0"/>
                </a:moveTo>
                <a:lnTo>
                  <a:pt x="22495" y="0"/>
                </a:lnTo>
                <a:lnTo>
                  <a:pt x="22495" y="21600"/>
                </a:lnTo>
                <a:lnTo>
                  <a:pt x="0" y="21600"/>
                </a:lnTo>
                <a:close/>
              </a:path>
              <a:path fill="lightenLess" w="22495" h="21600">
                <a:moveTo>
                  <a:pt x="0" y="0"/>
                </a:moveTo>
                <a:lnTo>
                  <a:pt x="22495" y="0"/>
                </a:lnTo>
                <a:lnTo>
                  <a:pt x="21095" y="1400"/>
                </a:lnTo>
                <a:lnTo>
                  <a:pt x="1400" y="1400"/>
                </a:lnTo>
                <a:close/>
              </a:path>
              <a:path fill="darken" w="22495" h="21600">
                <a:moveTo>
                  <a:pt x="22495" y="0"/>
                </a:moveTo>
                <a:lnTo>
                  <a:pt x="22495" y="21600"/>
                </a:lnTo>
                <a:lnTo>
                  <a:pt x="21095" y="20200"/>
                </a:lnTo>
                <a:lnTo>
                  <a:pt x="21095" y="1400"/>
                </a:lnTo>
                <a:close/>
              </a:path>
              <a:path fill="darkenLess" w="22495" h="21600">
                <a:moveTo>
                  <a:pt x="224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95" y="20200"/>
                </a:lnTo>
                <a:close/>
              </a:path>
              <a:path fill="lighten" w="224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Біолог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>
            <a:hlinkClick r:id="rId7" action="ppaction://hlinksldjump"/>
          </p:cNvPr>
          <p:cNvSpPr/>
          <p:nvPr/>
        </p:nvSpPr>
        <p:spPr>
          <a:xfrm>
            <a:off x="179280" y="3933720"/>
            <a:ext cx="1440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ahoma"/>
              </a:rPr>
              <a:t>раун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5">
            <a:hlinkClick r:id="rId8" action="ppaction://hlinksldjump"/>
          </p:cNvPr>
          <p:cNvSpPr/>
          <p:nvPr/>
        </p:nvSpPr>
        <p:spPr>
          <a:xfrm>
            <a:off x="5940360" y="1052640"/>
            <a:ext cx="1871640" cy="1800000"/>
          </a:xfrm>
          <a:custGeom>
            <a:avLst/>
            <a:gdLst>
              <a:gd name="textAreaLeft" fmla="*/ 116640 w 1871640"/>
              <a:gd name="textAreaRight" fmla="*/ 1755000 w 1871640"/>
              <a:gd name="textAreaTop" fmla="*/ 116640 h 1800000"/>
              <a:gd name="textAreaBottom" fmla="*/ 1683360 h 1800000"/>
            </a:gdLst>
            <a:ahLst/>
            <a:rect l="textAreaLeft" t="textAreaTop" r="textAreaRight" b="textAreaBottom"/>
            <a:pathLst>
              <a:path w="22460" h="21600">
                <a:moveTo>
                  <a:pt x="0" y="0"/>
                </a:moveTo>
                <a:lnTo>
                  <a:pt x="22460" y="0"/>
                </a:lnTo>
                <a:lnTo>
                  <a:pt x="22460" y="21600"/>
                </a:lnTo>
                <a:lnTo>
                  <a:pt x="0" y="21600"/>
                </a:lnTo>
                <a:close/>
              </a:path>
              <a:path fill="lightenLess" w="22460" h="21600">
                <a:moveTo>
                  <a:pt x="0" y="0"/>
                </a:moveTo>
                <a:lnTo>
                  <a:pt x="22460" y="0"/>
                </a:lnTo>
                <a:lnTo>
                  <a:pt x="21060" y="1400"/>
                </a:lnTo>
                <a:lnTo>
                  <a:pt x="1400" y="1400"/>
                </a:lnTo>
                <a:close/>
              </a:path>
              <a:path fill="darken" w="22460" h="21600">
                <a:moveTo>
                  <a:pt x="22460" y="0"/>
                </a:moveTo>
                <a:lnTo>
                  <a:pt x="22460" y="21600"/>
                </a:lnTo>
                <a:lnTo>
                  <a:pt x="21060" y="20200"/>
                </a:lnTo>
                <a:lnTo>
                  <a:pt x="21060" y="1400"/>
                </a:lnTo>
                <a:close/>
              </a:path>
              <a:path fill="darkenLess" w="22460" h="21600">
                <a:moveTo>
                  <a:pt x="224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60" y="20200"/>
                </a:lnTo>
                <a:close/>
              </a:path>
              <a:path fill="lighten" w="224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Хім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6">
            <a:hlinkClick r:id="rId9" action="ppaction://hlinksldjump"/>
          </p:cNvPr>
          <p:cNvSpPr/>
          <p:nvPr/>
        </p:nvSpPr>
        <p:spPr>
          <a:xfrm>
            <a:off x="5940360" y="2997360"/>
            <a:ext cx="1871640" cy="1726920"/>
          </a:xfrm>
          <a:custGeom>
            <a:avLst/>
            <a:gdLst>
              <a:gd name="textAreaLeft" fmla="*/ 111600 w 1871640"/>
              <a:gd name="textAreaRight" fmla="*/ 1760040 w 1871640"/>
              <a:gd name="textAreaTop" fmla="*/ 111600 h 1726920"/>
              <a:gd name="textAreaBottom" fmla="*/ 1615320 h 1726920"/>
            </a:gdLst>
            <a:ahLst/>
            <a:rect l="textAreaLeft" t="textAreaTop" r="textAreaRight" b="textAreaBottom"/>
            <a:pathLst>
              <a:path w="23410" h="21600">
                <a:moveTo>
                  <a:pt x="0" y="0"/>
                </a:moveTo>
                <a:lnTo>
                  <a:pt x="23410" y="0"/>
                </a:lnTo>
                <a:lnTo>
                  <a:pt x="23410" y="21600"/>
                </a:lnTo>
                <a:lnTo>
                  <a:pt x="0" y="21600"/>
                </a:lnTo>
                <a:close/>
              </a:path>
              <a:path fill="lightenLess" w="23410" h="21600">
                <a:moveTo>
                  <a:pt x="0" y="0"/>
                </a:moveTo>
                <a:lnTo>
                  <a:pt x="23410" y="0"/>
                </a:lnTo>
                <a:lnTo>
                  <a:pt x="22010" y="1400"/>
                </a:lnTo>
                <a:lnTo>
                  <a:pt x="1400" y="1400"/>
                </a:lnTo>
                <a:close/>
              </a:path>
              <a:path fill="darken" w="23410" h="21600">
                <a:moveTo>
                  <a:pt x="23410" y="0"/>
                </a:moveTo>
                <a:lnTo>
                  <a:pt x="23410" y="21600"/>
                </a:lnTo>
                <a:lnTo>
                  <a:pt x="22010" y="20200"/>
                </a:lnTo>
                <a:lnTo>
                  <a:pt x="22010" y="1400"/>
                </a:lnTo>
                <a:close/>
              </a:path>
              <a:path fill="darkenLess" w="23410" h="21600">
                <a:moveTo>
                  <a:pt x="23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10" y="20200"/>
                </a:lnTo>
                <a:close/>
              </a:path>
              <a:path fill="lighten" w="23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Хім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7">
            <a:hlinkClick r:id="rId10" action="ppaction://hlinksldjump"/>
          </p:cNvPr>
          <p:cNvSpPr/>
          <p:nvPr/>
        </p:nvSpPr>
        <p:spPr>
          <a:xfrm>
            <a:off x="5940360" y="4869000"/>
            <a:ext cx="1871640" cy="1800000"/>
          </a:xfrm>
          <a:custGeom>
            <a:avLst/>
            <a:gdLst>
              <a:gd name="textAreaLeft" fmla="*/ 116640 w 1871640"/>
              <a:gd name="textAreaRight" fmla="*/ 1755000 w 1871640"/>
              <a:gd name="textAreaTop" fmla="*/ 116640 h 1800000"/>
              <a:gd name="textAreaBottom" fmla="*/ 1683360 h 1800000"/>
            </a:gdLst>
            <a:ahLst/>
            <a:rect l="textAreaLeft" t="textAreaTop" r="textAreaRight" b="textAreaBottom"/>
            <a:pathLst>
              <a:path w="22460" h="21600">
                <a:moveTo>
                  <a:pt x="0" y="0"/>
                </a:moveTo>
                <a:lnTo>
                  <a:pt x="22460" y="0"/>
                </a:lnTo>
                <a:lnTo>
                  <a:pt x="22460" y="21600"/>
                </a:lnTo>
                <a:lnTo>
                  <a:pt x="0" y="21600"/>
                </a:lnTo>
                <a:close/>
              </a:path>
              <a:path fill="lightenLess" w="22460" h="21600">
                <a:moveTo>
                  <a:pt x="0" y="0"/>
                </a:moveTo>
                <a:lnTo>
                  <a:pt x="22460" y="0"/>
                </a:lnTo>
                <a:lnTo>
                  <a:pt x="21060" y="1400"/>
                </a:lnTo>
                <a:lnTo>
                  <a:pt x="1400" y="1400"/>
                </a:lnTo>
                <a:close/>
              </a:path>
              <a:path fill="darken" w="22460" h="21600">
                <a:moveTo>
                  <a:pt x="22460" y="0"/>
                </a:moveTo>
                <a:lnTo>
                  <a:pt x="22460" y="21600"/>
                </a:lnTo>
                <a:lnTo>
                  <a:pt x="21060" y="20200"/>
                </a:lnTo>
                <a:lnTo>
                  <a:pt x="21060" y="1400"/>
                </a:lnTo>
                <a:close/>
              </a:path>
              <a:path fill="darkenLess" w="22460" h="21600">
                <a:moveTo>
                  <a:pt x="224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60" y="20200"/>
                </a:lnTo>
                <a:close/>
              </a:path>
              <a:path fill="lighten" w="224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Хім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1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1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1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8000"/>
                </a:solidFill>
                <a:latin typeface="Tahoma"/>
              </a:rPr>
              <a:t>Біологія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642960" y="2286000"/>
            <a:ext cx="82152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ahoma"/>
              </a:rPr>
              <a:t>Як називають повністю білих тварин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4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2071800" y="5143680"/>
            <a:ext cx="4680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8000"/>
                </a:solidFill>
                <a:latin typeface="Tahoma"/>
              </a:rPr>
              <a:t>Альбінос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76360" y="980640"/>
            <a:ext cx="2989440" cy="8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Tahoma"/>
              </a:rPr>
              <a:t>Хімія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3203640" y="5229360"/>
            <a:ext cx="3095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Tahoma"/>
              </a:rPr>
              <a:t>Менто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500040" y="2000160"/>
            <a:ext cx="86439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ahoma"/>
              </a:rPr>
              <a:t>Як називається речовина, що залишає в роті характерне відчуття прохолоди, а назва її буквально означає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ahoma"/>
              </a:rPr>
              <a:t>«олія м’яти»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6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442908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9900"/>
                </a:solidFill>
                <a:latin typeface="Tahoma"/>
              </a:rPr>
              <a:t>Хімія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1571760" y="2143080"/>
            <a:ext cx="6480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Tahoma"/>
              </a:rPr>
              <a:t>Який вік змінив мідний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1763640" y="4869000"/>
            <a:ext cx="5832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9900"/>
                </a:solidFill>
                <a:latin typeface="Tahoma"/>
              </a:rPr>
              <a:t>Бронзов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6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8000"/>
                </a:solidFill>
                <a:latin typeface="Tahoma"/>
              </a:rPr>
              <a:t>Хімія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642960" y="1857240"/>
            <a:ext cx="8072280" cy="30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ahoma"/>
              </a:rPr>
              <a:t>Назвіть ім’я ненависного ворога всіх металів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4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2643120" y="5286240"/>
            <a:ext cx="4321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8000"/>
                </a:solidFill>
                <a:latin typeface="Tahoma"/>
              </a:rPr>
              <a:t>Корозі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WordArt 4"/>
          <p:cNvSpPr txBox="1"/>
          <p:nvPr/>
        </p:nvSpPr>
        <p:spPr>
          <a:xfrm>
            <a:off x="1116000" y="1773360"/>
            <a:ext cx="715644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івфінал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280" y="2565000"/>
            <a:ext cx="863640" cy="15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333399"/>
                </a:solidFill>
                <a:latin typeface="Tahoma"/>
              </a:rPr>
              <a:t>І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AutoShape 3">
            <a:hlinkClick r:id="rId1" action="ppaction://hlinksldjump"/>
          </p:cNvPr>
          <p:cNvSpPr/>
          <p:nvPr/>
        </p:nvSpPr>
        <p:spPr>
          <a:xfrm>
            <a:off x="1908000" y="1052640"/>
            <a:ext cx="1872000" cy="1798560"/>
          </a:xfrm>
          <a:custGeom>
            <a:avLst/>
            <a:gdLst>
              <a:gd name="textAreaLeft" fmla="*/ 116280 w 1872000"/>
              <a:gd name="textAreaRight" fmla="*/ 1755720 w 1872000"/>
              <a:gd name="textAreaTop" fmla="*/ 116280 h 1798560"/>
              <a:gd name="textAreaBottom" fmla="*/ 1682280 h 1798560"/>
            </a:gdLst>
            <a:ahLst/>
            <a:rect l="textAreaLeft" t="textAreaTop" r="textAreaRight" b="textAreaBottom"/>
            <a:pathLst>
              <a:path w="22482" h="21600">
                <a:moveTo>
                  <a:pt x="0" y="0"/>
                </a:moveTo>
                <a:lnTo>
                  <a:pt x="22482" y="0"/>
                </a:lnTo>
                <a:lnTo>
                  <a:pt x="22482" y="21600"/>
                </a:lnTo>
                <a:lnTo>
                  <a:pt x="0" y="21600"/>
                </a:lnTo>
                <a:close/>
              </a:path>
              <a:path fill="lightenLess" w="22482" h="21600">
                <a:moveTo>
                  <a:pt x="0" y="0"/>
                </a:moveTo>
                <a:lnTo>
                  <a:pt x="22482" y="0"/>
                </a:lnTo>
                <a:lnTo>
                  <a:pt x="21082" y="1400"/>
                </a:lnTo>
                <a:lnTo>
                  <a:pt x="1400" y="1400"/>
                </a:lnTo>
                <a:close/>
              </a:path>
              <a:path fill="darken" w="22482" h="21600">
                <a:moveTo>
                  <a:pt x="22482" y="0"/>
                </a:moveTo>
                <a:lnTo>
                  <a:pt x="22482" y="21600"/>
                </a:lnTo>
                <a:lnTo>
                  <a:pt x="21082" y="20200"/>
                </a:lnTo>
                <a:lnTo>
                  <a:pt x="21082" y="1400"/>
                </a:lnTo>
                <a:close/>
              </a:path>
              <a:path fill="darkenLess" w="22482" h="21600">
                <a:moveTo>
                  <a:pt x="224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82" y="20200"/>
                </a:lnTo>
                <a:close/>
              </a:path>
              <a:path fill="lighten" w="224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Фі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4">
            <a:hlinkClick r:id="rId2" action="ppaction://hlinksldjump"/>
          </p:cNvPr>
          <p:cNvSpPr/>
          <p:nvPr/>
        </p:nvSpPr>
        <p:spPr>
          <a:xfrm>
            <a:off x="1908000" y="2997360"/>
            <a:ext cx="1872000" cy="1728720"/>
          </a:xfrm>
          <a:custGeom>
            <a:avLst/>
            <a:gdLst>
              <a:gd name="textAreaLeft" fmla="*/ 111960 w 1872000"/>
              <a:gd name="textAreaRight" fmla="*/ 1760040 w 187200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3390" h="21600">
                <a:moveTo>
                  <a:pt x="0" y="0"/>
                </a:moveTo>
                <a:lnTo>
                  <a:pt x="23390" y="0"/>
                </a:lnTo>
                <a:lnTo>
                  <a:pt x="23390" y="21600"/>
                </a:lnTo>
                <a:lnTo>
                  <a:pt x="0" y="21600"/>
                </a:lnTo>
                <a:close/>
              </a:path>
              <a:path fill="lightenLess" w="23390" h="21600">
                <a:moveTo>
                  <a:pt x="0" y="0"/>
                </a:moveTo>
                <a:lnTo>
                  <a:pt x="23390" y="0"/>
                </a:lnTo>
                <a:lnTo>
                  <a:pt x="21990" y="1400"/>
                </a:lnTo>
                <a:lnTo>
                  <a:pt x="1400" y="1400"/>
                </a:lnTo>
                <a:close/>
              </a:path>
              <a:path fill="darken" w="23390" h="21600">
                <a:moveTo>
                  <a:pt x="23390" y="0"/>
                </a:moveTo>
                <a:lnTo>
                  <a:pt x="23390" y="21600"/>
                </a:lnTo>
                <a:lnTo>
                  <a:pt x="21990" y="20200"/>
                </a:lnTo>
                <a:lnTo>
                  <a:pt x="21990" y="1400"/>
                </a:lnTo>
                <a:close/>
              </a:path>
              <a:path fill="darkenLess" w="23390" h="21600">
                <a:moveTo>
                  <a:pt x="23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0" y="20200"/>
                </a:lnTo>
                <a:close/>
              </a:path>
              <a:path fill="lighten" w="23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Фі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5">
            <a:hlinkClick r:id="rId3" action="ppaction://hlinksldjump"/>
          </p:cNvPr>
          <p:cNvSpPr/>
          <p:nvPr/>
        </p:nvSpPr>
        <p:spPr>
          <a:xfrm>
            <a:off x="1908000" y="4869000"/>
            <a:ext cx="1872000" cy="1800000"/>
          </a:xfrm>
          <a:custGeom>
            <a:avLst/>
            <a:gdLst>
              <a:gd name="textAreaLeft" fmla="*/ 116640 w 1872000"/>
              <a:gd name="textAreaRight" fmla="*/ 1755360 w 1872000"/>
              <a:gd name="textAreaTop" fmla="*/ 116640 h 1800000"/>
              <a:gd name="textAreaBottom" fmla="*/ 1683360 h 1800000"/>
            </a:gdLst>
            <a:ahLst/>
            <a:rect l="textAreaLeft" t="textAreaTop" r="textAreaRight" b="textAreaBottom"/>
            <a:pathLst>
              <a:path w="22464" h="21600">
                <a:moveTo>
                  <a:pt x="0" y="0"/>
                </a:moveTo>
                <a:lnTo>
                  <a:pt x="22464" y="0"/>
                </a:lnTo>
                <a:lnTo>
                  <a:pt x="22464" y="21600"/>
                </a:lnTo>
                <a:lnTo>
                  <a:pt x="0" y="21600"/>
                </a:lnTo>
                <a:close/>
              </a:path>
              <a:path fill="lightenLess" w="22464" h="21600">
                <a:moveTo>
                  <a:pt x="0" y="0"/>
                </a:moveTo>
                <a:lnTo>
                  <a:pt x="22464" y="0"/>
                </a:lnTo>
                <a:lnTo>
                  <a:pt x="21064" y="1400"/>
                </a:lnTo>
                <a:lnTo>
                  <a:pt x="1400" y="1400"/>
                </a:lnTo>
                <a:close/>
              </a:path>
              <a:path fill="darken" w="22464" h="21600">
                <a:moveTo>
                  <a:pt x="22464" y="0"/>
                </a:moveTo>
                <a:lnTo>
                  <a:pt x="22464" y="21600"/>
                </a:lnTo>
                <a:lnTo>
                  <a:pt x="21064" y="20200"/>
                </a:lnTo>
                <a:lnTo>
                  <a:pt x="21064" y="1400"/>
                </a:lnTo>
                <a:close/>
              </a:path>
              <a:path fill="darkenLess" w="22464" h="21600">
                <a:moveTo>
                  <a:pt x="224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64" y="20200"/>
                </a:lnTo>
                <a:close/>
              </a:path>
              <a:path fill="lighten" w="224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Фі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6">
            <a:hlinkClick r:id="rId4" action="ppaction://hlinksldjump"/>
          </p:cNvPr>
          <p:cNvSpPr/>
          <p:nvPr/>
        </p:nvSpPr>
        <p:spPr>
          <a:xfrm>
            <a:off x="3924360" y="1052640"/>
            <a:ext cx="1873080" cy="1798560"/>
          </a:xfrm>
          <a:custGeom>
            <a:avLst/>
            <a:gdLst>
              <a:gd name="textAreaLeft" fmla="*/ 116280 w 1873080"/>
              <a:gd name="textAreaRight" fmla="*/ 1756800 w 1873080"/>
              <a:gd name="textAreaTop" fmla="*/ 116280 h 1798560"/>
              <a:gd name="textAreaBottom" fmla="*/ 1682280 h 1798560"/>
            </a:gdLst>
            <a:ahLst/>
            <a:rect l="textAreaLeft" t="textAreaTop" r="textAreaRight" b="textAreaBottom"/>
            <a:pathLst>
              <a:path w="22495" h="21600">
                <a:moveTo>
                  <a:pt x="0" y="0"/>
                </a:moveTo>
                <a:lnTo>
                  <a:pt x="22495" y="0"/>
                </a:lnTo>
                <a:lnTo>
                  <a:pt x="22495" y="21600"/>
                </a:lnTo>
                <a:lnTo>
                  <a:pt x="0" y="21600"/>
                </a:lnTo>
                <a:close/>
              </a:path>
              <a:path fill="lightenLess" w="22495" h="21600">
                <a:moveTo>
                  <a:pt x="0" y="0"/>
                </a:moveTo>
                <a:lnTo>
                  <a:pt x="22495" y="0"/>
                </a:lnTo>
                <a:lnTo>
                  <a:pt x="21095" y="1400"/>
                </a:lnTo>
                <a:lnTo>
                  <a:pt x="1400" y="1400"/>
                </a:lnTo>
                <a:close/>
              </a:path>
              <a:path fill="darken" w="22495" h="21600">
                <a:moveTo>
                  <a:pt x="22495" y="0"/>
                </a:moveTo>
                <a:lnTo>
                  <a:pt x="22495" y="21600"/>
                </a:lnTo>
                <a:lnTo>
                  <a:pt x="21095" y="20200"/>
                </a:lnTo>
                <a:lnTo>
                  <a:pt x="21095" y="1400"/>
                </a:lnTo>
                <a:close/>
              </a:path>
              <a:path fill="darkenLess" w="22495" h="21600">
                <a:moveTo>
                  <a:pt x="224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95" y="20200"/>
                </a:lnTo>
                <a:close/>
              </a:path>
              <a:path fill="lighten" w="224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Біолог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7">
            <a:hlinkClick r:id="rId5" action="ppaction://hlinksldjump"/>
          </p:cNvPr>
          <p:cNvSpPr/>
          <p:nvPr/>
        </p:nvSpPr>
        <p:spPr>
          <a:xfrm>
            <a:off x="3924360" y="2997360"/>
            <a:ext cx="1873080" cy="1725480"/>
          </a:xfrm>
          <a:custGeom>
            <a:avLst/>
            <a:gdLst>
              <a:gd name="textAreaLeft" fmla="*/ 111600 w 1873080"/>
              <a:gd name="textAreaRight" fmla="*/ 1761480 w 1873080"/>
              <a:gd name="textAreaTop" fmla="*/ 111600 h 1725480"/>
              <a:gd name="textAreaBottom" fmla="*/ 1613880 h 1725480"/>
            </a:gdLst>
            <a:ahLst/>
            <a:rect l="textAreaLeft" t="textAreaTop" r="textAreaRight" b="textAreaBottom"/>
            <a:pathLst>
              <a:path w="23447" h="21600">
                <a:moveTo>
                  <a:pt x="0" y="0"/>
                </a:moveTo>
                <a:lnTo>
                  <a:pt x="23447" y="0"/>
                </a:lnTo>
                <a:lnTo>
                  <a:pt x="23447" y="21600"/>
                </a:lnTo>
                <a:lnTo>
                  <a:pt x="0" y="21600"/>
                </a:lnTo>
                <a:close/>
              </a:path>
              <a:path fill="lightenLess" w="23447" h="21600">
                <a:moveTo>
                  <a:pt x="0" y="0"/>
                </a:moveTo>
                <a:lnTo>
                  <a:pt x="23447" y="0"/>
                </a:lnTo>
                <a:lnTo>
                  <a:pt x="22047" y="1400"/>
                </a:lnTo>
                <a:lnTo>
                  <a:pt x="1400" y="1400"/>
                </a:lnTo>
                <a:close/>
              </a:path>
              <a:path fill="darken" w="23447" h="21600">
                <a:moveTo>
                  <a:pt x="23447" y="0"/>
                </a:moveTo>
                <a:lnTo>
                  <a:pt x="23447" y="21600"/>
                </a:lnTo>
                <a:lnTo>
                  <a:pt x="22047" y="20200"/>
                </a:lnTo>
                <a:lnTo>
                  <a:pt x="22047" y="1400"/>
                </a:lnTo>
                <a:close/>
              </a:path>
              <a:path fill="darkenLess" w="23447" h="21600">
                <a:moveTo>
                  <a:pt x="23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47" y="20200"/>
                </a:lnTo>
                <a:close/>
              </a:path>
              <a:path fill="lighten" w="23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Біолог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8">
            <a:hlinkClick r:id="rId6" action="ppaction://hlinksldjump"/>
          </p:cNvPr>
          <p:cNvSpPr/>
          <p:nvPr/>
        </p:nvSpPr>
        <p:spPr>
          <a:xfrm>
            <a:off x="3924360" y="4869000"/>
            <a:ext cx="1873080" cy="1798560"/>
          </a:xfrm>
          <a:custGeom>
            <a:avLst/>
            <a:gdLst>
              <a:gd name="textAreaLeft" fmla="*/ 116280 w 1873080"/>
              <a:gd name="textAreaRight" fmla="*/ 1756800 w 1873080"/>
              <a:gd name="textAreaTop" fmla="*/ 116280 h 1798560"/>
              <a:gd name="textAreaBottom" fmla="*/ 1682280 h 1798560"/>
            </a:gdLst>
            <a:ahLst/>
            <a:rect l="textAreaLeft" t="textAreaTop" r="textAreaRight" b="textAreaBottom"/>
            <a:pathLst>
              <a:path w="22495" h="21600">
                <a:moveTo>
                  <a:pt x="0" y="0"/>
                </a:moveTo>
                <a:lnTo>
                  <a:pt x="22495" y="0"/>
                </a:lnTo>
                <a:lnTo>
                  <a:pt x="22495" y="21600"/>
                </a:lnTo>
                <a:lnTo>
                  <a:pt x="0" y="21600"/>
                </a:lnTo>
                <a:close/>
              </a:path>
              <a:path fill="lightenLess" w="22495" h="21600">
                <a:moveTo>
                  <a:pt x="0" y="0"/>
                </a:moveTo>
                <a:lnTo>
                  <a:pt x="22495" y="0"/>
                </a:lnTo>
                <a:lnTo>
                  <a:pt x="21095" y="1400"/>
                </a:lnTo>
                <a:lnTo>
                  <a:pt x="1400" y="1400"/>
                </a:lnTo>
                <a:close/>
              </a:path>
              <a:path fill="darken" w="22495" h="21600">
                <a:moveTo>
                  <a:pt x="22495" y="0"/>
                </a:moveTo>
                <a:lnTo>
                  <a:pt x="22495" y="21600"/>
                </a:lnTo>
                <a:lnTo>
                  <a:pt x="21095" y="20200"/>
                </a:lnTo>
                <a:lnTo>
                  <a:pt x="21095" y="1400"/>
                </a:lnTo>
                <a:close/>
              </a:path>
              <a:path fill="darkenLess" w="22495" h="21600">
                <a:moveTo>
                  <a:pt x="224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95" y="20200"/>
                </a:lnTo>
                <a:close/>
              </a:path>
              <a:path fill="lighten" w="224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Біолог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2">
            <a:hlinkClick r:id="rId7" action="ppaction://hlinksldjump"/>
          </p:cNvPr>
          <p:cNvSpPr/>
          <p:nvPr/>
        </p:nvSpPr>
        <p:spPr>
          <a:xfrm>
            <a:off x="179280" y="3860640"/>
            <a:ext cx="1440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ahoma"/>
              </a:rPr>
              <a:t>раун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3">
            <a:hlinkClick r:id="rId8" action="ppaction://hlinksldjump"/>
          </p:cNvPr>
          <p:cNvSpPr/>
          <p:nvPr/>
        </p:nvSpPr>
        <p:spPr>
          <a:xfrm>
            <a:off x="5940360" y="1052640"/>
            <a:ext cx="1800360" cy="1800000"/>
          </a:xfrm>
          <a:custGeom>
            <a:avLst/>
            <a:gdLst>
              <a:gd name="textAreaLeft" fmla="*/ 116640 w 1800360"/>
              <a:gd name="textAreaRight" fmla="*/ 1683720 w 1800360"/>
              <a:gd name="textAreaTop" fmla="*/ 116640 h 1800000"/>
              <a:gd name="textAreaBottom" fmla="*/ 1683360 h 1800000"/>
            </a:gdLst>
            <a:ahLst/>
            <a:rect l="textAreaLeft" t="textAreaTop" r="textAreaRight" b="textAreaBottom"/>
            <a:pathLst>
              <a:path w="21604" h="21600">
                <a:moveTo>
                  <a:pt x="0" y="0"/>
                </a:moveTo>
                <a:lnTo>
                  <a:pt x="21604" y="0"/>
                </a:lnTo>
                <a:lnTo>
                  <a:pt x="21604" y="21600"/>
                </a:lnTo>
                <a:lnTo>
                  <a:pt x="0" y="21600"/>
                </a:lnTo>
                <a:close/>
              </a:path>
              <a:path fill="lightenLess" w="21604" h="21600">
                <a:moveTo>
                  <a:pt x="0" y="0"/>
                </a:moveTo>
                <a:lnTo>
                  <a:pt x="21604" y="0"/>
                </a:lnTo>
                <a:lnTo>
                  <a:pt x="20204" y="1400"/>
                </a:lnTo>
                <a:lnTo>
                  <a:pt x="1400" y="1400"/>
                </a:lnTo>
                <a:close/>
              </a:path>
              <a:path fill="darken" w="21604" h="21600">
                <a:moveTo>
                  <a:pt x="21604" y="0"/>
                </a:moveTo>
                <a:lnTo>
                  <a:pt x="21604" y="21600"/>
                </a:lnTo>
                <a:lnTo>
                  <a:pt x="20204" y="20200"/>
                </a:lnTo>
                <a:lnTo>
                  <a:pt x="20204" y="1400"/>
                </a:lnTo>
                <a:close/>
              </a:path>
              <a:path fill="darkenLess" w="21604" h="21600">
                <a:moveTo>
                  <a:pt x="216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4" y="20200"/>
                </a:lnTo>
                <a:close/>
              </a:path>
              <a:path fill="lighten" w="216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Хім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14">
            <a:hlinkClick r:id="rId9" action="ppaction://hlinksldjump"/>
          </p:cNvPr>
          <p:cNvSpPr/>
          <p:nvPr/>
        </p:nvSpPr>
        <p:spPr>
          <a:xfrm>
            <a:off x="5940360" y="2997360"/>
            <a:ext cx="1800360" cy="1726920"/>
          </a:xfrm>
          <a:custGeom>
            <a:avLst/>
            <a:gdLst>
              <a:gd name="textAreaLeft" fmla="*/ 111600 w 1800360"/>
              <a:gd name="textAreaRight" fmla="*/ 1688760 w 1800360"/>
              <a:gd name="textAreaTop" fmla="*/ 111600 h 1726920"/>
              <a:gd name="textAreaBottom" fmla="*/ 1615320 h 1726920"/>
            </a:gdLst>
            <a:ahLst/>
            <a:rect l="textAreaLeft" t="textAreaTop" r="textAreaRight" b="textAreaBottom"/>
            <a:pathLst>
              <a:path w="22518" h="21600">
                <a:moveTo>
                  <a:pt x="0" y="0"/>
                </a:moveTo>
                <a:lnTo>
                  <a:pt x="22518" y="0"/>
                </a:lnTo>
                <a:lnTo>
                  <a:pt x="22518" y="21600"/>
                </a:lnTo>
                <a:lnTo>
                  <a:pt x="0" y="21600"/>
                </a:lnTo>
                <a:close/>
              </a:path>
              <a:path fill="lightenLess" w="22518" h="21600">
                <a:moveTo>
                  <a:pt x="0" y="0"/>
                </a:moveTo>
                <a:lnTo>
                  <a:pt x="22518" y="0"/>
                </a:lnTo>
                <a:lnTo>
                  <a:pt x="21118" y="1400"/>
                </a:lnTo>
                <a:lnTo>
                  <a:pt x="1400" y="1400"/>
                </a:lnTo>
                <a:close/>
              </a:path>
              <a:path fill="darken" w="22518" h="21600">
                <a:moveTo>
                  <a:pt x="22518" y="0"/>
                </a:moveTo>
                <a:lnTo>
                  <a:pt x="22518" y="21600"/>
                </a:lnTo>
                <a:lnTo>
                  <a:pt x="21118" y="20200"/>
                </a:lnTo>
                <a:lnTo>
                  <a:pt x="21118" y="1400"/>
                </a:lnTo>
                <a:close/>
              </a:path>
              <a:path fill="darkenLess" w="22518" h="21600">
                <a:moveTo>
                  <a:pt x="22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18" y="20200"/>
                </a:lnTo>
                <a:close/>
              </a:path>
              <a:path fill="lighten" w="22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Хім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5">
            <a:hlinkClick r:id="rId10" action="ppaction://hlinksldjump"/>
          </p:cNvPr>
          <p:cNvSpPr/>
          <p:nvPr/>
        </p:nvSpPr>
        <p:spPr>
          <a:xfrm>
            <a:off x="5940360" y="4869000"/>
            <a:ext cx="1800360" cy="1800000"/>
          </a:xfrm>
          <a:custGeom>
            <a:avLst/>
            <a:gdLst>
              <a:gd name="textAreaLeft" fmla="*/ 116640 w 1800360"/>
              <a:gd name="textAreaRight" fmla="*/ 1683720 w 1800360"/>
              <a:gd name="textAreaTop" fmla="*/ 116640 h 1800000"/>
              <a:gd name="textAreaBottom" fmla="*/ 1683360 h 1800000"/>
            </a:gdLst>
            <a:ahLst/>
            <a:rect l="textAreaLeft" t="textAreaTop" r="textAreaRight" b="textAreaBottom"/>
            <a:pathLst>
              <a:path w="21604" h="21600">
                <a:moveTo>
                  <a:pt x="0" y="0"/>
                </a:moveTo>
                <a:lnTo>
                  <a:pt x="21604" y="0"/>
                </a:lnTo>
                <a:lnTo>
                  <a:pt x="21604" y="21600"/>
                </a:lnTo>
                <a:lnTo>
                  <a:pt x="0" y="21600"/>
                </a:lnTo>
                <a:close/>
              </a:path>
              <a:path fill="lightenLess" w="21604" h="21600">
                <a:moveTo>
                  <a:pt x="0" y="0"/>
                </a:moveTo>
                <a:lnTo>
                  <a:pt x="21604" y="0"/>
                </a:lnTo>
                <a:lnTo>
                  <a:pt x="20204" y="1400"/>
                </a:lnTo>
                <a:lnTo>
                  <a:pt x="1400" y="1400"/>
                </a:lnTo>
                <a:close/>
              </a:path>
              <a:path fill="darken" w="21604" h="21600">
                <a:moveTo>
                  <a:pt x="21604" y="0"/>
                </a:moveTo>
                <a:lnTo>
                  <a:pt x="21604" y="21600"/>
                </a:lnTo>
                <a:lnTo>
                  <a:pt x="20204" y="20200"/>
                </a:lnTo>
                <a:lnTo>
                  <a:pt x="20204" y="1400"/>
                </a:lnTo>
                <a:close/>
              </a:path>
              <a:path fill="darkenLess" w="21604" h="21600">
                <a:moveTo>
                  <a:pt x="216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4" y="20200"/>
                </a:lnTo>
                <a:close/>
              </a:path>
              <a:path fill="lighten" w="216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Хім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2" dur="1000" fill="hold"/>
                                        <p:tgtEl>
                                          <p:spTgt spid="30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7" dur="1000" fill="hold"/>
                                        <p:tgtEl>
                                          <p:spTgt spid="30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449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2" dur="1000" fill="hold"/>
                                        <p:tgtEl>
                                          <p:spTgt spid="31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7" dur="1000" fill="hold"/>
                                        <p:tgtEl>
                                          <p:spTgt spid="31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2" dur="1000" fill="hold"/>
                                        <p:tgtEl>
                                          <p:spTgt spid="31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3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464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7" dur="1000" fill="hold"/>
                                        <p:tgtEl>
                                          <p:spTgt spid="31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2" dur="1000" fill="hold"/>
                                        <p:tgtEl>
                                          <p:spTgt spid="31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3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474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7" dur="1000" fill="hold"/>
                                        <p:tgtEl>
                                          <p:spTgt spid="31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8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479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2" dur="1000" fill="hold"/>
                                        <p:tgtEl>
                                          <p:spTgt spid="31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76360" y="980640"/>
            <a:ext cx="2989440" cy="8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Tahoma"/>
              </a:rPr>
              <a:t>Фізика 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571680" y="2071800"/>
            <a:ext cx="7200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ahoma"/>
              </a:rPr>
              <a:t>Чому собака в спеку висовує язик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285840" y="3500280"/>
            <a:ext cx="853128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ahoma"/>
              </a:rPr>
              <a:t>У шкірі собаки відсутні потові залози. З язика випаровується волога. Процес випаровування відбувається з поглинанням теплоти. Тіло  собаки охолоджує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6">
            <a:hlinkClick r:id="rId2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7" descr="1214463762_ovcharka"/>
          <p:cNvPicPr/>
          <p:nvPr/>
        </p:nvPicPr>
        <p:blipFill>
          <a:blip r:embed="rId3"/>
          <a:stretch/>
        </p:blipFill>
        <p:spPr>
          <a:xfrm>
            <a:off x="6572160" y="0"/>
            <a:ext cx="2284560" cy="228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442908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9900"/>
                </a:solidFill>
                <a:latin typeface="Tahoma"/>
              </a:rPr>
              <a:t>Фізика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468360" y="1844640"/>
            <a:ext cx="8136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ahoma"/>
              </a:rPr>
              <a:t>Чим відрізняються молекули гарячої і холодної вод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714240" y="4429080"/>
            <a:ext cx="75596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9900"/>
                </a:solidFill>
                <a:latin typeface="Tahoma"/>
              </a:rPr>
              <a:t>Швидкістю. В гарячій воді швидкість біль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6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8" descr="ethele"/>
          <p:cNvPicPr/>
          <p:nvPr/>
        </p:nvPicPr>
        <p:blipFill>
          <a:blip r:embed="rId1"/>
          <a:stretch/>
        </p:blipFill>
        <p:spPr>
          <a:xfrm>
            <a:off x="6300720" y="0"/>
            <a:ext cx="2556000" cy="314172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8000"/>
                </a:solidFill>
                <a:latin typeface="Tahoma"/>
              </a:rPr>
              <a:t>Фізика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357120" y="2565360"/>
            <a:ext cx="80010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Коли </a:t>
            </a:r>
            <a:r>
              <a:rPr b="1" lang="ru-RU" sz="5000" spc="-1" strike="noStrike">
                <a:solidFill>
                  <a:srgbClr val="000000"/>
                </a:solidFill>
                <a:latin typeface="Tahoma"/>
              </a:rPr>
              <a:t>Ейфелева</a:t>
            </a: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 вежа стає</a:t>
            </a:r>
            <a:r>
              <a:rPr b="1" lang="uk-UA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вищою на 15 см?</a:t>
            </a:r>
            <a:r>
              <a:rPr b="1" lang="uk-UA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250920" y="4365720"/>
            <a:ext cx="8066160" cy="21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ahoma"/>
              </a:rPr>
              <a:t>Влітку, бо під час нагрівання </a:t>
            </a:r>
            <a:r>
              <a:rPr b="1" lang="uk-UA" sz="4200" spc="-1" strike="noStrike">
                <a:solidFill>
                  <a:srgbClr val="008000"/>
                </a:solidFill>
                <a:latin typeface="Tahoma"/>
              </a:rPr>
              <a:t>метали</a:t>
            </a:r>
            <a:r>
              <a:rPr b="1" lang="uk-UA" sz="4000" spc="-1" strike="noStrike">
                <a:solidFill>
                  <a:srgbClr val="008000"/>
                </a:solidFill>
                <a:latin typeface="Tahoma"/>
              </a:rPr>
              <a:t> розширюю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7">
            <a:hlinkClick r:id="rId2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3743280" cy="105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Tahoma"/>
              </a:rPr>
              <a:t>Біологія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826920" y="5214960"/>
            <a:ext cx="684072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0000"/>
                </a:solidFill>
                <a:latin typeface="Tahoma"/>
              </a:rPr>
              <a:t>Дощові черв’я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785880" y="2071800"/>
            <a:ext cx="763272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ahoma"/>
              </a:rPr>
              <a:t>Їх називають «плугом землі» оскільки вони почали рити землю, раніше ніж людина. Про яких тварин ідеться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5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76360" y="980640"/>
            <a:ext cx="2989440" cy="8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Tahoma"/>
              </a:rPr>
              <a:t>Фізика 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3564000" y="5229360"/>
            <a:ext cx="27352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Tahoma"/>
              </a:rPr>
              <a:t>Ано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571680" y="2276640"/>
            <a:ext cx="828648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ahoma"/>
              </a:rPr>
              <a:t>Як називається позитивно заряджений електрод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9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442908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9900"/>
                </a:solidFill>
                <a:latin typeface="Tahoma"/>
              </a:rPr>
              <a:t>Біологія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285840" y="2071800"/>
            <a:ext cx="856908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ahoma"/>
              </a:rPr>
              <a:t>Стебла якої злакової рослини використовують для виготовлення водопровідних труб, телеграфних стовпів, різних виробі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1763640" y="5373720"/>
            <a:ext cx="5832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9900"/>
                </a:solidFill>
                <a:latin typeface="Tahoma"/>
              </a:rPr>
              <a:t>Бамбу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5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8000"/>
                </a:solidFill>
                <a:latin typeface="Tahoma"/>
              </a:rPr>
              <a:t>Біологія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714240" y="2071800"/>
            <a:ext cx="810432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ahoma"/>
              </a:rPr>
              <a:t>Як називається зелений пігмент рослин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4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1000080" y="4357800"/>
            <a:ext cx="6985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8000"/>
                </a:solidFill>
                <a:latin typeface="Tahoma"/>
              </a:rPr>
              <a:t>Хлорофі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76360" y="980640"/>
            <a:ext cx="2989440" cy="8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Tahoma"/>
              </a:rPr>
              <a:t>Хімія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642960" y="5643720"/>
            <a:ext cx="705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ahoma"/>
              </a:rPr>
              <a:t>Кухонна сіль – натрій хлорид</a:t>
            </a:r>
            <a:r>
              <a:rPr b="1" lang="uk-UA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500040" y="1857240"/>
            <a:ext cx="84297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ahoma"/>
              </a:rPr>
              <a:t>Що підносять за звичаєм дорогим гостям з хлібом, тим самим бажаючи їм здоров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uk-UA" sz="4000" spc="-1" strike="noStrike">
                <a:solidFill>
                  <a:srgbClr val="000000"/>
                </a:solidFill>
                <a:latin typeface="Tahoma"/>
              </a:rPr>
              <a:t>я та добробуту? Розсипати її – означає накликати лихо, сварк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6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442908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9900"/>
                </a:solidFill>
                <a:latin typeface="Tahoma"/>
              </a:rPr>
              <a:t>Хімія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684360" y="1844640"/>
            <a:ext cx="79912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З якого металу виготовляли обладунки середньовічних рицарів? Перевіряючи їх міцність, майстер одягав на себе обладунки, і замовник влаштовував поєдинок. Якщо обладунки були неякісні, майстер міг загинути в поєдин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1619280" y="5229360"/>
            <a:ext cx="583236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9900"/>
                </a:solidFill>
                <a:latin typeface="Tahoma"/>
              </a:rPr>
              <a:t>Заліз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6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8000"/>
                </a:solidFill>
                <a:latin typeface="Tahoma"/>
              </a:rPr>
              <a:t>Хімія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500040" y="2000160"/>
            <a:ext cx="8215200" cy="30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ahoma"/>
              </a:rPr>
              <a:t>Порушення рівноваги між вмістом кисню і цього газу в атмосфері призводить до так званого «парникового ефекту». Назвіть цей газ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4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1332000" y="5516640"/>
            <a:ext cx="5905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8000"/>
                </a:solidFill>
                <a:latin typeface="Tahoma"/>
              </a:rPr>
              <a:t>Вуглекислий га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1079280" cy="15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800" spc="-1" strike="noStrike">
                <a:solidFill>
                  <a:srgbClr val="333399"/>
                </a:solidFill>
                <a:latin typeface="Tahoma"/>
              </a:rPr>
              <a:t>ІІ</a:t>
            </a:r>
            <a:endParaRPr b="0" lang="en-US" sz="8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8" name="AutoShape 3">
            <a:hlinkClick r:id="rId1" action="ppaction://hlinksldjump"/>
          </p:cNvPr>
          <p:cNvSpPr/>
          <p:nvPr/>
        </p:nvSpPr>
        <p:spPr>
          <a:xfrm>
            <a:off x="1908000" y="1052640"/>
            <a:ext cx="1872000" cy="1798560"/>
          </a:xfrm>
          <a:custGeom>
            <a:avLst/>
            <a:gdLst>
              <a:gd name="textAreaLeft" fmla="*/ 116280 w 1872000"/>
              <a:gd name="textAreaRight" fmla="*/ 1755720 w 1872000"/>
              <a:gd name="textAreaTop" fmla="*/ 116280 h 1798560"/>
              <a:gd name="textAreaBottom" fmla="*/ 1682280 h 1798560"/>
            </a:gdLst>
            <a:ahLst/>
            <a:rect l="textAreaLeft" t="textAreaTop" r="textAreaRight" b="textAreaBottom"/>
            <a:pathLst>
              <a:path w="22482" h="21600">
                <a:moveTo>
                  <a:pt x="0" y="0"/>
                </a:moveTo>
                <a:lnTo>
                  <a:pt x="22482" y="0"/>
                </a:lnTo>
                <a:lnTo>
                  <a:pt x="22482" y="21600"/>
                </a:lnTo>
                <a:lnTo>
                  <a:pt x="0" y="21600"/>
                </a:lnTo>
                <a:close/>
              </a:path>
              <a:path fill="lightenLess" w="22482" h="21600">
                <a:moveTo>
                  <a:pt x="0" y="0"/>
                </a:moveTo>
                <a:lnTo>
                  <a:pt x="22482" y="0"/>
                </a:lnTo>
                <a:lnTo>
                  <a:pt x="21082" y="1400"/>
                </a:lnTo>
                <a:lnTo>
                  <a:pt x="1400" y="1400"/>
                </a:lnTo>
                <a:close/>
              </a:path>
              <a:path fill="darken" w="22482" h="21600">
                <a:moveTo>
                  <a:pt x="22482" y="0"/>
                </a:moveTo>
                <a:lnTo>
                  <a:pt x="22482" y="21600"/>
                </a:lnTo>
                <a:lnTo>
                  <a:pt x="21082" y="20200"/>
                </a:lnTo>
                <a:lnTo>
                  <a:pt x="21082" y="1400"/>
                </a:lnTo>
                <a:close/>
              </a:path>
              <a:path fill="darkenLess" w="22482" h="21600">
                <a:moveTo>
                  <a:pt x="224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82" y="20200"/>
                </a:lnTo>
                <a:close/>
              </a:path>
              <a:path fill="lighten" w="224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Фі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4">
            <a:hlinkClick r:id="rId2" action="ppaction://hlinksldjump"/>
          </p:cNvPr>
          <p:cNvSpPr/>
          <p:nvPr/>
        </p:nvSpPr>
        <p:spPr>
          <a:xfrm>
            <a:off x="1908000" y="2997360"/>
            <a:ext cx="1872000" cy="1728720"/>
          </a:xfrm>
          <a:custGeom>
            <a:avLst/>
            <a:gdLst>
              <a:gd name="textAreaLeft" fmla="*/ 111960 w 1872000"/>
              <a:gd name="textAreaRight" fmla="*/ 1760040 w 187200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3390" h="21600">
                <a:moveTo>
                  <a:pt x="0" y="0"/>
                </a:moveTo>
                <a:lnTo>
                  <a:pt x="23390" y="0"/>
                </a:lnTo>
                <a:lnTo>
                  <a:pt x="23390" y="21600"/>
                </a:lnTo>
                <a:lnTo>
                  <a:pt x="0" y="21600"/>
                </a:lnTo>
                <a:close/>
              </a:path>
              <a:path fill="lightenLess" w="23390" h="21600">
                <a:moveTo>
                  <a:pt x="0" y="0"/>
                </a:moveTo>
                <a:lnTo>
                  <a:pt x="23390" y="0"/>
                </a:lnTo>
                <a:lnTo>
                  <a:pt x="21990" y="1400"/>
                </a:lnTo>
                <a:lnTo>
                  <a:pt x="1400" y="1400"/>
                </a:lnTo>
                <a:close/>
              </a:path>
              <a:path fill="darken" w="23390" h="21600">
                <a:moveTo>
                  <a:pt x="23390" y="0"/>
                </a:moveTo>
                <a:lnTo>
                  <a:pt x="23390" y="21600"/>
                </a:lnTo>
                <a:lnTo>
                  <a:pt x="21990" y="20200"/>
                </a:lnTo>
                <a:lnTo>
                  <a:pt x="21990" y="1400"/>
                </a:lnTo>
                <a:close/>
              </a:path>
              <a:path fill="darkenLess" w="23390" h="21600">
                <a:moveTo>
                  <a:pt x="23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0" y="20200"/>
                </a:lnTo>
                <a:close/>
              </a:path>
              <a:path fill="lighten" w="23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Фі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5">
            <a:hlinkClick r:id="rId3" action="ppaction://hlinksldjump"/>
          </p:cNvPr>
          <p:cNvSpPr/>
          <p:nvPr/>
        </p:nvSpPr>
        <p:spPr>
          <a:xfrm>
            <a:off x="1908000" y="4869000"/>
            <a:ext cx="1872000" cy="1800000"/>
          </a:xfrm>
          <a:custGeom>
            <a:avLst/>
            <a:gdLst>
              <a:gd name="textAreaLeft" fmla="*/ 116640 w 1872000"/>
              <a:gd name="textAreaRight" fmla="*/ 1755360 w 1872000"/>
              <a:gd name="textAreaTop" fmla="*/ 116640 h 1800000"/>
              <a:gd name="textAreaBottom" fmla="*/ 1683360 h 1800000"/>
            </a:gdLst>
            <a:ahLst/>
            <a:rect l="textAreaLeft" t="textAreaTop" r="textAreaRight" b="textAreaBottom"/>
            <a:pathLst>
              <a:path w="22464" h="21600">
                <a:moveTo>
                  <a:pt x="0" y="0"/>
                </a:moveTo>
                <a:lnTo>
                  <a:pt x="22464" y="0"/>
                </a:lnTo>
                <a:lnTo>
                  <a:pt x="22464" y="21600"/>
                </a:lnTo>
                <a:lnTo>
                  <a:pt x="0" y="21600"/>
                </a:lnTo>
                <a:close/>
              </a:path>
              <a:path fill="lightenLess" w="22464" h="21600">
                <a:moveTo>
                  <a:pt x="0" y="0"/>
                </a:moveTo>
                <a:lnTo>
                  <a:pt x="22464" y="0"/>
                </a:lnTo>
                <a:lnTo>
                  <a:pt x="21064" y="1400"/>
                </a:lnTo>
                <a:lnTo>
                  <a:pt x="1400" y="1400"/>
                </a:lnTo>
                <a:close/>
              </a:path>
              <a:path fill="darken" w="22464" h="21600">
                <a:moveTo>
                  <a:pt x="22464" y="0"/>
                </a:moveTo>
                <a:lnTo>
                  <a:pt x="22464" y="21600"/>
                </a:lnTo>
                <a:lnTo>
                  <a:pt x="21064" y="20200"/>
                </a:lnTo>
                <a:lnTo>
                  <a:pt x="21064" y="1400"/>
                </a:lnTo>
                <a:close/>
              </a:path>
              <a:path fill="darkenLess" w="22464" h="21600">
                <a:moveTo>
                  <a:pt x="224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64" y="20200"/>
                </a:lnTo>
                <a:close/>
              </a:path>
              <a:path fill="lighten" w="224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Фі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6">
            <a:hlinkClick r:id="rId4" action="ppaction://hlinksldjump"/>
          </p:cNvPr>
          <p:cNvSpPr/>
          <p:nvPr/>
        </p:nvSpPr>
        <p:spPr>
          <a:xfrm>
            <a:off x="3924360" y="1052640"/>
            <a:ext cx="1873080" cy="1798560"/>
          </a:xfrm>
          <a:custGeom>
            <a:avLst/>
            <a:gdLst>
              <a:gd name="textAreaLeft" fmla="*/ 116280 w 1873080"/>
              <a:gd name="textAreaRight" fmla="*/ 1756800 w 1873080"/>
              <a:gd name="textAreaTop" fmla="*/ 116280 h 1798560"/>
              <a:gd name="textAreaBottom" fmla="*/ 1682280 h 1798560"/>
            </a:gdLst>
            <a:ahLst/>
            <a:rect l="textAreaLeft" t="textAreaTop" r="textAreaRight" b="textAreaBottom"/>
            <a:pathLst>
              <a:path w="22495" h="21600">
                <a:moveTo>
                  <a:pt x="0" y="0"/>
                </a:moveTo>
                <a:lnTo>
                  <a:pt x="22495" y="0"/>
                </a:lnTo>
                <a:lnTo>
                  <a:pt x="22495" y="21600"/>
                </a:lnTo>
                <a:lnTo>
                  <a:pt x="0" y="21600"/>
                </a:lnTo>
                <a:close/>
              </a:path>
              <a:path fill="lightenLess" w="22495" h="21600">
                <a:moveTo>
                  <a:pt x="0" y="0"/>
                </a:moveTo>
                <a:lnTo>
                  <a:pt x="22495" y="0"/>
                </a:lnTo>
                <a:lnTo>
                  <a:pt x="21095" y="1400"/>
                </a:lnTo>
                <a:lnTo>
                  <a:pt x="1400" y="1400"/>
                </a:lnTo>
                <a:close/>
              </a:path>
              <a:path fill="darken" w="22495" h="21600">
                <a:moveTo>
                  <a:pt x="22495" y="0"/>
                </a:moveTo>
                <a:lnTo>
                  <a:pt x="22495" y="21600"/>
                </a:lnTo>
                <a:lnTo>
                  <a:pt x="21095" y="20200"/>
                </a:lnTo>
                <a:lnTo>
                  <a:pt x="21095" y="1400"/>
                </a:lnTo>
                <a:close/>
              </a:path>
              <a:path fill="darkenLess" w="22495" h="21600">
                <a:moveTo>
                  <a:pt x="224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95" y="20200"/>
                </a:lnTo>
                <a:close/>
              </a:path>
              <a:path fill="lighten" w="224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Біолог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7">
            <a:hlinkClick r:id="rId5" action="ppaction://hlinksldjump"/>
          </p:cNvPr>
          <p:cNvSpPr/>
          <p:nvPr/>
        </p:nvSpPr>
        <p:spPr>
          <a:xfrm>
            <a:off x="3924360" y="2997360"/>
            <a:ext cx="1873080" cy="1725480"/>
          </a:xfrm>
          <a:custGeom>
            <a:avLst/>
            <a:gdLst>
              <a:gd name="textAreaLeft" fmla="*/ 111600 w 1873080"/>
              <a:gd name="textAreaRight" fmla="*/ 1761480 w 1873080"/>
              <a:gd name="textAreaTop" fmla="*/ 111600 h 1725480"/>
              <a:gd name="textAreaBottom" fmla="*/ 1613880 h 1725480"/>
            </a:gdLst>
            <a:ahLst/>
            <a:rect l="textAreaLeft" t="textAreaTop" r="textAreaRight" b="textAreaBottom"/>
            <a:pathLst>
              <a:path w="23447" h="21600">
                <a:moveTo>
                  <a:pt x="0" y="0"/>
                </a:moveTo>
                <a:lnTo>
                  <a:pt x="23447" y="0"/>
                </a:lnTo>
                <a:lnTo>
                  <a:pt x="23447" y="21600"/>
                </a:lnTo>
                <a:lnTo>
                  <a:pt x="0" y="21600"/>
                </a:lnTo>
                <a:close/>
              </a:path>
              <a:path fill="lightenLess" w="23447" h="21600">
                <a:moveTo>
                  <a:pt x="0" y="0"/>
                </a:moveTo>
                <a:lnTo>
                  <a:pt x="23447" y="0"/>
                </a:lnTo>
                <a:lnTo>
                  <a:pt x="22047" y="1400"/>
                </a:lnTo>
                <a:lnTo>
                  <a:pt x="1400" y="1400"/>
                </a:lnTo>
                <a:close/>
              </a:path>
              <a:path fill="darken" w="23447" h="21600">
                <a:moveTo>
                  <a:pt x="23447" y="0"/>
                </a:moveTo>
                <a:lnTo>
                  <a:pt x="23447" y="21600"/>
                </a:lnTo>
                <a:lnTo>
                  <a:pt x="22047" y="20200"/>
                </a:lnTo>
                <a:lnTo>
                  <a:pt x="22047" y="1400"/>
                </a:lnTo>
                <a:close/>
              </a:path>
              <a:path fill="darkenLess" w="23447" h="21600">
                <a:moveTo>
                  <a:pt x="23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47" y="20200"/>
                </a:lnTo>
                <a:close/>
              </a:path>
              <a:path fill="lighten" w="23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Біолог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8">
            <a:hlinkClick r:id="rId6" action="ppaction://hlinksldjump"/>
          </p:cNvPr>
          <p:cNvSpPr/>
          <p:nvPr/>
        </p:nvSpPr>
        <p:spPr>
          <a:xfrm>
            <a:off x="3924360" y="4869000"/>
            <a:ext cx="1873080" cy="1798560"/>
          </a:xfrm>
          <a:custGeom>
            <a:avLst/>
            <a:gdLst>
              <a:gd name="textAreaLeft" fmla="*/ 116280 w 1873080"/>
              <a:gd name="textAreaRight" fmla="*/ 1756800 w 1873080"/>
              <a:gd name="textAreaTop" fmla="*/ 116280 h 1798560"/>
              <a:gd name="textAreaBottom" fmla="*/ 1682280 h 1798560"/>
            </a:gdLst>
            <a:ahLst/>
            <a:rect l="textAreaLeft" t="textAreaTop" r="textAreaRight" b="textAreaBottom"/>
            <a:pathLst>
              <a:path w="22495" h="21600">
                <a:moveTo>
                  <a:pt x="0" y="0"/>
                </a:moveTo>
                <a:lnTo>
                  <a:pt x="22495" y="0"/>
                </a:lnTo>
                <a:lnTo>
                  <a:pt x="22495" y="21600"/>
                </a:lnTo>
                <a:lnTo>
                  <a:pt x="0" y="21600"/>
                </a:lnTo>
                <a:close/>
              </a:path>
              <a:path fill="lightenLess" w="22495" h="21600">
                <a:moveTo>
                  <a:pt x="0" y="0"/>
                </a:moveTo>
                <a:lnTo>
                  <a:pt x="22495" y="0"/>
                </a:lnTo>
                <a:lnTo>
                  <a:pt x="21095" y="1400"/>
                </a:lnTo>
                <a:lnTo>
                  <a:pt x="1400" y="1400"/>
                </a:lnTo>
                <a:close/>
              </a:path>
              <a:path fill="darken" w="22495" h="21600">
                <a:moveTo>
                  <a:pt x="22495" y="0"/>
                </a:moveTo>
                <a:lnTo>
                  <a:pt x="22495" y="21600"/>
                </a:lnTo>
                <a:lnTo>
                  <a:pt x="21095" y="20200"/>
                </a:lnTo>
                <a:lnTo>
                  <a:pt x="21095" y="1400"/>
                </a:lnTo>
                <a:close/>
              </a:path>
              <a:path fill="darkenLess" w="22495" h="21600">
                <a:moveTo>
                  <a:pt x="224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95" y="20200"/>
                </a:lnTo>
                <a:close/>
              </a:path>
              <a:path fill="lighten" w="224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Біолог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2">
            <a:hlinkClick r:id="rId7" action="ppaction://hlinksldjump"/>
          </p:cNvPr>
          <p:cNvSpPr/>
          <p:nvPr/>
        </p:nvSpPr>
        <p:spPr>
          <a:xfrm>
            <a:off x="250920" y="4005360"/>
            <a:ext cx="1439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ahoma"/>
              </a:rPr>
              <a:t>раун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3">
            <a:hlinkClick r:id="rId8" action="ppaction://hlinksldjump"/>
          </p:cNvPr>
          <p:cNvSpPr/>
          <p:nvPr/>
        </p:nvSpPr>
        <p:spPr>
          <a:xfrm>
            <a:off x="6012000" y="1052640"/>
            <a:ext cx="1871640" cy="1800000"/>
          </a:xfrm>
          <a:custGeom>
            <a:avLst/>
            <a:gdLst>
              <a:gd name="textAreaLeft" fmla="*/ 116640 w 1871640"/>
              <a:gd name="textAreaRight" fmla="*/ 1755000 w 1871640"/>
              <a:gd name="textAreaTop" fmla="*/ 116640 h 1800000"/>
              <a:gd name="textAreaBottom" fmla="*/ 1683360 h 1800000"/>
            </a:gdLst>
            <a:ahLst/>
            <a:rect l="textAreaLeft" t="textAreaTop" r="textAreaRight" b="textAreaBottom"/>
            <a:pathLst>
              <a:path w="22460" h="21600">
                <a:moveTo>
                  <a:pt x="0" y="0"/>
                </a:moveTo>
                <a:lnTo>
                  <a:pt x="22460" y="0"/>
                </a:lnTo>
                <a:lnTo>
                  <a:pt x="22460" y="21600"/>
                </a:lnTo>
                <a:lnTo>
                  <a:pt x="0" y="21600"/>
                </a:lnTo>
                <a:close/>
              </a:path>
              <a:path fill="lightenLess" w="22460" h="21600">
                <a:moveTo>
                  <a:pt x="0" y="0"/>
                </a:moveTo>
                <a:lnTo>
                  <a:pt x="22460" y="0"/>
                </a:lnTo>
                <a:lnTo>
                  <a:pt x="21060" y="1400"/>
                </a:lnTo>
                <a:lnTo>
                  <a:pt x="1400" y="1400"/>
                </a:lnTo>
                <a:close/>
              </a:path>
              <a:path fill="darken" w="22460" h="21600">
                <a:moveTo>
                  <a:pt x="22460" y="0"/>
                </a:moveTo>
                <a:lnTo>
                  <a:pt x="22460" y="21600"/>
                </a:lnTo>
                <a:lnTo>
                  <a:pt x="21060" y="20200"/>
                </a:lnTo>
                <a:lnTo>
                  <a:pt x="21060" y="1400"/>
                </a:lnTo>
                <a:close/>
              </a:path>
              <a:path fill="darkenLess" w="22460" h="21600">
                <a:moveTo>
                  <a:pt x="224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60" y="20200"/>
                </a:lnTo>
                <a:close/>
              </a:path>
              <a:path fill="lighten" w="224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Хім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4">
            <a:hlinkClick r:id="rId9" action="ppaction://hlinksldjump"/>
          </p:cNvPr>
          <p:cNvSpPr/>
          <p:nvPr/>
        </p:nvSpPr>
        <p:spPr>
          <a:xfrm>
            <a:off x="6012000" y="2997360"/>
            <a:ext cx="1871640" cy="1726920"/>
          </a:xfrm>
          <a:custGeom>
            <a:avLst/>
            <a:gdLst>
              <a:gd name="textAreaLeft" fmla="*/ 111600 w 1871640"/>
              <a:gd name="textAreaRight" fmla="*/ 1760040 w 1871640"/>
              <a:gd name="textAreaTop" fmla="*/ 111600 h 1726920"/>
              <a:gd name="textAreaBottom" fmla="*/ 1615320 h 1726920"/>
            </a:gdLst>
            <a:ahLst/>
            <a:rect l="textAreaLeft" t="textAreaTop" r="textAreaRight" b="textAreaBottom"/>
            <a:pathLst>
              <a:path w="23410" h="21600">
                <a:moveTo>
                  <a:pt x="0" y="0"/>
                </a:moveTo>
                <a:lnTo>
                  <a:pt x="23410" y="0"/>
                </a:lnTo>
                <a:lnTo>
                  <a:pt x="23410" y="21600"/>
                </a:lnTo>
                <a:lnTo>
                  <a:pt x="0" y="21600"/>
                </a:lnTo>
                <a:close/>
              </a:path>
              <a:path fill="lightenLess" w="23410" h="21600">
                <a:moveTo>
                  <a:pt x="0" y="0"/>
                </a:moveTo>
                <a:lnTo>
                  <a:pt x="23410" y="0"/>
                </a:lnTo>
                <a:lnTo>
                  <a:pt x="22010" y="1400"/>
                </a:lnTo>
                <a:lnTo>
                  <a:pt x="1400" y="1400"/>
                </a:lnTo>
                <a:close/>
              </a:path>
              <a:path fill="darken" w="23410" h="21600">
                <a:moveTo>
                  <a:pt x="23410" y="0"/>
                </a:moveTo>
                <a:lnTo>
                  <a:pt x="23410" y="21600"/>
                </a:lnTo>
                <a:lnTo>
                  <a:pt x="22010" y="20200"/>
                </a:lnTo>
                <a:lnTo>
                  <a:pt x="22010" y="1400"/>
                </a:lnTo>
                <a:close/>
              </a:path>
              <a:path fill="darkenLess" w="23410" h="21600">
                <a:moveTo>
                  <a:pt x="23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10" y="20200"/>
                </a:lnTo>
                <a:close/>
              </a:path>
              <a:path fill="lighten" w="23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Хім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15">
            <a:hlinkClick r:id="rId10" action="ppaction://hlinksldjump"/>
          </p:cNvPr>
          <p:cNvSpPr/>
          <p:nvPr/>
        </p:nvSpPr>
        <p:spPr>
          <a:xfrm>
            <a:off x="6012000" y="4869000"/>
            <a:ext cx="1800000" cy="1800000"/>
          </a:xfrm>
          <a:custGeom>
            <a:avLst/>
            <a:gdLst>
              <a:gd name="textAreaLeft" fmla="*/ 116640 w 1800000"/>
              <a:gd name="textAreaRight" fmla="*/ 1683360 w 1800000"/>
              <a:gd name="textAreaTop" fmla="*/ 116640 h 1800000"/>
              <a:gd name="textAreaBottom" fmla="*/ 168336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Хім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548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1" dur="1000" fill="hold"/>
                                        <p:tgtEl>
                                          <p:spTgt spid="35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6" dur="1000" fill="hold"/>
                                        <p:tgtEl>
                                          <p:spTgt spid="35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7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558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1" dur="1000" fill="hold"/>
                                        <p:tgtEl>
                                          <p:spTgt spid="36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6" dur="1000" fill="hold"/>
                                        <p:tgtEl>
                                          <p:spTgt spid="36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1" dur="1000" fill="hold"/>
                                        <p:tgtEl>
                                          <p:spTgt spid="36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573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6" dur="1000" fill="hold"/>
                                        <p:tgtEl>
                                          <p:spTgt spid="36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7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578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1" dur="1000" fill="hold"/>
                                        <p:tgtEl>
                                          <p:spTgt spid="36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583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6" dur="1000" fill="hold"/>
                                        <p:tgtEl>
                                          <p:spTgt spid="36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1" dur="1000" fill="hold"/>
                                        <p:tgtEl>
                                          <p:spTgt spid="36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76360" y="980640"/>
            <a:ext cx="2989440" cy="8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Tahoma"/>
              </a:rPr>
              <a:t>Фізика 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0" y="2071800"/>
            <a:ext cx="864396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ahoma"/>
              </a:rPr>
              <a:t>Чи можна на Місяці орієнтуватися за допомогою компас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4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428760" y="4714920"/>
            <a:ext cx="763272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Tahoma"/>
              </a:rPr>
              <a:t>Ні, оскільки немає магнітного пол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6">
            <a:hlinkClick r:id="rId2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7" descr="images"/>
          <p:cNvPicPr/>
          <p:nvPr/>
        </p:nvPicPr>
        <p:blipFill>
          <a:blip r:embed="rId3"/>
          <a:stretch/>
        </p:blipFill>
        <p:spPr>
          <a:xfrm>
            <a:off x="6443640" y="0"/>
            <a:ext cx="2700360" cy="215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442908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9900"/>
                </a:solidFill>
                <a:latin typeface="Tahoma"/>
              </a:rPr>
              <a:t>Фізика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642960" y="1928880"/>
            <a:ext cx="792972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ahoma"/>
              </a:rPr>
              <a:t>Навіщо фрукти і овочі призначені для сушіння нарізають тонкими пластинкам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0" y="4786200"/>
            <a:ext cx="81439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200" spc="-1" strike="noStrike">
                <a:solidFill>
                  <a:srgbClr val="ff6600"/>
                </a:solidFill>
                <a:latin typeface="Tahoma"/>
              </a:rPr>
              <a:t>При збільшенні площі поверхні збільшується швидкість випаровування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6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8000"/>
                </a:solidFill>
                <a:latin typeface="Tahoma"/>
              </a:rPr>
              <a:t>Фізика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642960" y="1928880"/>
            <a:ext cx="821520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ahoma"/>
              </a:rPr>
              <a:t>Чому під час горіння вологих дров чути тріск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142920" y="3857760"/>
            <a:ext cx="8607240" cy="21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8000"/>
                </a:solidFill>
                <a:latin typeface="Tahoma"/>
              </a:rPr>
              <a:t>Вода, яка міститься в дереві, нагріваючись і розширюючись, розриває тканину дер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7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3743280" cy="105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Tahoma"/>
              </a:rPr>
              <a:t>Біологія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2000160" y="4714920"/>
            <a:ext cx="4896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0000"/>
                </a:solidFill>
                <a:latin typeface="Tahoma"/>
              </a:rPr>
              <a:t>Трюфелі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571680" y="1785960"/>
            <a:ext cx="792936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ahoma"/>
              </a:rPr>
              <a:t>Як називаються гриби, які ростуть під землею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442908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9900"/>
                </a:solidFill>
                <a:latin typeface="Tahoma"/>
              </a:rPr>
              <a:t>Фізика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428760" y="1928880"/>
            <a:ext cx="850104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Найнижча температура, яка може існувати в природі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1763640" y="4869000"/>
            <a:ext cx="5832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6600"/>
                </a:solidFill>
                <a:latin typeface="Arial"/>
              </a:rPr>
              <a:t>0</a:t>
            </a:r>
            <a:r>
              <a:rPr b="1" lang="ru-RU" sz="6000" spc="-1" strike="noStrike">
                <a:solidFill>
                  <a:srgbClr val="ff6600"/>
                </a:solidFill>
                <a:latin typeface="Symbol"/>
                <a:ea typeface="Symbol"/>
              </a:rPr>
              <a:t></a:t>
            </a:r>
            <a:r>
              <a:rPr b="1" lang="ru-RU" sz="6000" spc="-1" strike="noStrike">
                <a:solidFill>
                  <a:srgbClr val="ff6600"/>
                </a:solidFill>
                <a:latin typeface="Arial"/>
              </a:rPr>
              <a:t>К або -273</a:t>
            </a:r>
            <a:r>
              <a:rPr b="1" lang="ru-RU" sz="6000" spc="-1" strike="noStrike">
                <a:solidFill>
                  <a:srgbClr val="ff6600"/>
                </a:solidFill>
                <a:latin typeface="Symbol"/>
                <a:ea typeface="Symbol"/>
              </a:rPr>
              <a:t></a:t>
            </a:r>
            <a:r>
              <a:rPr b="1" lang="ru-RU" sz="6000" spc="-1" strike="noStrike">
                <a:solidFill>
                  <a:srgbClr val="ff6600"/>
                </a:solidFill>
                <a:latin typeface="Arial"/>
              </a:rPr>
              <a:t>С</a:t>
            </a:r>
            <a:r>
              <a:rPr b="0" lang="ru-RU" sz="60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442908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9900"/>
                </a:solidFill>
                <a:latin typeface="Tahoma"/>
              </a:rPr>
              <a:t>Біологія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357120" y="2357280"/>
            <a:ext cx="87868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ahoma"/>
              </a:rPr>
              <a:t>Про кого австралійці кажуть: «Колиска із центральним опаленням і вмонтованим молочним баром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857160" y="5357880"/>
            <a:ext cx="674712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9900"/>
                </a:solidFill>
                <a:latin typeface="Tahoma"/>
              </a:rPr>
              <a:t>Кенгуру</a:t>
            </a:r>
            <a:r>
              <a:rPr b="1" lang="uk-UA" sz="40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5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8000"/>
                </a:solidFill>
                <a:latin typeface="Tahoma"/>
              </a:rPr>
              <a:t>Біологія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857160" y="1785960"/>
            <a:ext cx="7705800" cy="31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ahoma"/>
              </a:rPr>
              <a:t>Яка ягода буває чорною, червоною і білою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4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1857240" y="5072040"/>
            <a:ext cx="5040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8000"/>
                </a:solidFill>
                <a:latin typeface="Tahoma"/>
              </a:rPr>
              <a:t>Смороди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76360" y="980640"/>
            <a:ext cx="2989440" cy="8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Tahoma"/>
              </a:rPr>
              <a:t>Хімія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2340000" y="5661000"/>
            <a:ext cx="3743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Tahoma"/>
              </a:rPr>
              <a:t>Фосфо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500040" y="1928880"/>
            <a:ext cx="828684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Tahoma"/>
              </a:rPr>
              <a:t>Цей елемент у складі певних сполук забезпечує перетворення хімічної енергії в розумову в клітинах мозку і в механічну при скороченні м’язів. Тому його називають «елементом життя та мислення»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6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442908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9900"/>
                </a:solidFill>
                <a:latin typeface="Tahoma"/>
              </a:rPr>
              <a:t>Хімія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428760" y="1928880"/>
            <a:ext cx="84294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ahoma"/>
              </a:rPr>
              <a:t>Про який метал римський письменник Катон Старший казав: «Життя людське схоже на нього: якщо його використовувати – воно зношується, а якщо ні – то воно іржавіє»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4"/>
          <p:cNvSpPr/>
          <p:nvPr/>
        </p:nvSpPr>
        <p:spPr>
          <a:xfrm>
            <a:off x="1714680" y="5643720"/>
            <a:ext cx="5832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9900"/>
                </a:solidFill>
                <a:latin typeface="Tahoma"/>
              </a:rPr>
              <a:t>Заліз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6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8000"/>
                </a:solidFill>
                <a:latin typeface="Tahoma"/>
              </a:rPr>
              <a:t>Хімія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357120" y="2133720"/>
            <a:ext cx="85726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ahoma"/>
              </a:rPr>
              <a:t>Газ, який постійно знаходиться в повітрі; він захищає тварин і людей від сліпоти, поглинаючи головним чином ультрафіолетові промені, які посилає на Землю Сонц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4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1476360" y="5734080"/>
            <a:ext cx="590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8000"/>
                </a:solidFill>
                <a:latin typeface="Tahoma"/>
              </a:rPr>
              <a:t>Озо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7" name="WordArt 4"/>
          <p:cNvSpPr txBox="1"/>
          <p:nvPr/>
        </p:nvSpPr>
        <p:spPr>
          <a:xfrm>
            <a:off x="900000" y="1557360"/>
            <a:ext cx="7129440" cy="38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81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інал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AutoShape 3">
            <a:hlinkClick r:id="rId1" action="ppaction://hlinksldjump"/>
          </p:cNvPr>
          <p:cNvSpPr/>
          <p:nvPr/>
        </p:nvSpPr>
        <p:spPr>
          <a:xfrm>
            <a:off x="1908000" y="1052640"/>
            <a:ext cx="1872000" cy="1798560"/>
          </a:xfrm>
          <a:custGeom>
            <a:avLst/>
            <a:gdLst>
              <a:gd name="textAreaLeft" fmla="*/ 116280 w 1872000"/>
              <a:gd name="textAreaRight" fmla="*/ 1755720 w 1872000"/>
              <a:gd name="textAreaTop" fmla="*/ 116280 h 1798560"/>
              <a:gd name="textAreaBottom" fmla="*/ 1682280 h 1798560"/>
            </a:gdLst>
            <a:ahLst/>
            <a:rect l="textAreaLeft" t="textAreaTop" r="textAreaRight" b="textAreaBottom"/>
            <a:pathLst>
              <a:path w="22482" h="21600">
                <a:moveTo>
                  <a:pt x="0" y="0"/>
                </a:moveTo>
                <a:lnTo>
                  <a:pt x="22482" y="0"/>
                </a:lnTo>
                <a:lnTo>
                  <a:pt x="22482" y="21600"/>
                </a:lnTo>
                <a:lnTo>
                  <a:pt x="0" y="21600"/>
                </a:lnTo>
                <a:close/>
              </a:path>
              <a:path fill="lightenLess" w="22482" h="21600">
                <a:moveTo>
                  <a:pt x="0" y="0"/>
                </a:moveTo>
                <a:lnTo>
                  <a:pt x="22482" y="0"/>
                </a:lnTo>
                <a:lnTo>
                  <a:pt x="21082" y="1400"/>
                </a:lnTo>
                <a:lnTo>
                  <a:pt x="1400" y="1400"/>
                </a:lnTo>
                <a:close/>
              </a:path>
              <a:path fill="darken" w="22482" h="21600">
                <a:moveTo>
                  <a:pt x="22482" y="0"/>
                </a:moveTo>
                <a:lnTo>
                  <a:pt x="22482" y="21600"/>
                </a:lnTo>
                <a:lnTo>
                  <a:pt x="21082" y="20200"/>
                </a:lnTo>
                <a:lnTo>
                  <a:pt x="21082" y="1400"/>
                </a:lnTo>
                <a:close/>
              </a:path>
              <a:path fill="darkenLess" w="22482" h="21600">
                <a:moveTo>
                  <a:pt x="224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82" y="20200"/>
                </a:lnTo>
                <a:close/>
              </a:path>
              <a:path fill="lighten" w="224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Фі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4">
            <a:hlinkClick r:id="rId2" action="ppaction://hlinksldjump"/>
          </p:cNvPr>
          <p:cNvSpPr/>
          <p:nvPr/>
        </p:nvSpPr>
        <p:spPr>
          <a:xfrm>
            <a:off x="1908000" y="2997360"/>
            <a:ext cx="1872000" cy="1728720"/>
          </a:xfrm>
          <a:custGeom>
            <a:avLst/>
            <a:gdLst>
              <a:gd name="textAreaLeft" fmla="*/ 111960 w 1872000"/>
              <a:gd name="textAreaRight" fmla="*/ 1760040 w 187200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3390" h="21600">
                <a:moveTo>
                  <a:pt x="0" y="0"/>
                </a:moveTo>
                <a:lnTo>
                  <a:pt x="23390" y="0"/>
                </a:lnTo>
                <a:lnTo>
                  <a:pt x="23390" y="21600"/>
                </a:lnTo>
                <a:lnTo>
                  <a:pt x="0" y="21600"/>
                </a:lnTo>
                <a:close/>
              </a:path>
              <a:path fill="lightenLess" w="23390" h="21600">
                <a:moveTo>
                  <a:pt x="0" y="0"/>
                </a:moveTo>
                <a:lnTo>
                  <a:pt x="23390" y="0"/>
                </a:lnTo>
                <a:lnTo>
                  <a:pt x="21990" y="1400"/>
                </a:lnTo>
                <a:lnTo>
                  <a:pt x="1400" y="1400"/>
                </a:lnTo>
                <a:close/>
              </a:path>
              <a:path fill="darken" w="23390" h="21600">
                <a:moveTo>
                  <a:pt x="23390" y="0"/>
                </a:moveTo>
                <a:lnTo>
                  <a:pt x="23390" y="21600"/>
                </a:lnTo>
                <a:lnTo>
                  <a:pt x="21990" y="20200"/>
                </a:lnTo>
                <a:lnTo>
                  <a:pt x="21990" y="1400"/>
                </a:lnTo>
                <a:close/>
              </a:path>
              <a:path fill="darkenLess" w="23390" h="21600">
                <a:moveTo>
                  <a:pt x="23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0" y="20200"/>
                </a:lnTo>
                <a:close/>
              </a:path>
              <a:path fill="lighten" w="23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Фі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5">
            <a:hlinkClick r:id="rId3" action="ppaction://hlinksldjump"/>
          </p:cNvPr>
          <p:cNvSpPr/>
          <p:nvPr/>
        </p:nvSpPr>
        <p:spPr>
          <a:xfrm>
            <a:off x="1908000" y="4869000"/>
            <a:ext cx="1872000" cy="1800000"/>
          </a:xfrm>
          <a:custGeom>
            <a:avLst/>
            <a:gdLst>
              <a:gd name="textAreaLeft" fmla="*/ 116640 w 1872000"/>
              <a:gd name="textAreaRight" fmla="*/ 1755360 w 1872000"/>
              <a:gd name="textAreaTop" fmla="*/ 116640 h 1800000"/>
              <a:gd name="textAreaBottom" fmla="*/ 1683360 h 1800000"/>
            </a:gdLst>
            <a:ahLst/>
            <a:rect l="textAreaLeft" t="textAreaTop" r="textAreaRight" b="textAreaBottom"/>
            <a:pathLst>
              <a:path w="22464" h="21600">
                <a:moveTo>
                  <a:pt x="0" y="0"/>
                </a:moveTo>
                <a:lnTo>
                  <a:pt x="22464" y="0"/>
                </a:lnTo>
                <a:lnTo>
                  <a:pt x="22464" y="21600"/>
                </a:lnTo>
                <a:lnTo>
                  <a:pt x="0" y="21600"/>
                </a:lnTo>
                <a:close/>
              </a:path>
              <a:path fill="lightenLess" w="22464" h="21600">
                <a:moveTo>
                  <a:pt x="0" y="0"/>
                </a:moveTo>
                <a:lnTo>
                  <a:pt x="22464" y="0"/>
                </a:lnTo>
                <a:lnTo>
                  <a:pt x="21064" y="1400"/>
                </a:lnTo>
                <a:lnTo>
                  <a:pt x="1400" y="1400"/>
                </a:lnTo>
                <a:close/>
              </a:path>
              <a:path fill="darken" w="22464" h="21600">
                <a:moveTo>
                  <a:pt x="22464" y="0"/>
                </a:moveTo>
                <a:lnTo>
                  <a:pt x="22464" y="21600"/>
                </a:lnTo>
                <a:lnTo>
                  <a:pt x="21064" y="20200"/>
                </a:lnTo>
                <a:lnTo>
                  <a:pt x="21064" y="1400"/>
                </a:lnTo>
                <a:close/>
              </a:path>
              <a:path fill="darkenLess" w="22464" h="21600">
                <a:moveTo>
                  <a:pt x="224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64" y="20200"/>
                </a:lnTo>
                <a:close/>
              </a:path>
              <a:path fill="lighten" w="224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Фі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6">
            <a:hlinkClick r:id="rId4" action="ppaction://hlinksldjump"/>
          </p:cNvPr>
          <p:cNvSpPr/>
          <p:nvPr/>
        </p:nvSpPr>
        <p:spPr>
          <a:xfrm>
            <a:off x="3924360" y="1052640"/>
            <a:ext cx="1873080" cy="1798560"/>
          </a:xfrm>
          <a:custGeom>
            <a:avLst/>
            <a:gdLst>
              <a:gd name="textAreaLeft" fmla="*/ 116280 w 1873080"/>
              <a:gd name="textAreaRight" fmla="*/ 1756800 w 1873080"/>
              <a:gd name="textAreaTop" fmla="*/ 116280 h 1798560"/>
              <a:gd name="textAreaBottom" fmla="*/ 1682280 h 1798560"/>
            </a:gdLst>
            <a:ahLst/>
            <a:rect l="textAreaLeft" t="textAreaTop" r="textAreaRight" b="textAreaBottom"/>
            <a:pathLst>
              <a:path w="22495" h="21600">
                <a:moveTo>
                  <a:pt x="0" y="0"/>
                </a:moveTo>
                <a:lnTo>
                  <a:pt x="22495" y="0"/>
                </a:lnTo>
                <a:lnTo>
                  <a:pt x="22495" y="21600"/>
                </a:lnTo>
                <a:lnTo>
                  <a:pt x="0" y="21600"/>
                </a:lnTo>
                <a:close/>
              </a:path>
              <a:path fill="lightenLess" w="22495" h="21600">
                <a:moveTo>
                  <a:pt x="0" y="0"/>
                </a:moveTo>
                <a:lnTo>
                  <a:pt x="22495" y="0"/>
                </a:lnTo>
                <a:lnTo>
                  <a:pt x="21095" y="1400"/>
                </a:lnTo>
                <a:lnTo>
                  <a:pt x="1400" y="1400"/>
                </a:lnTo>
                <a:close/>
              </a:path>
              <a:path fill="darken" w="22495" h="21600">
                <a:moveTo>
                  <a:pt x="22495" y="0"/>
                </a:moveTo>
                <a:lnTo>
                  <a:pt x="22495" y="21600"/>
                </a:lnTo>
                <a:lnTo>
                  <a:pt x="21095" y="20200"/>
                </a:lnTo>
                <a:lnTo>
                  <a:pt x="21095" y="1400"/>
                </a:lnTo>
                <a:close/>
              </a:path>
              <a:path fill="darkenLess" w="22495" h="21600">
                <a:moveTo>
                  <a:pt x="224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95" y="20200"/>
                </a:lnTo>
                <a:close/>
              </a:path>
              <a:path fill="lighten" w="224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Біолог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7"/>
          <p:cNvSpPr/>
          <p:nvPr/>
        </p:nvSpPr>
        <p:spPr>
          <a:xfrm>
            <a:off x="3924360" y="2997360"/>
            <a:ext cx="1873080" cy="1725480"/>
          </a:xfrm>
          <a:custGeom>
            <a:avLst/>
            <a:gdLst>
              <a:gd name="textAreaLeft" fmla="*/ 111600 w 1873080"/>
              <a:gd name="textAreaRight" fmla="*/ 1761480 w 1873080"/>
              <a:gd name="textAreaTop" fmla="*/ 111600 h 1725480"/>
              <a:gd name="textAreaBottom" fmla="*/ 1613880 h 1725480"/>
            </a:gdLst>
            <a:ahLst/>
            <a:rect l="textAreaLeft" t="textAreaTop" r="textAreaRight" b="textAreaBottom"/>
            <a:pathLst>
              <a:path w="23447" h="21600">
                <a:moveTo>
                  <a:pt x="0" y="0"/>
                </a:moveTo>
                <a:lnTo>
                  <a:pt x="23447" y="0"/>
                </a:lnTo>
                <a:lnTo>
                  <a:pt x="23447" y="21600"/>
                </a:lnTo>
                <a:lnTo>
                  <a:pt x="0" y="21600"/>
                </a:lnTo>
                <a:close/>
              </a:path>
              <a:path fill="lightenLess" w="23447" h="21600">
                <a:moveTo>
                  <a:pt x="0" y="0"/>
                </a:moveTo>
                <a:lnTo>
                  <a:pt x="23447" y="0"/>
                </a:lnTo>
                <a:lnTo>
                  <a:pt x="22047" y="1400"/>
                </a:lnTo>
                <a:lnTo>
                  <a:pt x="1400" y="1400"/>
                </a:lnTo>
                <a:close/>
              </a:path>
              <a:path fill="darken" w="23447" h="21600">
                <a:moveTo>
                  <a:pt x="23447" y="0"/>
                </a:moveTo>
                <a:lnTo>
                  <a:pt x="23447" y="21600"/>
                </a:lnTo>
                <a:lnTo>
                  <a:pt x="22047" y="20200"/>
                </a:lnTo>
                <a:lnTo>
                  <a:pt x="22047" y="1400"/>
                </a:lnTo>
                <a:close/>
              </a:path>
              <a:path fill="darkenLess" w="23447" h="21600">
                <a:moveTo>
                  <a:pt x="23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47" y="20200"/>
                </a:lnTo>
                <a:close/>
              </a:path>
              <a:path fill="lighten" w="23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Біолог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8"/>
          <p:cNvSpPr/>
          <p:nvPr/>
        </p:nvSpPr>
        <p:spPr>
          <a:xfrm>
            <a:off x="3924360" y="4869000"/>
            <a:ext cx="1873080" cy="1798560"/>
          </a:xfrm>
          <a:custGeom>
            <a:avLst/>
            <a:gdLst>
              <a:gd name="textAreaLeft" fmla="*/ 116280 w 1873080"/>
              <a:gd name="textAreaRight" fmla="*/ 1756800 w 1873080"/>
              <a:gd name="textAreaTop" fmla="*/ 116280 h 1798560"/>
              <a:gd name="textAreaBottom" fmla="*/ 1682280 h 1798560"/>
            </a:gdLst>
            <a:ahLst/>
            <a:rect l="textAreaLeft" t="textAreaTop" r="textAreaRight" b="textAreaBottom"/>
            <a:pathLst>
              <a:path w="22495" h="21600">
                <a:moveTo>
                  <a:pt x="0" y="0"/>
                </a:moveTo>
                <a:lnTo>
                  <a:pt x="22495" y="0"/>
                </a:lnTo>
                <a:lnTo>
                  <a:pt x="22495" y="21600"/>
                </a:lnTo>
                <a:lnTo>
                  <a:pt x="0" y="21600"/>
                </a:lnTo>
                <a:close/>
              </a:path>
              <a:path fill="lightenLess" w="22495" h="21600">
                <a:moveTo>
                  <a:pt x="0" y="0"/>
                </a:moveTo>
                <a:lnTo>
                  <a:pt x="22495" y="0"/>
                </a:lnTo>
                <a:lnTo>
                  <a:pt x="21095" y="1400"/>
                </a:lnTo>
                <a:lnTo>
                  <a:pt x="1400" y="1400"/>
                </a:lnTo>
                <a:close/>
              </a:path>
              <a:path fill="darken" w="22495" h="21600">
                <a:moveTo>
                  <a:pt x="22495" y="0"/>
                </a:moveTo>
                <a:lnTo>
                  <a:pt x="22495" y="21600"/>
                </a:lnTo>
                <a:lnTo>
                  <a:pt x="21095" y="20200"/>
                </a:lnTo>
                <a:lnTo>
                  <a:pt x="21095" y="1400"/>
                </a:lnTo>
                <a:close/>
              </a:path>
              <a:path fill="darkenLess" w="22495" h="21600">
                <a:moveTo>
                  <a:pt x="224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95" y="20200"/>
                </a:lnTo>
                <a:close/>
              </a:path>
              <a:path fill="lighten" w="224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Біолог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5" name="AutoShape 14"/>
          <p:cNvSpPr/>
          <p:nvPr/>
        </p:nvSpPr>
        <p:spPr>
          <a:xfrm>
            <a:off x="250920" y="3213000"/>
            <a:ext cx="1258920" cy="1258920"/>
          </a:xfrm>
          <a:custGeom>
            <a:avLst/>
            <a:gdLst>
              <a:gd name="textAreaLeft" fmla="*/ 81360 w 1258920"/>
              <a:gd name="textAreaRight" fmla="*/ 1177560 w 1258920"/>
              <a:gd name="textAreaTop" fmla="*/ 81360 h 1258920"/>
              <a:gd name="textAreaBottom" fmla="*/ 117756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5"/>
          <p:cNvSpPr/>
          <p:nvPr/>
        </p:nvSpPr>
        <p:spPr>
          <a:xfrm>
            <a:off x="6012000" y="1052640"/>
            <a:ext cx="1871640" cy="1800000"/>
          </a:xfrm>
          <a:custGeom>
            <a:avLst/>
            <a:gdLst>
              <a:gd name="textAreaLeft" fmla="*/ 116640 w 1871640"/>
              <a:gd name="textAreaRight" fmla="*/ 1755000 w 1871640"/>
              <a:gd name="textAreaTop" fmla="*/ 116640 h 1800000"/>
              <a:gd name="textAreaBottom" fmla="*/ 1683360 h 1800000"/>
            </a:gdLst>
            <a:ahLst/>
            <a:rect l="textAreaLeft" t="textAreaTop" r="textAreaRight" b="textAreaBottom"/>
            <a:pathLst>
              <a:path w="22460" h="21600">
                <a:moveTo>
                  <a:pt x="0" y="0"/>
                </a:moveTo>
                <a:lnTo>
                  <a:pt x="22460" y="0"/>
                </a:lnTo>
                <a:lnTo>
                  <a:pt x="22460" y="21600"/>
                </a:lnTo>
                <a:lnTo>
                  <a:pt x="0" y="21600"/>
                </a:lnTo>
                <a:close/>
              </a:path>
              <a:path fill="lightenLess" w="22460" h="21600">
                <a:moveTo>
                  <a:pt x="0" y="0"/>
                </a:moveTo>
                <a:lnTo>
                  <a:pt x="22460" y="0"/>
                </a:lnTo>
                <a:lnTo>
                  <a:pt x="21060" y="1400"/>
                </a:lnTo>
                <a:lnTo>
                  <a:pt x="1400" y="1400"/>
                </a:lnTo>
                <a:close/>
              </a:path>
              <a:path fill="darken" w="22460" h="21600">
                <a:moveTo>
                  <a:pt x="22460" y="0"/>
                </a:moveTo>
                <a:lnTo>
                  <a:pt x="22460" y="21600"/>
                </a:lnTo>
                <a:lnTo>
                  <a:pt x="21060" y="20200"/>
                </a:lnTo>
                <a:lnTo>
                  <a:pt x="21060" y="1400"/>
                </a:lnTo>
                <a:close/>
              </a:path>
              <a:path fill="darkenLess" w="22460" h="21600">
                <a:moveTo>
                  <a:pt x="224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60" y="20200"/>
                </a:lnTo>
                <a:close/>
              </a:path>
              <a:path fill="lighten" w="224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Хім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7"/>
          <p:cNvSpPr/>
          <p:nvPr/>
        </p:nvSpPr>
        <p:spPr>
          <a:xfrm>
            <a:off x="6012000" y="2997360"/>
            <a:ext cx="1873080" cy="1726920"/>
          </a:xfrm>
          <a:custGeom>
            <a:avLst/>
            <a:gdLst>
              <a:gd name="textAreaLeft" fmla="*/ 111600 w 1873080"/>
              <a:gd name="textAreaRight" fmla="*/ 1761480 w 1873080"/>
              <a:gd name="textAreaTop" fmla="*/ 111600 h 1726920"/>
              <a:gd name="textAreaBottom" fmla="*/ 1615320 h 1726920"/>
            </a:gdLst>
            <a:ahLst/>
            <a:rect l="textAreaLeft" t="textAreaTop" r="textAreaRight" b="textAreaBottom"/>
            <a:pathLst>
              <a:path w="23428" h="21600">
                <a:moveTo>
                  <a:pt x="0" y="0"/>
                </a:moveTo>
                <a:lnTo>
                  <a:pt x="23428" y="0"/>
                </a:lnTo>
                <a:lnTo>
                  <a:pt x="23428" y="21600"/>
                </a:lnTo>
                <a:lnTo>
                  <a:pt x="0" y="21600"/>
                </a:lnTo>
                <a:close/>
              </a:path>
              <a:path fill="lightenLess" w="23428" h="21600">
                <a:moveTo>
                  <a:pt x="0" y="0"/>
                </a:moveTo>
                <a:lnTo>
                  <a:pt x="23428" y="0"/>
                </a:lnTo>
                <a:lnTo>
                  <a:pt x="22028" y="1400"/>
                </a:lnTo>
                <a:lnTo>
                  <a:pt x="1400" y="1400"/>
                </a:lnTo>
                <a:close/>
              </a:path>
              <a:path fill="darken" w="23428" h="21600">
                <a:moveTo>
                  <a:pt x="23428" y="0"/>
                </a:moveTo>
                <a:lnTo>
                  <a:pt x="23428" y="21600"/>
                </a:lnTo>
                <a:lnTo>
                  <a:pt x="22028" y="20200"/>
                </a:lnTo>
                <a:lnTo>
                  <a:pt x="22028" y="1400"/>
                </a:lnTo>
                <a:close/>
              </a:path>
              <a:path fill="darkenLess" w="23428" h="21600">
                <a:moveTo>
                  <a:pt x="2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8" y="20200"/>
                </a:lnTo>
                <a:close/>
              </a:path>
              <a:path fill="lighten" w="2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Хім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8"/>
          <p:cNvSpPr/>
          <p:nvPr/>
        </p:nvSpPr>
        <p:spPr>
          <a:xfrm>
            <a:off x="6012000" y="4869000"/>
            <a:ext cx="1871640" cy="1800000"/>
          </a:xfrm>
          <a:custGeom>
            <a:avLst/>
            <a:gdLst>
              <a:gd name="textAreaLeft" fmla="*/ 116640 w 1871640"/>
              <a:gd name="textAreaRight" fmla="*/ 1755000 w 1871640"/>
              <a:gd name="textAreaTop" fmla="*/ 116640 h 1800000"/>
              <a:gd name="textAreaBottom" fmla="*/ 1683360 h 1800000"/>
            </a:gdLst>
            <a:ahLst/>
            <a:rect l="textAreaLeft" t="textAreaTop" r="textAreaRight" b="textAreaBottom"/>
            <a:pathLst>
              <a:path w="22460" h="21600">
                <a:moveTo>
                  <a:pt x="0" y="0"/>
                </a:moveTo>
                <a:lnTo>
                  <a:pt x="22460" y="0"/>
                </a:lnTo>
                <a:lnTo>
                  <a:pt x="22460" y="21600"/>
                </a:lnTo>
                <a:lnTo>
                  <a:pt x="0" y="21600"/>
                </a:lnTo>
                <a:close/>
              </a:path>
              <a:path fill="lightenLess" w="22460" h="21600">
                <a:moveTo>
                  <a:pt x="0" y="0"/>
                </a:moveTo>
                <a:lnTo>
                  <a:pt x="22460" y="0"/>
                </a:lnTo>
                <a:lnTo>
                  <a:pt x="21060" y="1400"/>
                </a:lnTo>
                <a:lnTo>
                  <a:pt x="1400" y="1400"/>
                </a:lnTo>
                <a:close/>
              </a:path>
              <a:path fill="darken" w="22460" h="21600">
                <a:moveTo>
                  <a:pt x="22460" y="0"/>
                </a:moveTo>
                <a:lnTo>
                  <a:pt x="22460" y="21600"/>
                </a:lnTo>
                <a:lnTo>
                  <a:pt x="21060" y="20200"/>
                </a:lnTo>
                <a:lnTo>
                  <a:pt x="21060" y="1400"/>
                </a:lnTo>
                <a:close/>
              </a:path>
              <a:path fill="darkenLess" w="22460" h="21600">
                <a:moveTo>
                  <a:pt x="224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60" y="20200"/>
                </a:lnTo>
                <a:close/>
              </a:path>
              <a:path fill="lighten" w="224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Хім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0" dur="1000" fill="hold"/>
                                        <p:tgtEl>
                                          <p:spTgt spid="40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1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662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5" dur="1000" fill="hold"/>
                                        <p:tgtEl>
                                          <p:spTgt spid="40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6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667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0" dur="1000" fill="hold"/>
                                        <p:tgtEl>
                                          <p:spTgt spid="41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1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672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5" dur="1000" fill="hold"/>
                                        <p:tgtEl>
                                          <p:spTgt spid="41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6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677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0" dur="1000" fill="hold"/>
                                        <p:tgtEl>
                                          <p:spTgt spid="41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1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682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5" dur="1000" fill="hold"/>
                                        <p:tgtEl>
                                          <p:spTgt spid="41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687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0" dur="1000" fill="hold"/>
                                        <p:tgtEl>
                                          <p:spTgt spid="41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1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692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5" dur="1000" fill="hold"/>
                                        <p:tgtEl>
                                          <p:spTgt spid="41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6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697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0" dur="1000" fill="hold"/>
                                        <p:tgtEl>
                                          <p:spTgt spid="41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28480" y="928800"/>
            <a:ext cx="2989080" cy="83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Tahoma"/>
              </a:rPr>
              <a:t>Фізика 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0" name="Rectangle 3"/>
          <p:cNvSpPr/>
          <p:nvPr/>
        </p:nvSpPr>
        <p:spPr>
          <a:xfrm>
            <a:off x="357120" y="1714680"/>
            <a:ext cx="878688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ahoma"/>
              </a:rPr>
              <a:t>Які з “електричних” риб, морські чи річкові, більш небезпечні для людини? Чом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4"/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428760" y="3714840"/>
            <a:ext cx="82072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Tahoma"/>
              </a:rPr>
              <a:t>Річкові, тому що їм треба виробляти більшу напругу, бо річкова вода гірший провідник ніж морсь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6"/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8" descr="1196072419"/>
          <p:cNvPicPr/>
          <p:nvPr/>
        </p:nvPicPr>
        <p:blipFill>
          <a:blip r:embed="rId1"/>
          <a:stretch/>
        </p:blipFill>
        <p:spPr>
          <a:xfrm>
            <a:off x="6516720" y="189000"/>
            <a:ext cx="2340000" cy="15984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9" descr="ugor_"/>
          <p:cNvPicPr/>
          <p:nvPr/>
        </p:nvPicPr>
        <p:blipFill>
          <a:blip r:embed="rId2"/>
          <a:stretch/>
        </p:blipFill>
        <p:spPr>
          <a:xfrm>
            <a:off x="5076720" y="0"/>
            <a:ext cx="168444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442908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9900"/>
                </a:solidFill>
                <a:latin typeface="Tahoma"/>
              </a:rPr>
              <a:t>Фізика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857160" y="1643040"/>
            <a:ext cx="79930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ahoma"/>
              </a:rPr>
              <a:t>Чи може посудина з вантажем важити менше ніж порожня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714240" y="4643280"/>
            <a:ext cx="74170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9900"/>
                </a:solidFill>
                <a:latin typeface="Tahoma"/>
              </a:rPr>
              <a:t>Може, як що вантаж –газ легший за повятр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9900"/>
                </a:solidFill>
                <a:latin typeface="Tahoma"/>
              </a:rPr>
              <a:t>(водень)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6"/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8000"/>
                </a:solidFill>
                <a:latin typeface="Tahoma"/>
              </a:rPr>
              <a:t>Фізика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428760" y="2571840"/>
            <a:ext cx="84960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ahoma"/>
              </a:rPr>
              <a:t>Вважають, що саме це люди почали використовувати як перше викопне паливо. У свіжому стані воно містить до 90 % води, тому його спочатку сушать. Що ц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250920" y="4365720"/>
            <a:ext cx="8066160" cy="21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6"/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431640" y="5429160"/>
            <a:ext cx="871236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Tahoma"/>
              </a:rPr>
              <a:t>Тор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8000"/>
                </a:solidFill>
                <a:latin typeface="Tahoma"/>
              </a:rPr>
              <a:t>Фізика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428840" y="3143160"/>
            <a:ext cx="590688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ahoma"/>
              </a:rPr>
              <a:t>Що це за прилад і дл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ahoma"/>
              </a:rPr>
              <a:t>чого він служить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1"/>
          <a:srcRect l="0" t="11289" r="76996" b="61560"/>
          <a:stretch/>
        </p:blipFill>
        <p:spPr>
          <a:xfrm>
            <a:off x="4572000" y="0"/>
            <a:ext cx="4572000" cy="303696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5">
            <a:hlinkClick r:id="rId2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571680" y="5072040"/>
            <a:ext cx="7920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8000"/>
                </a:solidFill>
                <a:latin typeface="Tahoma"/>
              </a:rPr>
              <a:t>Реостат. Для змін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8000"/>
                </a:solidFill>
                <a:latin typeface="Tahoma"/>
              </a:rPr>
              <a:t>опору в кол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3743280" cy="105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Tahoma"/>
              </a:rPr>
              <a:t>Біологія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2000160" y="5429160"/>
            <a:ext cx="464364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Tahoma"/>
              </a:rPr>
              <a:t>Лебідь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4"/>
          <p:cNvSpPr/>
          <p:nvPr/>
        </p:nvSpPr>
        <p:spPr>
          <a:xfrm>
            <a:off x="324000" y="1989000"/>
            <a:ext cx="8569080" cy="30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ahoma"/>
              </a:rPr>
              <a:t>Ім’я цього птаха близьке до давньоіндійського «ельб» та латинського «альбу», тобто «білий», представники цього роду мають не лише біле, а й чорне забарвлення. Що це за пта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5"/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442908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9900"/>
                </a:solidFill>
                <a:latin typeface="Tahoma"/>
              </a:rPr>
              <a:t>Біологія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1000080" y="1785960"/>
            <a:ext cx="74167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ahoma"/>
              </a:rPr>
              <a:t>Яка тварина стала прототипом приладу, що прогнозує шторм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1763640" y="4869000"/>
            <a:ext cx="5832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9900"/>
                </a:solidFill>
                <a:latin typeface="Tahoma"/>
              </a:rPr>
              <a:t>Медуза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5"/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8000"/>
                </a:solidFill>
                <a:latin typeface="Tahoma"/>
              </a:rPr>
              <a:t>Біологія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0" y="221472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ahoma"/>
              </a:rPr>
              <a:t>До якої породи належить собака Баррі, якому в 1899 р. в Парижі за врятування людей встановлено пам’ятник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4"/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1214280" y="5429160"/>
            <a:ext cx="6121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8000"/>
                </a:solidFill>
                <a:latin typeface="Tahoma"/>
              </a:rPr>
              <a:t>Сербернар</a:t>
            </a:r>
            <a:r>
              <a:rPr b="0" lang="uk-UA" sz="3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76360" y="980640"/>
            <a:ext cx="2989440" cy="8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Tahoma"/>
              </a:rPr>
              <a:t>Хімія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Rectangle 3"/>
          <p:cNvSpPr/>
          <p:nvPr/>
        </p:nvSpPr>
        <p:spPr>
          <a:xfrm>
            <a:off x="500040" y="5000760"/>
            <a:ext cx="745488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ahoma"/>
              </a:rPr>
              <a:t>Вуглекислий газ, виділяючись з вулканічного грунту, нагромаджується шаром 100 с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500040" y="1857240"/>
            <a:ext cx="8215200" cy="30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ahoma"/>
              </a:rPr>
              <a:t>Чому в «Собачій печері» в Італії поблизу Неаполя дорослі можуть знаходитись як завгодно довго без шкоди для здоров’я, а собаки і коти гинуть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6"/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9900"/>
                </a:solidFill>
                <a:latin typeface="Tahoma"/>
              </a:rPr>
              <a:t>Хімія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Rectangle 3"/>
          <p:cNvSpPr/>
          <p:nvPr/>
        </p:nvSpPr>
        <p:spPr>
          <a:xfrm>
            <a:off x="357120" y="1714680"/>
            <a:ext cx="842976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ahoma"/>
              </a:rPr>
              <a:t>Чому перський цар Кир, що жив близько двох тисяч років тому, пив воду зі срібного посуду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4"/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428760" y="5214960"/>
            <a:ext cx="75578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9900"/>
                </a:solidFill>
                <a:latin typeface="Tahoma"/>
              </a:rPr>
              <a:t>Іони срібла знищують бактерії і знезаражують вод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442908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8000"/>
                </a:solidFill>
                <a:latin typeface="Tahoma"/>
              </a:rPr>
              <a:t>Хімія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1000080" y="2000160"/>
            <a:ext cx="735804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ahoma"/>
              </a:rPr>
              <a:t>Для чого на Алясці та в Хабаровському краї восени будівельники солять грунт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4"/>
          <p:cNvSpPr/>
          <p:nvPr/>
        </p:nvSpPr>
        <p:spPr>
          <a:xfrm>
            <a:off x="571680" y="5143680"/>
            <a:ext cx="7775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8000"/>
                </a:solidFill>
                <a:latin typeface="Tahoma"/>
              </a:rPr>
              <a:t>Посолений грунт не замерзає при сильних морозах</a:t>
            </a:r>
            <a:r>
              <a:rPr b="0" lang="uk-UA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6"/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0" name="WordArt 6"/>
          <p:cNvSpPr txBox="1"/>
          <p:nvPr/>
        </p:nvSpPr>
        <p:spPr>
          <a:xfrm>
            <a:off x="684360" y="1628640"/>
            <a:ext cx="7056360" cy="432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ітаєм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ереможців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3743280" cy="105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Tahoma"/>
              </a:rPr>
              <a:t>Біологія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2000160" y="5229360"/>
            <a:ext cx="39402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Tahoma"/>
              </a:rPr>
              <a:t>Нервов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714240" y="1785960"/>
            <a:ext cx="74170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ahoma"/>
              </a:rPr>
              <a:t>Який вузол не можна розв’язати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442908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9900"/>
                </a:solidFill>
                <a:latin typeface="Tahoma"/>
              </a:rPr>
              <a:t>Біологія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000080" y="1928880"/>
            <a:ext cx="76438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ahoma"/>
              </a:rPr>
              <a:t>На яку хворобу ніхто ніколи не хворіє на Землі?</a:t>
            </a: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908000" y="5013360"/>
            <a:ext cx="5400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6600"/>
                </a:solidFill>
                <a:latin typeface="Tahoma"/>
              </a:rPr>
              <a:t>Морськ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21:49:36Z</dcterms:created>
  <dc:creator>1</dc:creator>
  <dc:description/>
  <dc:language>en-US</dc:language>
  <cp:lastModifiedBy>admin</cp:lastModifiedBy>
  <dcterms:modified xsi:type="dcterms:W3CDTF">2012-02-23T19:11:18Z</dcterms:modified>
  <cp:revision>220</cp:revision>
  <dc:subject/>
  <dc:title>БРЕЙ-РИНГ</dc:title>
</cp:coreProperties>
</file>