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jpeg" ContentType="image/jpeg"/>
  <Override PartName="/ppt/media/image10.wmf" ContentType="image/x-wmf"/>
  <Override PartName="/ppt/media/image4.jpeg" ContentType="image/jpeg"/>
  <Override PartName="/ppt/media/image25.jpeg" ContentType="image/jpeg"/>
  <Override PartName="/ppt/media/image12.jpeg" ContentType="image/jpeg"/>
  <Override PartName="/ppt/media/image29.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36.jpeg" ContentType="image/jpeg"/>
  <Override PartName="/ppt/media/image2.jpeg" ContentType="image/jpeg"/>
  <Override PartName="/ppt/media/image23.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53CC8-CB9A-4113-915C-28624F8EE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47329-6895-4865-8F7A-17CFE01A1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FC1276-87D2-4F12-97F0-2BAC6C1C6F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D3BB60-41CE-4EA9-9485-CB2302AA31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D7FB26-040B-4B79-A102-05C4342977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F894A9-3F15-4B9E-8462-1FABDC0FD9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89D283-7ADB-46C0-AB46-EA9021B131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EAF7EC-DA36-4889-8E8B-8FFE2E174D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71870D-C8A9-4C0C-81B0-5B38C911EE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F7D6FF-A8AC-438F-873C-0A79BE998E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7F9F4B-60AB-47E4-ADAF-8B0801B35B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C5EEDCF-59FE-4A80-9636-82EA19F5CC1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6BB8F-6BE8-4DE2-A95F-545FAB9C3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C67129-AED6-40F6-8A44-9102D2857D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19CEB6-E423-421C-8983-A165D9B410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E97F9E-6B1C-4D41-9013-7A926630FE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0A8441B-E6BC-4902-AB09-89E34F3C38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846CDA-0430-452D-AB59-D51684FA9B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DD2E19-B881-4344-99FA-B3A0967153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3B469B-C5B2-4CA1-AFD9-7C70C74EFD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0B5DDD-C557-4B19-B07F-5506B29879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50BC2C-90F0-449B-87FF-060ACADE3D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E5BB2F3-0127-4DE9-9C7A-33969540B7B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B9244-0351-4768-BDE6-6C0B3F552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FEAFD12-2502-464E-B489-1556A1E8A4C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F62F902-60DF-4145-BF8C-D5D4A434B1F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08BDD8-7EB1-4609-9E97-1356E86213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857D8F-DD26-41A9-9974-C1448EBF2A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B0D750-12CF-42B6-9B53-99CE119C51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2347D09-6E1A-40FC-B04A-9C392437EE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D25D2D-E1C1-4D75-AD32-CD8076B717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A66081-FF7E-4FD6-BF34-18881786A6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5001BD-231D-400F-BCD3-4256A445AD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FA77DA-34D6-4FA4-8BAA-0C9FFCC261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803AF5-E844-41E2-BBF0-45EF02B128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23BB0B-374C-48D9-8551-6EC5E6585D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E84940A-76CA-45F8-8A10-BB5B26AE1CC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3EBFC20-C062-45BB-BDE8-48097E7520B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530EF85-B460-460C-BAB3-66D2A6BEC11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05682B-1D56-48BD-A22E-AA9F87BDBF7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91EAE82-D038-44C4-A228-4A8AAF318B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191815E-AEE9-431C-843E-B136CEDA018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64CE9F-5ADF-46CC-92B7-8C608132AB1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0218AA-7F29-41EF-B68C-6BBF13A9789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0CA3BC-9224-4B44-81A1-56CDE5C169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8C74B-0393-41E1-B823-BEE23C355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05C665-10C5-4FA0-BED6-0895B2D768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5813DD-4BCE-4908-9675-EC600AEE14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EA0F7A-0FC4-49BF-BE02-2B991ECBE7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4C75B21-39DD-4574-9334-8E1852D5C77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4EE5B2A-1957-49A4-B7D3-C3CA28371F3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8490E47-B627-42CF-AA99-9C8F61525E9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B37FCC8-3B07-4F51-A09A-EC033FBC7BF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9E07A49-541E-423A-ACD8-BD5D9DF861F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7002FAB-8BFF-4080-AB4B-AB9DFCF132F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05DCD1A-7AD2-41C2-9EC4-CF77C376D6B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EB6E2-2795-4B29-B68D-FD32A8FA5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2B29ED-8962-4D5D-A6BD-B95CD9708A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E4FA37-2372-481B-869D-D83A30865CB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60DB91-2C48-4881-9E07-D99AA17BB9C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3545253-BD7F-449B-AFF9-CBE8B13B7F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40A2E5C-B4A9-4CD3-B641-0CC1600D700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8495ACC-ECEA-4347-8AEC-763E1F2A8B0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7B887A7-6872-46BB-8AB4-0922CE0955C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B90215A-1AD1-4ADB-96C4-95902B78E86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93C0395-E040-4092-BB8B-69C340135ED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EEFA16-CB2F-4A8F-A718-7B5C45FB865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D4C5B-5A9F-43A7-9140-71B49E2B4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2B16A23-B438-4DA3-916C-1729D8BDC81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4607B86-8A54-4F40-9899-22BCD79554F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3B10950-8058-4271-96F9-DC1ECB24B71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1F1588E-3F4B-4B63-8732-AF92D302D4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0CB4A28-5879-4D22-B610-4461E73781F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20EE3F-F40A-4E7E-B0A7-540EDA54FB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9B249B0-D803-482D-96AD-5617BE6CF26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26FC7A0-786C-4C60-BFEC-BA57D55A85C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9ABC8DE-9590-4752-B45F-5037BA20D08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73483-4BAA-450D-B085-659135EA8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17CF6-5C91-418A-BA9B-85BE7815E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A3EA5-9028-4A81-9477-5E5EC3EEF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A6921-BE62-4907-ADEA-6BEAB5767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5AE61-161F-4D40-866E-F6C802A35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D9D31-FD65-4267-ACC6-DC8B99F68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E95B0-A62E-4657-8F41-30796DA9D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4D64DF-038F-4EEE-9734-1FA5D027F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690188-2234-4AD7-80CE-3534247F4D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3F49A5-AF3D-4E0A-8C0F-064CB81910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9C05DB-AE91-48C6-B596-F6D55C398D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BB0994-5485-4A3E-9225-149E492B86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01B065-2D08-4205-9FD2-98EEF015EF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155F63-526D-4CD7-A4E6-0D6789FF23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DA5BA-E247-4DA8-A1A5-E6253BA67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636D1A-5985-4D20-BB89-B54BFA26FF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8E9F54-DFB3-47C4-9717-2446FFC43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120967-FD0D-4AA9-8CC9-AAD87679E3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1DCCE5-2AE0-4001-B903-DC5C5C3ACC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D1460E-B3C4-45BE-8FFA-79BCD7334B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702F60-D4ED-4798-B830-A176920ABC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A3FF8F-E2D9-43EB-BE89-2779EAABAD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9817E5-C121-4D83-97EA-13934242E0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09693E-B314-44E9-B2B3-31B3177031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0DB91F-DD79-455C-85BE-81C19DE2B0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1FA77-EC93-43B3-86F1-4C15A6F60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0379A2-6F04-419A-BDE7-F1FF90E04E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9714A2-0916-4521-A5EA-C867D5E945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461D58-910C-48D1-BB11-CC046B7ABC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770480-B101-4EE0-8CA5-395BA7C51A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C461F3-AEFA-49A0-A979-907DC25E34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DDD900-B47A-4D5C-B04D-57BE1F68F6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95FB7E-1733-4FEC-989D-BDBA1E8EDF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1B09AF-0F29-4231-9D7D-15F49583BB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D1B5EC-31B7-4924-8D97-F537C01E62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84AD2F-2421-45FD-B6FD-EB87FC298E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E2487-CE31-43A7-9307-1D6A74FF7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09691B-4BB0-4D1D-A08F-F36BE24C12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3A937F-870A-4CDF-9924-FB935BCFE2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186897-7FF7-472E-8217-34737FA361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ED85F1-318E-4298-9222-088ADF4BD6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A67F99-AB2B-4125-8BB6-938BD52DFC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2A9C41-02EB-446C-BFCC-8B3CE95390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A65509-E4B1-4400-A764-9E14BDFB90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F5C300-B9E8-4865-8C2A-180A64915A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E30462-BFDB-4106-A328-436872B43A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61F01F-0EB2-4238-8020-6B2EC68A6C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F693C-54E6-4CFD-BD11-1C87470F0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E51720-6875-4A22-B509-B673E19103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6A0134-17AA-4DAF-98AA-617D880ABC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D4ABA8-F7BF-4A9F-A6FB-7BE2B9316C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88BFE3-8CBC-4C3E-AA94-F03B991FE9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96108E-2ED8-43E9-BFA7-1F9EB8FB98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8C3052-1F4E-4ED7-8B1A-61CC4C546E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2584D9-771D-4D5C-970F-E4F91F8CB4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69B0A0-DD27-4507-9B5C-11A5422600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0921CB-510F-4286-AE53-8B9A961452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4C1605-3953-4CB6-AFFD-853002AB50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A844C-4C61-403D-8DED-887E28A2B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F47778-8017-403C-8DFE-A4D3F68C64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A89A2F-A7A9-4E59-A000-25F1D5AF88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EA8185-9C81-437B-8D00-2CCE439864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7073E1-8409-419D-9522-3FF781C256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CB0939-E6F7-4F0D-8932-6A005F8DCC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9CC458-3B17-4D59-8616-61B9520C01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783F77-1E69-4381-BC48-0BA9B1B3E2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2F1B33-219D-415F-AB99-722141F3B6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9780E0-57B6-413A-BCC5-E98509978A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DA5822-4DF5-498E-BD82-284428FC28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EF1CC-9E74-490F-8CF8-9C9008A01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FE79A3-3A41-4AEB-8B40-AE1CDAEC6A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776A6E-51F2-414B-B5BE-26FC3A194F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177981-DD34-4636-810F-777B699AC5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3A6E06-ACB6-4EE4-8A8F-95DA9596E0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964481-B2D1-46FF-A28D-E3B599BD20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3A23E2-3ADF-48CA-B347-19E448B857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D8953D-76D9-486E-A345-A698DB7FCE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FDD678-AEAC-423C-AEB0-3FF50CFCB5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8F4F6B-8BD7-41A9-8066-F3487BCEFD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1A2C6B-87BA-4E0D-BA93-2E47951F9F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3DEB4-6159-417C-B105-1DE12F596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48A82F-156F-4444-8108-BF52533915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67E445-89FF-46C7-9C6D-ADCE611AFA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5F5866-0A39-425D-98DA-8D98431E78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FE271B-A585-4FCF-88D5-F6BE09E29A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0CF923-44E0-4FBC-92AE-A97BDFAD5D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CD3233-7A90-4E5C-A057-1A65D8DA60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24FAB0-2A32-4F43-8830-7471A12CE7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1AC1AB-EB1D-4EC8-8845-4E25C0D255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0E4D68-1B2C-432C-B0D5-534B6A33B0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1F6187-FCBC-483C-9F42-C28324D9C5B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76CDF-FBE8-45FD-A64E-EF43937D513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2D1AE-0790-4AEC-9CB6-48B0D917DCF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8C27C-0F22-4ED5-AB77-9F1478494D4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AFF3-CDA1-4A45-8FC4-671F94532D3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B716A-B1A3-4B49-8B5C-06C2942F03F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C80B-8474-4DC1-8849-694FB0E5061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FC17E-0A32-4EA2-A590-6327A8B061D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2533-768C-41E5-A7B7-DE01D8A4A4D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098D-7CB6-4450-89EC-9B69887043F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5A31-8F6C-4862-8E55-CD8940E4490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BE01A-82AD-4ABB-BE83-00FF5B57F10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1917-49B4-4878-B2C4-76CB4B78421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6C12-73D8-4182-A813-4D5C47B60E7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D1EDC-6943-4FF8-965A-B717CF1D041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image" Target="../media/image11.jpeg"/><Relationship Id="rId8"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5" name="" descr=""/>
          <p:cNvPicPr/>
          <p:nvPr/>
        </p:nvPicPr>
        <p:blipFill>
          <a:blip r:embed="rId1"/>
          <a:stretch/>
        </p:blipFill>
        <p:spPr>
          <a:xfrm>
            <a:off x="457200" y="1600200"/>
            <a:ext cx="4038480" cy="2185920"/>
          </a:xfrm>
          <a:prstGeom prst="rect">
            <a:avLst/>
          </a:prstGeom>
          <a:ln w="0">
            <a:noFill/>
          </a:ln>
        </p:spPr>
      </p:pic>
      <p:pic>
        <p:nvPicPr>
          <p:cNvPr id="576" name="" descr=""/>
          <p:cNvPicPr/>
          <p:nvPr/>
        </p:nvPicPr>
        <p:blipFill>
          <a:blip r:embed="rId2"/>
          <a:stretch/>
        </p:blipFill>
        <p:spPr>
          <a:xfrm>
            <a:off x="457200" y="3938760"/>
            <a:ext cx="4038480" cy="2187360"/>
          </a:xfrm>
          <a:prstGeom prst="rect">
            <a:avLst/>
          </a:prstGeom>
          <a:ln w="0">
            <a:noFill/>
          </a:ln>
        </p:spPr>
      </p:pic>
      <p:pic>
        <p:nvPicPr>
          <p:cNvPr id="577" name="" descr=""/>
          <p:cNvPicPr/>
          <p:nvPr/>
        </p:nvPicPr>
        <p:blipFill>
          <a:blip r:embed="rId3"/>
          <a:stretch/>
        </p:blipFill>
        <p:spPr>
          <a:xfrm>
            <a:off x="4648320" y="1600200"/>
            <a:ext cx="4038480" cy="4525920"/>
          </a:xfrm>
          <a:prstGeom prst="rect">
            <a:avLst/>
          </a:prstGeom>
          <a:ln w="0">
            <a:noFill/>
          </a:ln>
        </p:spPr>
      </p:pic>
      <p:sp>
        <p:nvSpPr>
          <p:cNvPr id="578" name="PlaceHolder 2"/>
          <p:cNvSpPr>
            <a:spLocks noGrp="1"/>
          </p:cNvSpPr>
          <p:nvPr>
            <p:ph/>
          </p:nvPr>
        </p:nvSpPr>
        <p:spPr>
          <a:xfrm>
            <a:off x="0" y="836280"/>
            <a:ext cx="8229600" cy="528948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Українське народне вбрання </a:t>
            </a:r>
            <a:endParaRPr b="0" lang="en-US" sz="54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читель української мови літератури                                  Пахар Я. В.</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алківська загальноосвітня школа І-ІІІ ступенів</a:t>
            </a:r>
            <a:endParaRPr b="0" lang="en-US" sz="3600" spc="-1" strike="noStrike">
              <a:solidFill>
                <a:srgbClr val="000000"/>
              </a:solidFill>
              <a:latin typeface="Arial"/>
            </a:endParaRPr>
          </a:p>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79" name="Picture 8" descr="i-1639"/>
          <p:cNvPicPr/>
          <p:nvPr/>
        </p:nvPicPr>
        <p:blipFill>
          <a:blip r:embed="rId4"/>
          <a:stretch/>
        </p:blipFill>
        <p:spPr>
          <a:xfrm rot="20727600">
            <a:off x="6927480" y="1362240"/>
            <a:ext cx="2030400" cy="1730160"/>
          </a:xfrm>
          <a:prstGeom prst="rect">
            <a:avLst/>
          </a:prstGeom>
          <a:ln w="0">
            <a:noFill/>
          </a:ln>
        </p:spPr>
      </p:pic>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Західне Закарпаття. Кінець 19 ст.</a:t>
            </a:r>
            <a:endParaRPr b="0" lang="en-US" sz="4000" spc="-1" strike="noStrike">
              <a:solidFill>
                <a:srgbClr val="000000"/>
              </a:solidFill>
              <a:latin typeface="Arial"/>
            </a:endParaRPr>
          </a:p>
        </p:txBody>
      </p:sp>
      <p:sp>
        <p:nvSpPr>
          <p:cNvPr id="612" name=""/>
          <p:cNvSpPr txBox="1"/>
          <p:nvPr/>
        </p:nvSpPr>
        <p:spPr>
          <a:xfrm>
            <a:off x="3634920" y="1125000"/>
            <a:ext cx="5257800" cy="500076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Жіночий костюм. </a:t>
            </a:r>
            <a:r>
              <a:rPr b="0" lang="ru-RU" sz="1400" spc="-1" strike="noStrike">
                <a:solidFill>
                  <a:srgbClr val="000000"/>
                </a:solidFill>
                <a:latin typeface="Arial"/>
              </a:rPr>
              <a:t>Сорочка-довганя з домотканого полотна. Станок сорочки оздоблений «пазухою» — витканим з червоних ниток квадратом біля вирізу горловини. Рукава біля плеча вишиті багатоколірними ромбами. Вздовж рукавів вишитий ланцюг з різноколірних ромбів — «хвіст». Техніка вишивки «вито» — різновидність настилування. Безрукавка-«плічка» з зубцями на полах прикрашалась вишивкою та тасьмою. фартух-«плат» оформлений різноколірними стрічками та мережкою. Вінкопо-дібний головний убір з «уплітки» прикрашений квітами та бісером. Нашийна прикраса — «силянка» у вигляді широкої стрічки, розшитої бісером.</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Чоловічий костюм. </a:t>
            </a:r>
            <a:r>
              <a:rPr b="0" lang="ru-RU" sz="1400" spc="-1" strike="noStrike">
                <a:solidFill>
                  <a:srgbClr val="000000"/>
                </a:solidFill>
                <a:latin typeface="Arial"/>
              </a:rPr>
              <a:t>Коротка сорочка домотканого полотна. Полики її оформлені вишивкою білими нитками настилуванням та вирізуванням. Широкі штани «гачі» з білими китицями — «ройтами» — на холошах та «кривульками» з синьої тасьми густо зібрані біля пояса на вузький «ганчик». Сорочка та штани підперезані широким шкіряним поясом — «цифрованим чере-сом», орнаментованим тисненими узорами, мідними кільцями та ін. Постоли, як жіночі, так і чоловічі, орнаментовані тисненням та оздоблені металом.</a:t>
            </a:r>
            <a:endParaRPr b="0" lang="en-US" sz="1400" spc="-1" strike="noStrike">
              <a:solidFill>
                <a:srgbClr val="000000"/>
              </a:solidFill>
              <a:latin typeface="Arial"/>
            </a:endParaRPr>
          </a:p>
        </p:txBody>
      </p:sp>
      <p:pic>
        <p:nvPicPr>
          <p:cNvPr id="613" name="Picture 6" descr="Украинский костюм Западное закарпатье"/>
          <p:cNvPicPr/>
          <p:nvPr/>
        </p:nvPicPr>
        <p:blipFill>
          <a:blip r:embed="rId1"/>
          <a:stretch/>
        </p:blipFill>
        <p:spPr>
          <a:xfrm>
            <a:off x="395280" y="1268280"/>
            <a:ext cx="3351240" cy="5040360"/>
          </a:xfrm>
          <a:prstGeom prst="rect">
            <a:avLst/>
          </a:prstGeom>
          <a:ln w="0">
            <a:noFill/>
          </a:ln>
        </p:spPr>
      </p:pic>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Львівщина. Кінець 19 ст.</a:t>
            </a:r>
            <a:endParaRPr b="0" lang="en-US" sz="4400" spc="-1" strike="noStrike">
              <a:solidFill>
                <a:srgbClr val="000000"/>
              </a:solidFill>
              <a:latin typeface="Arial"/>
            </a:endParaRPr>
          </a:p>
        </p:txBody>
      </p:sp>
      <p:sp>
        <p:nvSpPr>
          <p:cNvPr id="615" name=""/>
          <p:cNvSpPr txBox="1"/>
          <p:nvPr/>
        </p:nvSpPr>
        <p:spPr>
          <a:xfrm>
            <a:off x="3924000" y="1600200"/>
            <a:ext cx="5040360" cy="4525920"/>
          </a:xfrm>
          <a:prstGeom prst="rect">
            <a:avLst/>
          </a:prstGeom>
          <a:noFill/>
          <a:ln w="0">
            <a:noFill/>
          </a:ln>
        </p:spPr>
        <p:txBody>
          <a:bodyPr anchor="t">
            <a:normAutofit fontScale="97000"/>
          </a:bodyPr>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Жіночий костюм. </a:t>
            </a:r>
            <a:r>
              <a:rPr b="0" lang="ru-RU" sz="1400" spc="-1" strike="noStrike">
                <a:solidFill>
                  <a:srgbClr val="000000"/>
                </a:solidFill>
                <a:latin typeface="Arial"/>
              </a:rPr>
              <a:t>Сорочка домотканого полотна з уставками. Шерстяний безрукавний горсик з «лаптихами», прикрашений кольоровими нитками, шнурами та мереживом. Білий кабат розшитий чорним шнуром. Сорочка і полотняний фартух вишиті багатоколірною ниткою хрестиком. Орнамент переважно рослинний. Смугаста спідниця «щорц» з домотканої тканини є вдалим доповненням ансамблю. Вишита полотняна хустка пов'язана на червону «бавницю» з бахромою. Оригінальної форми постоли з пряжками надіті на білі онучі. Прикраси: гердани та «пістряне» намисто.</a:t>
            </a:r>
            <a:endParaRPr b="0" lang="en-US" sz="1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Чоловічий костюм. </a:t>
            </a:r>
            <a:r>
              <a:rPr b="0" lang="ru-RU" sz="1400" spc="-1" strike="noStrike">
                <a:solidFill>
                  <a:srgbClr val="000000"/>
                </a:solidFill>
                <a:latin typeface="Arial"/>
              </a:rPr>
              <a:t>Сорочка на кокетці з виложистим коміром. На маніжці, комірі та манжетах вишивка. Штани вузькі, темного кольору, буденні — з домотканої тканини, святкові — переважно фабричні. «Каптан» (кафтан) білої домотканої вовни, прикрашений кольоровими шнурами та аплікацією з сукна й шкіри. Повстяний капелюх оздоблений стрічкою, квітами та пером. Шкіряні чоботи жовтого кольору багато орнаментовані.</a:t>
            </a:r>
            <a:endParaRPr b="0" lang="en-US" sz="1400" spc="-1" strike="noStrike">
              <a:solidFill>
                <a:srgbClr val="000000"/>
              </a:solidFill>
              <a:latin typeface="Arial"/>
            </a:endParaRPr>
          </a:p>
        </p:txBody>
      </p:sp>
      <p:pic>
        <p:nvPicPr>
          <p:cNvPr id="616" name="Picture 6" descr="Украинский костюм Львовщина"/>
          <p:cNvPicPr/>
          <p:nvPr/>
        </p:nvPicPr>
        <p:blipFill>
          <a:blip r:embed="rId1"/>
          <a:stretch/>
        </p:blipFill>
        <p:spPr>
          <a:xfrm>
            <a:off x="539640" y="1413000"/>
            <a:ext cx="3206880" cy="5040360"/>
          </a:xfrm>
          <a:prstGeom prst="rect">
            <a:avLst/>
          </a:prstGeom>
          <a:ln w="0">
            <a:noFill/>
          </a:ln>
        </p:spPr>
      </p:pic>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Східне Закарпаття. Кінець 19 ст.</a:t>
            </a:r>
            <a:endParaRPr b="0" lang="en-US" sz="4000" spc="-1" strike="noStrike">
              <a:solidFill>
                <a:srgbClr val="000000"/>
              </a:solidFill>
              <a:latin typeface="Arial"/>
            </a:endParaRPr>
          </a:p>
        </p:txBody>
      </p:sp>
      <p:sp>
        <p:nvSpPr>
          <p:cNvPr id="618" name="PlaceHolder 2"/>
          <p:cNvSpPr>
            <a:spLocks noGrp="1"/>
          </p:cNvSpPr>
          <p:nvPr>
            <p:ph/>
          </p:nvPr>
        </p:nvSpPr>
        <p:spPr>
          <a:xfrm>
            <a:off x="456840" y="1557360"/>
            <a:ext cx="4978440" cy="530064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Жіночий костюм. </a:t>
            </a:r>
            <a:r>
              <a:rPr b="0" lang="ru-RU" sz="1400" spc="-1" strike="noStrike">
                <a:solidFill>
                  <a:srgbClr val="000000"/>
                </a:solidFill>
                <a:latin typeface="Arial"/>
              </a:rPr>
              <a:t>Сорочка-«ромованка» домотканого полотна з уставками, з вишивкою гладдю. Вишиті верхня частина рукавів, низки рукавів, зап'ясники та чохли. Запаски ткані, з поперечними смугами. Трималися запаски на поясі, так званому «багорі». Кептар оздоблений кольоровою вишивкою, волічковими китицями, аплікацією із шкіри та сукна, бісером і металом. Барвиста хустка з квітами на чорному тлі. Шкіряні морщені постоли одягнуті на плетені вовняні орнаментовані білими нитками «капчури».</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Чоловічий костюм. </a:t>
            </a:r>
            <a:r>
              <a:rPr b="0" lang="ru-RU" sz="1400" spc="-1" strike="noStrike">
                <a:solidFill>
                  <a:srgbClr val="000000"/>
                </a:solidFill>
                <a:latin typeface="Arial"/>
              </a:rPr>
              <a:t>Тунікоподібна сорочка носилася поверх штанів. Виріз горловини зібраний «в зморшки» і зав'язаний на очкур. Вишивка прикрашає комір, пазуху та поділ. Кептар та сердак оздоблені вишивкою, аплікацією із шкіри, волічковими китицями та смужками. Коричневий капелюх «клебанка». Червоні сукняні штани «гачі». Морщені постоли взуті на сукняні «капчури». При цьому враховувалось гармонійне поєднання кольорів штанів та капчурів.</a:t>
            </a:r>
            <a:endParaRPr b="0" lang="en-US" sz="1400" spc="-1" strike="noStrike">
              <a:solidFill>
                <a:srgbClr val="000000"/>
              </a:solidFill>
              <a:latin typeface="Arial"/>
            </a:endParaRPr>
          </a:p>
        </p:txBody>
      </p:sp>
      <p:pic>
        <p:nvPicPr>
          <p:cNvPr id="619" name="Picture 7" descr="Украинский костюм Восточное закарпатье"/>
          <p:cNvPicPr/>
          <p:nvPr/>
        </p:nvPicPr>
        <p:blipFill>
          <a:blip r:embed="rId1"/>
          <a:stretch/>
        </p:blipFill>
        <p:spPr>
          <a:xfrm>
            <a:off x="5724360" y="1197000"/>
            <a:ext cx="3095640" cy="5111640"/>
          </a:xfrm>
          <a:prstGeom prst="rect">
            <a:avLst/>
          </a:prstGeom>
          <a:ln w="0">
            <a:noFill/>
          </a:ln>
        </p:spPr>
      </p:pic>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Чернігівщина. Кінець 19 ст.</a:t>
            </a:r>
            <a:endParaRPr b="0" lang="en-US" sz="4400" spc="-1" strike="noStrike">
              <a:solidFill>
                <a:srgbClr val="000000"/>
              </a:solidFill>
              <a:latin typeface="Arial"/>
            </a:endParaRPr>
          </a:p>
        </p:txBody>
      </p:sp>
      <p:sp>
        <p:nvSpPr>
          <p:cNvPr id="621" name=""/>
          <p:cNvSpPr txBox="1"/>
          <p:nvPr/>
        </p:nvSpPr>
        <p:spPr>
          <a:xfrm>
            <a:off x="3851280" y="1600200"/>
            <a:ext cx="48355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Чоловічий костюм. </a:t>
            </a:r>
            <a:r>
              <a:rPr b="0" lang="ru-RU" sz="1400" spc="-1" strike="noStrike">
                <a:solidFill>
                  <a:srgbClr val="000000"/>
                </a:solidFill>
                <a:latin typeface="Arial"/>
              </a:rPr>
              <a:t>Тунікоподібна сорочка домотканого полотна. Широка маніжка, стоячий комір, манжети й поділ прикрашені вишивкою. Одягалася сорочка переважно навипуск під кручений пояс. Штани грубого невідбіленого полотна, неширокі.</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Жіночий костюм. </a:t>
            </a:r>
            <a:r>
              <a:rPr b="0" lang="ru-RU" sz="1400" spc="-1" strike="noStrike">
                <a:solidFill>
                  <a:srgbClr val="000000"/>
                </a:solidFill>
                <a:latin typeface="Arial"/>
              </a:rPr>
              <a:t>Сорочка домотканого полотна «до поликів» з широкими, у півтори пілки, рукавами. На рукавах та поликах червоно-чорна вишивка гладдю. Синя керсетка з підрізною спинкою, «до фанд» (з фалдами). Червона спідниця у складку типу андарака домотканої вовни з тканим різноколірним геометри-зованим орнаментом по подолу. Білий полотняний фартух вишитий по подолу, з «закладками» та обшивкою мереживом. Дві різноколірні хустки пов'язані на білий очіпок. Одна хустка пов'язана «просто», а друга підведена під підборіддя і зав'язана на маківці. Личаки прямого плетіння у чоловіків та жінок одягалися на полотняні онучі.</a:t>
            </a:r>
            <a:endParaRPr b="0" lang="en-US" sz="1400" spc="-1" strike="noStrike">
              <a:solidFill>
                <a:srgbClr val="000000"/>
              </a:solidFill>
              <a:latin typeface="Arial"/>
            </a:endParaRPr>
          </a:p>
        </p:txBody>
      </p:sp>
      <p:pic>
        <p:nvPicPr>
          <p:cNvPr id="622" name="Picture 6" descr="Украинский костюм Черниговщина"/>
          <p:cNvPicPr/>
          <p:nvPr/>
        </p:nvPicPr>
        <p:blipFill>
          <a:blip r:embed="rId1"/>
          <a:stretch/>
        </p:blipFill>
        <p:spPr>
          <a:xfrm>
            <a:off x="539640" y="1413000"/>
            <a:ext cx="3206880" cy="4968720"/>
          </a:xfrm>
          <a:prstGeom prst="rect">
            <a:avLst/>
          </a:prstGeom>
          <a:ln w="0">
            <a:noFill/>
          </a:ln>
        </p:spPr>
      </p:pic>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Полтавщина. Київщина.</a:t>
            </a:r>
            <a:endParaRPr b="0" lang="en-US" sz="4400" spc="-1" strike="noStrike">
              <a:solidFill>
                <a:srgbClr val="000000"/>
              </a:solidFill>
              <a:latin typeface="Arial"/>
            </a:endParaRPr>
          </a:p>
        </p:txBody>
      </p:sp>
      <p:sp>
        <p:nvSpPr>
          <p:cNvPr id="624" name=""/>
          <p:cNvSpPr txBox="1"/>
          <p:nvPr/>
        </p:nvSpPr>
        <p:spPr>
          <a:xfrm>
            <a:off x="4140000" y="1484280"/>
            <a:ext cx="4546440" cy="4641840"/>
          </a:xfrm>
          <a:prstGeom prst="rect">
            <a:avLst/>
          </a:prstGeom>
          <a:noFill/>
          <a:ln w="0">
            <a:noFill/>
          </a:ln>
        </p:spPr>
        <p:txBody>
          <a:bodyPr anchor="t">
            <a:normAutofit fontScale="97000"/>
          </a:bodyPr>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арубоцький костюм. </a:t>
            </a:r>
            <a:r>
              <a:rPr b="0" lang="ru-RU" sz="1400" spc="-1" strike="noStrike">
                <a:solidFill>
                  <a:srgbClr val="000000"/>
                </a:solidFill>
                <a:latin typeface="Arial"/>
              </a:rPr>
              <a:t>Полякова сорочка домотканого полотна з широкими рукавами. Станок сорочки разом з поликами «ря-сований» біля коміра. Шви розшиті сірою лляною ниткою. Такою ж ниткою зроблена мережка на пазусі та низках рукавів. Штани вибійчані «наддніпрянського» типу на очкурі. Пояс тканий, широкий, червоно-зелений. Чоботи-«витяжки» з низько відрізаними халявами («чирики»).</a:t>
            </a:r>
            <a:endParaRPr b="0" lang="en-US" sz="1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ИЇВЩИНА. Дівочий костюм. </a:t>
            </a:r>
            <a:r>
              <a:rPr b="0" lang="ru-RU" sz="1400" spc="-1" strike="noStrike">
                <a:solidFill>
                  <a:srgbClr val="000000"/>
                </a:solidFill>
                <a:latin typeface="Arial"/>
              </a:rPr>
              <a:t>Сорочка домотканого полотна з уставками, стоячим коміром. На уставках, підполиччі та рукавах червоно-чорно-зелена вишивка. Керсетка коротка, «до стану», з фабричної шерстяної тканини, з вишитим наріжником — кутом правої поли. Спідниця баєва з «перцями», фартух з брижами, закладками та вишитою лиштвою. До вікна прив'язані різноколірні стрічки. Прикраси: різноколірне намисто, каблучки, сережки. Черевики чорного кольору з зеленими шнурками.</a:t>
            </a:r>
            <a:endParaRPr b="0" lang="en-US" sz="1400" spc="-1" strike="noStrike">
              <a:solidFill>
                <a:srgbClr val="000000"/>
              </a:solidFill>
              <a:latin typeface="Arial"/>
            </a:endParaRPr>
          </a:p>
        </p:txBody>
      </p:sp>
      <p:pic>
        <p:nvPicPr>
          <p:cNvPr id="625" name="Picture 6" descr="Украинский костюм Киевщина"/>
          <p:cNvPicPr/>
          <p:nvPr/>
        </p:nvPicPr>
        <p:blipFill>
          <a:blip r:embed="rId1"/>
          <a:stretch/>
        </p:blipFill>
        <p:spPr>
          <a:xfrm>
            <a:off x="539640" y="1413000"/>
            <a:ext cx="3206880" cy="4752720"/>
          </a:xfrm>
          <a:prstGeom prst="rect">
            <a:avLst/>
          </a:prstGeom>
          <a:ln w="0">
            <a:noFill/>
          </a:ln>
        </p:spPr>
      </p:pic>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Поділля.</a:t>
            </a:r>
            <a:endParaRPr b="0" lang="en-US" sz="4400" spc="-1" strike="noStrike">
              <a:solidFill>
                <a:srgbClr val="000000"/>
              </a:solidFill>
              <a:latin typeface="Arial"/>
            </a:endParaRPr>
          </a:p>
        </p:txBody>
      </p:sp>
      <p:sp>
        <p:nvSpPr>
          <p:cNvPr id="627" name=""/>
          <p:cNvSpPr txBox="1"/>
          <p:nvPr/>
        </p:nvSpPr>
        <p:spPr>
          <a:xfrm>
            <a:off x="4284720" y="1413000"/>
            <a:ext cx="4402080" cy="4713120"/>
          </a:xfrm>
          <a:prstGeom prst="rect">
            <a:avLst/>
          </a:prstGeom>
          <a:noFill/>
          <a:ln w="0">
            <a:noFill/>
          </a:ln>
        </p:spPr>
        <p:txBody>
          <a:bodyPr anchor="t">
            <a:normAutofit fontScale="97000"/>
          </a:bodyPr>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Чоловічий костюм. </a:t>
            </a:r>
            <a:r>
              <a:rPr b="0" lang="ru-RU" sz="1400" spc="-1" strike="noStrike">
                <a:solidFill>
                  <a:srgbClr val="000000"/>
                </a:solidFill>
                <a:latin typeface="Arial"/>
              </a:rPr>
              <a:t>Сорочка домотканого полотна, кроєна «впе-рекидку», з виложистим широким коміром. Рукава та «третин-ниці», що вставлялися між основними пілками, зшиті швами, розшитими нитками жовтогарячого кольору. Комір та пазуха вишиті «виноградом» жовто-золотавого кольору. Сорочка навипуск, підперезана червоно-зеленим поясом з китицями. Неширокі штани з темної фарбованої домотканої тканини. Кожух «до стану» із стоячим коміром. Комір, поли та низки рукавів обшиті чорним смушком та вовняними кольоровими нитками. Шапка «стовбувата» з чорного смушку.</a:t>
            </a:r>
            <a:endParaRPr b="0" lang="en-US" sz="1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арубоцький костюм. </a:t>
            </a:r>
            <a:r>
              <a:rPr b="0" lang="ru-RU" sz="1400" spc="-1" strike="noStrike">
                <a:solidFill>
                  <a:srgbClr val="000000"/>
                </a:solidFill>
                <a:latin typeface="Arial"/>
              </a:rPr>
              <a:t>Тунікоподібна сорочка з широким стоячим коміром. Комір, пазуха та манжети вишиті нитками червоно-чорного кольору. «Чугаїна» темно-рудого кольору, кроєна «до стану», з «прохідкою», з яскравою поліхромною вишивкою вовняними нитками. Капелюх повстяний, прикрашений стрічками та квітами.</a:t>
            </a:r>
            <a:endParaRPr b="0" lang="en-US" sz="1400" spc="-1" strike="noStrike">
              <a:solidFill>
                <a:srgbClr val="000000"/>
              </a:solidFill>
              <a:latin typeface="Arial"/>
            </a:endParaRPr>
          </a:p>
        </p:txBody>
      </p:sp>
      <p:pic>
        <p:nvPicPr>
          <p:cNvPr id="628" name="Picture 6" descr="Украинский мужской костюм Подолье"/>
          <p:cNvPicPr/>
          <p:nvPr/>
        </p:nvPicPr>
        <p:blipFill>
          <a:blip r:embed="rId1"/>
          <a:stretch/>
        </p:blipFill>
        <p:spPr>
          <a:xfrm>
            <a:off x="539640" y="1413000"/>
            <a:ext cx="3206880" cy="4895640"/>
          </a:xfrm>
          <a:prstGeom prst="rect">
            <a:avLst/>
          </a:prstGeom>
          <a:ln w="0">
            <a:noFill/>
          </a:ln>
        </p:spPr>
      </p:pic>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Поділля.</a:t>
            </a:r>
            <a:endParaRPr b="0" lang="en-US" sz="4400" spc="-1" strike="noStrike">
              <a:solidFill>
                <a:srgbClr val="000000"/>
              </a:solidFill>
              <a:latin typeface="Arial"/>
            </a:endParaRPr>
          </a:p>
        </p:txBody>
      </p:sp>
      <p:sp>
        <p:nvSpPr>
          <p:cNvPr id="630" name=""/>
          <p:cNvSpPr txBox="1"/>
          <p:nvPr/>
        </p:nvSpPr>
        <p:spPr>
          <a:xfrm>
            <a:off x="3780000" y="1197000"/>
            <a:ext cx="5364000" cy="4929120"/>
          </a:xfrm>
          <a:prstGeom prst="rect">
            <a:avLst/>
          </a:prstGeom>
          <a:noFill/>
          <a:ln w="0">
            <a:noFill/>
          </a:ln>
        </p:spPr>
        <p:txBody>
          <a:bodyPr anchor="t">
            <a:normAutofit fontScale="94000"/>
          </a:bodyPr>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івочий костюм. </a:t>
            </a:r>
            <a:r>
              <a:rPr b="0" lang="ru-RU" sz="1400" spc="-1" strike="noStrike">
                <a:solidFill>
                  <a:srgbClr val="000000"/>
                </a:solidFill>
                <a:latin typeface="Arial"/>
              </a:rPr>
              <a:t>Сорочка домотканого полотна з суцільним рукавом. Виложистий комір, верхня частина рукавів та погруддя вишиті великими квітами червоно-синіми нитками. Широка спідниця-літник з домотканого сукна обшита по подолу плисом, фартух домотканий шерстяний з різноколірною вишивкою. Червоний тканий пояс з китицями пов'язаний на два боки. Характерний для Поділля вінок, в який ззаду вплітають більші квіти, спереду менші. Чоботи руді з орнаментованими закаблуками. Прикраси: червоне «кам'яне» та перламутрове біле намисто і сережки.</a:t>
            </a:r>
            <a:endParaRPr b="0" lang="en-US" sz="1400" spc="-1" strike="noStrike">
              <a:solidFill>
                <a:srgbClr val="000000"/>
              </a:solidFill>
              <a:latin typeface="Arial"/>
            </a:endParaRPr>
          </a:p>
          <a:p>
            <a:pPr marL="322200" indent="-322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Жіночий костюм. </a:t>
            </a:r>
            <a:r>
              <a:rPr b="0" lang="ru-RU" sz="1400" spc="-1" strike="noStrike">
                <a:solidFill>
                  <a:srgbClr val="000000"/>
                </a:solidFill>
                <a:latin typeface="Arial"/>
              </a:rPr>
              <a:t>Сорочка домотканого полотна з суцільними рукавами, пришитими до станка декоративними кольоровими розшивками. Рукава, особливо верхня частина, та погруддя пишно вишиті технікою набирування. Характерні вертикально вишиті смужки біля пазухи. Поділ сорочки має два розрізи, вишиті яскравою, в основному червоного кольору, вишивкою. Носили сорочку з великим напуском на пояс. Горбатка з чорної шерстяної домотканої тканини з кольоровою ниткою по подолу. До вузької крайки, що підтримує горбатку, підвішений гаманець. Невисокий очіпок циліндричної форми, до якого пов'язана «нафрама» з тонкої білої тканини. Прикраси: червоне «кам'яне» намисто з дукачами, каблучки та сережки. Постоли шкіряні на ремінцях.</a:t>
            </a:r>
            <a:endParaRPr b="0" lang="en-US" sz="1400" spc="-1" strike="noStrike">
              <a:solidFill>
                <a:srgbClr val="000000"/>
              </a:solidFill>
              <a:latin typeface="Arial"/>
            </a:endParaRPr>
          </a:p>
        </p:txBody>
      </p:sp>
      <p:pic>
        <p:nvPicPr>
          <p:cNvPr id="631" name="Picture 6" descr="Украинский женский костюм Подолье"/>
          <p:cNvPicPr/>
          <p:nvPr/>
        </p:nvPicPr>
        <p:blipFill>
          <a:blip r:embed="rId1"/>
          <a:stretch/>
        </p:blipFill>
        <p:spPr>
          <a:xfrm>
            <a:off x="395280" y="1413000"/>
            <a:ext cx="3351240" cy="5111640"/>
          </a:xfrm>
          <a:prstGeom prst="rect">
            <a:avLst/>
          </a:prstGeom>
          <a:ln w="0">
            <a:noFill/>
          </a:ln>
        </p:spPr>
      </p:pic>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Полтавщина.</a:t>
            </a:r>
            <a:endParaRPr b="0" lang="en-US" sz="4400" spc="-1" strike="noStrike">
              <a:solidFill>
                <a:srgbClr val="000000"/>
              </a:solidFill>
              <a:latin typeface="Arial"/>
            </a:endParaRPr>
          </a:p>
        </p:txBody>
      </p:sp>
      <p:sp>
        <p:nvSpPr>
          <p:cNvPr id="633" name=""/>
          <p:cNvSpPr txBox="1"/>
          <p:nvPr/>
        </p:nvSpPr>
        <p:spPr>
          <a:xfrm>
            <a:off x="3924000" y="1413000"/>
            <a:ext cx="5040360" cy="4713120"/>
          </a:xfrm>
          <a:prstGeom prst="rect">
            <a:avLst/>
          </a:prstGeom>
          <a:noFill/>
          <a:ln w="0">
            <a:noFill/>
          </a:ln>
        </p:spPr>
        <p:txBody>
          <a:bodyPr anchor="t">
            <a:normAutofit fontScale="96000"/>
          </a:bodyPr>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івочий костюм. </a:t>
            </a:r>
            <a:r>
              <a:rPr b="0" lang="ru-RU" sz="1400" spc="-1" strike="noStrike">
                <a:solidFill>
                  <a:srgbClr val="000000"/>
                </a:solidFill>
                <a:latin typeface="Arial"/>
              </a:rPr>
              <a:t>Сорочка домотканого полотна з поликами, вишита квітами червоно-чорного кольору. Керсетка довга, «у складку», з високою талією, прикрашена тасьмою і плисом. Рясна спідниця з напівшерстяної фабричної тканини з нашитими по подолу стрічками з плису. Вінок високий, «чубатий», з прив'язаними до нього кольоровими кісниками. Намисто «добре», червоне, з дукачами. Чорні шкіряні черевики на високих підборах.</a:t>
            </a:r>
            <a:endParaRPr b="0" lang="en-US" sz="1400" spc="-1" strike="noStrike">
              <a:solidFill>
                <a:srgbClr val="000000"/>
              </a:solidFill>
              <a:latin typeface="Arial"/>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Жіночий костюм. </a:t>
            </a:r>
            <a:r>
              <a:rPr b="0" lang="ru-RU" sz="1400" spc="-1" strike="noStrike">
                <a:solidFill>
                  <a:srgbClr val="000000"/>
                </a:solidFill>
                <a:latin typeface="Arial"/>
              </a:rPr>
              <a:t>Сорочка з домотканого полотна. Рукава, під-поличчя та полики вишиті лляними нитками сірого або білого кольорів. На місці з'єднання рукавів з уставками рукав збирався в зборочки-«пухлики». Керсетка «в розмашку», «з вусиками», пошита з ситцю в квіточку. Поли керсетки обшиті плисом, по лінії талії нашиті червоні гудзики. Плахта «з крилами», шерстяна, з дрібним малюнком у квадратах. Колір квадратів переважно зеленкувато-синій та червоний, фартух з полотна оздоблений мережкою та вирізуванням. Головний убір «намітка» з тонкої білої тканини, пов'язаний на м'який очіпок. Орнаментовані чоботи — «сап'янці» жовто-коричневого кольору.</a:t>
            </a:r>
            <a:endParaRPr b="0" lang="en-US" sz="1400" spc="-1" strike="noStrike">
              <a:solidFill>
                <a:srgbClr val="000000"/>
              </a:solidFill>
              <a:latin typeface="Arial"/>
            </a:endParaRPr>
          </a:p>
        </p:txBody>
      </p:sp>
      <p:pic>
        <p:nvPicPr>
          <p:cNvPr id="634" name="Picture 6" descr="Украинский костюм Полтавщина"/>
          <p:cNvPicPr/>
          <p:nvPr/>
        </p:nvPicPr>
        <p:blipFill>
          <a:blip r:embed="rId1"/>
          <a:stretch/>
        </p:blipFill>
        <p:spPr>
          <a:xfrm>
            <a:off x="468360" y="1413000"/>
            <a:ext cx="3278160" cy="5040360"/>
          </a:xfrm>
          <a:prstGeom prst="rect">
            <a:avLst/>
          </a:prstGeom>
          <a:ln w="0">
            <a:noFill/>
          </a:ln>
        </p:spPr>
      </p:pic>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Київщина.</a:t>
            </a:r>
            <a:endParaRPr b="0" lang="en-US" sz="4400" spc="-1" strike="noStrike">
              <a:solidFill>
                <a:srgbClr val="000000"/>
              </a:solidFill>
              <a:latin typeface="Arial"/>
            </a:endParaRPr>
          </a:p>
        </p:txBody>
      </p:sp>
      <p:sp>
        <p:nvSpPr>
          <p:cNvPr id="636" name=""/>
          <p:cNvSpPr txBox="1"/>
          <p:nvPr/>
        </p:nvSpPr>
        <p:spPr>
          <a:xfrm>
            <a:off x="3851280" y="1268280"/>
            <a:ext cx="5292720" cy="4857840"/>
          </a:xfrm>
          <a:prstGeom prst="rect">
            <a:avLst/>
          </a:prstGeom>
          <a:noFill/>
          <a:ln w="0">
            <a:noFill/>
          </a:ln>
        </p:spPr>
        <p:txBody>
          <a:bodyPr anchor="t">
            <a:normAutofit fontScale="95000"/>
          </a:bodyPr>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Чоловічий костюм. </a:t>
            </a:r>
            <a:r>
              <a:rPr b="0" lang="ru-RU" sz="1400" spc="-1" strike="noStrike">
                <a:solidFill>
                  <a:srgbClr val="000000"/>
                </a:solidFill>
                <a:latin typeface="Arial"/>
              </a:rPr>
              <a:t>Сорочка домотканого полотна з «призбиранням» біля коміра. Пазуха, комір, низки рукавів та рукава біля пройми вишиті червоно-чорними нитками хрестиком. Орнамент рослинний. Штани широкі, «наддніпрянські», з сурового полотна, на очкурі, підперезані широким червоно-зеленим поясом, пов'язаним «на два кінці». Чорно-рудувата свита доморобного сукна пошита «до ряс». Стоячий комір, поли та «закавраші» обшиті шкірою. Висока шапка із сивого смушку «стіжкуватої» форми. Чорно-руді шкіряні чоботи з невисокими халявами.</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Жіночий костюм. </a:t>
            </a:r>
            <a:r>
              <a:rPr b="0" lang="ru-RU" sz="1400" spc="-1" strike="noStrike">
                <a:solidFill>
                  <a:srgbClr val="000000"/>
                </a:solidFill>
                <a:latin typeface="Arial"/>
              </a:rPr>
              <a:t>Сорочка домотканого полотна з уставками та вузеньким стоячим коміром. Червоно-чорна та чорно-синя вишивка на пазусі, уставках та чохлах виконана хрестиком бавовняними нитками. Для мережки по подолу використана сіра лляна нитка. Зелена з червоними «перчиками» баєва юпка пошита «на три вуси» з великим виложистим коміром. Запаски, червона передня та синя задня, з домотканої шерстяної тканини з різноколірним геометричним орнаментом по подолу. Крайка з китицями зав'язана на лівому боці. Вишитий волічкою бавовняний очіпок затягувався на потилиці червоною стрічкою. Прикраси: червоне намисто, намисто з бурштину (янтарю), сережки та каблучки. Чоботи червоні на високих «корках».</a:t>
            </a:r>
            <a:endParaRPr b="0" lang="en-US" sz="1400" spc="-1" strike="noStrike">
              <a:solidFill>
                <a:srgbClr val="000000"/>
              </a:solidFill>
              <a:latin typeface="Arial"/>
            </a:endParaRPr>
          </a:p>
        </p:txBody>
      </p:sp>
      <p:pic>
        <p:nvPicPr>
          <p:cNvPr id="637" name="Picture 6" descr="Украинский костюм Киевщина"/>
          <p:cNvPicPr/>
          <p:nvPr/>
        </p:nvPicPr>
        <p:blipFill>
          <a:blip r:embed="rId1"/>
          <a:stretch/>
        </p:blipFill>
        <p:spPr>
          <a:xfrm>
            <a:off x="395280" y="1413000"/>
            <a:ext cx="3351240" cy="5040360"/>
          </a:xfrm>
          <a:prstGeom prst="rect">
            <a:avLst/>
          </a:prstGeom>
          <a:ln w="0">
            <a:noFill/>
          </a:ln>
        </p:spPr>
      </p:pic>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Харківщина</a:t>
            </a:r>
            <a:endParaRPr b="0" lang="en-US" sz="4400" spc="-1" strike="noStrike">
              <a:solidFill>
                <a:srgbClr val="000000"/>
              </a:solidFill>
              <a:latin typeface="Arial"/>
            </a:endParaRPr>
          </a:p>
        </p:txBody>
      </p:sp>
      <p:sp>
        <p:nvSpPr>
          <p:cNvPr id="639" name=""/>
          <p:cNvSpPr txBox="1"/>
          <p:nvPr/>
        </p:nvSpPr>
        <p:spPr>
          <a:xfrm>
            <a:off x="3851280" y="1600200"/>
            <a:ext cx="4835520" cy="4525920"/>
          </a:xfrm>
          <a:prstGeom prst="rect">
            <a:avLst/>
          </a:prstGeom>
          <a:noFill/>
          <a:ln w="0">
            <a:noFill/>
          </a:ln>
        </p:spPr>
        <p:txBody>
          <a:bodyPr anchor="t">
            <a:normAutofit fontScale="96000"/>
          </a:bodyPr>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Чоловічий костюм. </a:t>
            </a:r>
            <a:r>
              <a:rPr b="0" lang="ru-RU" sz="1400" spc="-1" strike="noStrike">
                <a:solidFill>
                  <a:srgbClr val="000000"/>
                </a:solidFill>
                <a:latin typeface="Arial"/>
              </a:rPr>
              <a:t>Сорочка «до гестки» з бочками, що вшивалися між основними пілками. У зв'язку з тим, що станок, завдяки бочкам, ширший, ніж кокетка, біля шва, що з'єднує станок та кокетку, утворювались численні зборки. Червоно-чорна вишивка хрестом на комірі, маніжці та манжетах. Штани широкі, пістрякові до очкура. Капелюх — бриль з соломи. Чоботи-«пришви» з чорної шкіри.</a:t>
            </a:r>
            <a:endParaRPr b="0" lang="en-US" sz="1400" spc="-1" strike="noStrike">
              <a:solidFill>
                <a:srgbClr val="000000"/>
              </a:solidFill>
              <a:latin typeface="Arial"/>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Жіночий костюм. </a:t>
            </a:r>
            <a:r>
              <a:rPr b="0" lang="ru-RU" sz="1400" spc="-1" strike="noStrike">
                <a:solidFill>
                  <a:srgbClr val="000000"/>
                </a:solidFill>
                <a:latin typeface="Arial"/>
              </a:rPr>
              <a:t>Сорочка з уставками прямокутної форми. Багатоколірна вишивка у вигляді квадратів на уставках, вздовж рукавів та на вузенькому стоячому комірі. Низки рукавів «от-лажки» зібрані «на нитку». Поділ прикрашений мережкою та прутиком. Парчева, керсетка «до дев'яти вусів», з зубцями на погрудді, обшитими, як і поли керсетки, кольоровою тасьмою «висічкою». Плахта виткана квадратами переважно жовтогарячого кольору. фартух-«завіса» парчевий, з подолом, обшитим червоним сукном. Парчевий очіпок циліндричної форми з «вушками». На очіпок пов'язували квітчасту хустку. Чоботи-«чорно-бривці» чорно-жовті, з орнаментованими закаблуками.</a:t>
            </a:r>
            <a:endParaRPr b="0" lang="en-US" sz="1400" spc="-1" strike="noStrike">
              <a:solidFill>
                <a:srgbClr val="000000"/>
              </a:solidFill>
              <a:latin typeface="Arial"/>
            </a:endParaRPr>
          </a:p>
        </p:txBody>
      </p:sp>
      <p:pic>
        <p:nvPicPr>
          <p:cNvPr id="640" name="Picture 6" descr="Украинский костюм Харьковщина"/>
          <p:cNvPicPr/>
          <p:nvPr/>
        </p:nvPicPr>
        <p:blipFill>
          <a:blip r:embed="rId1"/>
          <a:stretch/>
        </p:blipFill>
        <p:spPr>
          <a:xfrm>
            <a:off x="468360" y="1484280"/>
            <a:ext cx="3278160" cy="4897440"/>
          </a:xfrm>
          <a:prstGeom prst="rect">
            <a:avLst/>
          </a:prstGeom>
          <a:ln w="0">
            <a:noFill/>
          </a:ln>
        </p:spPr>
      </p:pic>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WordArt 9"/>
          <p:cNvSpPr txBox="1"/>
          <p:nvPr/>
        </p:nvSpPr>
        <p:spPr>
          <a:xfrm>
            <a:off x="826920" y="0"/>
            <a:ext cx="7561440" cy="1628640"/>
          </a:xfrm>
          <a:prstGeom prst="rect">
            <a:avLst/>
          </a:prstGeom>
        </p:spPr>
        <p:txBody>
          <a:bodyPr wrap="none" lIns="90000" rIns="90000" tIns="46800" bIns="46800" anchor="t" anchorCtr="1">
            <a:prstTxWarp prst="textPlain">
              <a:avLst>
                <a:gd name="adj" fmla="val 4958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0">
                  <a:noFill/>
                </a:ln>
                <a:solidFill>
                  <a:srgbClr val="336699"/>
                </a:solidFill>
                <a:effectLst>
                  <a:outerShdw dist="40186" dir="1096358" blurRad="0" rotWithShape="0">
                    <a:srgbClr val="b2b2b2">
                      <a:alpha val="80000"/>
                    </a:srgbClr>
                  </a:outerShdw>
                </a:effectLst>
                <a:latin typeface="Times New Roman"/>
              </a:rPr>
              <a:t>українське народне вбрання</a:t>
            </a:r>
            <a:endParaRPr b="0" i="1" lang="en-US" sz="2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81" name="Text Box 10"/>
          <p:cNvSpPr/>
          <p:nvPr/>
        </p:nvSpPr>
        <p:spPr>
          <a:xfrm>
            <a:off x="3924360" y="4210200"/>
            <a:ext cx="4103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582" name="Text Box 11"/>
          <p:cNvSpPr/>
          <p:nvPr/>
        </p:nvSpPr>
        <p:spPr>
          <a:xfrm>
            <a:off x="-12349080" y="-3916440"/>
            <a:ext cx="68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укова Л Е.</a:t>
            </a:r>
            <a:endParaRPr b="0" i="1" lang="en-US" sz="1800" spc="-1" strike="noStrike">
              <a:solidFill>
                <a:srgbClr val="000000"/>
              </a:solidFill>
              <a:latin typeface="Arial"/>
            </a:endParaRPr>
          </a:p>
        </p:txBody>
      </p:sp>
      <p:sp>
        <p:nvSpPr>
          <p:cNvPr id="583" name="Text Box 13"/>
          <p:cNvSpPr/>
          <p:nvPr/>
        </p:nvSpPr>
        <p:spPr>
          <a:xfrm flipV="1">
            <a:off x="7236000" y="4292640"/>
            <a:ext cx="1908000" cy="396720"/>
          </a:xfrm>
          <a:prstGeom prst="rect">
            <a:avLst/>
          </a:prstGeom>
          <a:noFill/>
          <a:ln w="0">
            <a:noFill/>
          </a:ln>
        </p:spPr>
        <p:style>
          <a:lnRef idx="0"/>
          <a:fillRef idx="0"/>
          <a:effectRef idx="0"/>
          <a:fontRef idx="minor"/>
        </p:style>
        <p:txBody>
          <a:bodyPr lIns="90000" rIns="90000" tIns="46800" bIns="46800" anchor="t" rot="10800000">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pic>
        <p:nvPicPr>
          <p:cNvPr id="584" name="Picture 10" descr="198_imgb5809b1"/>
          <p:cNvPicPr/>
          <p:nvPr/>
        </p:nvPicPr>
        <p:blipFill>
          <a:blip r:embed="rId1"/>
          <a:stretch/>
        </p:blipFill>
        <p:spPr>
          <a:xfrm>
            <a:off x="6084720" y="1413000"/>
            <a:ext cx="2592720" cy="4752720"/>
          </a:xfrm>
          <a:prstGeom prst="rect">
            <a:avLst/>
          </a:prstGeom>
          <a:ln w="0">
            <a:noFill/>
          </a:ln>
        </p:spPr>
      </p:pic>
      <p:sp>
        <p:nvSpPr>
          <p:cNvPr id="585" name="Rectangle 11"/>
          <p:cNvSpPr/>
          <p:nvPr/>
        </p:nvSpPr>
        <p:spPr>
          <a:xfrm>
            <a:off x="611280" y="1413000"/>
            <a:ext cx="453708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радиційне вбрання кожного народу є одним з найбільш масових видів його художньої творчості. Народний одяг відзначається простотою форм, стрункістю силуету, багатством і різноманітністю прикрас, насиченим колоритом. У ньому яскраво виявляється вміння народних майстрів за допомогою простих, логічних засобів органічно поєднувати практичність</a:t>
            </a:r>
            <a:r>
              <a:rPr b="0" lang="ru-RU" sz="2000" spc="-1" strike="noStrike">
                <a:solidFill>
                  <a:srgbClr val="000000"/>
                </a:solidFill>
                <a:latin typeface="Arial"/>
              </a:rPr>
              <a:t> і красу.</a:t>
            </a:r>
            <a:endParaRPr b="0" i="1" lang="en-US" sz="2000" spc="-1" strike="noStrike">
              <a:solidFill>
                <a:srgbClr val="000000"/>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resetSubtype="10">
                                  <p:stCondLst>
                                    <p:cond delay="0"/>
                                  </p:stCondLst>
                                  <p:childTnLst>
                                    <p:set>
                                      <p:cBhvr>
                                        <p:cTn id="6" dur="1" fill="hold">
                                          <p:stCondLst>
                                            <p:cond delay="0"/>
                                          </p:stCondLst>
                                        </p:cTn>
                                        <p:tgtEl>
                                          <p:spTgt spid="580"/>
                                        </p:tgtEl>
                                        <p:attrNameLst>
                                          <p:attrName>style.visibility</p:attrName>
                                        </p:attrNameLst>
                                      </p:cBhvr>
                                      <p:to>
                                        <p:strVal val="visible"/>
                                      </p:to>
                                    </p:set>
                                    <p:animEffect filter="blinds(horizontal)" transition="in">
                                      <p:cBhvr additive="repl">
                                        <p:cTn id="7" dur="20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Дніпропетровщина.</a:t>
            </a:r>
            <a:endParaRPr b="0" lang="en-US" sz="4400" spc="-1" strike="noStrike">
              <a:solidFill>
                <a:srgbClr val="000000"/>
              </a:solidFill>
              <a:latin typeface="Arial"/>
            </a:endParaRPr>
          </a:p>
        </p:txBody>
      </p:sp>
      <p:sp>
        <p:nvSpPr>
          <p:cNvPr id="642" name=""/>
          <p:cNvSpPr txBox="1"/>
          <p:nvPr/>
        </p:nvSpPr>
        <p:spPr>
          <a:xfrm>
            <a:off x="3492000" y="1268280"/>
            <a:ext cx="5472360" cy="4857840"/>
          </a:xfrm>
          <a:prstGeom prst="rect">
            <a:avLst/>
          </a:prstGeom>
          <a:noFill/>
          <a:ln w="0">
            <a:noFill/>
          </a:ln>
        </p:spPr>
        <p:txBody>
          <a:bodyPr anchor="t">
            <a:normAutofit fontScale="96000"/>
          </a:bodyPr>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Жіночий костюм. </a:t>
            </a:r>
            <a:r>
              <a:rPr b="0" lang="ru-RU" sz="1400" spc="-1" strike="noStrike">
                <a:solidFill>
                  <a:srgbClr val="000000"/>
                </a:solidFill>
                <a:latin typeface="Arial"/>
              </a:rPr>
              <a:t>Характерним для керсеток та юпок на Дніпропетровщині на той час був чотирикутний виріз горловини — «каре». Юпанка з блискучої, «оертусової», тканини, «до складок». Поли, низки рукавів та виріз горловини обшиті чорним плисом та кольоровими нитками. Плахта ціла, «нагальна». Орнамент «ведмежі лапи» створює ритмічний малюнок із різноколірних вовняних ниток з перевагою червоно-білих та жовто-зелених кольорів. Білий полотняний фартух прикрашений вишивкою та «зашивками». Звужений з боків червоно-сріблястий шовковий «капор» часто носили без хустки. Зелено-чорні чоботи-«чорнобривці» з вистроченими закаблуками та мідними підківками на високих «корках». Прикраси: «добре» намисто з дукачами, каблучки та сережки.</a:t>
            </a:r>
            <a:endParaRPr b="0" lang="en-US" sz="1400" spc="-1" strike="noStrike">
              <a:solidFill>
                <a:srgbClr val="000000"/>
              </a:solidFill>
              <a:latin typeface="Arial"/>
            </a:endParaRPr>
          </a:p>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Чоловічий костюм. </a:t>
            </a:r>
            <a:r>
              <a:rPr b="0" lang="ru-RU" sz="1400" spc="-1" strike="noStrike">
                <a:solidFill>
                  <a:srgbClr val="000000"/>
                </a:solidFill>
                <a:latin typeface="Arial"/>
              </a:rPr>
              <a:t>Полотняна, з «бамбака», «лоцманська» сорочка з широкими рукавами в дві пілки. Нашивна маніжка та стоячий комір, зав'язаний червоною стрічкою, вишиті червоно-чорними нитками. Оздоблені вишивкою також низки рукавів. Сорочка заправлена в широкі пістрякові штани «наддніпрянського» крою, підперезані широким червоним в'язаним поясом з китицями. Свита біла з домотканого сукна «до стану», з стоячим коміром. Головний убір — сіра смушкова шапка циліндричної форми.</a:t>
            </a:r>
            <a:endParaRPr b="0" lang="en-US" sz="1400" spc="-1" strike="noStrike">
              <a:solidFill>
                <a:srgbClr val="000000"/>
              </a:solidFill>
              <a:latin typeface="Arial"/>
            </a:endParaRPr>
          </a:p>
        </p:txBody>
      </p:sp>
      <p:pic>
        <p:nvPicPr>
          <p:cNvPr id="643" name="Picture 6" descr="Украинский костюм Днепропетровщина"/>
          <p:cNvPicPr/>
          <p:nvPr/>
        </p:nvPicPr>
        <p:blipFill>
          <a:blip r:embed="rId1"/>
          <a:stretch/>
        </p:blipFill>
        <p:spPr>
          <a:xfrm>
            <a:off x="324000" y="1557360"/>
            <a:ext cx="3351240" cy="4896000"/>
          </a:xfrm>
          <a:prstGeom prst="rect">
            <a:avLst/>
          </a:prstGeom>
          <a:ln w="0">
            <a:noFill/>
          </a:ln>
        </p:spPr>
      </p:pic>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Донеччина.</a:t>
            </a:r>
            <a:endParaRPr b="0" lang="en-US" sz="4400" spc="-1" strike="noStrike">
              <a:solidFill>
                <a:srgbClr val="000000"/>
              </a:solidFill>
              <a:latin typeface="Arial"/>
            </a:endParaRPr>
          </a:p>
        </p:txBody>
      </p:sp>
      <p:sp>
        <p:nvSpPr>
          <p:cNvPr id="645" name=""/>
          <p:cNvSpPr txBox="1"/>
          <p:nvPr/>
        </p:nvSpPr>
        <p:spPr>
          <a:xfrm>
            <a:off x="3635280" y="1600200"/>
            <a:ext cx="5051520" cy="4525920"/>
          </a:xfrm>
          <a:prstGeom prst="rect">
            <a:avLst/>
          </a:prstGeom>
          <a:noFill/>
          <a:ln w="0">
            <a:noFill/>
          </a:ln>
        </p:spPr>
        <p:txBody>
          <a:bodyPr anchor="t">
            <a:normAutofit fontScale="98000"/>
          </a:bodyPr>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Жіночий костюм. </a:t>
            </a:r>
            <a:r>
              <a:rPr b="0" lang="ru-RU" sz="1400" spc="-1" strike="noStrike">
                <a:solidFill>
                  <a:srgbClr val="000000"/>
                </a:solidFill>
                <a:latin typeface="Arial"/>
              </a:rPr>
              <a:t>Сорочка «до гестки» з нашитою вздовж вирізу горловини пілкою. Вишивка червоно-чорного кольору Прикрашена сорочка ще мережкою та вирізуванням. «Кохта черкасинова», «під усики», розшита кольоровою тасьмою. Поли обшиті мереживом. Рясна спідниця з яскравої фабричної тканини по подолу обшита плисом та підшита «щіточкою», щоб не протиралася на перегині, фартух-попередниця, «запон» з фабричної тканини, оздоблений мережкою та підшитою по подолу «шляркою». Кашемірова хустка надіта на «сіточку», що пов'язувалась на «гуг-лю» — туго скручене волосся. Високі шкіряні черевики з червоними шнурками.</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Чоловічий костюм. </a:t>
            </a:r>
            <a:r>
              <a:rPr b="0" lang="ru-RU" sz="1400" spc="-1" strike="noStrike">
                <a:solidFill>
                  <a:srgbClr val="000000"/>
                </a:solidFill>
                <a:latin typeface="Arial"/>
              </a:rPr>
              <a:t>Тунікоподібна сорочка з широким стоячим коміром і широкою маніжкою. Комір, маніжка і низки рукавів вишиті. Обов'язковим атрибутом чоловічого костюма була коротка «жильотка» темного кольору. Штани з напівсукна, вузькі, міського крою. Чоботи-«бутилки» з твердими блискучими халявами. Головний убір — картуз.</a:t>
            </a:r>
            <a:endParaRPr b="0" lang="en-US" sz="1400" spc="-1" strike="noStrike">
              <a:solidFill>
                <a:srgbClr val="000000"/>
              </a:solidFill>
              <a:latin typeface="Arial"/>
            </a:endParaRPr>
          </a:p>
        </p:txBody>
      </p:sp>
      <p:pic>
        <p:nvPicPr>
          <p:cNvPr id="646" name="Picture 6" descr="Украинский костюм Донетчина"/>
          <p:cNvPicPr/>
          <p:nvPr/>
        </p:nvPicPr>
        <p:blipFill>
          <a:blip r:embed="rId1"/>
          <a:stretch/>
        </p:blipFill>
        <p:spPr>
          <a:xfrm>
            <a:off x="395280" y="1557360"/>
            <a:ext cx="3351240" cy="453564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Житомирська обл. ІІ пол. 20 ст.</a:t>
            </a:r>
            <a:endParaRPr b="0" lang="en-US" sz="4000" spc="-1" strike="noStrike">
              <a:solidFill>
                <a:srgbClr val="000000"/>
              </a:solidFill>
              <a:latin typeface="Arial"/>
            </a:endParaRPr>
          </a:p>
        </p:txBody>
      </p:sp>
      <p:sp>
        <p:nvSpPr>
          <p:cNvPr id="648" name=""/>
          <p:cNvSpPr txBox="1"/>
          <p:nvPr/>
        </p:nvSpPr>
        <p:spPr>
          <a:xfrm>
            <a:off x="4648320" y="1600200"/>
            <a:ext cx="403848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Жіночий костюм. </a:t>
            </a:r>
            <a:r>
              <a:rPr b="0" lang="ru-RU" sz="1400" spc="-1" strike="noStrike">
                <a:solidFill>
                  <a:srgbClr val="000000"/>
                </a:solidFill>
                <a:latin typeface="Arial"/>
              </a:rPr>
              <a:t>Бавовняна сорочка, пошита за традицією з уставками, пришитими до стану широким «змережуванням», з вишитими рукавами. Нагрудник, схожий на білоруський «саян», з шерстяної тканини синього кольору є комплексом ліфа з спідницею, фартух з такої ж тканини, оздоблений вишивкою гладдю та мережкою. Хустка квітчаста шерстяна. Прикраси: «плетьонка» з бісеру, «коралі».</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івочий костюм. </a:t>
            </a:r>
            <a:r>
              <a:rPr b="0" lang="ru-RU" sz="1400" spc="-1" strike="noStrike">
                <a:solidFill>
                  <a:srgbClr val="000000"/>
                </a:solidFill>
                <a:latin typeface="Arial"/>
              </a:rPr>
              <a:t>Біла шовкова блузка вже з коротким рукавом, але з традиційним орнаментом, вишитим вздовж пазухи та на рукавах. Сарафан з квітчастої тканини відрізний, в талію. Прикраси: традиційна «плетьонка» з бісеру світлих кольорів.</a:t>
            </a:r>
            <a:endParaRPr b="0" lang="en-US" sz="1400" spc="-1" strike="noStrike">
              <a:solidFill>
                <a:srgbClr val="000000"/>
              </a:solidFill>
              <a:latin typeface="Arial"/>
            </a:endParaRPr>
          </a:p>
        </p:txBody>
      </p:sp>
      <p:pic>
        <p:nvPicPr>
          <p:cNvPr id="649" name="Picture 6" descr="Современный украинский костюм Житомирская область"/>
          <p:cNvPicPr/>
          <p:nvPr/>
        </p:nvPicPr>
        <p:blipFill>
          <a:blip r:embed="rId1"/>
          <a:stretch/>
        </p:blipFill>
        <p:spPr>
          <a:xfrm>
            <a:off x="468360" y="1413000"/>
            <a:ext cx="3743280" cy="4824360"/>
          </a:xfrm>
          <a:prstGeom prst="rect">
            <a:avLst/>
          </a:prstGeom>
          <a:ln w="0">
            <a:noFill/>
          </a:ln>
        </p:spPr>
      </p:pic>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Тернопільська обл.</a:t>
            </a:r>
            <a:endParaRPr b="0" lang="en-US" sz="4400" spc="-1" strike="noStrike">
              <a:solidFill>
                <a:srgbClr val="000000"/>
              </a:solidFill>
              <a:latin typeface="Arial"/>
            </a:endParaRPr>
          </a:p>
        </p:txBody>
      </p:sp>
      <p:sp>
        <p:nvSpPr>
          <p:cNvPr id="651" name=""/>
          <p:cNvSpPr txBox="1"/>
          <p:nvPr/>
        </p:nvSpPr>
        <p:spPr>
          <a:xfrm>
            <a:off x="4648320" y="1600200"/>
            <a:ext cx="403848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Чоловічий костюм. 50—60-і pp. </a:t>
            </a:r>
            <a:r>
              <a:rPr b="0" lang="ru-RU" sz="1400" spc="-1" strike="noStrike">
                <a:solidFill>
                  <a:srgbClr val="000000"/>
                </a:solidFill>
                <a:latin typeface="Arial"/>
              </a:rPr>
              <a:t>Сорочка синього кольору на кокетці, з поліхромною вишивкою маніжки, манжетів та подолу. Штани темні з фабричної шерстяної тканини. Сорочка носиться переважно поверх штанів «під пас».</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івочий костюм. 70-і pp. XX ст. </a:t>
            </a:r>
            <a:r>
              <a:rPr b="0" lang="ru-RU" sz="1400" spc="-1" strike="noStrike">
                <a:solidFill>
                  <a:srgbClr val="000000"/>
                </a:solidFill>
                <a:latin typeface="Arial"/>
              </a:rPr>
              <a:t>Блузка з суцільним вишитим рукавом. Виріз горловини обшитий плетеною сіточкою з різноколірних ниток. Безрукавка-«сердак» вишита «коралями» і обшита по полах тасьмою. Спідниця «шаленова» з шерстяної тканини в квіточку.</a:t>
            </a:r>
            <a:endParaRPr b="0" lang="en-US" sz="1400" spc="-1" strike="noStrike">
              <a:solidFill>
                <a:srgbClr val="000000"/>
              </a:solidFill>
              <a:latin typeface="Arial"/>
            </a:endParaRPr>
          </a:p>
        </p:txBody>
      </p:sp>
      <p:pic>
        <p:nvPicPr>
          <p:cNvPr id="652" name="Picture 6" descr="Современный украинский костюм Тернопольская область"/>
          <p:cNvPicPr/>
          <p:nvPr/>
        </p:nvPicPr>
        <p:blipFill>
          <a:blip r:embed="rId1"/>
          <a:stretch/>
        </p:blipFill>
        <p:spPr>
          <a:xfrm>
            <a:off x="539640" y="1413000"/>
            <a:ext cx="3600720" cy="4824360"/>
          </a:xfrm>
          <a:prstGeom prst="rect">
            <a:avLst/>
          </a:prstGeom>
          <a:ln w="0">
            <a:noFill/>
          </a:ln>
        </p:spPr>
      </p:pic>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4" name=""/>
          <p:cNvSpPr txBox="1"/>
          <p:nvPr/>
        </p:nvSpPr>
        <p:spPr>
          <a:xfrm>
            <a:off x="3419280" y="836640"/>
            <a:ext cx="5545080" cy="56167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ЕРНОПІЛЬСЬКА ОБЛАСТЬ. 70-і pp. XX ст.</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агатошаровий, яскраво розшитий </a:t>
            </a:r>
            <a:r>
              <a:rPr b="1" lang="ru-RU" sz="1400" spc="-1" strike="noStrike">
                <a:solidFill>
                  <a:srgbClr val="000000"/>
                </a:solidFill>
                <a:latin typeface="Arial"/>
              </a:rPr>
              <a:t>костюм молодої жінки</a:t>
            </a:r>
            <a:r>
              <a:rPr b="0" lang="ru-RU" sz="1400" spc="-1" strike="noStrike">
                <a:solidFill>
                  <a:srgbClr val="000000"/>
                </a:solidFill>
                <a:latin typeface="Arial"/>
              </a:rPr>
              <a:t> є зразком, де органічно переплелися традиційні форми і декор з сучасним матеріалом. Сорочка з фабричного полотна з типовим для Поділля суцільнокроєним рукавом. Округлість рукава призбирана. Рукава, пазуха і поділ розшиті різноколірними «розшивками». Безрукавка і спідниця складають один ансамбль, вони з тонкої фабричної шерсті традиційного для Поділля темного кольору. Спідниця у складку з розшитим подолом. Безрукавка в талію, поли яскраво вишиті. На ногах туфлі-«постоли» традиційного типу.</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ІВАНО-ФРАНКІВСЬКА ОБЛАСТЬ. 70-і pp. XX ст.</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Жіночий костюм</a:t>
            </a:r>
            <a:r>
              <a:rPr b="0" lang="ru-RU" sz="1400" spc="-1" strike="noStrike">
                <a:solidFill>
                  <a:srgbClr val="000000"/>
                </a:solidFill>
                <a:latin typeface="Arial"/>
              </a:rPr>
              <a:t>, що склався на традиційній основі. Блузка з фабричної тканини з суцільнокроєним рукавом. Вишивка на рукавах і пазусі однотонна (чорна) або ж двоколірна (чорна з червоним). Широка спідниця з яскравої фабричної тканини, переважно з малюнком (квіточки, горошок). Поділ спідниці прикрашають, як правило, кількома поперечними складками.</a:t>
            </a:r>
            <a:endParaRPr b="0" lang="en-US" sz="1400" spc="-1" strike="noStrike">
              <a:solidFill>
                <a:srgbClr val="000000"/>
              </a:solidFill>
              <a:latin typeface="Arial"/>
            </a:endParaRPr>
          </a:p>
        </p:txBody>
      </p:sp>
      <p:pic>
        <p:nvPicPr>
          <p:cNvPr id="655" name="Picture 7" descr="Современный украинский костюм Тернопольская  Ивано-Франковская области"/>
          <p:cNvPicPr/>
          <p:nvPr/>
        </p:nvPicPr>
        <p:blipFill>
          <a:blip r:embed="rId1"/>
          <a:stretch/>
        </p:blipFill>
        <p:spPr>
          <a:xfrm>
            <a:off x="324000" y="981000"/>
            <a:ext cx="3422520" cy="4896000"/>
          </a:xfrm>
          <a:prstGeom prst="rect">
            <a:avLst/>
          </a:prstGeom>
          <a:ln w="0">
            <a:noFill/>
          </a:ln>
        </p:spPr>
      </p:pic>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
          <p:cNvSpPr txBox="1"/>
          <p:nvPr/>
        </p:nvSpPr>
        <p:spPr>
          <a:xfrm>
            <a:off x="4648320" y="907560"/>
            <a:ext cx="4038480" cy="5218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ІННИЦЬКА ОБЛАСТЬ. 60-70-і pp. XX ст.</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Жіночий костюм. </a:t>
            </a:r>
            <a:r>
              <a:rPr b="0" lang="ru-RU" sz="1400" spc="-1" strike="noStrike">
                <a:solidFill>
                  <a:srgbClr val="000000"/>
                </a:solidFill>
                <a:latin typeface="Arial"/>
              </a:rPr>
              <a:t>На Вінниччині замість традиційної жіночої сорочки в наш час увійшла в побут сорочка «до талійки» з поліхромною вишивкою квіточками на кокетці і рукавах, з обов'язковою квіткою, вишитою на вирізі горловини. Рясна спідниця з барвистої тканини обшита по подолу зеленим плисом, фартух із ситцю із «шляркою» (оборкою) прикрашений кольоровими стрічками.</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ХМЕЛЬНИЦЬКА ОБЛАСТЬ. 50-60-і pp. XX ст.</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Чоловічий костюм. </a:t>
            </a:r>
            <a:r>
              <a:rPr b="0" lang="ru-RU" sz="1400" spc="-1" strike="noStrike">
                <a:solidFill>
                  <a:srgbClr val="000000"/>
                </a:solidFill>
                <a:latin typeface="Arial"/>
              </a:rPr>
              <a:t>Біла бавовняна сорочка з кокеткою-«пере-гинкою», від якої вздовж погруддя зроблені дрібненькі складоч-ки-«фальбаночки». На комірі, пазусі та «дудах» поліхромна вишивка. Вузькі штани сучасного крою.</a:t>
            </a:r>
            <a:endParaRPr b="0" lang="en-US" sz="1400" spc="-1" strike="noStrike">
              <a:solidFill>
                <a:srgbClr val="000000"/>
              </a:solidFill>
              <a:latin typeface="Arial"/>
            </a:endParaRPr>
          </a:p>
        </p:txBody>
      </p:sp>
      <p:pic>
        <p:nvPicPr>
          <p:cNvPr id="658" name="Picture 7" descr="Современный украинский костюм  Винницкая Хмельницкая области"/>
          <p:cNvPicPr/>
          <p:nvPr/>
        </p:nvPicPr>
        <p:blipFill>
          <a:blip r:embed="rId1"/>
          <a:stretch/>
        </p:blipFill>
        <p:spPr>
          <a:xfrm>
            <a:off x="684360" y="836640"/>
            <a:ext cx="3527280" cy="5113440"/>
          </a:xfrm>
          <a:prstGeom prst="rect">
            <a:avLst/>
          </a:prstGeom>
          <a:ln w="0">
            <a:noFill/>
          </a:ln>
        </p:spPr>
      </p:pic>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
          <p:cNvSpPr txBox="1"/>
          <p:nvPr/>
        </p:nvSpPr>
        <p:spPr>
          <a:xfrm>
            <a:off x="3995280" y="1600200"/>
            <a:ext cx="469116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ЧЕРНІГІВСЬКА ОБЛАСТЬ. 60-і pp. XX ст.</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Жіночий костюм. </a:t>
            </a:r>
            <a:r>
              <a:rPr b="0" lang="ru-RU" sz="1400" spc="-1" strike="noStrike">
                <a:solidFill>
                  <a:srgbClr val="000000"/>
                </a:solidFill>
                <a:latin typeface="Arial"/>
              </a:rPr>
              <a:t>Блузка з бавовняної тканини, пошита в талію з поздовжніми складами-«зашивками». фартух прикрашений вишивкою та мереживом. Прикраси: червоний бант та «плетьон-ка» у вигляді ажурної стрічки, вишитої бісером. Зручний і практичний одяг — блузка і спідниця — з деякими видозмінами поширений в багатьох областях республіки.</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КАРПАТСЬКА ОБЛАСТЬ. 70-і pp. XX ст.</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івочий святковий костюм. </a:t>
            </a:r>
            <a:r>
              <a:rPr b="0" lang="ru-RU" sz="1400" spc="-1" strike="noStrike">
                <a:solidFill>
                  <a:srgbClr val="000000"/>
                </a:solidFill>
                <a:latin typeface="Arial"/>
              </a:rPr>
              <a:t>Він склався на основі традиційного комплексу. Сорочка-«косиця»; безрукавка з яскравої шовкової тканини, пошита за традицією «з зубцями» на полах; фартух-«плат», прикрашений мереживом та червоною стрічкою. Традиційна шийна прикраса «силянка» зроблена з бісеру.</a:t>
            </a:r>
            <a:endParaRPr b="0" lang="en-US" sz="1400" spc="-1" strike="noStrike">
              <a:solidFill>
                <a:srgbClr val="000000"/>
              </a:solidFill>
              <a:latin typeface="Arial"/>
            </a:endParaRPr>
          </a:p>
        </p:txBody>
      </p:sp>
      <p:pic>
        <p:nvPicPr>
          <p:cNvPr id="661" name="Picture 7" descr="Современный украинский костюм  Черниговская Закарпатская области"/>
          <p:cNvPicPr/>
          <p:nvPr/>
        </p:nvPicPr>
        <p:blipFill>
          <a:blip r:embed="rId1"/>
          <a:stretch/>
        </p:blipFill>
        <p:spPr>
          <a:xfrm>
            <a:off x="539640" y="1052640"/>
            <a:ext cx="3206880" cy="4619520"/>
          </a:xfrm>
          <a:prstGeom prst="rect">
            <a:avLst/>
          </a:prstGeom>
          <a:ln w="0">
            <a:noFill/>
          </a:ln>
        </p:spPr>
      </p:pic>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
          <p:cNvSpPr txBox="1"/>
          <p:nvPr/>
        </p:nvSpPr>
        <p:spPr>
          <a:xfrm>
            <a:off x="4648320" y="1600200"/>
            <a:ext cx="403848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ЕНІНГРАДСЬКИЙ БУДИНОК МОДЕЛЕЙ. 70-і pp. XX ст.</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Жіночі костюми</a:t>
            </a:r>
            <a:r>
              <a:rPr b="0" lang="ru-RU" sz="1400" spc="-1" strike="noStrike">
                <a:solidFill>
                  <a:srgbClr val="000000"/>
                </a:solidFill>
                <a:latin typeface="Arial"/>
              </a:rPr>
              <a:t>, в яких використані елементи традиційного українського вбрання.</a:t>
            </a:r>
            <a:br>
              <a:rPr sz="1400"/>
            </a:br>
            <a:r>
              <a:rPr b="0" lang="ru-RU" sz="1400" spc="-1" strike="noStrike">
                <a:solidFill>
                  <a:srgbClr val="000000"/>
                </a:solidFill>
                <a:latin typeface="Arial"/>
              </a:rPr>
              <a:t>Безрукавка обшита хутром, поли вишиті кольоровими нитками та тасьмою на взірець традиційного кептаря. Червоно-зелена плахтового малюнка спідниця прикрашена китицями. Брючний ансамбль. Жакет, розшитий подільським візерунком. Вдале сполучення червоного гарусу та чорного тла роблять костюм красивим і модним.</a:t>
            </a:r>
            <a:endParaRPr b="0" lang="en-US" sz="1400" spc="-1" strike="noStrike">
              <a:solidFill>
                <a:srgbClr val="000000"/>
              </a:solidFill>
              <a:latin typeface="Arial"/>
            </a:endParaRPr>
          </a:p>
        </p:txBody>
      </p:sp>
      <p:pic>
        <p:nvPicPr>
          <p:cNvPr id="664" name="Picture 7" descr="Современный украинский костюм  Ленинградский дом моделей"/>
          <p:cNvPicPr/>
          <p:nvPr/>
        </p:nvPicPr>
        <p:blipFill>
          <a:blip r:embed="rId1"/>
          <a:stretch/>
        </p:blipFill>
        <p:spPr>
          <a:xfrm>
            <a:off x="755640" y="1197000"/>
            <a:ext cx="3672000" cy="4896000"/>
          </a:xfrm>
          <a:prstGeom prst="rect">
            <a:avLst/>
          </a:prstGeom>
          <a:ln w="0">
            <a:noFill/>
          </a:ln>
        </p:spPr>
      </p:pic>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0"/>
            <a:ext cx="82296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Український одяг в картинах</a:t>
            </a:r>
            <a:br>
              <a:rPr sz="4000"/>
            </a:br>
            <a:r>
              <a:rPr b="0" lang="ru-RU" sz="4000" spc="-1" strike="noStrike">
                <a:solidFill>
                  <a:srgbClr val="000000"/>
                </a:solidFill>
                <a:latin typeface="Arial"/>
              </a:rPr>
              <a:t> Т.Г. Шевченка</a:t>
            </a:r>
            <a:endParaRPr b="0" lang="en-US" sz="4000" spc="-1" strike="noStrike">
              <a:solidFill>
                <a:srgbClr val="000000"/>
              </a:solidFill>
              <a:latin typeface="Arial"/>
            </a:endParaRPr>
          </a:p>
        </p:txBody>
      </p:sp>
      <p:pic>
        <p:nvPicPr>
          <p:cNvPr id="666" name="" descr=""/>
          <p:cNvPicPr/>
          <p:nvPr/>
        </p:nvPicPr>
        <p:blipFill>
          <a:blip r:embed="rId1"/>
          <a:stretch/>
        </p:blipFill>
        <p:spPr>
          <a:xfrm>
            <a:off x="4648320" y="3938760"/>
            <a:ext cx="4038480" cy="2187360"/>
          </a:xfrm>
          <a:prstGeom prst="rect">
            <a:avLst/>
          </a:prstGeom>
          <a:ln w="0">
            <a:noFill/>
          </a:ln>
        </p:spPr>
      </p:pic>
      <p:pic>
        <p:nvPicPr>
          <p:cNvPr id="667" name="Picture 10" descr="851535898ab0"/>
          <p:cNvPicPr/>
          <p:nvPr/>
        </p:nvPicPr>
        <p:blipFill>
          <a:blip r:embed="rId2"/>
          <a:stretch/>
        </p:blipFill>
        <p:spPr>
          <a:xfrm>
            <a:off x="468360" y="1197000"/>
            <a:ext cx="2879640" cy="2808360"/>
          </a:xfrm>
          <a:prstGeom prst="rect">
            <a:avLst/>
          </a:prstGeom>
          <a:ln w="0">
            <a:noFill/>
          </a:ln>
        </p:spPr>
      </p:pic>
      <p:pic>
        <p:nvPicPr>
          <p:cNvPr id="668" name="Picture 11" descr="2b17f760d052"/>
          <p:cNvPicPr/>
          <p:nvPr/>
        </p:nvPicPr>
        <p:blipFill>
          <a:blip r:embed="rId3"/>
          <a:stretch/>
        </p:blipFill>
        <p:spPr>
          <a:xfrm>
            <a:off x="4859280" y="1268280"/>
            <a:ext cx="3241800" cy="2808360"/>
          </a:xfrm>
          <a:prstGeom prst="rect">
            <a:avLst/>
          </a:prstGeom>
          <a:ln w="0">
            <a:noFill/>
          </a:ln>
        </p:spPr>
      </p:pic>
      <p:pic>
        <p:nvPicPr>
          <p:cNvPr id="669" name="Picture 12" descr="ecb5892d2b54"/>
          <p:cNvPicPr/>
          <p:nvPr/>
        </p:nvPicPr>
        <p:blipFill>
          <a:blip r:embed="rId4"/>
          <a:stretch/>
        </p:blipFill>
        <p:spPr>
          <a:xfrm>
            <a:off x="2700360" y="4149720"/>
            <a:ext cx="3456000" cy="2448000"/>
          </a:xfrm>
          <a:prstGeom prst="rect">
            <a:avLst/>
          </a:prstGeom>
          <a:ln w="0">
            <a:noFill/>
          </a:ln>
        </p:spPr>
      </p:pic>
    </p:spTree>
  </p:cSld>
  <p:transition spd="slow">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Український одяг в картинах</a:t>
            </a:r>
            <a:br>
              <a:rPr sz="4000"/>
            </a:br>
            <a:r>
              <a:rPr b="0" lang="ru-RU" sz="4000" spc="-1" strike="noStrike">
                <a:solidFill>
                  <a:srgbClr val="000000"/>
                </a:solidFill>
                <a:latin typeface="Arial"/>
              </a:rPr>
              <a:t> Надії Старовойтової</a:t>
            </a:r>
            <a:endParaRPr b="0" lang="en-US" sz="4000" spc="-1" strike="noStrike">
              <a:solidFill>
                <a:srgbClr val="000000"/>
              </a:solidFill>
              <a:latin typeface="Arial"/>
            </a:endParaRPr>
          </a:p>
        </p:txBody>
      </p:sp>
      <p:pic>
        <p:nvPicPr>
          <p:cNvPr id="671" name="" descr=""/>
          <p:cNvPicPr/>
          <p:nvPr/>
        </p:nvPicPr>
        <p:blipFill>
          <a:blip r:embed="rId1"/>
          <a:stretch/>
        </p:blipFill>
        <p:spPr>
          <a:xfrm>
            <a:off x="4648320" y="3938760"/>
            <a:ext cx="4038480" cy="2187360"/>
          </a:xfrm>
          <a:prstGeom prst="rect">
            <a:avLst/>
          </a:prstGeom>
          <a:ln w="0">
            <a:noFill/>
          </a:ln>
        </p:spPr>
      </p:pic>
      <p:pic>
        <p:nvPicPr>
          <p:cNvPr id="672" name="Picture 10" descr="7d1a3f5e2f1d"/>
          <p:cNvPicPr/>
          <p:nvPr/>
        </p:nvPicPr>
        <p:blipFill>
          <a:blip r:embed="rId2"/>
          <a:stretch/>
        </p:blipFill>
        <p:spPr>
          <a:xfrm>
            <a:off x="179280" y="1628640"/>
            <a:ext cx="2737080" cy="4537080"/>
          </a:xfrm>
          <a:prstGeom prst="rect">
            <a:avLst/>
          </a:prstGeom>
          <a:ln w="0">
            <a:noFill/>
          </a:ln>
        </p:spPr>
      </p:pic>
      <p:pic>
        <p:nvPicPr>
          <p:cNvPr id="673" name="Picture 11" descr="e142be016d84"/>
          <p:cNvPicPr/>
          <p:nvPr/>
        </p:nvPicPr>
        <p:blipFill>
          <a:blip r:embed="rId3"/>
          <a:stretch/>
        </p:blipFill>
        <p:spPr>
          <a:xfrm>
            <a:off x="6084720" y="1600200"/>
            <a:ext cx="2880000" cy="4565520"/>
          </a:xfrm>
          <a:prstGeom prst="rect">
            <a:avLst/>
          </a:prstGeom>
          <a:ln w="0">
            <a:noFill/>
          </a:ln>
        </p:spPr>
      </p:pic>
      <p:pic>
        <p:nvPicPr>
          <p:cNvPr id="674" name="Picture 12" descr="fbf6556dc339"/>
          <p:cNvPicPr/>
          <p:nvPr/>
        </p:nvPicPr>
        <p:blipFill>
          <a:blip r:embed="rId4"/>
          <a:stretch/>
        </p:blipFill>
        <p:spPr>
          <a:xfrm>
            <a:off x="3203640" y="1628640"/>
            <a:ext cx="2592360" cy="4537080"/>
          </a:xfrm>
          <a:prstGeom prst="rect">
            <a:avLst/>
          </a:prstGeom>
          <a:ln w="0">
            <a:noFill/>
          </a:ln>
        </p:spPr>
      </p:pic>
    </p:spTree>
  </p:cSld>
  <p:transition spd="slow">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родне вбрання включає до єдиного художньо-практичного ансамблю мистецтво крою, ткацтво, вишивку, аплікацію, плетіння, обробку шкіри, металу тощо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7" name="Picture 6" descr="Украинский национальный костюм: плахта женская. Фото: sloboganka.com.ua"/>
          <p:cNvPicPr/>
          <p:nvPr/>
        </p:nvPicPr>
        <p:blipFill>
          <a:blip r:embed="rId1"/>
          <a:stretch/>
        </p:blipFill>
        <p:spPr>
          <a:xfrm>
            <a:off x="5081760" y="1268280"/>
            <a:ext cx="3593880" cy="5113440"/>
          </a:xfrm>
          <a:prstGeom prst="rect">
            <a:avLst/>
          </a:prstGeom>
          <a:ln w="0">
            <a:noFill/>
          </a:ln>
        </p:spPr>
      </p:pic>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780000" y="274680"/>
            <a:ext cx="4906800" cy="24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Сучасність</a:t>
            </a:r>
            <a:endParaRPr b="0" lang="en-US" sz="4400" spc="-1" strike="noStrike">
              <a:solidFill>
                <a:srgbClr val="000000"/>
              </a:solidFill>
              <a:latin typeface="Arial"/>
            </a:endParaRPr>
          </a:p>
        </p:txBody>
      </p:sp>
      <p:pic>
        <p:nvPicPr>
          <p:cNvPr id="676" name="Picture 9" descr="i?id=472531926-30-72&amp;n=21"/>
          <p:cNvPicPr/>
          <p:nvPr/>
        </p:nvPicPr>
        <p:blipFill>
          <a:blip r:embed="rId1"/>
          <a:stretch/>
        </p:blipFill>
        <p:spPr>
          <a:xfrm rot="564000">
            <a:off x="6443280" y="2491920"/>
            <a:ext cx="2282760" cy="3530520"/>
          </a:xfrm>
          <a:prstGeom prst="rect">
            <a:avLst/>
          </a:prstGeom>
          <a:ln w="0">
            <a:noFill/>
          </a:ln>
        </p:spPr>
      </p:pic>
      <p:pic>
        <p:nvPicPr>
          <p:cNvPr id="677" name="Picture 10" descr="Современная женская одежда, украшенная ажурной вышивкой, подчеркивает привлекательность и обворожительность"/>
          <p:cNvPicPr/>
          <p:nvPr/>
        </p:nvPicPr>
        <p:blipFill>
          <a:blip r:embed="rId2"/>
          <a:stretch/>
        </p:blipFill>
        <p:spPr>
          <a:xfrm rot="598200">
            <a:off x="3635280" y="3284280"/>
            <a:ext cx="2176560" cy="3168720"/>
          </a:xfrm>
          <a:prstGeom prst="rect">
            <a:avLst/>
          </a:prstGeom>
          <a:ln w="0">
            <a:noFill/>
          </a:ln>
        </p:spPr>
      </p:pic>
      <p:pic>
        <p:nvPicPr>
          <p:cNvPr id="678" name="Picture 11" descr="i?id=500945444-33-72&amp;n=21"/>
          <p:cNvPicPr/>
          <p:nvPr/>
        </p:nvPicPr>
        <p:blipFill>
          <a:blip r:embed="rId3"/>
          <a:stretch/>
        </p:blipFill>
        <p:spPr>
          <a:xfrm rot="711000">
            <a:off x="684360" y="3284280"/>
            <a:ext cx="2330280" cy="3168720"/>
          </a:xfrm>
          <a:prstGeom prst="rect">
            <a:avLst/>
          </a:prstGeom>
          <a:ln w="0">
            <a:noFill/>
          </a:ln>
        </p:spPr>
      </p:pic>
      <p:pic>
        <p:nvPicPr>
          <p:cNvPr id="679" name="Picture 13" descr="i?id=120588170-36-72&amp;n=21"/>
          <p:cNvPicPr/>
          <p:nvPr/>
        </p:nvPicPr>
        <p:blipFill>
          <a:blip r:embed="rId4"/>
          <a:stretch/>
        </p:blipFill>
        <p:spPr>
          <a:xfrm>
            <a:off x="468360" y="404640"/>
            <a:ext cx="3889440" cy="2592720"/>
          </a:xfrm>
          <a:prstGeom prst="rect">
            <a:avLst/>
          </a:prstGeom>
          <a:ln w="0">
            <a:noFill/>
          </a:ln>
        </p:spPr>
      </p:pic>
      <p:sp>
        <p:nvSpPr>
          <p:cNvPr id="680" name="WordArt 15"/>
          <p:cNvSpPr txBox="1"/>
          <p:nvPr/>
        </p:nvSpPr>
        <p:spPr>
          <a:xfrm>
            <a:off x="4643280" y="333360"/>
            <a:ext cx="3384720" cy="266400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gradFill rotWithShape="0">
                  <a:gsLst>
                    <a:gs pos="0">
                      <a:srgbClr val="ffe701"/>
                    </a:gs>
                    <a:gs pos="100000">
                      <a:srgbClr val="fe3e02"/>
                    </a:gs>
                  </a:gsLst>
                  <a:lin ang="5400000"/>
                </a:gradFill>
                <a:latin typeface="Impact"/>
              </a:rPr>
              <a:t>Сучасність</a:t>
            </a:r>
            <a:endParaRPr b="0" i="1"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slow">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11"/>
          <p:cNvSpPr/>
          <p:nvPr/>
        </p:nvSpPr>
        <p:spPr>
          <a:xfrm>
            <a:off x="250920" y="1315800"/>
            <a:ext cx="4176720" cy="4362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агато творчої винахідливості й фантазії вклав у створення одягу український народ. Наче саму чудову природу України переносили в оздоблення костюма, в його радісну гаму народні умільці протягом століть. Робота над вбранням була певною мірою виявом мрії про прекрасне, намаганням відійти від тієї тяжкої дійсності, яка оточувала трудящих до Великої Жовтневої соціалістичної революції.</a:t>
            </a:r>
            <a:endParaRPr b="0" i="1" lang="en-US" sz="2000" spc="-1" strike="noStrike">
              <a:solidFill>
                <a:srgbClr val="000000"/>
              </a:solidFill>
              <a:latin typeface="Arial"/>
            </a:endParaRPr>
          </a:p>
        </p:txBody>
      </p:sp>
      <p:pic>
        <p:nvPicPr>
          <p:cNvPr id="589" name="Picture 5" descr="6310874"/>
          <p:cNvPicPr/>
          <p:nvPr/>
        </p:nvPicPr>
        <p:blipFill>
          <a:blip r:embed="rId1"/>
          <a:stretch/>
        </p:blipFill>
        <p:spPr>
          <a:xfrm>
            <a:off x="5076720" y="476280"/>
            <a:ext cx="3598920" cy="5040360"/>
          </a:xfrm>
          <a:prstGeom prst="rect">
            <a:avLst/>
          </a:prstGeom>
          <a:ln w="0">
            <a:noFill/>
          </a:ln>
        </p:spPr>
      </p:pic>
    </p:spTree>
  </p:cSld>
  <p:transition>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88"/>
                                        </p:tgtEl>
                                        <p:attrNameLst>
                                          <p:attrName>style.visibility</p:attrName>
                                        </p:attrNameLst>
                                      </p:cBhvr>
                                      <p:to>
                                        <p:strVal val="visible"/>
                                      </p:to>
                                    </p:set>
                                    <p:anim calcmode="lin" valueType="num">
                                      <p:cBhvr additive="base">
                                        <p:cTn id="14" dur="500" fill="hold"/>
                                        <p:tgtEl>
                                          <p:spTgt spid="588"/>
                                        </p:tgtEl>
                                        <p:attrNameLst>
                                          <p:attrName>ppt_x</p:attrName>
                                        </p:attrNameLst>
                                      </p:cBhvr>
                                      <p:tavLst>
                                        <p:tav tm="0">
                                          <p:val>
                                            <p:strVal val="#ppt_x"/>
                                          </p:val>
                                        </p:tav>
                                        <p:tav tm="100000">
                                          <p:val>
                                            <p:strVal val="#ppt_x"/>
                                          </p:val>
                                        </p:tav>
                                      </p:tavLst>
                                    </p:anim>
                                    <p:anim calcmode="lin" valueType="num">
                                      <p:cBhvr additive="base">
                                        <p:cTn id="15"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p:nvPr>
        </p:nvSpPr>
        <p:spPr>
          <a:xfrm>
            <a:off x="457200" y="620280"/>
            <a:ext cx="4330800" cy="550548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кажімо, вишивання — це було не просто ремесло, це вияв таланту народного, майстерності, обдарованості. Це був один з небагатьох моментів у житті селянки, коли вона могла відчути радість творення, висловити у гамі кольорів свою віру в краще майбутнє, оптимізм.</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1" name="Picture 5" descr="k_08"/>
          <p:cNvPicPr/>
          <p:nvPr/>
        </p:nvPicPr>
        <p:blipFill>
          <a:blip r:embed="rId1"/>
          <a:stretch/>
        </p:blipFill>
        <p:spPr>
          <a:xfrm>
            <a:off x="6300720" y="907920"/>
            <a:ext cx="2303640" cy="4681800"/>
          </a:xfrm>
          <a:prstGeom prst="rect">
            <a:avLst/>
          </a:prstGeom>
          <a:ln w="0">
            <a:noFill/>
          </a:ln>
        </p:spPr>
      </p:pic>
    </p:spTree>
  </p:cSld>
  <p:transition spd="slow">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p:nvPr>
        </p:nvSpPr>
        <p:spPr>
          <a:xfrm>
            <a:off x="394920" y="691920"/>
            <a:ext cx="6048360" cy="5616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лорит вбрання багатьох районів України був світлий, білий, збагачений яскравими кольорами вовняних плахт, запасок, поясів, вінків, червоного намиста й стрічок. Колорит з перевагою червоно-чорно-синього оздоблення характерний для Центрального Подніпров'я. Цікаві яскраво оздоблені багатою вишивкою сорочки Київщини, Черкащини. Сорочки Полтавщини в основному вишиті вирізуванням, мережкою, нитками білого або сірого кольору. На Поділлі та Буковині переважала червоно-чорна, жовта та синя вишивка. </a:t>
            </a:r>
            <a:endParaRPr b="0" lang="en-US" sz="2400" spc="-1" strike="noStrike">
              <a:solidFill>
                <a:srgbClr val="000000"/>
              </a:solidFill>
              <a:latin typeface="Arial"/>
            </a:endParaRPr>
          </a:p>
        </p:txBody>
      </p:sp>
      <p:pic>
        <p:nvPicPr>
          <p:cNvPr id="593" name="Picture 9" descr="k_07"/>
          <p:cNvPicPr/>
          <p:nvPr/>
        </p:nvPicPr>
        <p:blipFill>
          <a:blip r:embed="rId1"/>
          <a:stretch/>
        </p:blipFill>
        <p:spPr>
          <a:xfrm>
            <a:off x="6877080" y="620640"/>
            <a:ext cx="2016000" cy="4753080"/>
          </a:xfrm>
          <a:prstGeom prst="rect">
            <a:avLst/>
          </a:prstGeom>
          <a:ln w="0">
            <a:noFill/>
          </a:ln>
        </p:spPr>
      </p:pic>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
          <p:cNvSpPr txBox="1"/>
          <p:nvPr/>
        </p:nvSpPr>
        <p:spPr>
          <a:xfrm>
            <a:off x="324000" y="907920"/>
            <a:ext cx="5184720" cy="5950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ткані червоним сорочки Волині чудово поєднувалися з червоно-жовто-зеленими андараками та яскраво розшитими кусанами. При всій різноманітності крою, колористичних рішень, характерних для окремих районів України, дуже виразно виявляється підпорядкування окремих локальних видів одягу та оздоблення єдиному художньому ансамблю, характерному для українського народного одягу. </a:t>
            </a:r>
            <a:endParaRPr b="0" lang="en-US" sz="2400" spc="-1" strike="noStrike">
              <a:solidFill>
                <a:srgbClr val="000000"/>
              </a:solidFill>
              <a:latin typeface="Arial"/>
            </a:endParaRPr>
          </a:p>
        </p:txBody>
      </p:sp>
      <p:pic>
        <p:nvPicPr>
          <p:cNvPr id="596" name="" descr=""/>
          <p:cNvPicPr/>
          <p:nvPr/>
        </p:nvPicPr>
        <p:blipFill>
          <a:blip r:embed="rId1"/>
          <a:stretch/>
        </p:blipFill>
        <p:spPr>
          <a:xfrm>
            <a:off x="4648320" y="1600200"/>
            <a:ext cx="4038480" cy="4525920"/>
          </a:xfrm>
          <a:prstGeom prst="rect">
            <a:avLst/>
          </a:prstGeom>
          <a:ln w="0">
            <a:noFill/>
          </a:ln>
        </p:spPr>
      </p:pic>
      <p:pic>
        <p:nvPicPr>
          <p:cNvPr id="597" name="Picture 4" descr="p9210034_k"/>
          <p:cNvPicPr/>
          <p:nvPr/>
        </p:nvPicPr>
        <p:blipFill>
          <a:blip r:embed="rId2"/>
          <a:stretch/>
        </p:blipFill>
        <p:spPr>
          <a:xfrm>
            <a:off x="5796000" y="620640"/>
            <a:ext cx="3097080" cy="5688000"/>
          </a:xfrm>
          <a:prstGeom prst="rect">
            <a:avLst/>
          </a:prstGeom>
          <a:ln w="0">
            <a:noFill/>
          </a:ln>
        </p:spPr>
      </p:pic>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
          <p:cNvSpPr txBox="1"/>
          <p:nvPr/>
        </p:nvSpPr>
        <p:spPr>
          <a:xfrm>
            <a:off x="0" y="549000"/>
            <a:ext cx="4572000" cy="5576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агато раціональних художніх рішень народного крою та оздоблення використовується у комплексах одягу, що сформувався на традиційній основі на Україні за роки Радянської влади. Ми маємо чудові зразки вбрання в різних районах нашої республіки, де органічно переплелися традиційні форми й декор з новими матеріалам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0" name="Picture 10" descr="43"/>
          <p:cNvPicPr/>
          <p:nvPr/>
        </p:nvPicPr>
        <p:blipFill>
          <a:blip r:embed="rId1"/>
          <a:stretch/>
        </p:blipFill>
        <p:spPr>
          <a:xfrm>
            <a:off x="4716360" y="549360"/>
            <a:ext cx="4135680" cy="5317920"/>
          </a:xfrm>
          <a:prstGeom prst="rect">
            <a:avLst/>
          </a:prstGeom>
          <a:ln w="0">
            <a:noFill/>
          </a:ln>
        </p:spPr>
      </p:pic>
      <p:pic>
        <p:nvPicPr>
          <p:cNvPr id="601" name="" descr=""/>
          <p:cNvPicPr/>
          <p:nvPr/>
        </p:nvPicPr>
        <p:blipFill>
          <a:blip r:embed="rId2"/>
          <a:stretch/>
        </p:blipFill>
        <p:spPr>
          <a:xfrm>
            <a:off x="5148000" y="1600200"/>
            <a:ext cx="3538440" cy="4525920"/>
          </a:xfrm>
          <a:prstGeom prst="rect">
            <a:avLst/>
          </a:prstGeom>
          <a:ln w="0">
            <a:noFill/>
          </a:ln>
        </p:spPr>
      </p:pic>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уковина. Кінець 19 ст.</a:t>
            </a:r>
            <a:endParaRPr b="0" lang="en-US" sz="4400" spc="-1" strike="noStrike">
              <a:solidFill>
                <a:srgbClr val="000000"/>
              </a:solidFill>
              <a:latin typeface="Arial"/>
            </a:endParaRPr>
          </a:p>
        </p:txBody>
      </p:sp>
      <p:graphicFrame>
        <p:nvGraphicFramePr>
          <p:cNvPr id="603" name="Object 5"/>
          <p:cNvGraphicFramePr/>
          <p:nvPr/>
        </p:nvGraphicFramePr>
        <p:xfrm>
          <a:off x="4643280" y="1628640"/>
          <a:ext cx="4038840" cy="4524480"/>
        </p:xfrm>
        <a:graphic>
          <a:graphicData uri="http://schemas.openxmlformats.org/presentationml/2006/ole">
            <p:oleObj r:id="rId1" spid="">
              <p:embed/>
              <p:pic>
                <p:nvPicPr>
                  <p:cNvPr id="604" name="Object 5" descr=""/>
                  <p:cNvPicPr/>
                  <p:nvPr/>
                </p:nvPicPr>
                <p:blipFill>
                  <a:blip r:embed="rId2"/>
                  <a:stretch/>
                </p:blipFill>
                <p:spPr>
                  <a:xfrm>
                    <a:off x="4643280" y="1628640"/>
                    <a:ext cx="4038840" cy="4524480"/>
                  </a:xfrm>
                  <a:prstGeom prst="rect">
                    <a:avLst/>
                  </a:prstGeom>
                  <a:ln w="0">
                    <a:noFill/>
                  </a:ln>
                </p:spPr>
              </p:pic>
            </p:oleObj>
          </a:graphicData>
        </a:graphic>
      </p:graphicFrame>
      <p:graphicFrame>
        <p:nvGraphicFramePr>
          <p:cNvPr id="605" name="Object 6"/>
          <p:cNvGraphicFramePr/>
          <p:nvPr/>
        </p:nvGraphicFramePr>
        <p:xfrm>
          <a:off x="4716360" y="1557360"/>
          <a:ext cx="4032360" cy="4524480"/>
        </p:xfrm>
        <a:graphic>
          <a:graphicData uri="http://schemas.openxmlformats.org/presentationml/2006/ole">
            <p:oleObj r:id="rId3" spid="">
              <p:embed/>
              <p:pic>
                <p:nvPicPr>
                  <p:cNvPr id="606" name="Object 6" descr=""/>
                  <p:cNvPicPr/>
                  <p:nvPr/>
                </p:nvPicPr>
                <p:blipFill>
                  <a:blip r:embed="rId4"/>
                  <a:stretch/>
                </p:blipFill>
                <p:spPr>
                  <a:xfrm>
                    <a:off x="4716360" y="1557360"/>
                    <a:ext cx="4032360" cy="4524480"/>
                  </a:xfrm>
                  <a:prstGeom prst="rect">
                    <a:avLst/>
                  </a:prstGeom>
                  <a:ln w="0">
                    <a:noFill/>
                  </a:ln>
                </p:spPr>
              </p:pic>
            </p:oleObj>
          </a:graphicData>
        </a:graphic>
      </p:graphicFrame>
      <p:sp>
        <p:nvSpPr>
          <p:cNvPr id="607" name="Text Box 7"/>
          <p:cNvSpPr/>
          <p:nvPr/>
        </p:nvSpPr>
        <p:spPr>
          <a:xfrm>
            <a:off x="2282760" y="356220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608" name="Rectangle 13"/>
          <p:cNvSpPr/>
          <p:nvPr/>
        </p:nvSpPr>
        <p:spPr>
          <a:xfrm>
            <a:off x="468360" y="1744200"/>
            <a:ext cx="4751280" cy="5022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Дівочий костюм.</a:t>
            </a:r>
            <a:r>
              <a:rPr b="1" lang="ru-RU" sz="1200" spc="-1" strike="noStrike">
                <a:solidFill>
                  <a:srgbClr val="000000"/>
                </a:solidFill>
                <a:latin typeface="Arial"/>
              </a:rPr>
              <a:t> Сорочка з суцільними широкими рукавами, пришитими по основі, оздоблена поліхромною вишивкою. Кептар вишитий барвистими візерунками кольоровою вовною. Опинка, що обгортає стегна, з домотканої шерстяної тканини, заткана нитками жовтого та жовтогарячого кольорів. Головний убір — «кода» — зроблений з картону, обшитого тканиною, прикрашений бісером, квітами, стрічками. Зверху прикріплений пучок тирси (ковили). Різноколірне скляне намисто рясно вкриває погруддя та шию. Шкіряні черевики жовтого кольору, на ґудзиках, красиво орнаментовані.</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арубоцький костюм.</a:t>
            </a:r>
            <a:r>
              <a:rPr b="1" lang="ru-RU" sz="1200" spc="-1" strike="noStrike">
                <a:solidFill>
                  <a:srgbClr val="000000"/>
                </a:solidFill>
                <a:latin typeface="Arial"/>
              </a:rPr>
              <a:t> Довга тунікоподібна сорочка з домотканого полотна, що одягалася поверх штанів, підперезана широким шкіряним поясом. Кептар та сердак оздоблені аплікацією із шкіри, сукна та вишивкою. Вузькі «холоші»-штани з білого полотна вишиті на холошах. Одяг був надзвичайно колоритним, багато прикрашався різноколірною вишивкою, плетивом, аплікаціями з шкіри, металевими пістонами. Парубоцькі капелюхи були оздоблені квітами, різноколірними стрічками, пером та ін. Постоли «морщені», «заклебучені», прив'язані до ноги «волоками».ательно подвязывалась </a:t>
            </a:r>
            <a:r>
              <a:rPr b="0" lang="ru-RU" sz="1200" spc="-1" strike="noStrike" u="sng">
                <a:solidFill>
                  <a:srgbClr val="009999"/>
                </a:solidFill>
                <a:uFillTx/>
                <a:latin typeface="Arial"/>
                <a:hlinkClick r:id="rId5" action="ppaction://hlinksldjump"/>
              </a:rPr>
              <a:t>кушаком. </a:t>
            </a:r>
            <a:r>
              <a:rPr b="1" lang="ru-RU" sz="1200" spc="-1" strike="noStrike">
                <a:solidFill>
                  <a:srgbClr val="000000"/>
                </a:solidFill>
                <a:latin typeface="Arial"/>
              </a:rPr>
              <a:t>В южно-русском женском костюме самой главной деталью была понева. Она одевалась поверх рубахи, далее шел передник, затем навершник и завершал костюм, головной убор.</a:t>
            </a:r>
            <a:endParaRPr b="0" i="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endParaRPr b="0" i="1" lang="en-US" sz="1200" spc="-1" strike="noStrike">
              <a:solidFill>
                <a:srgbClr val="000000"/>
              </a:solidFill>
              <a:latin typeface="Arial"/>
            </a:endParaRPr>
          </a:p>
        </p:txBody>
      </p:sp>
      <p:sp>
        <p:nvSpPr>
          <p:cNvPr id="609" name="AutoShape 17">
            <a:hlinkClick r:id="rId6" action="ppaction://hlinksldjump"/>
          </p:cNvPr>
          <p:cNvSpPr/>
          <p:nvPr/>
        </p:nvSpPr>
        <p:spPr>
          <a:xfrm>
            <a:off x="7885080" y="6093000"/>
            <a:ext cx="1042920" cy="576000"/>
          </a:xfrm>
          <a:custGeom>
            <a:avLst/>
            <a:gdLst>
              <a:gd name="textAreaLeft" fmla="*/ 37080 w 1042920"/>
              <a:gd name="textAreaRight" fmla="*/ 1005840 w 1042920"/>
              <a:gd name="textAreaTop" fmla="*/ 37080 h 576000"/>
              <a:gd name="textAreaBottom" fmla="*/ 538920 h 576000"/>
            </a:gdLst>
            <a:ahLst/>
            <a:rect l="textAreaLeft" t="textAreaTop" r="textAreaRight" b="textAreaBottom"/>
            <a:pathLst>
              <a:path w="39099" h="21600">
                <a:moveTo>
                  <a:pt x="0" y="0"/>
                </a:moveTo>
                <a:lnTo>
                  <a:pt x="39099" y="0"/>
                </a:lnTo>
                <a:lnTo>
                  <a:pt x="39099" y="21600"/>
                </a:lnTo>
                <a:lnTo>
                  <a:pt x="0" y="21600"/>
                </a:lnTo>
                <a:close/>
              </a:path>
              <a:path fill="lightenLess" w="39099" h="21600">
                <a:moveTo>
                  <a:pt x="0" y="0"/>
                </a:moveTo>
                <a:lnTo>
                  <a:pt x="39099" y="0"/>
                </a:lnTo>
                <a:lnTo>
                  <a:pt x="37699" y="1400"/>
                </a:lnTo>
                <a:lnTo>
                  <a:pt x="1400" y="1400"/>
                </a:lnTo>
                <a:close/>
              </a:path>
              <a:path fill="darken" w="39099" h="21600">
                <a:moveTo>
                  <a:pt x="39099" y="0"/>
                </a:moveTo>
                <a:lnTo>
                  <a:pt x="39099" y="21600"/>
                </a:lnTo>
                <a:lnTo>
                  <a:pt x="37699" y="20200"/>
                </a:lnTo>
                <a:lnTo>
                  <a:pt x="37699" y="1400"/>
                </a:lnTo>
                <a:close/>
              </a:path>
              <a:path fill="darkenLess" w="39099" h="21600">
                <a:moveTo>
                  <a:pt x="39099" y="21600"/>
                </a:moveTo>
                <a:lnTo>
                  <a:pt x="0" y="21600"/>
                </a:lnTo>
                <a:lnTo>
                  <a:pt x="1400" y="20200"/>
                </a:lnTo>
                <a:lnTo>
                  <a:pt x="37699" y="20200"/>
                </a:lnTo>
                <a:close/>
              </a:path>
              <a:path fill="lighten" w="39099" h="21600">
                <a:moveTo>
                  <a:pt x="0" y="21600"/>
                </a:moveTo>
                <a:lnTo>
                  <a:pt x="0" y="0"/>
                </a:lnTo>
                <a:lnTo>
                  <a:pt x="1400" y="1400"/>
                </a:lnTo>
                <a:lnTo>
                  <a:pt x="1400" y="20200"/>
                </a:lnTo>
                <a:close/>
              </a:path>
              <a:path fill="darken" w="39099" h="21600">
                <a:moveTo>
                  <a:pt x="12543" y="10800"/>
                </a:moveTo>
                <a:lnTo>
                  <a:pt x="26556" y="3794"/>
                </a:lnTo>
                <a:lnTo>
                  <a:pt x="2655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pic>
        <p:nvPicPr>
          <p:cNvPr id="610" name="Picture 10" descr="Украинский костюм Буковина"/>
          <p:cNvPicPr/>
          <p:nvPr/>
        </p:nvPicPr>
        <p:blipFill>
          <a:blip r:embed="rId7"/>
          <a:stretch/>
        </p:blipFill>
        <p:spPr>
          <a:xfrm>
            <a:off x="5651640" y="1413000"/>
            <a:ext cx="3024000" cy="496872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2T07:43:24Z</dcterms:created>
  <dc:creator>_</dc:creator>
  <dc:description/>
  <dc:language>en-US</dc:language>
  <cp:lastModifiedBy>user</cp:lastModifiedBy>
  <dcterms:modified xsi:type="dcterms:W3CDTF">2018-01-24T17:09:05Z</dcterms:modified>
  <cp:revision>37</cp:revision>
  <dc:subject/>
  <dc:title>Слайд 1</dc:title>
</cp:coreProperties>
</file>