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409-49A6-4F5B-AD71-EF6C82C7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85FC-974A-4A8E-B133-39B4BBE0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78133-ADEC-4052-9335-CBC199FF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C62EB4-B32C-49F9-BC90-5F1FFEC2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D4AC6E-6BB8-4C4F-AAF2-88BCA729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01BC5C-10ED-460E-8264-11DD0E7C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8FB33F-9AB9-4027-B1AF-C6933ED4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FD2D2E-3A6A-4361-8B42-B4C89A55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A6F320-4DC5-44EF-BA43-38C60F34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FC47CF-C5F8-458E-A78F-1ABD619E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7D45C-9D9D-4EF3-B1D8-D6157A55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D096C3-0595-433F-BD1D-D7989E4A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9D2B-9C5A-4B20-A8C8-41037C8D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39973-EA69-43FB-BD35-DAC5F402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ED5FB3-3880-4F1A-B380-6892AB6F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8C372-E67B-4BB9-AABA-D9836023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040A4-68A8-4FF0-BAD7-82BC7E76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D9F3D2-FB78-476E-8D6E-68A31EA9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C7750-43BE-4033-9A39-B4CEA205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79D79-CB8B-403B-8B95-6991E32D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D236A5-1826-4DC1-A68E-6CDB571E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C52A27-F875-483A-AF02-2CE921A8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7297D1-2409-438E-8EEC-23668746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2640-620A-45DD-87D2-6B8D4518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63C8D7-E51B-48E2-B519-C8D7E53D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1C622-EDE8-421A-BC2E-45E50B67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34300-AC7A-48AC-878A-BAC34105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0DDEA-E7D7-47E0-8A4B-EBC154BA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FCD3B-FCE2-4A30-B9FA-50B53D1B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CB1B8-56CC-4AA4-BF9D-6B683610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AEFEC-E583-4A89-85E4-F33514EF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63718-E7F1-493E-AB1B-1BA4B9EB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1E1E8-BE03-4686-95B0-27D65BD3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A6BC4-D1FA-4279-B788-5505CAF5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B5AD-F3BB-40FE-9057-CA112412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A7D11-F0E5-4BB0-B289-D26D8CF0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895E1-12C7-49D0-9B68-3E7F9B8C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B4367-EE5B-409B-991F-85571343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1E9859-222C-4366-B9EF-AE4F1025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801FA3-3EA7-46E5-BE52-85D94AEF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893DAF-B31D-4615-B4D0-84624D6B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C4795A-6CFF-4CE6-B9F6-574DA3B8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9FE43-3600-4A82-B8D1-1E1D195A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3AF318-2CBA-4672-BDD2-683731A8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9B829B-6B8C-45F6-8242-8D6E58C7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D84F-C8BD-4583-AB44-D50E07D0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372154-6D33-4AF3-A0A5-10C6EFA3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3D021D-25AD-484B-ACBF-B5A4BF49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D074E5-8B5A-4AFD-B34F-7B960C8E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B6774B-277E-4BC0-A669-E9F57721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3DFCD-EF5F-46B1-9716-AB175692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CB0C-4714-46BA-924E-AB9019D3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B281-D21A-48B7-8111-78D6A72B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3D16-7CDA-40E9-8888-96A8F8FC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5385-816D-4A05-954F-88FE1AA8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2406-FA6A-4937-B50D-1F8E8E6F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EB26-B872-49C8-B328-779F7878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54B7-B162-4087-B423-CCFE794D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7657-FF81-4460-A906-4D06CE6E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E11D-6254-4AAD-ABAB-B3872F3A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B32F-68D2-4C50-B0A3-34359F1A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8EC1-D95E-44A7-9C88-3ED8727E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ED5CD-4CB4-410A-A2F0-84B46217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081D6-0B52-4F1B-B9CA-C736CF5C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0CFD6-9E21-4BE9-BC4A-CD7690E9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1C063-96EB-4A56-90A7-2376EE5A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39243-8B82-4A40-8714-E51FDA77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C12-2B2B-441F-BFE5-DA831B90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2C1FC-1F9A-44BD-8104-26DF4EC0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E0B52-FE65-495A-A350-1C1894BF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86F22-2BF5-4A91-8867-D59A8033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EE4EE-544B-4563-9167-85BEFE1B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0469E-A1AD-4E48-BFF8-D5B7B82A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7711D-E56F-45DA-8A4A-452E8D84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316EA-BC20-4944-B776-529FE16E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6DC29-57A1-4F53-98D0-95DACF20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65983-B1C8-4B39-AAF9-14B97FCC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F3D01-F24A-41CC-A90D-1948E65F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E1FD-AB42-4F89-9356-D545C8BF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3A67B-497E-4600-A94A-9265710A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B2B92-FB90-4011-8DD3-B4C02393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1B4B7-714F-46ED-97BB-6FA2FBEC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F5440-CD68-41A5-BDFA-D2DD6389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04CB5-1CC2-4DE1-8CB8-9481A61A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B93FE-15D8-441C-B858-F6F8A259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65CDF-DC07-46E6-A350-DD4F0888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D3BF4-232F-45A7-97A2-67F8D9BB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4A5A8-090F-440E-A73B-80FCBC0A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DA3F9-E8AE-4148-9D61-982A3961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E42-826A-4E27-B7A4-E718DC1C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E38C9-5A0B-4196-B1B8-5AA65DDF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6E03B-E411-43D5-87B0-C7E9366B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A4506-45CD-42B9-B92E-D1DC33C3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6E53A-69FC-4551-9CE9-67AF745B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26735-3EB2-4C8D-A7C1-D5FE806C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A44AD-C632-4E12-AF3B-C6978092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D6580-BC4B-41B5-9260-42805599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78A27-DE31-48B0-A0BF-6F6555F5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88576-F68A-4B07-ABE1-7292E543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48B08-BDF4-43E1-A0F9-9ABDC4AA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B4EA-06B0-4533-B447-13CD2CDB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E08BC-F8C3-4FEA-A27A-A62251F2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53DA0-46E2-4A31-8239-D510FB8A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CECFF-1257-4F94-BDB8-05F4E215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B79C9-92D3-403A-93DA-A27777C7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68DBF-7BD8-426D-9F27-0AEBBD9B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D5F1E-E17E-4806-BF2B-C031943D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CF174-1FF1-41B3-9235-25C72B58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C2883-8D8D-4A22-94D3-68E50AF8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54F56-A0E0-4CAA-9389-20D82D66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DB322-44C1-4A84-A7E0-8817C765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DD5F-EB9D-438E-B28B-46D1F48C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432F7-CA3A-4B03-B02D-F3750F87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6E187-48FC-4BC4-B266-5DF62C0B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7ACFA-94E2-49BC-B3FD-903E19B4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02E17-D9E1-4AD7-873E-B8F39908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A1785-C01F-4DF5-B4EF-C4C99D96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E8EEA-393F-4B53-AF5A-4F6FA455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AD444-5732-4035-8B9F-4EE2F6E9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132BE-83E2-4E24-B00E-76D452D3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585E6-3FAC-4213-9987-7128E19E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3BAA0-ACCE-4671-A2E7-29EDFC45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CB6-0132-475C-84E9-F11E7424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8CBD4-C51C-4703-83F1-11B57BB8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C1DA4-0EB4-4540-A178-C10ED643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B4939-2098-4A5E-9F24-530D879F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3A378-42E3-4E66-8B04-BE03F5FD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D4A12-F01E-4406-A0A8-DE96ADA3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D366F-2996-4D13-A54A-38F9374B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7959A-2C75-4AA2-844A-9211F99C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DA936-EAB0-4D46-9829-824C9B45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9E25B-A374-4AA9-8E0E-3EDB20FA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C5C78-1475-42A9-A85C-099E2BBA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F76F-731E-4156-9D09-833E4420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F9A21-318E-4B60-A6B9-48F312D0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B9A36-613C-4803-BBDF-C3BC7789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971F4-981E-42C9-811C-8D580113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BF005-F4EB-4E4D-92E5-B2F9B896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65415-806A-402B-B4E7-55441483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3A66D-C0AD-4716-882C-EB72B20C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39AFE-FC96-47A5-8DE2-E619C72E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A5E140-65E0-400E-B32E-E94F7C83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FE8F27-3EB5-4560-8DCD-D2D51512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A4CEB0-F978-4FBD-910C-EBF0E2AB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1D6A-9A17-47AB-919E-4B3EB1AEB37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1D9D-84B1-4B03-95AE-E60E07C6F7A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BC67-B894-4702-B7BA-32F879483D5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9717-BE0C-420A-A0C9-334EDBA2659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502C-10B5-43EF-A119-C10FF5EBDF7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F24F-91C9-465F-8D76-F248A0D549B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51C0-41B4-4457-A286-AF5254C09DF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C49E-A889-4797-9179-945A3810119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4811-D2B7-4A95-92B5-B6032047FA6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4BF3-6759-4871-9371-788B3FC0783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21F6-CFD1-4630-B130-90A0452D03F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CE00-A3BB-4B7F-9B16-5790CC55A6D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900" spc="-1" strike="noStrike">
                <a:solidFill>
                  <a:srgbClr val="7b9899"/>
                </a:solidFill>
                <a:latin typeface="Georgia"/>
              </a:rPr>
              <a:t>Тестові завдання</a:t>
            </a:r>
            <a:endParaRPr b="0" lang="en-US" sz="5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68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1.  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Визначте картину, автором якої був Леонардо да Вінчі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а)  «Нічна варта»;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б)  «Сикстинська Мадонна»;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в)  «Джоконда»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900" spc="-1" strike="noStrike">
                <a:solidFill>
                  <a:srgbClr val="7b9899"/>
                </a:solidFill>
                <a:latin typeface="Georgia"/>
              </a:rPr>
              <a:t>Тестові завдання</a:t>
            </a:r>
            <a:endParaRPr b="0" lang="en-US" sz="5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Georgia"/>
              </a:rPr>
              <a:t>10.Панівний стиль у мистецтві кінця 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XV</a:t>
            </a:r>
            <a:r>
              <a:rPr b="0" lang="uk-UA" sz="4400" spc="-1" strike="noStrike">
                <a:solidFill>
                  <a:srgbClr val="000000"/>
                </a:solidFill>
                <a:latin typeface="Georgia"/>
              </a:rPr>
              <a:t>І - сер. 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XV</a:t>
            </a:r>
            <a:r>
              <a:rPr b="0" lang="uk-UA" sz="4400" spc="-1" strike="noStrike">
                <a:solidFill>
                  <a:srgbClr val="000000"/>
                </a:solidFill>
                <a:latin typeface="Georgia"/>
              </a:rPr>
              <a:t>ІІІ ст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Georgia"/>
              </a:rPr>
              <a:t>а) рококо;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Georgia"/>
              </a:rPr>
              <a:t>б)бароко;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Georgia"/>
              </a:rPr>
              <a:t>в) готичний стиль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900" spc="-1" strike="noStrike">
                <a:solidFill>
                  <a:srgbClr val="7b9899"/>
                </a:solidFill>
                <a:latin typeface="Georgia"/>
              </a:rPr>
              <a:t>Тестові завдання</a:t>
            </a:r>
            <a:endParaRPr b="0" lang="en-US" sz="5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5192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11.  Запишіть ім’я ученого, якому належать слова: «Спалити — не означає спростувати»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762120" y="4267080"/>
          <a:ext cx="7772400" cy="1067040"/>
        </p:xfrm>
        <a:graphic>
          <a:graphicData uri="http://schemas.openxmlformats.org/drawingml/2006/table">
            <a:tbl>
              <a:tblPr/>
              <a:tblGrid>
                <a:gridCol w="777600"/>
                <a:gridCol w="776520"/>
                <a:gridCol w="777960"/>
                <a:gridCol w="776160"/>
                <a:gridCol w="777960"/>
                <a:gridCol w="777600"/>
                <a:gridCol w="776520"/>
                <a:gridCol w="777960"/>
                <a:gridCol w="776160"/>
                <a:gridCol w="77796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900" spc="-1" strike="noStrike">
                <a:solidFill>
                  <a:srgbClr val="7b9899"/>
                </a:solidFill>
                <a:latin typeface="Georgia"/>
              </a:rPr>
              <a:t>Відповіді :</a:t>
            </a:r>
            <a:endParaRPr b="0" lang="en-US" sz="59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457200" y="1600200"/>
          <a:ext cx="8229600" cy="4449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ідпові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,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,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жордано Бру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r>
              <a:rPr b="0" lang="uk-UA" sz="5900" spc="-1" strike="noStrike">
                <a:solidFill>
                  <a:srgbClr val="c00000"/>
                </a:solidFill>
                <a:latin typeface="Georgia"/>
              </a:rPr>
              <a:t>Тема уроку:</a:t>
            </a:r>
            <a:br>
              <a:rPr sz="5900"/>
            </a:br>
            <a:r>
              <a:rPr b="0" lang="uk-UA" sz="5900" spc="-1" strike="noStrike">
                <a:solidFill>
                  <a:srgbClr val="d16349"/>
                </a:solidFill>
                <a:latin typeface="Georgia"/>
              </a:rPr>
              <a:t>Польська держава </a:t>
            </a:r>
            <a:br>
              <a:rPr sz="5900"/>
            </a:br>
            <a:r>
              <a:rPr b="0" lang="uk-UA" sz="5900" spc="-1" strike="noStrike">
                <a:solidFill>
                  <a:srgbClr val="d16349"/>
                </a:solidFill>
                <a:latin typeface="Georgia"/>
              </a:rPr>
              <a:t>кінця </a:t>
            </a:r>
            <a:r>
              <a:rPr b="0" lang="en-US" sz="5900" spc="-1" strike="noStrike">
                <a:solidFill>
                  <a:srgbClr val="d16349"/>
                </a:solidFill>
                <a:latin typeface="Georgia"/>
              </a:rPr>
              <a:t>XVI – </a:t>
            </a:r>
            <a:r>
              <a:rPr b="0" lang="uk-UA" sz="5900" spc="-1" strike="noStrike">
                <a:solidFill>
                  <a:srgbClr val="d16349"/>
                </a:solidFill>
                <a:latin typeface="Georgia"/>
              </a:rPr>
              <a:t>першої половини </a:t>
            </a:r>
            <a:r>
              <a:rPr b="0" lang="en-US" sz="5900" spc="-1" strike="noStrike">
                <a:solidFill>
                  <a:srgbClr val="d16349"/>
                </a:solidFill>
                <a:latin typeface="Georgia"/>
              </a:rPr>
              <a:t>XVII </a:t>
            </a:r>
            <a:r>
              <a:rPr b="0" lang="uk-UA" sz="5900" spc="-1" strike="noStrike">
                <a:solidFill>
                  <a:srgbClr val="d16349"/>
                </a:solidFill>
                <a:latin typeface="Georgia"/>
              </a:rPr>
              <a:t>століття</a:t>
            </a:r>
            <a:endParaRPr b="0" lang="en-US" sz="59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Завдання уроку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Розкрити особливості економічного,  соціально – політичного становища Польщі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З'ясувати хід Реформації в Польщі та її зовнішню політику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Розвивати вміння працювати з джерелами інформації, встановлювати причинно – наслідкові зв'язк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Georgia"/>
              </a:rPr>
              <a:t>План уроку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6840" y="13716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Georgia"/>
              </a:rPr>
              <a:t>1.Утворення Речі Посполитої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Georgia"/>
              </a:rPr>
              <a:t>2.Політичний устрій та державна система Речі Посполитої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Georgia"/>
              </a:rPr>
              <a:t>3.Економічний розвиток та соціальні відносини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Georgia"/>
              </a:rPr>
              <a:t>4.Реформація та контрреформація в Польщі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Georgia"/>
              </a:rPr>
              <a:t>5.Зовнішня політика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79009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c00000"/>
                </a:solidFill>
                <a:latin typeface="Georgia"/>
              </a:rPr>
              <a:t>Робота в групах</a:t>
            </a:r>
            <a:br>
              <a:rPr sz="4000"/>
            </a:b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8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Georgia"/>
              </a:rPr>
              <a:t>І група –  влада короля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Georgia"/>
              </a:rPr>
              <a:t>ІІ група – склад і повноваження сейму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Georgia"/>
              </a:rPr>
              <a:t>ІІІ група – функції місцевої влади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IV</a:t>
            </a:r>
            <a:r>
              <a:rPr b="0" lang="uk-UA" sz="3300" spc="-1" strike="noStrike">
                <a:solidFill>
                  <a:srgbClr val="000000"/>
                </a:solidFill>
                <a:latin typeface="Georgia"/>
              </a:rPr>
              <a:t> група – яка форма державного правління та форма державного устрою Речі Посполитої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Прямоугольник 3"/>
          <p:cNvSpPr/>
          <p:nvPr/>
        </p:nvSpPr>
        <p:spPr>
          <a:xfrm>
            <a:off x="3352680" y="1523880"/>
            <a:ext cx="2819520" cy="91440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КО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85520" y="274680"/>
            <a:ext cx="7900920" cy="94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b9899"/>
                </a:solidFill>
                <a:latin typeface="Georgia"/>
              </a:rPr>
              <a:t>Схема політичного устрою Речі Посполитої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Прямоугольник 10"/>
          <p:cNvSpPr/>
          <p:nvPr/>
        </p:nvSpPr>
        <p:spPr>
          <a:xfrm>
            <a:off x="4191120" y="2743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1d1dff"/>
                </a:solidFill>
                <a:latin typeface="Arial"/>
                <a:ea typeface="Times New Roman"/>
              </a:rPr>
              <a:t>обира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оугольник 11"/>
          <p:cNvSpPr/>
          <p:nvPr/>
        </p:nvSpPr>
        <p:spPr>
          <a:xfrm>
            <a:off x="3809880" y="3200400"/>
            <a:ext cx="2057400" cy="91440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СЕЙ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Стрелка вниз 12"/>
          <p:cNvSpPr/>
          <p:nvPr/>
        </p:nvSpPr>
        <p:spPr>
          <a:xfrm>
            <a:off x="3886200" y="4114800"/>
            <a:ext cx="484200" cy="5335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Стрелка вниз 13"/>
          <p:cNvSpPr/>
          <p:nvPr/>
        </p:nvSpPr>
        <p:spPr>
          <a:xfrm>
            <a:off x="5334120" y="4114800"/>
            <a:ext cx="484200" cy="5335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14"/>
          <p:cNvSpPr/>
          <p:nvPr/>
        </p:nvSpPr>
        <p:spPr>
          <a:xfrm>
            <a:off x="5562720" y="4648320"/>
            <a:ext cx="1904760" cy="91440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ПОСОЛЬСЬКА ІЗ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15"/>
          <p:cNvSpPr/>
          <p:nvPr/>
        </p:nvSpPr>
        <p:spPr>
          <a:xfrm>
            <a:off x="2286000" y="4648320"/>
            <a:ext cx="1828800" cy="91440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СЕ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17"/>
          <p:cNvSpPr/>
          <p:nvPr/>
        </p:nvSpPr>
        <p:spPr>
          <a:xfrm>
            <a:off x="3733920" y="5943600"/>
            <a:ext cx="2133360" cy="91440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СЕЙ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Стрелка вправо с вырезом 18"/>
          <p:cNvSpPr/>
          <p:nvPr/>
        </p:nvSpPr>
        <p:spPr>
          <a:xfrm flipH="1" rot="5400000">
            <a:off x="4609440" y="2552400"/>
            <a:ext cx="304920" cy="228600"/>
          </a:xfrm>
          <a:custGeom>
            <a:avLst/>
            <a:gdLst>
              <a:gd name="textAreaLeft" fmla="*/ 56880 w 304920"/>
              <a:gd name="textAreaRight" fmla="*/ 24768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900" spc="-1" strike="noStrike">
                <a:solidFill>
                  <a:srgbClr val="7b9899"/>
                </a:solidFill>
                <a:latin typeface="Georgia"/>
              </a:rPr>
              <a:t>Тестові завдання</a:t>
            </a:r>
            <a:endParaRPr b="0" lang="en-US" sz="5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. 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Визначте один з кращих творів Веласкеса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а)  «Пряхи»;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б)  «Повернення блудного сина»;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в)  «Даная»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ffe947"/>
                </a:solidFill>
                <a:latin typeface="Georgia"/>
              </a:rPr>
              <a:t>          </a:t>
            </a:r>
            <a:r>
              <a:rPr b="0" lang="uk-UA" sz="2700" spc="-1" strike="noStrike">
                <a:solidFill>
                  <a:srgbClr val="c00000"/>
                </a:solidFill>
                <a:latin typeface="Georgia"/>
              </a:rPr>
              <a:t>пшениця, ячмінь, овес, льон, сало, худоб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uk-UA" sz="2700" spc="-1" strike="noStrike">
                <a:solidFill>
                  <a:srgbClr val="002060"/>
                </a:solidFill>
                <a:latin typeface="Georgia"/>
              </a:rPr>
              <a:t>ПОЛЬЩА</a:t>
            </a:r>
            <a:r>
              <a:rPr b="0" lang="uk-UA" sz="2700" spc="-1" strike="noStrike">
                <a:solidFill>
                  <a:srgbClr val="646b86"/>
                </a:solidFill>
                <a:latin typeface="Georgia"/>
              </a:rPr>
              <a:t>                                                 </a:t>
            </a:r>
            <a:r>
              <a:rPr b="0" lang="uk-UA" sz="2700" spc="-1" strike="noStrike">
                <a:solidFill>
                  <a:srgbClr val="002060"/>
                </a:solidFill>
                <a:latin typeface="Georgia"/>
              </a:rPr>
              <a:t>ЗАХІДНА ЄВРОП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46b86"/>
                </a:solidFill>
                <a:latin typeface="Georgi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uk-UA" sz="3000" spc="-1" strike="noStrike">
                <a:solidFill>
                  <a:srgbClr val="c00000"/>
                </a:solidFill>
                <a:latin typeface="Georgia"/>
              </a:rPr>
              <a:t>тканини, металеві вироби, дорогоцінні предмети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Выгнутая вправо стрелка 3"/>
          <p:cNvSpPr/>
          <p:nvPr/>
        </p:nvSpPr>
        <p:spPr>
          <a:xfrm rot="16200000">
            <a:off x="3352680" y="609480"/>
            <a:ext cx="914400" cy="3962520"/>
          </a:xfrm>
          <a:custGeom>
            <a:avLst/>
            <a:gdLst>
              <a:gd name="textAreaLeft" fmla="*/ 122400 w 914400"/>
              <a:gd name="textAreaRight" fmla="*/ 792000 w 914400"/>
              <a:gd name="textAreaTop" fmla="*/ 904680 h 3962520"/>
              <a:gd name="textAreaBottom" fmla="*/ 294336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866" stAng="-5400000" swAng="5400000"/>
                <a:lnTo>
                  <a:pt x="21600" y="11112"/>
                </a:lnTo>
                <a:arcTo wR="21600" hR="9866" stAng="0" swAng="3631197"/>
                <a:lnTo>
                  <a:pt x="5400" y="21287"/>
                </a:lnTo>
                <a:lnTo>
                  <a:pt x="0" y="20354"/>
                </a:lnTo>
                <a:lnTo>
                  <a:pt x="5400" y="18795"/>
                </a:lnTo>
                <a:lnTo>
                  <a:pt x="5400" y="19418"/>
                </a:lnTo>
                <a:arcTo wR="21600" hR="9866" stAng="3631197" swAng="-3531873"/>
                <a:lnTo>
                  <a:pt x="21557" y="10489"/>
                </a:lnTo>
                <a:arcTo wR="21600" hR="9866" stAng="-99324" swAng="-5300676"/>
                <a:close/>
              </a:path>
              <a:path fill="darkenLess" w="21600" h="21600">
                <a:moveTo>
                  <a:pt x="0" y="0"/>
                </a:moveTo>
                <a:arcTo wR="21600" hR="9866" stAng="-5400000" swAng="5400000"/>
                <a:lnTo>
                  <a:pt x="21600" y="11112"/>
                </a:lnTo>
                <a:arcTo wR="21600" hR="9866" stAng="0" swAng="-99324"/>
                <a:lnTo>
                  <a:pt x="21557" y="10489"/>
                </a:lnTo>
                <a:arcTo wR="21600" hR="9866" stAng="-99324" swAng="-5300676"/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Выгнутая вправо стрелка 4"/>
          <p:cNvSpPr/>
          <p:nvPr/>
        </p:nvSpPr>
        <p:spPr>
          <a:xfrm rot="5400000">
            <a:off x="3276000" y="2438280"/>
            <a:ext cx="914400" cy="3962520"/>
          </a:xfrm>
          <a:custGeom>
            <a:avLst/>
            <a:gdLst>
              <a:gd name="textAreaLeft" fmla="*/ 122400 w 914400"/>
              <a:gd name="textAreaRight" fmla="*/ 792000 w 914400"/>
              <a:gd name="textAreaTop" fmla="*/ 904680 h 3962520"/>
              <a:gd name="textAreaBottom" fmla="*/ 294336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866" stAng="-5400000" swAng="5400000"/>
                <a:lnTo>
                  <a:pt x="21600" y="11112"/>
                </a:lnTo>
                <a:arcTo wR="21600" hR="9866" stAng="0" swAng="3631197"/>
                <a:lnTo>
                  <a:pt x="5400" y="21287"/>
                </a:lnTo>
                <a:lnTo>
                  <a:pt x="0" y="20354"/>
                </a:lnTo>
                <a:lnTo>
                  <a:pt x="5400" y="18795"/>
                </a:lnTo>
                <a:lnTo>
                  <a:pt x="5400" y="19418"/>
                </a:lnTo>
                <a:arcTo wR="21600" hR="9866" stAng="3631197" swAng="-3531873"/>
                <a:lnTo>
                  <a:pt x="21557" y="10489"/>
                </a:lnTo>
                <a:arcTo wR="21600" hR="9866" stAng="-99324" swAng="-5300676"/>
                <a:close/>
              </a:path>
              <a:path fill="darkenLess" w="21600" h="21600">
                <a:moveTo>
                  <a:pt x="0" y="0"/>
                </a:moveTo>
                <a:arcTo wR="21600" hR="9866" stAng="-5400000" swAng="5400000"/>
                <a:lnTo>
                  <a:pt x="21600" y="11112"/>
                </a:lnTo>
                <a:arcTo wR="21600" hR="9866" stAng="0" swAng="-99324"/>
                <a:lnTo>
                  <a:pt x="21557" y="10489"/>
                </a:lnTo>
                <a:arcTo wR="21600" hR="9866" stAng="-99324" swAng="-5300676"/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Georgia"/>
              </a:rPr>
              <a:t>Робота в групах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5684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 група -   На який термін визначалася робота селянину?</a:t>
            </a:r>
            <a:r>
              <a:rPr b="0" lang="uk-UA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 група -   Яке покарання несли селяни, якщо не виходили на роботу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 група -   Опишіть регламент роботи селянина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4 група -  Поясніть поняття «фільварок»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Georgia"/>
              </a:rPr>
              <a:t>Фільварково – панщинна система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Причини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Збільшення населення в Європі  призвело до зростання попиту на продукти харчуванн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Скругленный прямоугольник 4"/>
          <p:cNvSpPr/>
          <p:nvPr/>
        </p:nvSpPr>
        <p:spPr>
          <a:xfrm>
            <a:off x="1447920" y="457200"/>
            <a:ext cx="6553080" cy="68580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Фільварково – панщинна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Скругленный прямоугольник 6"/>
          <p:cNvSpPr/>
          <p:nvPr/>
        </p:nvSpPr>
        <p:spPr>
          <a:xfrm>
            <a:off x="1219320" y="1828800"/>
            <a:ext cx="3276360" cy="53352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Риси феодалі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Скругленный прямоугольник 7"/>
          <p:cNvSpPr/>
          <p:nvPr/>
        </p:nvSpPr>
        <p:spPr>
          <a:xfrm>
            <a:off x="5181480" y="1828800"/>
            <a:ext cx="3276720" cy="53352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Риси капіталі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Скругленный прямоугольник 8"/>
          <p:cNvSpPr/>
          <p:nvPr/>
        </p:nvSpPr>
        <p:spPr>
          <a:xfrm>
            <a:off x="1295280" y="2743200"/>
            <a:ext cx="3276720" cy="3429000"/>
          </a:xfrm>
          <a:custGeom>
            <a:avLst/>
            <a:gdLst>
              <a:gd name="textAreaLeft" fmla="*/ 159840 w 3276720"/>
              <a:gd name="textAreaRight" fmla="*/ 3116880 w 3276720"/>
              <a:gd name="textAreaTop" fmla="*/ 159840 h 3429000"/>
              <a:gd name="textAreaBottom" fmla="*/ 3269160 h 3429000"/>
            </a:gdLst>
            <a:ahLst/>
            <a:rect l="textAreaLeft" t="textAreaTop" r="textAreaRight" b="textAreaBottom"/>
            <a:pathLst>
              <a:path w="21600" h="22604">
                <a:moveTo>
                  <a:pt x="3600" y="0"/>
                </a:moveTo>
                <a:arcTo wR="3600" hR="3600" stAng="16200000" swAng="-5400000"/>
                <a:lnTo>
                  <a:pt x="0" y="19004"/>
                </a:lnTo>
                <a:arcTo wR="3600" hR="3600" stAng="10800000" swAng="-5400000"/>
                <a:lnTo>
                  <a:pt x="18000" y="226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Утворювалося шляхом привласнення общинних земель і селянських наділ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Засновувалися в маєтках феодал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Використовувалася праці залежних селян – кріпак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Основна форма експлуатації селян - панщ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Скругленный прямоугольник 9"/>
          <p:cNvSpPr/>
          <p:nvPr/>
        </p:nvSpPr>
        <p:spPr>
          <a:xfrm>
            <a:off x="5181480" y="2743200"/>
            <a:ext cx="3276720" cy="3429000"/>
          </a:xfrm>
          <a:custGeom>
            <a:avLst/>
            <a:gdLst>
              <a:gd name="textAreaLeft" fmla="*/ 159840 w 3276720"/>
              <a:gd name="textAreaRight" fmla="*/ 3116880 w 3276720"/>
              <a:gd name="textAreaTop" fmla="*/ 159840 h 3429000"/>
              <a:gd name="textAreaBottom" fmla="*/ 3269160 h 3429000"/>
            </a:gdLst>
            <a:ahLst/>
            <a:rect l="textAreaLeft" t="textAreaTop" r="textAreaRight" b="textAreaBottom"/>
            <a:pathLst>
              <a:path w="21600" h="22604">
                <a:moveTo>
                  <a:pt x="3600" y="0"/>
                </a:moveTo>
                <a:arcTo wR="3600" hR="3600" stAng="16200000" swAng="-5400000"/>
                <a:lnTo>
                  <a:pt x="0" y="19004"/>
                </a:lnTo>
                <a:arcTo wR="3600" hR="3600" stAng="10800000" swAng="-5400000"/>
                <a:lnTo>
                  <a:pt x="18000" y="226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Багатогалузеве господар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Створення невеликих переробних підприємств: млини, крупорушки і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Товар виготовлявся для продаж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Головне завдання господарства – отримання прибут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2" name="Прямая со стрелкой 11"/>
          <p:cNvCxnSpPr>
            <a:stCxn id="657" idx="2"/>
          </p:cNvCxnSpPr>
          <p:nvPr/>
        </p:nvCxnSpPr>
        <p:spPr>
          <a:xfrm flipH="1">
            <a:off x="2895120" y="1142640"/>
            <a:ext cx="1829520" cy="61020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63" name="Прямая со стрелкой 13"/>
          <p:cNvCxnSpPr>
            <a:stCxn id="657" idx="2"/>
          </p:cNvCxnSpPr>
          <p:nvPr/>
        </p:nvCxnSpPr>
        <p:spPr>
          <a:xfrm>
            <a:off x="4723200" y="1142640"/>
            <a:ext cx="2057760" cy="61020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9009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Georgia"/>
              </a:rPr>
              <a:t>Метод «Чиста дошка»</a:t>
            </a:r>
            <a:br>
              <a:rPr sz="4000"/>
            </a:b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 </a:t>
            </a:r>
            <a:r>
              <a:rPr b="0" lang="uk-UA" sz="3600" spc="-1" strike="noStrike">
                <a:solidFill>
                  <a:srgbClr val="000000"/>
                </a:solidFill>
                <a:latin typeface="Georgia"/>
              </a:rPr>
              <a:t>Що таке Реформація? Які верстви польського суспільства підтримали Реформацію? Чому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.  Як поставилися польські королі до Реформації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Georgia"/>
              </a:rPr>
              <a:t>3. Чому у Польщі Контрреформація мала успіх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Georgia"/>
              </a:rPr>
              <a:t>4. Коли було вирішено проблему ліквідації православ’я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4" descr="Польща 16-17 ст"/>
          <p:cNvPicPr/>
          <p:nvPr/>
        </p:nvPicPr>
        <p:blipFill>
          <a:blip r:embed="rId1"/>
          <a:stretch/>
        </p:blipFill>
        <p:spPr>
          <a:xfrm>
            <a:off x="728640" y="190440"/>
            <a:ext cx="7686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b9899"/>
                </a:solidFill>
                <a:latin typeface="Georgia"/>
              </a:rPr>
              <a:t>Зовнішня політика Речі Посполитої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228600" y="990720"/>
          <a:ext cx="8686800" cy="512100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XVI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століт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XVII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століт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69 р. – укладення Люблінської унії та утворення Речі Посполитої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58 – 1583рр. – війна з Російською державою, перехід Лівонії під владу Польщі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ахоплення українських, російських та білоруських земель в результаті укладення Люблінської унії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600 – 1635 рр. – війни Польщі зі Щвецією за Лівоні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Інтервенція Польщі в Росію ( 1604 – 1612 рр., 1617 – 1618 рр., захоплення Польщею Смоленсь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621 р. – війна Польщі з Османською імперією ( Хотинська битва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648 – 1654рр. – національно – визвольна війна українського народ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654 – 1667 рр. – війна Польщі з Росією. Возз”єднання частини України з Росією, повернення Смоленсь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655 р. – початок нової війни зі Швеціє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673, 1683 рр. – війни Польщі з Османською імперіє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  <p:sp>
        <p:nvSpPr>
          <p:cNvPr id="669" name="TextBox 5"/>
          <p:cNvSpPr/>
          <p:nvPr/>
        </p:nvSpPr>
        <p:spPr>
          <a:xfrm>
            <a:off x="380880" y="6172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Які можливі наслідки такої зовнішньої політики Речі Посполитої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3" descr=""/>
          <p:cNvPicPr/>
          <p:nvPr/>
        </p:nvPicPr>
        <p:blipFill>
          <a:blip r:embed="rId1"/>
          <a:stretch/>
        </p:blipFill>
        <p:spPr>
          <a:xfrm>
            <a:off x="1433520" y="457200"/>
            <a:ext cx="7616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Georgia"/>
              </a:rPr>
              <a:t>Домашнє завдання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Georgia"/>
              </a:rPr>
              <a:t>Вивчити параграф 14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Georgia"/>
              </a:rPr>
              <a:t>Підготувати повідомлення про Івана Грозного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Georgia"/>
              </a:rPr>
              <a:t>Позначити на контурній карті територію Речі Посполитої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900" spc="-1" strike="noStrike">
                <a:solidFill>
                  <a:srgbClr val="7b9899"/>
                </a:solidFill>
                <a:latin typeface="Georgia"/>
              </a:rPr>
              <a:t>Тестові завдання</a:t>
            </a:r>
            <a:endParaRPr b="0" lang="en-US" sz="5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Georgia"/>
              </a:rPr>
              <a:t>3.Визначте країну де жив і працював Альбрехт Дюрер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Georgia"/>
              </a:rPr>
              <a:t>а) Італія;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Georgia"/>
              </a:rPr>
              <a:t>б)Німеччина;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Georgia"/>
              </a:rPr>
              <a:t>в)Голландія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900" spc="-1" strike="noStrike">
                <a:solidFill>
                  <a:srgbClr val="7b9899"/>
                </a:solidFill>
                <a:latin typeface="Georgia"/>
              </a:rPr>
              <a:t>Тестові завдання</a:t>
            </a:r>
            <a:endParaRPr b="0" lang="en-US" sz="5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4.  Назвіть автора антирицарського романа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а)  Томас Мор;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б)  Мігель Сервантес;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в)  Вільям Шекспір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900" spc="-1" strike="noStrike">
                <a:solidFill>
                  <a:srgbClr val="7b9899"/>
                </a:solidFill>
                <a:latin typeface="Georgia"/>
              </a:rPr>
              <a:t>Тестові завдання</a:t>
            </a:r>
            <a:endParaRPr b="0" lang="en-US" sz="5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7596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5.  Позначте ім’я ученого-астронома, якого за його переконання інквізиція засудила до страти на багатті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а)  Микола Копернік;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б)  Джордано Бруно;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в)  Галілео Галілей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900" spc="-1" strike="noStrike">
                <a:solidFill>
                  <a:srgbClr val="7b9899"/>
                </a:solidFill>
                <a:latin typeface="Georgia"/>
              </a:rPr>
              <a:t>Тестові завдання</a:t>
            </a:r>
            <a:endParaRPr b="0" lang="en-US" sz="5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6.  Визначте ім’я математика, який поєднав геометрію та алгебру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а)  Лев Математик;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б)  Іван Федоров;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в)  Рене Декарт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900" spc="-1" strike="noStrike">
                <a:solidFill>
                  <a:srgbClr val="7b9899"/>
                </a:solidFill>
                <a:latin typeface="Georgia"/>
              </a:rPr>
              <a:t>Тестові завдання</a:t>
            </a:r>
            <a:endParaRPr b="0" lang="en-US" sz="5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3716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7.  Позначте твори живопису, автором яких є Рембрандт.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10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а)  «Мадонна з квіткою»;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10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б)  «Анатомія доктора Туль</a:t>
            </a:r>
            <a:r>
              <a:rPr b="0" lang="uk-UA" sz="41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а»;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10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в)  «Мадонна у ґроті»;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10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г)  «Сикстинська мадонна».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10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900" spc="-1" strike="noStrike">
                <a:solidFill>
                  <a:srgbClr val="7b9899"/>
                </a:solidFill>
                <a:latin typeface="Georgia"/>
              </a:rPr>
              <a:t>Тестові завдання</a:t>
            </a:r>
            <a:endParaRPr b="0" lang="en-US" sz="5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6840" y="14479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8.  Позначте твори, автором яких є Мікеланджело Буонарроті.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10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а)  «Афінська школа»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10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б)  «Давид»;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10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в)  «Магдалина, що кається»;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10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г)  «Сикстинська капела».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900" spc="-1" strike="noStrike">
                <a:solidFill>
                  <a:srgbClr val="7b9899"/>
                </a:solidFill>
                <a:latin typeface="Georgia"/>
              </a:rPr>
              <a:t>Тестові завдання</a:t>
            </a:r>
            <a:endParaRPr b="0" lang="en-US" sz="5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9.  Позначте з-поміж наведених варіантів твори В. Шекспіра.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10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а)  «Сон у літню ніч»;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10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б)  «Багато галасу даремно»;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10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в)  «Зоряний вісник»;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10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г)  «Про обертання небесних сфер».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4-02T17:06:54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