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C7A6-6745-4F4A-AABC-54E19253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1F33-A17C-4E5C-9BF7-481C286C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CC86-B429-4794-9097-E9B786DA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32CF-A2A6-4F9C-B402-A4E8CB1C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A2C-8522-4E79-AB78-9A8FFAC4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EDF0-EF2E-40D9-9319-25C60D2C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61BB-ED48-485F-A69D-05400388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34F7-57AE-422D-B739-4B6F4661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64EC-AD84-4221-84A7-50B79447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EC2E-4BD7-46E1-8628-14CBD045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3F95-8EF4-4607-9D51-4A4ED997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00DB-CDBE-474F-916F-B9E75F3D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CD43-ACEA-4712-B78F-F3896EF9A107}" type="slidenum">
              <a:rPr b="0" lang="uk-U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3fbb792902e3fb66c93d473fd35c3ca7"/>
          <p:cNvPicPr/>
          <p:nvPr/>
        </p:nvPicPr>
        <p:blipFill>
          <a:blip r:embed="rId1"/>
          <a:srcRect l="5002" t="4639" r="5833" b="95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uk-UA" sz="9600" spc="-1" strike="noStrike">
                <a:solidFill>
                  <a:srgbClr val="cc3300"/>
                </a:solidFill>
                <a:latin typeface="Tahoma"/>
              </a:rPr>
              <a:t>Доброго </a:t>
            </a:r>
            <a:br>
              <a:rPr sz="9600"/>
            </a:br>
            <a:r>
              <a:rPr b="0" lang="uk-UA" sz="9600" spc="-1" strike="noStrike">
                <a:solidFill>
                  <a:srgbClr val="cc3300"/>
                </a:solidFill>
                <a:latin typeface="Tahoma"/>
              </a:rPr>
              <a:t>дня!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fon01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c00000"/>
                </a:solidFill>
                <a:latin typeface="Tahoma"/>
              </a:rPr>
              <a:t>Володимир Мономах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8" name="Picture 2" descr="C:\Users\lenovo\Desktop\історія 7 клас\Князь-Володимир-Мономах.jpg"/>
          <p:cNvPicPr/>
          <p:nvPr/>
        </p:nvPicPr>
        <p:blipFill>
          <a:blip r:embed="rId2"/>
          <a:stretch/>
        </p:blipFill>
        <p:spPr>
          <a:xfrm>
            <a:off x="2438280" y="1219320"/>
            <a:ext cx="4572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3" descr="fon01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774920124"/>
          <p:cNvPicPr/>
          <p:nvPr/>
        </p:nvPicPr>
        <p:blipFill>
          <a:blip r:embed="rId2"/>
          <a:stretch/>
        </p:blipFill>
        <p:spPr>
          <a:xfrm>
            <a:off x="2286000" y="128520"/>
            <a:ext cx="5105520" cy="6608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:\Users\Михаил\Desktop\карта.jpg"/>
          <p:cNvPicPr/>
          <p:nvPr/>
        </p:nvPicPr>
        <p:blipFill>
          <a:blip r:embed="rId3"/>
          <a:stretch/>
        </p:blipFill>
        <p:spPr>
          <a:xfrm>
            <a:off x="1219320" y="228600"/>
            <a:ext cx="6019560" cy="77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lenovo\Desktop\історія 7 клас\7_17.jpg"/>
          <p:cNvPicPr/>
          <p:nvPr/>
        </p:nvPicPr>
        <p:blipFill>
          <a:blip r:embed="rId1"/>
          <a:stretch/>
        </p:blipFill>
        <p:spPr>
          <a:xfrm>
            <a:off x="1371600" y="0"/>
            <a:ext cx="6629400" cy="69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fon01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c00000"/>
                </a:solidFill>
                <a:latin typeface="Tahoma"/>
              </a:rPr>
              <a:t>Ментальна карт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2" descr="C:\Users\lenovo\Desktop\історія 7 клас\New-Mind-Map.jpg"/>
          <p:cNvPicPr/>
          <p:nvPr/>
        </p:nvPicPr>
        <p:blipFill>
          <a:blip r:embed="rId2"/>
          <a:stretch/>
        </p:blipFill>
        <p:spPr>
          <a:xfrm>
            <a:off x="304920" y="1143000"/>
            <a:ext cx="914400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fon01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c00000"/>
                </a:solidFill>
                <a:latin typeface="Tahoma"/>
              </a:rPr>
              <a:t>Внутрішня політик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uk-UA" sz="3200" spc="-1" strike="noStrike">
                <a:solidFill>
                  <a:srgbClr val="ff0000"/>
                </a:solidFill>
                <a:latin typeface="Tahoma"/>
              </a:rPr>
              <a:t>повернув території Київської Русі часів Ярослава Мудрог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ahoma"/>
              </a:rPr>
              <a:t>Припинив міжусобну боротьбу між княз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ahoma"/>
              </a:rPr>
              <a:t>Об’єднав ¾ Київської Рус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ahoma"/>
              </a:rPr>
              <a:t>Знизив подат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ahoma"/>
              </a:rPr>
              <a:t>Посилив князівську влад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ahoma"/>
              </a:rPr>
              <a:t>Будівництво храмів, мості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fon01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c00000"/>
                </a:solidFill>
                <a:latin typeface="Tahoma"/>
              </a:rPr>
              <a:t>Зовнішня політик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uk-UA" sz="1800" spc="-1" strike="noStrike">
                <a:solidFill>
                  <a:srgbClr val="ff0000"/>
                </a:solidFill>
                <a:latin typeface="Tahoma"/>
              </a:rPr>
              <a:t>5 переможних походів на половці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Tahoma"/>
              </a:rPr>
              <a:t>династичні шлюби з іноземними правителя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a85ff"/>
                </a:solidFill>
                <a:latin typeface="Tahoma"/>
              </a:rPr>
              <a:t>Династичні зв’яз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ahoma"/>
              </a:rPr>
              <a:t>Син Мстислав – зі шведською принцесою Христино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ahoma"/>
              </a:rPr>
              <a:t>Дочка  - дружина угорського короля Коломан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ahoma"/>
              </a:rPr>
              <a:t>Син Юрій – з дочкою половецького ха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fon01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c00000"/>
                </a:solidFill>
                <a:latin typeface="Tahoma"/>
              </a:rPr>
              <a:t>Шапка Мономах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Picture 2" descr="C:\Users\lenovo\Desktop\історія 7 клас\52194e8dcfdad91e0b1d2a0b71e9d1dd.jpg"/>
          <p:cNvPicPr/>
          <p:nvPr/>
        </p:nvPicPr>
        <p:blipFill>
          <a:blip r:embed="rId2"/>
          <a:stretch/>
        </p:blipFill>
        <p:spPr>
          <a:xfrm>
            <a:off x="1295280" y="1143000"/>
            <a:ext cx="647712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3fbb792902e3fb66c93d473fd35c3ca7"/>
          <p:cNvPicPr/>
          <p:nvPr/>
        </p:nvPicPr>
        <p:blipFill>
          <a:blip r:embed="rId1"/>
          <a:srcRect l="5002" t="4639" r="5833" b="95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fon01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1447920" y="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c00000"/>
                </a:solidFill>
                <a:latin typeface="Tahoma"/>
              </a:rPr>
              <a:t>Повчання дітям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1211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Їсти й пити без шуму великого, при старших мовчати, премудрих слухати, старшим покорятися, з рівними та молодшими взаємоповагу мати, без лукавства бесідуючи, а побільше думати; не зловживати словом, не хулити в бесіді, не сміятися багато, стидатися старших, очі тримати донизу, а душу вгору, уникати суєт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fon01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1447920" y="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c00000"/>
                </a:solidFill>
                <a:latin typeface="Tahoma"/>
              </a:rPr>
              <a:t>Повчання дітям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1211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сього ж більше убогих не забувайте, і, скільки зможете, посильно годуйте та подавайте сироті, і вдовицю захищайте самі, а не давайте сильнішим загубити людину. Ні правого, ні винуватого не вбивайте і не наказуйте вбити йог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тарих шануйте, як батька, а молодих, як братів. В домі своєму не лінуйте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fon01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Tahoma"/>
              </a:rPr>
              <a:t>Генератор ребусі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7" name="Содержимое 4" descr="32.jpg"/>
          <p:cNvPicPr/>
          <p:nvPr/>
        </p:nvPicPr>
        <p:blipFill>
          <a:blip r:embed="rId2"/>
          <a:stretch/>
        </p:blipFill>
        <p:spPr>
          <a:xfrm>
            <a:off x="1295280" y="1676520"/>
            <a:ext cx="1390680" cy="171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lenovo\Desktop\історія 7 клас\678.jpg"/>
          <p:cNvPicPr/>
          <p:nvPr/>
        </p:nvPicPr>
        <p:blipFill>
          <a:blip r:embed="rId3"/>
          <a:stretch/>
        </p:blipFill>
        <p:spPr>
          <a:xfrm>
            <a:off x="3276720" y="1600200"/>
            <a:ext cx="1228680" cy="1905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lenovo\Desktop\історія 7 клас\koma1.jpg"/>
          <p:cNvPicPr/>
          <p:nvPr/>
        </p:nvPicPr>
        <p:blipFill>
          <a:blip r:embed="rId4"/>
          <a:stretch/>
        </p:blipFill>
        <p:spPr>
          <a:xfrm>
            <a:off x="4800600" y="2057400"/>
            <a:ext cx="237960" cy="1905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lenovo\Desktop\історія 7 клас\Без названия.jpg"/>
          <p:cNvPicPr/>
          <p:nvPr/>
        </p:nvPicPr>
        <p:blipFill>
          <a:blip r:embed="rId5"/>
          <a:stretch/>
        </p:blipFill>
        <p:spPr>
          <a:xfrm>
            <a:off x="5257800" y="1752480"/>
            <a:ext cx="3476520" cy="131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ребуси"/>
          <p:cNvPicPr/>
          <p:nvPr/>
        </p:nvPicPr>
        <p:blipFill>
          <a:blip r:embed="rId6"/>
          <a:stretch/>
        </p:blipFill>
        <p:spPr>
          <a:xfrm>
            <a:off x="304920" y="4114800"/>
            <a:ext cx="1904760" cy="1362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ребуси"/>
          <p:cNvPicPr/>
          <p:nvPr/>
        </p:nvPicPr>
        <p:blipFill>
          <a:blip r:embed="rId7"/>
          <a:stretch/>
        </p:blipFill>
        <p:spPr>
          <a:xfrm>
            <a:off x="2362320" y="3886200"/>
            <a:ext cx="237960" cy="1905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ребуси"/>
          <p:cNvPicPr/>
          <p:nvPr/>
        </p:nvPicPr>
        <p:blipFill>
          <a:blip r:embed="rId8"/>
          <a:stretch/>
        </p:blipFill>
        <p:spPr>
          <a:xfrm>
            <a:off x="2666880" y="3886200"/>
            <a:ext cx="238320" cy="1905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ребуси"/>
          <p:cNvPicPr/>
          <p:nvPr/>
        </p:nvPicPr>
        <p:blipFill>
          <a:blip r:embed="rId9"/>
          <a:stretch/>
        </p:blipFill>
        <p:spPr>
          <a:xfrm>
            <a:off x="3733920" y="3962520"/>
            <a:ext cx="1238040" cy="1904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C:\Users\lenovo\Desktop\історія 7 клас\h.gif"/>
          <p:cNvPicPr/>
          <p:nvPr/>
        </p:nvPicPr>
        <p:blipFill>
          <a:blip r:embed="rId10"/>
          <a:stretch/>
        </p:blipFill>
        <p:spPr>
          <a:xfrm>
            <a:off x="5791320" y="3886200"/>
            <a:ext cx="1447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fon01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1447920" y="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c00000"/>
                </a:solidFill>
                <a:latin typeface="Tahoma"/>
              </a:rPr>
              <a:t>Повчання дітям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1211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уди ж не підете і де не зупинитесь, напійте та нагодуйте бідного, больш за все шануйте гостя, звідки би до вас він не прийш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Хворого відвідайте, покійника проведіть, бо всі ми смертні. Не пропустіть людини, не привітавши її, і добре слово їй скажіть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Що вмієте хорошого, то не забувайте, а чого не вмієте, тому вчітесь.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fon01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1447920" y="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c00000"/>
                </a:solidFill>
                <a:latin typeface="Tahoma"/>
              </a:rPr>
              <a:t>Повчання дітям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1211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і питтю, ні їжі не віддавайтесь без мір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ідмовтесь від гордині в думках і серц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Остерігайтесь брехні та пияцтва, адже від них гине душа і тіл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е можна допускати, щоб сильний губив слабко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е можна забувати про вбогого, сироту і вдов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Більш за все шануй гостя, звідки б він не прийш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fon01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1447920" y="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c00000"/>
                </a:solidFill>
                <a:latin typeface="Tahoma"/>
              </a:rPr>
              <a:t>Повчання дітям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1211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і питтю, ні їжі не віддавайтесь без мір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ідмовтесь від гордині в думках і серц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Остерігайтесь брехні та пияцтва, адже від них гине душа і тіл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е можна допускати, щоб сильний губив слабко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е можна забувати про вбогого, сироту і вдов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Більш за все шануй гостя, звідки б він не прийш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fon01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"/>
          <p:cNvSpPr/>
          <p:nvPr/>
        </p:nvSpPr>
        <p:spPr>
          <a:xfrm>
            <a:off x="1447920" y="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c00000"/>
                </a:solidFill>
                <a:latin typeface="Tahoma"/>
              </a:rPr>
              <a:t>Хмаринка тегів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2" descr="C:\Users\lenovo\Desktop\історія 7 клас\Word Art 3.jpeg"/>
          <p:cNvPicPr/>
          <p:nvPr/>
        </p:nvPicPr>
        <p:blipFill>
          <a:blip r:embed="rId2"/>
          <a:stretch/>
        </p:blipFill>
        <p:spPr>
          <a:xfrm>
            <a:off x="228600" y="1066680"/>
            <a:ext cx="8763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fon01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Домашнє завданн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Опрацювати текст підручника параграф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Скласти кросворд до те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fon01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5ffff"/>
                </a:solidFill>
                <a:latin typeface="Tahoma"/>
              </a:rPr>
              <a:t>Після засвоєння змісту цієї теми ви зможете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пояснити особливості зовнішньої та внутрішньої політики Володимира Мономах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аналізувати історичні події та явища, працюючи з писемними джерелам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давати характеристику історичній особі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fon01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c00000"/>
                </a:solidFill>
                <a:latin typeface="Tahoma"/>
              </a:rPr>
              <a:t>Епіграф уроку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ahoma"/>
              </a:rPr>
              <a:t>…</a:t>
            </a:r>
            <a:r>
              <a:rPr b="0" i="1" lang="ru-RU" sz="3600" spc="-1" strike="noStrike">
                <a:solidFill>
                  <a:srgbClr val="ff0000"/>
                </a:solidFill>
                <a:latin typeface="Tahoma"/>
              </a:rPr>
              <a:t>благовірний князь, христолюбивий великий князь всеї Русі Володимир Мономах, що просвітив Руськую землю, наче сонце, промені пускаючи, і слава його розійшлася по всіх земля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fon01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00000"/>
                </a:solidFill>
                <a:latin typeface="Tahoma"/>
              </a:rPr>
              <a:t>План уроку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Володимир Мономах – людина і політик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Зовнішня і внутрішня політика княз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Повчання дітям….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fon01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Tahoma"/>
              </a:rPr>
              <a:t>Проблемне питанн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Чи можна стверджувати, що князь Володимир Мономах був видатним державним діячем свого часу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fon01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c00000"/>
                </a:solidFill>
                <a:latin typeface="Tahoma"/>
              </a:rPr>
              <a:t>ДЕШИФРАТОР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Tahoma"/>
              </a:rPr>
              <a:t>Володимир               А) Віщ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Tahoma"/>
              </a:rPr>
              <a:t>2) Ярослав             Б) Красне  Сонечко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Tahoma"/>
              </a:rPr>
              <a:t>3)Олег                      В) Мудр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fon01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12193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800" spc="-1" strike="noStrike">
                <a:solidFill>
                  <a:srgbClr val="e5ffff"/>
                </a:solidFill>
                <a:latin typeface="Tahoma"/>
              </a:rPr>
              <a:t>Історичний футбол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5" descr="C:\Users\lenovo\Desktop\історія 7 клас\220px-Soccer_ball.svg.png"/>
          <p:cNvPicPr/>
          <p:nvPr/>
        </p:nvPicPr>
        <p:blipFill>
          <a:blip r:embed="rId2"/>
          <a:stretch/>
        </p:blipFill>
        <p:spPr>
          <a:xfrm>
            <a:off x="6400800" y="411480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Tahoma"/>
              </a:rPr>
              <a:t>Київська Русь за правління Ярославичі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Мав Ярослав Мудрий ______синів. Спадкові володіння називалися_______. Правління двох осіб одночасно називається______, а трьох -_______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Князів, пзбавлених влади називали______. У 1068 році відбулася битва на річці__________, між київськими князями і ___________. Кязівські з’їзди називалися____________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8:30:30Z</dcterms:created>
  <dc:creator>oem</dc:creator>
  <dc:description/>
  <dc:language>en-US</dc:language>
  <cp:lastModifiedBy>lenovo</cp:lastModifiedBy>
  <dcterms:modified xsi:type="dcterms:W3CDTF">2017-12-19T21:32:57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