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999-439E-44AB-B3FB-C747FAB6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066-4E5D-4557-AEF1-D657F50D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A38-1F8D-4CF3-9525-02B0BAB8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384-9C51-4D57-9FF8-7A36D36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A8C-43C4-4EA6-AA89-5B3A949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B3E-54E2-4122-88AA-B853F9C5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64E-D13A-4531-9280-1CD24B3B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CD2-DA29-4241-89E2-28F01F0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579-8494-47D8-BF05-42525F4B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023-780F-4376-BF6A-EB08780A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C96-C811-456B-8C7E-131F568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8A4-8148-4285-A0A9-6641115B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A6B-E6F7-4B0F-9FC5-E2127B81996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6" descr="0002224415-thumb.jpg"/>
          <p:cNvPicPr/>
          <p:nvPr/>
        </p:nvPicPr>
        <p:blipFill>
          <a:blip r:embed="rId1"/>
          <a:stretch/>
        </p:blipFill>
        <p:spPr>
          <a:xfrm>
            <a:off x="5796000" y="2357280"/>
            <a:ext cx="3062160" cy="2214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5796000" y="4221000"/>
            <a:ext cx="3105000" cy="432000"/>
          </a:xfrm>
          <a:prstGeom prst="rect">
            <a:avLst/>
          </a:prstGeom>
          <a:solidFill>
            <a:srgbClr val="00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2" descr="zhenskaya-ruka-nazhimaet-odnu-iz-neskolkih-knopok-0003288817-preview.jpg"/>
          <p:cNvPicPr/>
          <p:nvPr/>
        </p:nvPicPr>
        <p:blipFill>
          <a:blip r:embed="rId2"/>
          <a:stretch/>
        </p:blipFill>
        <p:spPr>
          <a:xfrm>
            <a:off x="4714920" y="485784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3"/>
          <p:cNvSpPr/>
          <p:nvPr/>
        </p:nvSpPr>
        <p:spPr>
          <a:xfrm>
            <a:off x="4000680" y="6572160"/>
            <a:ext cx="4929120" cy="285840"/>
          </a:xfrm>
          <a:prstGeom prst="rect">
            <a:avLst/>
          </a:prstGeom>
          <a:solidFill>
            <a:srgbClr val="00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Заголовок 1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82184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одзаголовок 2" descr=""/>
          <p:cNvPicPr/>
          <p:nvPr/>
        </p:nvPicPr>
        <p:blipFill>
          <a:blip r:embed="rId1"/>
          <a:stretch/>
        </p:blipFill>
        <p:spPr>
          <a:xfrm>
            <a:off x="285840" y="4998960"/>
            <a:ext cx="6400800" cy="1657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Windows_command"/>
          <p:cNvPicPr/>
          <p:nvPr/>
        </p:nvPicPr>
        <p:blipFill>
          <a:blip r:embed="rId2"/>
          <a:stretch/>
        </p:blipFill>
        <p:spPr>
          <a:xfrm>
            <a:off x="6786720" y="4572000"/>
            <a:ext cx="2357280" cy="18572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4" descr="6543818-.jpg"/>
          <p:cNvPicPr/>
          <p:nvPr/>
        </p:nvPicPr>
        <p:blipFill>
          <a:blip r:embed="rId3"/>
          <a:stretch/>
        </p:blipFill>
        <p:spPr>
          <a:xfrm>
            <a:off x="7215120" y="0"/>
            <a:ext cx="192888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4"/>
          <a:stretch/>
        </p:blipFill>
        <p:spPr>
          <a:xfrm>
            <a:off x="6072120" y="2071800"/>
            <a:ext cx="3071880" cy="185724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1" descr=""/>
          <p:cNvPicPr/>
          <p:nvPr/>
        </p:nvPicPr>
        <p:blipFill>
          <a:blip r:embed="rId5"/>
          <a:stretch/>
        </p:blipFill>
        <p:spPr>
          <a:xfrm>
            <a:off x="285840" y="890640"/>
            <a:ext cx="7211880" cy="4363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17" descr="0012dxrd.jpg"/>
          <p:cNvPicPr/>
          <p:nvPr/>
        </p:nvPicPr>
        <p:blipFill>
          <a:blip r:embed="rId1"/>
          <a:stretch/>
        </p:blipFill>
        <p:spPr>
          <a:xfrm rot="900600">
            <a:off x="4690800" y="4780080"/>
            <a:ext cx="4327560" cy="1542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5" descr="922640_97439258.jpg"/>
          <p:cNvPicPr/>
          <p:nvPr/>
        </p:nvPicPr>
        <p:blipFill>
          <a:blip r:embed="rId2"/>
          <a:stretch/>
        </p:blipFill>
        <p:spPr>
          <a:xfrm>
            <a:off x="428760" y="4214880"/>
            <a:ext cx="3992400" cy="2390760"/>
          </a:xfrm>
          <a:prstGeom prst="rect">
            <a:avLst/>
          </a:prstGeom>
          <a:ln w="0">
            <a:noFill/>
          </a:ln>
        </p:spPr>
      </p:pic>
      <p:pic>
        <p:nvPicPr>
          <p:cNvPr id="53" name="Заголовок 1" descr=""/>
          <p:cNvPicPr/>
          <p:nvPr/>
        </p:nvPicPr>
        <p:blipFill>
          <a:blip r:embed="rId3"/>
          <a:stretch/>
        </p:blipFill>
        <p:spPr>
          <a:xfrm>
            <a:off x="285840" y="360360"/>
            <a:ext cx="864540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85840" y="1600200"/>
          <a:ext cx="8643960" cy="502920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alary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terest to work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 – time schedul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ople you work with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ances of promotion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ork environment (clean, well-lit, etc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pportunity to travel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pportunity to make decisions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new skills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close to where you liv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ling you are helping other people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ng new challenges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status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erks (company car, cheap meals, etc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f9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іальний стату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ливість приймати ріше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обітна пла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критість новому досві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відомлення можливості допомагати людя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нтерес до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иженість до місця проживанн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учкий графік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ови робо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ливість подорожува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уття нових умінь і навич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п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, з якими ти працює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іальний пак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f9bf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57120" y="1599840"/>
            <a:ext cx="8329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7120" y="1397160"/>
          <a:ext cx="8286840" cy="557820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55803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salary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interest to work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lexi – time schedule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people you work with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chances of promotion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work environment (clean, well-li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opportunity to trave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opportunity to make decision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Learning new skill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Being close to where you live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eeling you are helping other people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acing new challeng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ocial statu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Security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a5002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The perks (company car, cheap meals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f9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робітна пла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інтерес до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гнучкий графік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люди, з якими ти працюєш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умови роб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жливість подорожува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жливість приймати ріше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буття нових умінь і навич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ближеність до місця проживан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усвідомлення можливості допомагати люд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ідкритість новому досві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ціальний стату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безпе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a5002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ціальний пак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f9bf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сихологи – самые счастливые люди"/>
          <p:cNvPicPr/>
          <p:nvPr/>
        </p:nvPicPr>
        <p:blipFill>
          <a:blip r:embed="rId1"/>
          <a:stretch/>
        </p:blipFill>
        <p:spPr>
          <a:xfrm>
            <a:off x="214200" y="2714760"/>
            <a:ext cx="3357720" cy="4143240"/>
          </a:xfrm>
          <a:prstGeom prst="rect">
            <a:avLst/>
          </a:prstGeom>
          <a:ln w="0">
            <a:noFill/>
          </a:ln>
        </p:spPr>
      </p:pic>
      <p:pic>
        <p:nvPicPr>
          <p:cNvPr id="6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400960" cy="493704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8" descr="money-happiness.jpg"/>
          <p:cNvPicPr/>
          <p:nvPr/>
        </p:nvPicPr>
        <p:blipFill>
          <a:blip r:embed="rId3"/>
          <a:stretch/>
        </p:blipFill>
        <p:spPr>
          <a:xfrm rot="20926200">
            <a:off x="4214880" y="4714560"/>
            <a:ext cx="476244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28760" y="500040"/>
          <a:ext cx="8358120" cy="587700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6778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 слід  писа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Варто  писа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169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видко засвоюю нові знанн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своїв нову програму за короткий строк – два тижн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  <a:tr h="11696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ходив застосування наступним можливостям..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ефективно використав такі можливості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</a:tr>
              <a:tr h="1669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йшов з посади продавця-консультанта на посаду менеджера з продаж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 посади продавця консультанта просунувся на посаду менеджера з продаж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рацював там три ро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тримав підвищення на посаді і два підвищення опла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0040" y="214200"/>
          <a:ext cx="8215200" cy="6429600"/>
        </p:xfrm>
        <a:graphic>
          <a:graphicData uri="http://schemas.openxmlformats.org/drawingml/2006/table">
            <a:tbl>
              <a:tblPr/>
              <a:tblGrid>
                <a:gridCol w="642960"/>
                <a:gridCol w="3786120"/>
                <a:gridCol w="37861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 слід писа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Варто  писат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ймався навчанням двох нових службовців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чив двох нових службовців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агав зменшити кількість  помилок, щоб скоротити втрати фірми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тив помилки на 15%, чим заощадив фірмі 1000$..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в за виконання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онав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іс відповідальність за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в за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лагоджував скарги на 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іг клієнтам у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шкоджав зниженню частки продажів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вищив потенціал продукту на ринку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cea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о працював, щоб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жди виконував роботу в строк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f9d2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785880" y="642960"/>
            <a:ext cx="764388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5b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004"/>
          <p:cNvPicPr/>
          <p:nvPr/>
        </p:nvPicPr>
        <p:blipFill>
          <a:blip r:embed="rId2"/>
          <a:stretch/>
        </p:blipFill>
        <p:spPr>
          <a:xfrm>
            <a:off x="1714680" y="285840"/>
            <a:ext cx="5709960" cy="6572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14200" y="214200"/>
            <a:ext cx="864396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5b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Arial"/>
              </a:rPr>
              <a:t>Двоє ввічливих, комунікабельних, життєрадісних менеджерів шукають високооплачувану робо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1-25T15:59:16Z</dcterms:modified>
  <cp:revision>77</cp:revision>
  <dc:subject/>
  <dc:title>УРОК  МОЗАЇКА</dc:title>
</cp:coreProperties>
</file>