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wmf" ContentType="image/x-wmf"/>
  <Override PartName="/ppt/media/image18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2.png" ContentType="image/png"/>
  <Override PartName="/ppt/media/image32.png" ContentType="image/png"/>
  <Override PartName="/ppt/media/image22.jpeg" ContentType="image/jpeg"/>
  <Override PartName="/ppt/media/image27.gif" ContentType="image/gif"/>
  <Override PartName="/ppt/media/image13.png" ContentType="image/png"/>
  <Override PartName="/ppt/media/image37.png" ContentType="image/png"/>
  <Override PartName="/ppt/media/image40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39.gif" ContentType="image/gif"/>
  <Override PartName="/ppt/media/image42.png" ContentType="image/png"/>
  <Override PartName="/ppt/media/image9.jpeg" ContentType="image/jpeg"/>
  <Override PartName="/ppt/media/image43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B24D-77E6-481E-BB60-593ADCCB53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ED3A-8E3D-4C07-9D01-C115B8279A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7A06-57AF-4DE3-BEB7-7308FDBBB3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7AA-64D3-48FB-84B5-12292D44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E30-E0BC-4741-AB65-A95CD5E6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FA5-4971-466F-AC49-EF5E4110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AAD-2CC5-4058-99CA-7B7416E7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E85D1-8193-4A9B-8550-83075B0F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1DFD3-08EC-4343-9CA6-DCA5DCB3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05F58-13A7-4CA9-8642-B2C124A7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62BFF-A019-440C-AE30-E216164F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50D2E-F613-46AE-B9DB-E593C3BE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82690-84F2-4767-9AA1-59317C8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D7DD4-4908-4E6D-BF68-1163A9D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B04-2068-4481-8B49-6E19E99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6F186-D173-4965-AD7D-21490E2C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79F6-5A56-4CC3-803B-AD577A6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8A13A-4BF1-4264-86AD-DD1285AF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ECE2-A7B7-4DB3-BBCC-A81C05A0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DD16E-3100-48DF-BC9E-9BD6A832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C84D1-E888-460C-B232-9FCC619F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C2A0A-F20B-4435-BE3E-D6E4B419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B1558-7443-4666-B1E0-E6A621B3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2FA04-869A-4217-B520-9F4893A0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35E55-FECA-40E9-8691-F148B6F5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894-3659-4B57-A608-B4227E24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3CC4D-82F2-451C-A54E-2CE4F50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F5032-E716-49D3-A796-D7CA521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015B1-04B5-4B69-AE25-A43AD809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ECC47-B71F-4AF3-A925-949AE77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14452-DC3D-4201-BBCE-87E08DA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759E7-F7CE-4951-8A73-BB3760B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CF339-B933-4DE5-BD4B-1A7485F5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A0A8C-BE66-4329-9F62-89BDCC64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470DE-C614-4396-AC24-4147763D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B5B1B-B1D1-4382-931D-2E88094B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36F-B33E-4396-87DB-DD19EBC3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0738C-20A3-4894-A445-F5E41EAB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8F1B5-69CE-4746-83B4-D3A2504D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63DF1-7B0E-4F0B-83CD-677CA411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935FC-5C2E-4026-AF21-72871F0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7E499-76D7-44EF-8B96-8847B94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0BD782-5AF9-4F83-B8A6-0BD00FB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410DF-E209-4D6D-9805-044508C3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94A89-EC94-46F5-877B-A678D78F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F63A4-4CF7-4390-8A92-5142AF65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514A5-6CBB-42E5-B3C8-48FF9073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A0A-F326-4170-8A2B-D7681F76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2342E-F587-4FCE-A310-D9EC1874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0B968-D52E-4CD7-A263-2C6E769C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9D472-7FE5-4404-B71E-1DBD5DA8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6AA29-186D-49B4-81B7-815B530B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4BE3E-032C-4E5A-A925-D6266E6D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50D7B-4B7C-4F34-B17A-98D7A76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C6A69-11F5-4EF6-9A07-4F3A7BC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76557-37EE-48CA-994B-DDF32F01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4FE7D-B12C-4BFD-A43E-0D0EFBE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119C8-A391-409B-B96D-E29FF544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47F-258C-4C19-BE27-85DD04E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95C1D-4D90-491E-85A6-7E3E3933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58818-7993-47D9-9922-B160A221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C04C9-886B-44AE-8F7B-D490B64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22D2A-F674-4441-B271-A3DF6CE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288C56-39A3-4417-A972-52F40C77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BCFDF-3290-462C-B138-4D5B478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24A14-0015-4C30-AED8-C6326584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AC3CE-2DF3-425F-B169-46A17CE5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D641A-FC78-4B85-A7EE-A57DF367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8B91D-1500-4B0C-A0AB-DC79E691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8DC-E98D-4801-A8DD-2F6986F4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A7841-1CD6-48DA-A9DE-5A2E377F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21AD4-EEF7-48D1-9528-4F2DA7F9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5824C-854A-45F1-9911-1E027BCB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FCB-7019-4BC5-9FD8-F6EBACB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E69-508A-4026-A75A-7CE5ADC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5236-BB18-4B8B-BE5C-51EAD7D9D735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362-B878-4533-A663-841D093CCBCF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B82B-8772-4019-BFF3-9D69D4F934C7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944-808A-496B-A4AD-52C06541A6C6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638A-C32A-4357-A217-9BD3E957EA89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065-81C7-4F3A-B682-F97AE8E5329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7.gif"/><Relationship Id="rId3" Type="http://schemas.openxmlformats.org/officeDocument/2006/relationships/hyperlink" Target="file:///D:/&#1057;&#1091;&#1087;&#1091;&#1090;&#1085;&#1080;&#1082;&#1080;%20-%20&#1082;&#1086;&#1087;&#1080;&#1103;.pptx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39.gif"/><Relationship Id="rId4" Type="http://schemas.openxmlformats.org/officeDocument/2006/relationships/image" Target="../media/image40.jpeg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5.png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2.png"/><Relationship Id="rId16" Type="http://schemas.openxmlformats.org/officeDocument/2006/relationships/image" Target="../media/image4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gi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http://oboi.kards.qip.ru/images/wallpaper/b1/92/103089_1024_768.jpg"/>
          <p:cNvPicPr/>
          <p:nvPr/>
        </p:nvPicPr>
        <p:blipFill>
          <a:blip r:embed="rId1"/>
          <a:srcRect l="0" t="0" r="-9219" b="37"/>
          <a:stretch/>
        </p:blipFill>
        <p:spPr>
          <a:xfrm>
            <a:off x="-15840" y="0"/>
            <a:ext cx="9991800" cy="701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Raechka\Desktop\Штучні супутники Землі.jpg"/>
          <p:cNvPicPr/>
          <p:nvPr/>
        </p:nvPicPr>
        <p:blipFill>
          <a:blip r:embed="rId2"/>
          <a:srcRect l="0" t="0" r="-91" b="178"/>
          <a:stretch/>
        </p:blipFill>
        <p:spPr>
          <a:xfrm>
            <a:off x="3402000" y="1731960"/>
            <a:ext cx="3156120" cy="2077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5" descr=""/>
          <p:cNvPicPr/>
          <p:nvPr/>
        </p:nvPicPr>
        <p:blipFill>
          <a:blip r:embed="rId3"/>
          <a:stretch/>
        </p:blipFill>
        <p:spPr>
          <a:xfrm>
            <a:off x="201600" y="2743200"/>
            <a:ext cx="9240840" cy="2840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trendclub.ru/moderupload/images/Boeng3.jpg"/>
          <p:cNvPicPr/>
          <p:nvPr/>
        </p:nvPicPr>
        <p:blipFill>
          <a:blip r:embed="rId4"/>
          <a:stretch/>
        </p:blipFill>
        <p:spPr>
          <a:xfrm>
            <a:off x="-324000" y="-747720"/>
            <a:ext cx="3726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19 0.1375 L -0.13038 0.32199 C -0.08611 0.3625 -0.02135 0.38402 0.04757 0.38402 C 0.12518 0.38402 0.18733 0.3625 0.23125 0.32199 L 0.4415 0.1375 E">
                                      <p:cBhvr>
                                        <p:cTn id="6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1"/>
          <a:stretch/>
        </p:blipFill>
        <p:spPr>
          <a:xfrm>
            <a:off x="669960" y="128520"/>
            <a:ext cx="7431120" cy="5686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C:\Documents and Settings\dddd\Рабочий стол\и с з\RR5111-0162R.gif"/>
          <p:cNvPicPr/>
          <p:nvPr/>
        </p:nvPicPr>
        <p:blipFill>
          <a:blip r:embed="rId3"/>
          <a:stretch/>
        </p:blipFill>
        <p:spPr>
          <a:xfrm>
            <a:off x="5796000" y="3925800"/>
            <a:ext cx="312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-49320"/>
            <a:ext cx="8173800" cy="1573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3"/>
          <p:cNvSpPr/>
          <p:nvPr/>
        </p:nvSpPr>
        <p:spPr>
          <a:xfrm>
            <a:off x="406440" y="2637000"/>
            <a:ext cx="730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12 квітня 1961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. 4 жовтня 1957 року</a:t>
            </a:r>
            <a:br>
              <a:rPr sz="3600"/>
            </a:b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. 15 квітня 1963 року</a:t>
            </a:r>
            <a:br>
              <a:rPr sz="3600"/>
            </a:b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uk-UA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28 березня 1965 року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13" name="Picture 2" descr="C:\Documents and Settings\dddd\Рабочий стол\и с з\main.jpg"/>
          <p:cNvPicPr/>
          <p:nvPr/>
        </p:nvPicPr>
        <p:blipFill>
          <a:blip r:embed="rId3"/>
          <a:stretch/>
        </p:blipFill>
        <p:spPr>
          <a:xfrm>
            <a:off x="5986440" y="2789280"/>
            <a:ext cx="2844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11в"/>
          <p:cNvPicPr/>
          <p:nvPr/>
        </p:nvPicPr>
        <p:blipFill>
          <a:blip r:embed="rId1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15" name="TextBox 2" descr=""/>
          <p:cNvPicPr/>
          <p:nvPr/>
        </p:nvPicPr>
        <p:blipFill>
          <a:blip r:embed="rId2"/>
          <a:stretch/>
        </p:blipFill>
        <p:spPr>
          <a:xfrm>
            <a:off x="743040" y="152280"/>
            <a:ext cx="8480160" cy="3713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Documents and Settings\dddd\Рабочий стол\Новая папка\Korolev.jpg"/>
          <p:cNvPicPr/>
          <p:nvPr/>
        </p:nvPicPr>
        <p:blipFill>
          <a:blip r:embed="rId3"/>
          <a:stretch/>
        </p:blipFill>
        <p:spPr>
          <a:xfrm>
            <a:off x="6588000" y="3363840"/>
            <a:ext cx="2124360" cy="335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http://pozdravish.ru/wp-content/uploads/2011/09/korolev_2.jpg"/>
          <p:cNvPicPr/>
          <p:nvPr/>
        </p:nvPicPr>
        <p:blipFill>
          <a:blip r:embed="rId4"/>
          <a:stretch/>
        </p:blipFill>
        <p:spPr>
          <a:xfrm>
            <a:off x="93600" y="3778200"/>
            <a:ext cx="4532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133200"/>
            <a:ext cx="8650440" cy="2414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3"/>
          <p:cNvSpPr/>
          <p:nvPr/>
        </p:nvSpPr>
        <p:spPr>
          <a:xfrm>
            <a:off x="774720" y="3068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А.  4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В.  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С.  8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.  6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21" name="Picture 2" descr="http://www.princeigor.net/spaw/images/misc/NAVSTAR-orb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881440"/>
            <a:ext cx="28576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:\Users\Raechka\Pictures\k\627643102.jpg"/>
          <p:cNvPicPr/>
          <p:nvPr/>
        </p:nvPicPr>
        <p:blipFill>
          <a:blip r:embed="rId1"/>
          <a:stretch/>
        </p:blipFill>
        <p:spPr>
          <a:xfrm>
            <a:off x="3276720" y="5595840"/>
            <a:ext cx="633240" cy="604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http://st.gdefon.ru/wallpapers_original/wallpapers/3794_planeta_zemlya_siyanie_1280x1024_(www.GdeFon.ru)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993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Users\Raechka\Pictures\k\627643102.jpg"/>
          <p:cNvPicPr/>
          <p:nvPr/>
        </p:nvPicPr>
        <p:blipFill>
          <a:blip r:embed="rId3"/>
          <a:stretch/>
        </p:blipFill>
        <p:spPr>
          <a:xfrm>
            <a:off x="6353280" y="6149880"/>
            <a:ext cx="533160" cy="509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http://st.gdefon.ru/wallpapers_original/wallpapers/3794_planeta_zemlya_siyanie_1280x1024_(www.GdeFon.ru).jpg"/>
          <p:cNvPicPr/>
          <p:nvPr/>
        </p:nvPicPr>
        <p:blipFill>
          <a:blip r:embed="rId4"/>
          <a:stretch/>
        </p:blipFill>
        <p:spPr>
          <a:xfrm>
            <a:off x="-184320" y="0"/>
            <a:ext cx="7975800" cy="6100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Raechka\Pictures\k\627643102.jpg"/>
          <p:cNvPicPr/>
          <p:nvPr/>
        </p:nvPicPr>
        <p:blipFill>
          <a:blip r:embed="rId5"/>
          <a:stretch/>
        </p:blipFill>
        <p:spPr>
          <a:xfrm>
            <a:off x="1093680" y="581976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Raechka\Pictures\k\627643102.jpg"/>
          <p:cNvPicPr/>
          <p:nvPr/>
        </p:nvPicPr>
        <p:blipFill>
          <a:blip r:embed="rId6"/>
          <a:stretch/>
        </p:blipFill>
        <p:spPr>
          <a:xfrm>
            <a:off x="7954920" y="260280"/>
            <a:ext cx="636480" cy="608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ttp://trendclub.ru/moderupload/images/Boeng3.jpg"/>
          <p:cNvPicPr/>
          <p:nvPr/>
        </p:nvPicPr>
        <p:blipFill>
          <a:blip r:embed="rId7"/>
          <a:stretch/>
        </p:blipFill>
        <p:spPr>
          <a:xfrm>
            <a:off x="3492360" y="-301680"/>
            <a:ext cx="2141640" cy="171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Users\Raechka\Pictures\k\627643102.jpg"/>
          <p:cNvPicPr/>
          <p:nvPr/>
        </p:nvPicPr>
        <p:blipFill>
          <a:blip r:embed="rId8"/>
          <a:stretch/>
        </p:blipFill>
        <p:spPr>
          <a:xfrm>
            <a:off x="8250120" y="586728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Users\Raechka\Pictures\k\627643102.jpg"/>
          <p:cNvPicPr/>
          <p:nvPr/>
        </p:nvPicPr>
        <p:blipFill>
          <a:blip r:embed="rId9"/>
          <a:stretch/>
        </p:blipFill>
        <p:spPr>
          <a:xfrm>
            <a:off x="6580080" y="5310360"/>
            <a:ext cx="533520" cy="509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Users\Raechka\Pictures\k\627643102.jpg"/>
          <p:cNvPicPr/>
          <p:nvPr/>
        </p:nvPicPr>
        <p:blipFill>
          <a:blip r:embed="rId10"/>
          <a:stretch/>
        </p:blipFill>
        <p:spPr>
          <a:xfrm>
            <a:off x="7524720" y="2744640"/>
            <a:ext cx="533520" cy="5097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Raechka\Pictures\k\627643102.jpg"/>
          <p:cNvPicPr/>
          <p:nvPr/>
        </p:nvPicPr>
        <p:blipFill>
          <a:blip r:embed="rId11"/>
          <a:stretch/>
        </p:blipFill>
        <p:spPr>
          <a:xfrm>
            <a:off x="2496960" y="3032280"/>
            <a:ext cx="212760" cy="36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Raechka\Pictures\k\627643102.jpg"/>
          <p:cNvPicPr/>
          <p:nvPr/>
        </p:nvPicPr>
        <p:blipFill>
          <a:blip r:embed="rId12"/>
          <a:stretch/>
        </p:blipFill>
        <p:spPr>
          <a:xfrm>
            <a:off x="1433520" y="716040"/>
            <a:ext cx="31752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Users\Raechka\Pictures\k\627643102.jpg"/>
          <p:cNvPicPr/>
          <p:nvPr/>
        </p:nvPicPr>
        <p:blipFill>
          <a:blip r:embed="rId13"/>
          <a:stretch/>
        </p:blipFill>
        <p:spPr>
          <a:xfrm>
            <a:off x="6846840" y="1173240"/>
            <a:ext cx="317520" cy="30312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3" descr=""/>
          <p:cNvPicPr/>
          <p:nvPr/>
        </p:nvPicPr>
        <p:blipFill>
          <a:blip r:embed="rId14"/>
          <a:stretch/>
        </p:blipFill>
        <p:spPr>
          <a:xfrm>
            <a:off x="1590840" y="1305000"/>
            <a:ext cx="8534160" cy="6600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C:\Users\Raechka\Pictures\k\627643102.jpg"/>
          <p:cNvPicPr/>
          <p:nvPr/>
        </p:nvPicPr>
        <p:blipFill>
          <a:blip r:embed="rId15"/>
          <a:stretch/>
        </p:blipFill>
        <p:spPr>
          <a:xfrm>
            <a:off x="395280" y="241200"/>
            <a:ext cx="317520" cy="303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C:\Users\Raechka\Pictures\k\627643102.jpg"/>
          <p:cNvPicPr/>
          <p:nvPr/>
        </p:nvPicPr>
        <p:blipFill>
          <a:blip r:embed="rId16"/>
          <a:stretch/>
        </p:blipFill>
        <p:spPr>
          <a:xfrm>
            <a:off x="7365960" y="1442880"/>
            <a:ext cx="317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7986 0.02012 C 0.10573 0.02012 0.25694 0.16301 0.25694 0.33966 C 0.25694 0.51654 0.10573 0.65989 -0.07986 0.65989 C -0.2658 0.65989 -0.41632 0.51654 -0.41632 0.33966 C -0.41632 0.16301 -0.2658 0.02012 -0.07986 0.02012 Z">
                                      <p:cBhvr>
                                        <p:cTn id="58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1" descr=""/>
          <p:cNvPicPr/>
          <p:nvPr/>
        </p:nvPicPr>
        <p:blipFill>
          <a:blip r:embed="rId1"/>
          <a:stretch/>
        </p:blipFill>
        <p:spPr>
          <a:xfrm>
            <a:off x="55440" y="4748040"/>
            <a:ext cx="10022040" cy="2109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Users\Raechka\Desktop\Штучні супутники Землі. Розвиток космонавтики\90592575_full1277666382.jpg"/>
          <p:cNvPicPr/>
          <p:nvPr/>
        </p:nvPicPr>
        <p:blipFill>
          <a:blip r:embed="rId2"/>
          <a:stretch/>
        </p:blipFill>
        <p:spPr>
          <a:xfrm>
            <a:off x="1332000" y="476280"/>
            <a:ext cx="6095880" cy="39816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8101440" y="63673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ndara"/>
              </a:rPr>
              <a:t>фільм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0" name="Gagarin.mp4" descr=""/>
          <p:cNvPicPr/>
          <p:nvPr/>
        </p:nvPicPr>
        <p:blipFill>
          <a:blip r:embed="rId3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1" name="Gagarin.mp4" descr=""/>
          <p:cNvPicPr/>
          <p:nvPr/>
        </p:nvPicPr>
        <p:blipFill>
          <a:blip r:embed="rId4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2" name="Gagarin.mp4" descr=""/>
          <p:cNvPicPr/>
          <p:nvPr/>
        </p:nvPicPr>
        <p:blipFill>
          <a:blip r:embed="rId5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263" name="Gagarin.mp4" descr=""/>
          <p:cNvPicPr/>
          <p:nvPr/>
        </p:nvPicPr>
        <p:blipFill>
          <a:blip r:embed="rId6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thumbnailCAMMSS3Z.jpg"/>
          <p:cNvPicPr/>
          <p:nvPr/>
        </p:nvPicPr>
        <p:blipFill>
          <a:blip r:embed="rId1"/>
          <a:stretch/>
        </p:blipFill>
        <p:spPr>
          <a:xfrm>
            <a:off x="4686480" y="276120"/>
            <a:ext cx="4195440" cy="4248360"/>
          </a:xfrm>
          <a:prstGeom prst="rect">
            <a:avLst/>
          </a:prstGeom>
          <a:ln w="0">
            <a:noFill/>
          </a:ln>
        </p:spPr>
      </p:pic>
      <p:sp>
        <p:nvSpPr>
          <p:cNvPr id="265" name="Блок-схема: узел 2"/>
          <p:cNvSpPr/>
          <p:nvPr/>
        </p:nvSpPr>
        <p:spPr>
          <a:xfrm>
            <a:off x="6910560" y="322200"/>
            <a:ext cx="160200" cy="182520"/>
          </a:xfrm>
          <a:prstGeom prst="flowChartConnector">
            <a:avLst/>
          </a:prstGeom>
          <a:solidFill>
            <a:srgbClr val="00b05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Блок-схема: узел 7"/>
          <p:cNvSpPr/>
          <p:nvPr/>
        </p:nvSpPr>
        <p:spPr>
          <a:xfrm>
            <a:off x="6900840" y="276120"/>
            <a:ext cx="160200" cy="181080"/>
          </a:xfrm>
          <a:prstGeom prst="flowChartConnector">
            <a:avLst/>
          </a:prstGeom>
          <a:solidFill>
            <a:srgbClr val="7030a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Блок-схема: узел 9"/>
          <p:cNvSpPr/>
          <p:nvPr/>
        </p:nvSpPr>
        <p:spPr>
          <a:xfrm>
            <a:off x="6931080" y="249120"/>
            <a:ext cx="1620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79200" y="1325520"/>
            <a:ext cx="21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 m  g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Прямоугольник 20"/>
          <p:cNvSpPr/>
          <p:nvPr/>
        </p:nvSpPr>
        <p:spPr>
          <a:xfrm>
            <a:off x="49680" y="1325520"/>
            <a:ext cx="123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тяж</a:t>
            </a: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=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824040" y="2104920"/>
            <a:ext cx="1906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m</a:t>
            </a:r>
            <a:r>
              <a:rPr b="1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3" name="Picture 16" descr="A229EA42"/>
          <p:cNvPicPr/>
          <p:nvPr/>
        </p:nvPicPr>
        <p:blipFill>
          <a:blip r:embed="rId2"/>
          <a:srcRect l="17239" t="50000" r="58334" b="42580"/>
          <a:stretch/>
        </p:blipFill>
        <p:spPr>
          <a:xfrm>
            <a:off x="39600" y="4456080"/>
            <a:ext cx="2779920" cy="982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5733F27F"/>
          <p:cNvPicPr/>
          <p:nvPr/>
        </p:nvPicPr>
        <p:blipFill>
          <a:blip r:embed="rId3"/>
          <a:srcRect l="0" t="0" r="279" b="170"/>
          <a:stretch/>
        </p:blipFill>
        <p:spPr>
          <a:xfrm>
            <a:off x="3027240" y="1249200"/>
            <a:ext cx="1332000" cy="79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A229EA42"/>
          <p:cNvPicPr/>
          <p:nvPr/>
        </p:nvPicPr>
        <p:blipFill>
          <a:blip r:embed="rId4"/>
          <a:srcRect l="17239" t="50000" r="30223" b="42580"/>
          <a:stretch/>
        </p:blipFill>
        <p:spPr>
          <a:xfrm>
            <a:off x="39600" y="4464000"/>
            <a:ext cx="5684760" cy="982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A229EA42"/>
          <p:cNvPicPr/>
          <p:nvPr/>
        </p:nvPicPr>
        <p:blipFill>
          <a:blip r:embed="rId5"/>
          <a:srcRect l="58024" t="29186" r="13727" b="59459"/>
          <a:stretch/>
        </p:blipFill>
        <p:spPr>
          <a:xfrm>
            <a:off x="536400" y="2924280"/>
            <a:ext cx="2664000" cy="12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5733F27F"/>
          <p:cNvPicPr/>
          <p:nvPr/>
        </p:nvPicPr>
        <p:blipFill>
          <a:blip r:embed="rId6"/>
          <a:srcRect l="0" t="0" r="42466" b="170"/>
          <a:stretch/>
        </p:blipFill>
        <p:spPr>
          <a:xfrm>
            <a:off x="3027240" y="1249200"/>
            <a:ext cx="770040" cy="7988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1"/>
          <p:cNvSpPr/>
          <p:nvPr/>
        </p:nvSpPr>
        <p:spPr>
          <a:xfrm>
            <a:off x="795240" y="2104920"/>
            <a:ext cx="89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9" name="TextBox 33" descr=""/>
          <p:cNvPicPr/>
          <p:nvPr/>
        </p:nvPicPr>
        <p:blipFill>
          <a:blip r:embed="rId7"/>
          <a:stretch/>
        </p:blipFill>
        <p:spPr>
          <a:xfrm>
            <a:off x="133200" y="-79200"/>
            <a:ext cx="5230800" cy="168264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36" descr=""/>
          <p:cNvPicPr/>
          <p:nvPr/>
        </p:nvPicPr>
        <p:blipFill>
          <a:blip r:embed="rId8"/>
          <a:stretch/>
        </p:blipFill>
        <p:spPr>
          <a:xfrm>
            <a:off x="-49320" y="5376960"/>
            <a:ext cx="90601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1019 L 0.075 0.03819 C 0.08628 0.04953 0.09618 0.07037 0.10295 0.09282 C 0.11076 0.11759 0.11146 0.14236 0.10764 0.16111 L 0.09149 0.25023 E">
                                      <p:cBhvr>
                                        <p:cTn id="20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01828 L 0.11528 0.10347 C 0.13316 0.13033 0.1434 0.17153 0.14462 0.21227 C 0.14288 0.2588 0.13489 0.29584 0.1158 0.32292 L 0.03142 0.44931 E">
                                      <p:cBhvr>
                                        <p:cTn id="2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3 0.01921 C 0.04288 -0.02269 0.16736 0.0706 0.19844 0.22801 C 0.22917 0.38472 0.15295 0.54722 0.03142 0.58889 C -0.09062 0.63078 -0.21354 0.5368 -0.24375 0.37963 C -0.27431 0.22199 -0.20069 0.06157 -0.0783 0.01921 Z">
                                      <p:cBhvr>
                                        <p:cTn id="28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9"/>
          <p:cNvSpPr/>
          <p:nvPr/>
        </p:nvSpPr>
        <p:spPr>
          <a:xfrm>
            <a:off x="1338120" y="0"/>
            <a:ext cx="6481800" cy="5084640"/>
          </a:xfrm>
          <a:prstGeom prst="rect">
            <a:avLst/>
          </a:prstGeom>
          <a:solidFill>
            <a:srgbClr val="ffffff"/>
          </a:solidFill>
          <a:ln w="38520">
            <a:solidFill>
              <a:srgbClr val="7c9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2" name="Picture 2" descr="C:\Users\Raechka\Desktop\Штучні супутники Землі. Розвиток космонавтики\ris27.gif"/>
          <p:cNvPicPr/>
          <p:nvPr/>
        </p:nvPicPr>
        <p:blipFill>
          <a:blip r:embed="rId1"/>
          <a:stretch/>
        </p:blipFill>
        <p:spPr>
          <a:xfrm>
            <a:off x="1687680" y="22320"/>
            <a:ext cx="5948280" cy="504036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8" descr=""/>
          <p:cNvPicPr/>
          <p:nvPr/>
        </p:nvPicPr>
        <p:blipFill>
          <a:blip r:embed="rId2"/>
          <a:stretch/>
        </p:blipFill>
        <p:spPr>
          <a:xfrm>
            <a:off x="79200" y="5035680"/>
            <a:ext cx="9114120" cy="1646280"/>
          </a:xfrm>
          <a:prstGeom prst="rect">
            <a:avLst/>
          </a:prstGeom>
          <a:ln w="0">
            <a:noFill/>
          </a:ln>
        </p:spPr>
      </p:pic>
      <p:sp>
        <p:nvSpPr>
          <p:cNvPr id="284" name="Блок-схема: узел 14"/>
          <p:cNvSpPr/>
          <p:nvPr/>
        </p:nvSpPr>
        <p:spPr>
          <a:xfrm>
            <a:off x="4140360" y="692280"/>
            <a:ext cx="160200" cy="182520"/>
          </a:xfrm>
          <a:prstGeom prst="flowChartConnector">
            <a:avLst/>
          </a:prstGeom>
          <a:solidFill>
            <a:srgbClr val="ff0000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0419 C 0.03732 -0.05208 0.06805 -0.02685 0.07604 0.01482 C 0.08472 0.05741 0.06667 0.09954 0.03715 0.10972 C 0.00781 0.1206 -0.0224 0.09329 -0.03073 0.05185 C -0.03872 0.00949 -0.02153 -0.03194 0.00816 -0.0419 Z">
                                      <p:cBhvr>
                                        <p:cTn id="43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extBox 1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566200" cy="1073160"/>
          </a:xfrm>
          <a:prstGeom prst="rect">
            <a:avLst/>
          </a:prstGeom>
          <a:ln w="0">
            <a:noFill/>
          </a:ln>
        </p:spPr>
      </p:pic>
      <p:pic>
        <p:nvPicPr>
          <p:cNvPr id="286" name="Объект 3" descr=""/>
          <p:cNvPicPr/>
          <p:nvPr/>
        </p:nvPicPr>
        <p:blipFill>
          <a:blip r:embed="rId2"/>
          <a:stretch/>
        </p:blipFill>
        <p:spPr>
          <a:xfrm>
            <a:off x="463680" y="1360440"/>
            <a:ext cx="2303280" cy="10335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4"/>
          <p:cNvSpPr/>
          <p:nvPr/>
        </p:nvSpPr>
        <p:spPr>
          <a:xfrm>
            <a:off x="3198960" y="1773360"/>
            <a:ext cx="2282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F = </a:t>
            </a:r>
            <a:r>
              <a:rPr b="0" lang="en-US" sz="4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m</a:t>
            </a:r>
            <a:r>
              <a:rPr b="0" lang="ru-RU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1f1f1f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8" name="Объект 5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162240" cy="12650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6"/>
          <p:cNvSpPr/>
          <p:nvPr/>
        </p:nvSpPr>
        <p:spPr>
          <a:xfrm>
            <a:off x="2559240" y="3068640"/>
            <a:ext cx="415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0" name="Объект 7" descr=""/>
          <p:cNvPicPr/>
          <p:nvPr/>
        </p:nvPicPr>
        <p:blipFill>
          <a:blip r:embed="rId4"/>
          <a:stretch/>
        </p:blipFill>
        <p:spPr>
          <a:xfrm>
            <a:off x="2530440" y="4724280"/>
            <a:ext cx="324000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TextBox 8"/>
          <p:cNvSpPr/>
          <p:nvPr/>
        </p:nvSpPr>
        <p:spPr>
          <a:xfrm>
            <a:off x="2556000" y="5084640"/>
            <a:ext cx="506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1f1f"/>
                </a:solidFill>
                <a:latin typeface="Symbol"/>
                <a:ea typeface="Symbol"/>
              </a:rPr>
              <a:t>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2" name="TextBox 9" descr=""/>
          <p:cNvPicPr/>
          <p:nvPr/>
        </p:nvPicPr>
        <p:blipFill>
          <a:blip r:embed="rId5"/>
          <a:stretch/>
        </p:blipFill>
        <p:spPr>
          <a:xfrm>
            <a:off x="6126120" y="1238400"/>
            <a:ext cx="218916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324000" y="1112760"/>
            <a:ext cx="8712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ку швидкість повинен мати штучний </a:t>
            </a: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упутник ,який обертається  навколо Землі  по коловій орбіті на висоті, що дорівнює: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</a:t>
            </a:r>
            <a:r>
              <a:rPr b="0" lang="uk-UA" sz="4000" spc="-1" strike="noStrike">
                <a:solidFill>
                  <a:srgbClr val="ffc000"/>
                </a:solidFill>
                <a:latin typeface="Candara"/>
              </a:rPr>
              <a:t>’</a:t>
            </a:r>
            <a:r>
              <a:rPr b="1" lang="uk-UA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ятнадцяти радіусам Землі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4" name="TextBox 1" descr=""/>
          <p:cNvPicPr/>
          <p:nvPr/>
        </p:nvPicPr>
        <p:blipFill>
          <a:blip r:embed="rId1"/>
          <a:stretch/>
        </p:blipFill>
        <p:spPr>
          <a:xfrm>
            <a:off x="2816280" y="6480"/>
            <a:ext cx="29145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dddd\Рабочий стол\и с з\main.jpg"/>
          <p:cNvPicPr/>
          <p:nvPr/>
        </p:nvPicPr>
        <p:blipFill>
          <a:blip r:embed="rId1"/>
          <a:stretch/>
        </p:blipFill>
        <p:spPr>
          <a:xfrm>
            <a:off x="2021040" y="119700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" descr=""/>
          <p:cNvPicPr/>
          <p:nvPr/>
        </p:nvPicPr>
        <p:blipFill>
          <a:blip r:embed="rId2"/>
          <a:stretch/>
        </p:blipFill>
        <p:spPr>
          <a:xfrm>
            <a:off x="-536400" y="-317520"/>
            <a:ext cx="9882000" cy="7272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11в"/>
          <p:cNvPicPr/>
          <p:nvPr/>
        </p:nvPicPr>
        <p:blipFill>
          <a:blip r:embed="rId3"/>
          <a:stretch/>
        </p:blipFill>
        <p:spPr>
          <a:xfrm>
            <a:off x="500040" y="262080"/>
            <a:ext cx="1352520" cy="318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Users\Raechka\Pictures\shkola animat\анимации шкеола\школа-2.gif"/>
          <p:cNvPicPr/>
          <p:nvPr/>
        </p:nvPicPr>
        <p:blipFill>
          <a:blip r:embed="rId4"/>
          <a:stretch/>
        </p:blipFill>
        <p:spPr>
          <a:xfrm>
            <a:off x="6572160" y="4102200"/>
            <a:ext cx="19195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856720" cy="2060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4" descr=""/>
          <p:cNvPicPr/>
          <p:nvPr/>
        </p:nvPicPr>
        <p:blipFill>
          <a:blip r:embed="rId3"/>
          <a:stretch/>
        </p:blipFill>
        <p:spPr>
          <a:xfrm>
            <a:off x="566640" y="2736720"/>
            <a:ext cx="4724640" cy="264636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thumbnailCAMMSS3Z.jpg"/>
          <p:cNvPicPr/>
          <p:nvPr/>
        </p:nvPicPr>
        <p:blipFill>
          <a:blip r:embed="rId4"/>
          <a:stretch/>
        </p:blipFill>
        <p:spPr>
          <a:xfrm>
            <a:off x="5003640" y="2565360"/>
            <a:ext cx="3745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480960" y="-42840"/>
            <a:ext cx="8755200" cy="1573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11в"/>
          <p:cNvPicPr/>
          <p:nvPr/>
        </p:nvPicPr>
        <p:blipFill>
          <a:blip r:embed="rId2"/>
          <a:stretch/>
        </p:blipFill>
        <p:spPr>
          <a:xfrm>
            <a:off x="93600" y="235080"/>
            <a:ext cx="627120" cy="75240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3"/>
          <p:cNvSpPr/>
          <p:nvPr/>
        </p:nvSpPr>
        <p:spPr>
          <a:xfrm>
            <a:off x="900000" y="26845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.  1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B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 11,2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C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7,9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D</a:t>
            </a: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. 9,3  км/с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06" name="Picture 2" descr="ris26"/>
          <p:cNvPicPr/>
          <p:nvPr/>
        </p:nvPicPr>
        <p:blipFill>
          <a:blip r:embed="rId3"/>
          <a:stretch/>
        </p:blipFill>
        <p:spPr>
          <a:xfrm>
            <a:off x="5867280" y="2276640"/>
            <a:ext cx="2727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3:18:45Z</dcterms:created>
  <dc:creator/>
  <dc:description/>
  <dc:language>en-US</dc:language>
  <cp:lastModifiedBy>Пользователь</cp:lastModifiedBy>
  <dcterms:modified xsi:type="dcterms:W3CDTF">2018-01-07T17:10:04Z</dcterms:modified>
  <cp:revision>9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140</vt:lpwstr>
  </property>
</Properties>
</file>