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A6E-DDF5-4274-9D2C-D21F07A2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ABD-958E-4013-9C6A-64BBF9F8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639-2DF4-4693-9337-FDECCE82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B56-D4EF-4EE7-AE49-A79BA8F3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B60-3A3E-42E9-AEB7-D87F8E74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301-9AB8-4199-ABFB-5D71858C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A1B-9159-496D-A1FF-6AC03A4A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BC4-0D43-4E22-BF1E-B85299F3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FF8-E52E-4401-B4C1-30C71388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48F-7026-45F2-AE6D-546D949E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51A-B5BD-4292-86AA-C6C53CB0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071-74D1-4742-83E6-93DF90D9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9187-6D06-4B81-8CD2-1E17AE193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56498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46c0a"/>
                </a:solidFill>
                <a:latin typeface="Arial Black"/>
              </a:rPr>
              <a:t>Я – сила.</a:t>
            </a:r>
            <a:br>
              <a:rPr sz="3600"/>
            </a:br>
            <a:r>
              <a:rPr b="0" lang="uk-UA" sz="3600" spc="-1" strike="noStrike">
                <a:solidFill>
                  <a:srgbClr val="e46c0a"/>
                </a:solidFill>
                <a:latin typeface="Arial Black"/>
              </a:rPr>
              <a:t>Я – енергія.</a:t>
            </a:r>
            <a:br>
              <a:rPr sz="3600"/>
            </a:br>
            <a:r>
              <a:rPr b="0" lang="uk-UA" sz="3600" spc="-1" strike="noStrike">
                <a:solidFill>
                  <a:srgbClr val="e46c0a"/>
                </a:solidFill>
                <a:latin typeface="Arial Black"/>
              </a:rPr>
              <a:t>Я – здоров’я.</a:t>
            </a:r>
            <a:br>
              <a:rPr sz="3600"/>
            </a:br>
            <a:r>
              <a:rPr b="0" lang="uk-UA" sz="3600" spc="-1" strike="noStrike">
                <a:solidFill>
                  <a:srgbClr val="e46c0a"/>
                </a:solidFill>
                <a:latin typeface="Arial Black"/>
              </a:rPr>
              <a:t>Я – життєрадісність.</a:t>
            </a:r>
            <a:br>
              <a:rPr sz="3600"/>
            </a:br>
            <a:r>
              <a:rPr b="0" lang="uk-UA" sz="3600" spc="-1" strike="noStrike">
                <a:solidFill>
                  <a:srgbClr val="e46c0a"/>
                </a:solidFill>
                <a:latin typeface="Arial Black"/>
              </a:rPr>
              <a:t>Я – доброта.</a:t>
            </a:r>
            <a:br>
              <a:rPr sz="3600"/>
            </a:br>
            <a:r>
              <a:rPr b="0" lang="uk-UA" sz="3600" spc="-1" strike="noStrike">
                <a:solidFill>
                  <a:srgbClr val="e46c0a"/>
                </a:solidFill>
                <a:latin typeface="Arial Black"/>
              </a:rPr>
              <a:t>Я – успі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179280" y="173664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71760" y="2785680"/>
            <a:ext cx="307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e46c0a"/>
                </a:solidFill>
                <a:latin typeface="Calibri"/>
              </a:rPr>
              <a:t>Емоції людини дуже різноманітні. Чим вищий духовний, культурний розвиток людини, тим різноманітнішою є палітра емоцій і емоційних станів людин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C:\Users\1\Desktop\ЗДОРОВЬЕ\Урок 24, 25 Психологическое благополучие подростков\Урок 24, 25 Психологическое благополучие подростков\Иллюстрации\эмоциональное состояние человека.png"/>
          <p:cNvPicPr/>
          <p:nvPr/>
        </p:nvPicPr>
        <p:blipFill>
          <a:blip r:embed="rId1"/>
          <a:stretch/>
        </p:blipFill>
        <p:spPr>
          <a:xfrm>
            <a:off x="0" y="0"/>
            <a:ext cx="6072120" cy="70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Блок-схема: знак завершения 4"/>
          <p:cNvSpPr/>
          <p:nvPr/>
        </p:nvSpPr>
        <p:spPr>
          <a:xfrm>
            <a:off x="2484360" y="404640"/>
            <a:ext cx="4680000" cy="1224000"/>
          </a:xfrm>
          <a:prstGeom prst="flowChartTerminator">
            <a:avLst/>
          </a:prstGeom>
          <a:solidFill>
            <a:srgbClr val="d996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46c0a"/>
                </a:solidFill>
                <a:latin typeface="Calibri"/>
              </a:rPr>
              <a:t>Врівноважена люд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Блок-схема: знак завершения 6"/>
          <p:cNvSpPr/>
          <p:nvPr/>
        </p:nvSpPr>
        <p:spPr>
          <a:xfrm>
            <a:off x="179280" y="2349360"/>
            <a:ext cx="2160720" cy="1871640"/>
          </a:xfrm>
          <a:prstGeom prst="flowChartTerminator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46c0a"/>
                </a:solidFill>
                <a:latin typeface="Calibri"/>
              </a:rPr>
              <a:t>контролює свої почуття і емоці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Блок-схема: знак завершения 9"/>
          <p:cNvSpPr/>
          <p:nvPr/>
        </p:nvSpPr>
        <p:spPr>
          <a:xfrm>
            <a:off x="2411280" y="2382840"/>
            <a:ext cx="2160720" cy="187164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46c0a"/>
                </a:solidFill>
                <a:latin typeface="Calibri"/>
              </a:rPr>
              <a:t>вміє спілкувати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Блок-схема: знак завершения 10"/>
          <p:cNvSpPr/>
          <p:nvPr/>
        </p:nvSpPr>
        <p:spPr>
          <a:xfrm>
            <a:off x="4643280" y="2376360"/>
            <a:ext cx="2160720" cy="187164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46c0a"/>
                </a:solidFill>
                <a:latin typeface="Calibri"/>
              </a:rPr>
              <a:t>конструктивно розв’язує конфлік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Блок-схема: знак завершения 11"/>
          <p:cNvSpPr/>
          <p:nvPr/>
        </p:nvSpPr>
        <p:spPr>
          <a:xfrm>
            <a:off x="6875640" y="2349360"/>
            <a:ext cx="2160360" cy="187164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46c0a"/>
                </a:solidFill>
                <a:latin typeface="Calibri"/>
              </a:rPr>
              <a:t>впевнена в соб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Прямая со стрелкой 13"/>
          <p:cNvCxnSpPr>
            <a:stCxn id="62" idx="2"/>
            <a:endCxn id="66" idx="0"/>
          </p:cNvCxnSpPr>
          <p:nvPr/>
        </p:nvCxnSpPr>
        <p:spPr>
          <a:xfrm>
            <a:off x="4824000" y="1628640"/>
            <a:ext cx="313308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Прямая со стрелкой 15"/>
          <p:cNvCxnSpPr>
            <a:stCxn id="62" idx="2"/>
            <a:endCxn id="65" idx="0"/>
          </p:cNvCxnSpPr>
          <p:nvPr/>
        </p:nvCxnSpPr>
        <p:spPr>
          <a:xfrm>
            <a:off x="4824360" y="1628280"/>
            <a:ext cx="900720" cy="748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Прямая со стрелкой 19"/>
          <p:cNvCxnSpPr>
            <a:stCxn id="62" idx="2"/>
            <a:endCxn id="64" idx="0"/>
          </p:cNvCxnSpPr>
          <p:nvPr/>
        </p:nvCxnSpPr>
        <p:spPr>
          <a:xfrm flipH="1">
            <a:off x="3492000" y="1628280"/>
            <a:ext cx="1332720" cy="75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Прямая со стрелкой 22"/>
          <p:cNvCxnSpPr>
            <a:stCxn id="62" idx="2"/>
          </p:cNvCxnSpPr>
          <p:nvPr/>
        </p:nvCxnSpPr>
        <p:spPr>
          <a:xfrm flipH="1">
            <a:off x="1186560" y="1628640"/>
            <a:ext cx="363780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1" name="Рисунок 23" descr=""/>
          <p:cNvPicPr/>
          <p:nvPr/>
        </p:nvPicPr>
        <p:blipFill>
          <a:blip r:embed="rId5"/>
          <a:stretch/>
        </p:blipFill>
        <p:spPr>
          <a:xfrm>
            <a:off x="349200" y="4653000"/>
            <a:ext cx="1819440" cy="14288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4" descr=""/>
          <p:cNvPicPr/>
          <p:nvPr/>
        </p:nvPicPr>
        <p:blipFill>
          <a:blip r:embed="rId6"/>
          <a:stretch/>
        </p:blipFill>
        <p:spPr>
          <a:xfrm>
            <a:off x="2390760" y="4656240"/>
            <a:ext cx="2152800" cy="1428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5" descr=""/>
          <p:cNvPicPr/>
          <p:nvPr/>
        </p:nvPicPr>
        <p:blipFill>
          <a:blip r:embed="rId7"/>
          <a:stretch/>
        </p:blipFill>
        <p:spPr>
          <a:xfrm>
            <a:off x="4772160" y="4643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6" descr=""/>
          <p:cNvPicPr/>
          <p:nvPr/>
        </p:nvPicPr>
        <p:blipFill>
          <a:blip r:embed="rId8"/>
          <a:stretch/>
        </p:blipFill>
        <p:spPr>
          <a:xfrm>
            <a:off x="6904080" y="46432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C:\Users\1\Desktop\основы здоровья\1\картинки\домашнее задание.jpg"/>
          <p:cNvPicPr/>
          <p:nvPr/>
        </p:nvPicPr>
        <p:blipFill>
          <a:blip r:embed="rId1"/>
          <a:stretch/>
        </p:blipFill>
        <p:spPr>
          <a:xfrm>
            <a:off x="0" y="1143000"/>
            <a:ext cx="3929040" cy="5518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643200" y="2127240"/>
            <a:ext cx="55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46c0a"/>
                </a:solidFill>
                <a:latin typeface="Calibri"/>
              </a:rPr>
              <a:t>1) Читати параграф 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46c0a"/>
                </a:solidFill>
                <a:latin typeface="Calibri"/>
              </a:rPr>
              <a:t>2) Запропонуй однокласникам власний рецепт підтримання психологічної рівнова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7280" y="2687400"/>
            <a:ext cx="4786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46c0a"/>
                </a:solidFill>
                <a:latin typeface="Arial Black"/>
              </a:rPr>
              <a:t>Емоційне благополучч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C:\Users\1\Desktop\ЗДОРОВЬЕ\Урок 24, 25 Психологическое благополучие подростков\Урок 24, 25 Психологическое благополучие подростков\Иллюстрации\БЛАГОПОЛУЧИЕ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36720" y="0"/>
            <a:ext cx="467676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46c0a"/>
                </a:solidFill>
                <a:latin typeface="Arial Black"/>
              </a:rPr>
              <a:t>Сутність людського здоров’я – це коли людина нестримно хоче сказати щось хороше іншій людині, ніби це навіть закон: коли мені – то має бути усім добре!</a:t>
            </a:r>
            <a:br>
              <a:rPr sz="3200"/>
            </a:br>
            <a:r>
              <a:rPr b="0" lang="uk-UA" sz="3200" spc="-1" strike="noStrike">
                <a:solidFill>
                  <a:srgbClr val="e46c0a"/>
                </a:solidFill>
                <a:latin typeface="Arial Black"/>
              </a:rPr>
              <a:t>М.М.Пришві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rcRect l="49217" t="3801" r="1177" b="2751"/>
          <a:stretch/>
        </p:blipFill>
        <p:spPr>
          <a:xfrm>
            <a:off x="385920" y="157320"/>
            <a:ext cx="4151160" cy="5864040"/>
          </a:xfrm>
          <a:prstGeom prst="rect">
            <a:avLst/>
          </a:prstGeom>
          <a:ln w="0">
            <a:noFill/>
          </a:ln>
        </p:spPr>
      </p:pic>
      <p:sp>
        <p:nvSpPr>
          <p:cNvPr id="47" name="Заголовок 1"/>
          <p:cNvSpPr/>
          <p:nvPr/>
        </p:nvSpPr>
        <p:spPr>
          <a:xfrm>
            <a:off x="68400" y="6121440"/>
            <a:ext cx="4786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e46c0a"/>
                </a:solidFill>
                <a:latin typeface="Arial Black"/>
              </a:rPr>
              <a:t>1873 – 1954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33120"/>
            <a:ext cx="892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46c0a"/>
                </a:solidFill>
                <a:latin typeface="Calibri"/>
              </a:rPr>
              <a:t>ПРАВИЛА РОБОТИ В ГРУПІ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108000" y="1527120"/>
            <a:ext cx="89280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28440">
              <a:lnSpc>
                <a:spcPct val="150000"/>
              </a:lnSpc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46c0a"/>
                </a:solidFill>
                <a:latin typeface="Calibri"/>
              </a:rPr>
              <a:t>Дотримуйтеся правила піднятої р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28440">
              <a:lnSpc>
                <a:spcPct val="150000"/>
              </a:lnSpc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46c0a"/>
                </a:solidFill>
                <a:latin typeface="Calibri"/>
              </a:rPr>
              <a:t>Говоріть по черзі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28440">
              <a:lnSpc>
                <a:spcPct val="150000"/>
              </a:lnSpc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46c0a"/>
                </a:solidFill>
                <a:latin typeface="Calibri"/>
              </a:rPr>
              <a:t>Слухайте інши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28440">
              <a:lnSpc>
                <a:spcPct val="150000"/>
              </a:lnSpc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46c0a"/>
                </a:solidFill>
                <a:latin typeface="Calibri"/>
              </a:rPr>
              <a:t>Добровільно беріть участь у роботі груп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28440">
              <a:lnSpc>
                <a:spcPct val="150000"/>
              </a:lnSpc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46c0a"/>
                </a:solidFill>
                <a:latin typeface="Calibri"/>
              </a:rPr>
              <a:t>Не критикуй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28440">
              <a:lnSpc>
                <a:spcPct val="150000"/>
              </a:lnSpc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46c0a"/>
                </a:solidFill>
                <a:latin typeface="Calibri"/>
              </a:rPr>
              <a:t>Будьте тактовн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538776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e46c0a"/>
                </a:solidFill>
                <a:latin typeface="Calibri"/>
              </a:rPr>
              <a:t>Емоційне здоров’я </a:t>
            </a:r>
            <a:r>
              <a:rPr b="1" lang="uk-UA" sz="2200" spc="-1" strike="noStrike">
                <a:solidFill>
                  <a:srgbClr val="e46c0a"/>
                </a:solidFill>
                <a:latin typeface="Calibri"/>
              </a:rPr>
              <a:t>— це стан емоційного, душевного комфорту і ладу, який сприяє розвитку повноцінної особи і збереженню здоров’я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C:\Users\1\Desktop\ЗДОРОВЬЕ\Урок 24, 25 Психологическое благополучие подростков\Урок 24, 25 Психологическое благополучие подростков\Иллюстрации\эмоциональное состояние.jpg"/>
          <p:cNvPicPr/>
          <p:nvPr/>
        </p:nvPicPr>
        <p:blipFill>
          <a:blip r:embed="rId1"/>
          <a:stretch/>
        </p:blipFill>
        <p:spPr>
          <a:xfrm>
            <a:off x="214200" y="0"/>
            <a:ext cx="89298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3760" y="2130120"/>
            <a:ext cx="3000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e46c0a"/>
                </a:solidFill>
                <a:latin typeface="Calibri"/>
              </a:rPr>
              <a:t>Позитивні емоції (стенічні) — поліпшують кровообіг, піднімають тонус життя. Переживаючи їх, людина відчуває приплив енергії, їй хочеться «гори перевернути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C:\Users\1\Desktop\ЗДОРОВЬЕ\Урок 24, 25 Психологическое благополучие подростков\Урок 24, 25 Психологическое благополучие подростков\Иллюстрации\позитивные эмоции.jpg"/>
          <p:cNvPicPr/>
          <p:nvPr/>
        </p:nvPicPr>
        <p:blipFill>
          <a:blip r:embed="rId1"/>
          <a:stretch/>
        </p:blipFill>
        <p:spPr>
          <a:xfrm>
            <a:off x="0" y="2673360"/>
            <a:ext cx="6000840" cy="418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Users\1\Desktop\ЗДОРОВЬЕ\Урок 24, 25 Психологическое благополучие подростков\Урок 24, 25 Психологическое благополучие подростков\Иллюстрации\позитив 2.jpg"/>
          <p:cNvPicPr/>
          <p:nvPr/>
        </p:nvPicPr>
        <p:blipFill>
          <a:blip r:embed="rId2"/>
          <a:stretch/>
        </p:blipFill>
        <p:spPr>
          <a:xfrm>
            <a:off x="0" y="0"/>
            <a:ext cx="60055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1433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e46c0a"/>
                </a:solidFill>
                <a:latin typeface="Calibri"/>
              </a:rPr>
              <a:t>Негативні емоції (астенічні) — порушують ритм роботи серця, погіршують кровообіг, знижують тонус життя. Переживаючи такі емоції, людина може ставати слабкою, безенергійною, знервованою, у неї можуть виникати болі в серці, непритомність, інсульт, розлади функцій мозку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C:\Users\1\Desktop\ЗДОРОВЬЕ\Урок 24, 25 Психологическое благополучие подростков\Урок 24, 25 Психологическое благополучие подростков\Иллюстрации\негативные эмоции.jpg"/>
          <p:cNvPicPr/>
          <p:nvPr/>
        </p:nvPicPr>
        <p:blipFill>
          <a:blip r:embed="rId1"/>
          <a:stretch/>
        </p:blipFill>
        <p:spPr>
          <a:xfrm>
            <a:off x="928800" y="0"/>
            <a:ext cx="72151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46c0a"/>
                </a:solidFill>
                <a:latin typeface="Arial Black"/>
              </a:rPr>
              <a:t>Назвіть емоції цих люд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851" t="1596" r="0" b="0"/>
          <a:stretch/>
        </p:blipFill>
        <p:spPr>
          <a:xfrm>
            <a:off x="428760" y="1643040"/>
            <a:ext cx="83455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82184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2:09:03Z</dcterms:created>
  <dc:creator>Alex</dc:creator>
  <dc:description/>
  <dc:language>en-US</dc:language>
  <cp:lastModifiedBy>User 5</cp:lastModifiedBy>
  <dcterms:modified xsi:type="dcterms:W3CDTF">2018-01-22T09:41:55Z</dcterms:modified>
  <cp:revision>8</cp:revision>
  <dc:subject/>
  <dc:title>Психологічне благополуччя підлітків</dc:title>
</cp:coreProperties>
</file>