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D3E5-7A33-4134-B3B4-55393D43AF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259B-B332-4469-AC46-CD41CA0C24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аліз інтерв'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6EC8-BB22-474A-9D80-BE10AE847C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00AB-CC9D-41EB-9061-A6795144DC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їзд королівської сім´ї (кліп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s://youtu.be/nHzZ1XD4_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FFE9-677B-4352-8D84-D6B3875460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C58-7FDC-44EE-8161-69E02609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15E-7C34-4334-9CA6-B92B280A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BB6-8EEB-4D3A-8DE1-8A60A2C0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7F9-1A1E-4C15-9874-62D5F4D4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6ED-54B9-4043-BB8E-C9730D54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3BE-0E51-43F6-BFE7-0738E6A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B2C-4B2E-4912-8F3B-8D1D7281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4A1-5986-469D-9F9C-3D84B72A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A4E-C44D-4132-99C1-9D0E6322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074-7EF6-4FD1-8CED-9DD0BD7F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0F5-0833-455D-A2FC-75170BE3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BD7-CCDF-4B61-84DC-9488E6FA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4B39-566A-4C09-B660-B7620BC63C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9120" y="214200"/>
            <a:ext cx="375768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фіційна назва – Об'єднане Королівство Великобританії та Північної Ірландії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Площа - 244,1 тис. КМ²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населення 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млн. чол.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Столиця – Лондон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Форма правління - конституційна монархія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Законодавча влада належить королю і парламенту (Палата общин та Палата лордів)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Фактична влада – Кабінету міністрів, який формує правляча партія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Велика Британія очолює Співдружність націй – міжнародну організацію країн,. що входили до Британської імперії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uk_map1.gif"/>
          <p:cNvPicPr/>
          <p:nvPr/>
        </p:nvPicPr>
        <p:blipFill>
          <a:blip r:embed="rId1"/>
          <a:stretch/>
        </p:blipFill>
        <p:spPr>
          <a:xfrm>
            <a:off x="428760" y="500040"/>
            <a:ext cx="38368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43240" y="714240"/>
            <a:ext cx="4143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Розпад Британської колоніальної імперії </a:t>
            </a:r>
            <a:br>
              <a:rPr sz="1600"/>
            </a:br>
            <a:br>
              <a:rPr sz="16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1947-Індія та Пакистан отримали статус домініону;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1948р. –Цейлон;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1957р.-Гана незалежна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1962р-Уганда;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1963-Кенія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1964 – Танзанія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1963р. -  Малайзія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1997р- Гонконг переданий КНР.   </a:t>
            </a:r>
            <a:br>
              <a:rPr sz="14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9" descr="Географія_тема_1.jpeg"/>
          <p:cNvPicPr/>
          <p:nvPr/>
        </p:nvPicPr>
        <p:blipFill>
          <a:blip r:embed="rId1"/>
          <a:stretch/>
        </p:blipFill>
        <p:spPr>
          <a:xfrm>
            <a:off x="642960" y="2571840"/>
            <a:ext cx="63802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72280" y="213840"/>
            <a:ext cx="857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4" descr="Географія_тема_1.jpeg"/>
          <p:cNvPicPr/>
          <p:nvPr/>
        </p:nvPicPr>
        <p:blipFill>
          <a:blip r:embed="rId1"/>
          <a:stretch/>
        </p:blipFill>
        <p:spPr>
          <a:xfrm>
            <a:off x="214200" y="357120"/>
            <a:ext cx="88455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ецепти для лікування “ хворої людини Європи ” , або “ англійської хвороби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ецепти ” лейборист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9680" y="24289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ціоналізація,  встановлено контроль за квартплатою, цінами, підвищено пенсії і соціальні виплати, створено національне управління по цінах і прибут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ецепти консерваторів 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785840" y="24289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звиток приватного підприємництва і згортання  державного втручання в економіку, орієнтація до європейської інтегр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1500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етчеризм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9" descr="220px-Margaret_Thatcher.png"/>
          <p:cNvPicPr/>
          <p:nvPr/>
        </p:nvPicPr>
        <p:blipFill>
          <a:blip r:embed="rId1"/>
          <a:stretch/>
        </p:blipFill>
        <p:spPr>
          <a:xfrm>
            <a:off x="4857840" y="1143000"/>
            <a:ext cx="3149640" cy="4379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економічна політика 1979-1990рр., Що ґрунтувалася н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Державне регулювання приватного сектору економі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Приватизація комерційних організацій, контрольованих державою і місцевими органами влад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Монетариз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Перехід від прямого оподаткування до непрямого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Перерозподіл доходів на користь "творців суспільного багатства"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6022800" y="575136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М.Тетчер - прем'єр-міністра Великобритан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«тетчеризм» та «рейганізм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упроводжувався приватизацією та скасуванням державного регулювання, за виключення інфраструктурних галузей (шляхи сполучення, зв'язок і енергосистеми), освіти і науки, зовнішньої торгівлі та зовнішньополітичної діяльності, спрямованої на створення сприятливих умов для національної економі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етче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політика консервативного уряду Великої Британії під керівництвом Маргарет Тетчер (1979-1990), що супроводжувалася приватизацією раніше націоналізованих підприємств і галузей економіки, монетаризмом у фінансово-економічній сфері, згортанням соціальних програм, комерціалізацією соціальних сфер освіти і охорони здоров'я. Політика тетчеризму тісно пов'язана із соціально-економічними поняттями і категоріями неолібералізму і "шокової терапії". Вважається, що термін придумано професором Стюартом Холом в кінці 1970-х р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ичина успіх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6" descr="k9_Xi1pSRD8.jpg"/>
          <p:cNvPicPr/>
          <p:nvPr/>
        </p:nvPicPr>
        <p:blipFill>
          <a:blip r:embed="rId1"/>
          <a:stretch/>
        </p:blipFill>
        <p:spPr>
          <a:xfrm>
            <a:off x="3575160" y="595440"/>
            <a:ext cx="5111640" cy="5208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головною рушійною силою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ідродження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, отже, головною дійовою особою, була сама пані Тетчер. Саме її переконання, її енергія і авторитет забезпечили перетворення тетчеризму в логічно обгрунтовану доктрину, послідовно і широко застосовувалася на практи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У листопаді 1990 р. М. Тетчер пішла у відстав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4" descr="MAIJOR.JPG"/>
          <p:cNvPicPr/>
          <p:nvPr/>
        </p:nvPicPr>
        <p:blipFill>
          <a:blip r:embed="rId1"/>
          <a:stretch/>
        </p:blipFill>
        <p:spPr>
          <a:xfrm>
            <a:off x="4630680" y="1285920"/>
            <a:ext cx="2576520" cy="3286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0040" y="2428560"/>
            <a:ext cx="39290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овим прем’єр-міністром став Джон Мейджор, який прагнув зберегти досягнення тетчеризму. Тривале перебування при владі консерваторів (18 років), які вже не могли запропонувати нічого нового, набридло англійцям. їхні здобутки — зменшення податків, приватизація та інші заходи — вже ставились їм у прови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а виборах 1 травня 1997 р. лейбористи здобули переконливу перемог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4" descr="280px-TonyBlairBasra.JPG"/>
          <p:cNvPicPr/>
          <p:nvPr/>
        </p:nvPicPr>
        <p:blipFill>
          <a:blip r:embed="rId1"/>
          <a:stretch/>
        </p:blipFill>
        <p:spPr>
          <a:xfrm>
            <a:off x="4797360" y="1262160"/>
            <a:ext cx="3132360" cy="4551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3880" y="2143080"/>
            <a:ext cx="34290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тримавши абсолютну більшість місць в обох палатах парламенту,  лейбористи сформували уряд . Прем’єр-міністром став Тоні Бл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500040" y="421488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Лейбористи не обмежились конституційними реформами. Вони започаткували реформи в системі освіти, охороні здоров’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1 травень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4" descr="230px-David_Cameron_official.jpg"/>
          <p:cNvPicPr/>
          <p:nvPr/>
        </p:nvPicPr>
        <p:blipFill>
          <a:blip r:embed="rId1"/>
          <a:stretch/>
        </p:blipFill>
        <p:spPr>
          <a:xfrm>
            <a:off x="4751280" y="1357200"/>
            <a:ext cx="2749680" cy="3670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3880" y="1714320"/>
            <a:ext cx="27860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В багаття із законодавчих досягнень лейбористів полетять введені ними посвідчення особи, частина законів з галузі кримінального права (щоб очистити в'язниці), будуть скасовані лейбористські квоти на імміграцію (її уріжуть), пройде різке скорочення державних витрат, в тому числі і соціальн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4542480" y="571500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Лідер торі Девід Камер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9005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елика Британія 1945-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14920" y="642600"/>
            <a:ext cx="36432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План</a:t>
            </a: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Велика Британія 1945-1970-х рр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2. Ліквідація Британської колоніальної систе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3.Рецепти для лікування  “ хворої людини Європи “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3. “ Тетчеризм 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4. Велика  Британія на поч. ХХІ столітті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2857320"/>
            <a:ext cx="275724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роблем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Чому після втрати першості, внаслідок розпаду Британської колоніальної системи, після страшної “ англійської хвороби ”, Англія  зайняла </a:t>
            </a:r>
            <a:r>
              <a:rPr b="1" lang="uk-UA" sz="1700" spc="-1" strike="noStrike">
                <a:solidFill>
                  <a:srgbClr val="000000"/>
                </a:solidFill>
                <a:latin typeface="Calibri"/>
              </a:rPr>
              <a:t>гідне </a:t>
            </a: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 їй місце у світі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ідсум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Роблячи ставку 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ініціативних і самостійних громадян, Тетчер заявила наступне: "Той, х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готовий працювати більше інших, повинен отримувати найбільшу винагород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і зберігати її після відрахування податків "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Нова лінія в економічній політиці стала відповіддю британських консерваторі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на висунуті сучасним етапом НТР проблеми, які Тетчер, треб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визнати, вловила швидше своїх політичних конкуренті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У Чому цінність досвіду Британії в проблемі виходу з економічної кризи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Традиції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7" descr="1338568415_2.jpg"/>
          <p:cNvPicPr/>
          <p:nvPr/>
        </p:nvPicPr>
        <p:blipFill>
          <a:blip r:embed="rId1"/>
          <a:stretch/>
        </p:blipFill>
        <p:spPr>
          <a:xfrm>
            <a:off x="3643200" y="357120"/>
            <a:ext cx="3524400" cy="2324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і традиції і звичаї Великобританії:- Суворе дотримання законів, правил;- Лівосторонній рух;- Гостинніст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Королівські традиції Англі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Традиції королівського двору найчастіше вдягаються у форму різних церемоній, що виконуються королевою і її сім'є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ВІДКРИТТЯ ПАРЛАМЕН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Королева офіційно відкриває нову сесію парламенту щороку, зазвичай в жовтні або листопаді. Вона разом з Герцогом Единбурзьким відправляється з Букингемського палацу у Вестмінстерський в державній кареті (State Coach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11" descr="1338568621_festi.jpg"/>
          <p:cNvPicPr/>
          <p:nvPr/>
        </p:nvPicPr>
        <p:blipFill>
          <a:blip r:embed="rId2"/>
          <a:stretch/>
        </p:blipFill>
        <p:spPr>
          <a:xfrm>
            <a:off x="4929120" y="3571920"/>
            <a:ext cx="35244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85880" y="356760"/>
            <a:ext cx="26434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ролівські традиці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320" y="571320"/>
            <a:ext cx="385740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Calibri"/>
              </a:rPr>
              <a:t>Прийоми в Королівському сад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700" spc="-1" strike="noStrike">
                <a:solidFill>
                  <a:srgbClr val="000000"/>
                </a:solidFill>
                <a:latin typeface="Calibri"/>
              </a:rPr>
              <a:t>Більше 30 тисяч чоловік відвідують прийоми в Королівському саду щороку. Кожне літо проводиться принаймні три прийоми в Букінгемському палаці і один у Палаці Холірудхаус (the Palace of Holyroodhouse) в Единбурзі. Ці прийоми проводяться з 1860-х років. У 50-х роках нашого 20-го століття кількість прийомів в саду Букингемського палацу збільшили з двох до трьох на рік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1338568592_sorevnovaniya.jpg"/>
          <p:cNvPicPr/>
          <p:nvPr/>
        </p:nvPicPr>
        <p:blipFill>
          <a:blip r:embed="rId1"/>
          <a:stretch/>
        </p:blipFill>
        <p:spPr>
          <a:xfrm>
            <a:off x="642960" y="4000680"/>
            <a:ext cx="3524400" cy="2638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57960" y="1714680"/>
            <a:ext cx="1000080" cy="14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" spc="-1" strike="noStrike">
                <a:solidFill>
                  <a:srgbClr val="000000"/>
                </a:solidFill>
                <a:latin typeface="Calibri"/>
              </a:rPr>
              <a:t>єж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12" descr="velikobritania.jpg"/>
          <p:cNvPicPr/>
          <p:nvPr/>
        </p:nvPicPr>
        <p:blipFill>
          <a:blip r:embed="rId2"/>
          <a:stretch/>
        </p:blipFill>
        <p:spPr>
          <a:xfrm>
            <a:off x="4737240" y="1143000"/>
            <a:ext cx="4294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149976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71720" y="42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Courier New"/>
              </a:rPr>
              <a:t>Наслідки Другої світової війн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71720" y="1643040"/>
          <a:ext cx="6786360" cy="4429080"/>
        </p:xfrm>
        <a:graphic>
          <a:graphicData uri="http://schemas.openxmlformats.org/drawingml/2006/table">
            <a:tbl>
              <a:tblPr/>
              <a:tblGrid>
                <a:gridCol w="1333440"/>
                <a:gridCol w="5452920"/>
              </a:tblGrid>
              <a:tr h="957240">
                <a:tc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ts val="84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Людські втр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760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Загинуло 265 тис. військових (без урахування втрат 100 тис. осі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країн Співдружності 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імперії) та 70 тис. осіб мирного насе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7120">
                <a:tc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ts val="84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матееріаль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Становили чверть національного багатства (ЗО млрд дол.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внутрішній борг збільшився у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рази, зовніш­ній — на 21 млрд фунтів стерлінг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000">
                <a:tc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ts val="84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територіаль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760">
                        <a:lnSpc>
                          <a:spcPts val="1012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Початок отримання незалежності Британськими коло­ні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8280">
                <a:tc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ts val="1023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соціаль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>
                        <a:lnSpc>
                          <a:spcPts val="1023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екоміч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760">
                        <a:lnSpc>
                          <a:spcPts val="1023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Падіння ВВП до рівня 1936—1937 рр. Фінансова і паливна криз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ts val="1023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ts val="1023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Безробіття сягало 2 млн осі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440">
                <a:tc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ts val="84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політич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760">
                        <a:lnSpc>
                          <a:spcPts val="1023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Поразка консерваторів на перших повоєнних виборах, прихід д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ts val="1023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ts val="1023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Courier New"/>
                        </a:rPr>
                        <a:t>влади лейборис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1640" y="356760"/>
            <a:ext cx="4071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артії при влад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396864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ерватор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174760"/>
          <a:ext cx="4040280" cy="4552920"/>
        </p:xfrm>
        <a:graphic>
          <a:graphicData uri="http://schemas.openxmlformats.org/drawingml/2006/table">
            <a:tbl>
              <a:tblPr/>
              <a:tblGrid>
                <a:gridCol w="1346040"/>
                <a:gridCol w="1347840"/>
                <a:gridCol w="1346400"/>
              </a:tblGrid>
              <a:tr h="37152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о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рем'є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арт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04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40-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інстон Черчіл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ерв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284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51-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інстон Черчіл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ерв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55-5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нтоні ід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ерв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248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57-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рольд Макмілла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ерв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284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63-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. Дуглас-Хью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ерв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0-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. Хі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ерв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9-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. Тетч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ерв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90-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. Мейдж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ерв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від Камер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серват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57440" y="928800"/>
            <a:ext cx="43275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йбористи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45080" y="2174760"/>
          <a:ext cx="4041720" cy="3017880"/>
        </p:xfrm>
        <a:graphic>
          <a:graphicData uri="http://schemas.openxmlformats.org/drawingml/2006/table">
            <a:tbl>
              <a:tblPr/>
              <a:tblGrid>
                <a:gridCol w="1347840"/>
                <a:gridCol w="1346040"/>
                <a:gridCol w="1347840"/>
              </a:tblGrid>
              <a:tr h="371520"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о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рем'є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2160" rIns="92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арт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45-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емент Еттл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йбори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64-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рольд Уільс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йбори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4-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рольд Уільс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йбори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6-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. Каллаг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йбори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97-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нтоні Бл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йбори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7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рдон Брау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14960" y="356760"/>
            <a:ext cx="3286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Завдання для груп: порівняти заходи консерваторів і лейбористі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6760" y="213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онсервато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8760" y="1213920"/>
            <a:ext cx="27860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йбор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28720" y="1642680"/>
            <a:ext cx="42577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мент Еттл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9" descr=""/>
          <p:cNvPicPr/>
          <p:nvPr/>
        </p:nvPicPr>
        <p:blipFill>
          <a:blip r:embed="rId1"/>
          <a:stretch/>
        </p:blipFill>
        <p:spPr>
          <a:xfrm>
            <a:off x="6357960" y="2000160"/>
            <a:ext cx="1714320" cy="2238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0" descr=""/>
          <p:cNvPicPr/>
          <p:nvPr/>
        </p:nvPicPr>
        <p:blipFill>
          <a:blip r:embed="rId2"/>
          <a:stretch/>
        </p:blipFill>
        <p:spPr>
          <a:xfrm>
            <a:off x="1285920" y="1571760"/>
            <a:ext cx="2170080" cy="21034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1"/>
          <p:cNvSpPr/>
          <p:nvPr/>
        </p:nvSpPr>
        <p:spPr>
          <a:xfrm>
            <a:off x="368640" y="928800"/>
            <a:ext cx="1866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інстон Черчіл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2" descr=""/>
          <p:cNvPicPr/>
          <p:nvPr/>
        </p:nvPicPr>
        <p:blipFill>
          <a:blip r:embed="rId3"/>
          <a:stretch/>
        </p:blipFill>
        <p:spPr>
          <a:xfrm>
            <a:off x="571680" y="4000680"/>
            <a:ext cx="1895400" cy="2409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3"/>
          <p:cNvSpPr/>
          <p:nvPr/>
        </p:nvSpPr>
        <p:spPr>
          <a:xfrm>
            <a:off x="357480" y="3571920"/>
            <a:ext cx="21679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рольд Макмілл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4" descr=""/>
          <p:cNvPicPr/>
          <p:nvPr/>
        </p:nvPicPr>
        <p:blipFill>
          <a:blip r:embed="rId4"/>
          <a:stretch/>
        </p:blipFill>
        <p:spPr>
          <a:xfrm>
            <a:off x="4500720" y="4429080"/>
            <a:ext cx="2127240" cy="21528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5"/>
          <p:cNvSpPr/>
          <p:nvPr/>
        </p:nvSpPr>
        <p:spPr>
          <a:xfrm>
            <a:off x="4215600" y="3857760"/>
            <a:ext cx="1819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рольд Уільс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00240" y="213840"/>
            <a:ext cx="2500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йбори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14640" y="856800"/>
            <a:ext cx="2717640" cy="10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тоні Бле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8" descr="280px-TonyBlairBasra.JPG"/>
          <p:cNvPicPr/>
          <p:nvPr/>
        </p:nvPicPr>
        <p:blipFill>
          <a:blip r:embed="rId1"/>
          <a:stretch/>
        </p:blipFill>
        <p:spPr>
          <a:xfrm>
            <a:off x="5429160" y="1928880"/>
            <a:ext cx="2928960" cy="4257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120" y="785520"/>
            <a:ext cx="4400640" cy="88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жеймс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ллаг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6" descr=""/>
          <p:cNvPicPr/>
          <p:nvPr/>
        </p:nvPicPr>
        <p:blipFill>
          <a:blip r:embed="rId2"/>
          <a:stretch/>
        </p:blipFill>
        <p:spPr>
          <a:xfrm>
            <a:off x="928800" y="2214720"/>
            <a:ext cx="2857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428400"/>
            <a:ext cx="4071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ерва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3071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жон  Мейджо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6" descr="MAIJOR.JPG"/>
          <p:cNvPicPr/>
          <p:nvPr/>
        </p:nvPicPr>
        <p:blipFill>
          <a:blip r:embed="rId1"/>
          <a:stretch/>
        </p:blipFill>
        <p:spPr>
          <a:xfrm>
            <a:off x="928800" y="2643120"/>
            <a:ext cx="285732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57480" y="1785600"/>
            <a:ext cx="34700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від Камеро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7" descr="230px-David_Cameron_official.jpg"/>
          <p:cNvPicPr/>
          <p:nvPr/>
        </p:nvPicPr>
        <p:blipFill>
          <a:blip r:embed="rId2"/>
          <a:stretch/>
        </p:blipFill>
        <p:spPr>
          <a:xfrm>
            <a:off x="5072040" y="2333520"/>
            <a:ext cx="29289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1-19T18:48:58Z</dcterms:modified>
  <cp:revision>50</cp:revision>
  <dc:subject/>
  <dc:title>Велика Британія 1945-2012</dc:title>
</cp:coreProperties>
</file>