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C11A-BE9E-46D2-8688-9D5BAF3864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C5D3-4F3C-4B7E-AC47-D2389F4D96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506-0363-4C95-BE86-9D402736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031-E1DC-4FDA-9326-EE5A3C2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765FD-C899-4EBF-92AE-AECD572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2032A-73A8-4A4E-B26F-017334D9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4DE5A-064B-4DDB-B3A7-C848AD70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4CF80-8D31-46AE-9E82-EABDF2A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EB7DB-920A-480B-8A73-E40459E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DDF03-5E18-4594-931E-CEC4684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54347-7F80-4005-AF86-6112716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2CE4A-6AC5-49B4-BD62-A2B60920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01BC2-60FF-423A-88C4-8C1CCC20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CD5-6F70-4C82-A010-22E15E0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C94-F6C9-4F8E-BE20-1F468A17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F4A-BFAD-46A1-80B8-6C425DF5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1EEB-4223-4969-8415-1F325CE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90F1-239B-4107-82E1-C5FE50ED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D989-8729-4364-BF14-063DA08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AB48-B19E-4904-9EC1-2BBCF156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9F6-FCC2-45A8-B408-36E63DC1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49FC-25CA-4784-9779-F695C98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0C2-A10A-4AEB-BEF2-AF08AABE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222-0A82-4D26-9BA8-2A70FB7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36A6-7966-4ABF-AC71-6470E6A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F6B1-4CEA-4242-8081-27ED796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5A3B-5961-4575-8DE8-C147AAF0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4FD7-B62C-4BED-BB33-92F21C42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B54C-D628-41D4-8149-C5D427E3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02CE-3BDC-4ECD-AC7E-C20A9C2C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3C05-7856-4E4F-91F5-7DF7EC3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308D-0444-44E2-90F4-CF51B0CD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8411-6B69-4B5E-AA48-A1F6C8A8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C1B-243C-4D4E-B6ED-4E5167D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059C6-1673-4CB3-A0DB-42A497F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C8F9-D405-4BFC-93F8-54EF6C6D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2AB6-E565-426C-B7C0-F2227AE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8247-6F23-4CB4-AAF7-5A035C0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F2C5-6AA6-4E94-848B-44F73197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A384-D92E-42F4-9ECE-515854C9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8CD2-50BC-4FB5-AAC7-79ECBE27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3B9B-6F35-4358-9881-097FDA79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026A-4CE9-4312-B06E-9523CD95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3ED2-E7A1-4BAC-89D6-F54D4163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AB8-13DA-4ECB-B201-17CB4B7A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4301-2AAF-4C03-BB5B-5998ED5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11EB-2716-43C7-9CBC-C391BDBD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6E86-505B-4545-A21A-50C1D29C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E055-FE9F-400C-832D-80D1206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C1C1-0511-458F-BF55-BE0BE39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C287-5A0D-4E23-935B-D02D1FD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95DF-E956-4627-B326-437E02AA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B285-DDBE-43B9-B198-2000F3D6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4A2BC-AC98-4B64-A4A5-43165CCE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FE1CD-FC90-4CB8-ADC8-60D21845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F71-6EFF-41DF-84FA-AA4FC5E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7EB1C-D767-4169-8B36-1898974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7120A-183F-412D-A5C7-79BF9F61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02C59-5128-4A3A-AFC7-1E4EA76F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895C0-566B-42A5-BDD2-A32F223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934C4-D457-4D02-AD14-847E28A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CDDF9-DBF9-474B-B894-DE169ED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B78A8-C821-46F5-8B0A-75201AD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7B635-31AA-40AB-956A-2DAA368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0965C-30E2-4C90-9792-0A6570D5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13EF7-8B68-45DF-9747-3DB8762E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0BD-83F0-48DF-BF48-A441593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77E1B-5F42-42A0-882B-9BF7227B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A5646-812A-46DB-B595-9232F6F3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DAD5-95CB-4F28-938C-9538BE2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5909-B9D4-4E7C-8D93-D196F8D4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DEE2A-917A-4CA7-8270-B87337C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CA5F-9E20-4B56-8942-F306896C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7968A-9829-4B41-AC91-FDC1324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329B-B9A3-4BCF-B723-684E6A45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50E79-3080-4C4F-B3C6-EBF8166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DBD6F-17B0-43FD-BE19-F7DD270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CDA-682B-423F-A015-1D3DB9AD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5164-7094-48FE-B0D9-A5EEBFA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11B9-B160-4ADF-8FE6-33C054ED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5A3F-401D-4771-8259-4F0AEE78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A7969-F8A9-4EE0-AB61-616F1F8F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AC516-4B9C-453F-A60A-2E841E86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C02BF-CA29-4A9C-B0BF-820F4A1E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35347-D15A-457D-87E2-417A3B9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29513-06AA-45C3-9F0C-6FC1F92A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18E79-E0B8-4CF2-96F1-CCA06CE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31022-14FE-4022-9EB8-1B085EA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8EC-FC36-493E-A3C7-B06B082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60E77-32B4-434D-9E03-398FDBE7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4D979-F47F-4F55-9801-0A2AB21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DD727-6207-4B50-A841-5E68DE9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4AA56-0690-4F54-8E46-33D40733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1CDC6-C972-4891-831A-1A77E007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9A83-64EC-4FBB-8413-B86F848E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CA630-E9E3-461A-A3EA-126BDF30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DF973-A723-48B7-BCDC-040F1E5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BB78C-B333-4617-A127-E3D4EEB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7766-94F7-4324-9185-DF1DC394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A71-59F5-4857-8CBD-0B0DCFC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6E191-AA59-4004-BD86-37AF4F11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6210C-D2BD-4871-B250-74B934F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463F-AFDA-4261-AB06-1138BFA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96C8-8658-4A01-8228-B15889B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D229-82B5-4252-BB84-CDA1D52D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C151-CA59-4160-8AC0-C3C26B9A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45823-48F1-4B0D-A366-EFC477B7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FF9BA-3112-470F-A1EB-C029B4C9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EEB89-A16A-489C-A324-98C89F96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68E9A-ACD6-43FD-B227-7F686DA1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CA5-3AFC-422A-BA87-E9161B2E3E0D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03B4-FC5B-4255-BCD8-8968AA18F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ADC9-9DA8-4ECD-9B33-184266A0CDB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6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6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2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6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C2A-3DB7-4433-810A-829E9140D5E7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0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1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2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6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0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1512-22EE-477C-9623-92E884E4AFC8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5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3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6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340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344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52CF-2339-48C3-9B44-1E0FFC5D993F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657-9599-4D8F-979D-F6AE478CB5E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FF4-F83D-4C89-807B-1C29D22DB40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2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5C0F-57E6-4BD8-95C5-339D2299B66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dt" idx="2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D:\Documents and Settings\Admin\Рабочий стол\zima.jpg"/>
          <p:cNvPicPr/>
          <p:nvPr/>
        </p:nvPicPr>
        <p:blipFill>
          <a:blip r:embed="rId1"/>
          <a:stretch/>
        </p:blipFill>
        <p:spPr>
          <a:xfrm>
            <a:off x="-1332000" y="-316080"/>
            <a:ext cx="1144908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586" name="Прямоугольник 3" descr=""/>
          <p:cNvPicPr/>
          <p:nvPr/>
        </p:nvPicPr>
        <p:blipFill>
          <a:blip r:embed="rId2"/>
          <a:stretch/>
        </p:blipFill>
        <p:spPr>
          <a:xfrm>
            <a:off x="1841400" y="353880"/>
            <a:ext cx="5450040" cy="197496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5"/>
          <p:cNvSpPr/>
          <p:nvPr/>
        </p:nvSpPr>
        <p:spPr>
          <a:xfrm>
            <a:off x="0" y="2284560"/>
            <a:ext cx="57531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Monotype Corsiva"/>
              </a:rPr>
              <a:t>Відпочинок</a:t>
            </a:r>
            <a:r>
              <a:rPr b="1" lang="uk-UA" sz="3200" spc="-1" strike="noStrike">
                <a:solidFill>
                  <a:srgbClr val="17375e"/>
                </a:solidFill>
                <a:latin typeface="Monotype Corsiva"/>
              </a:rPr>
              <a:t> — </a:t>
            </a:r>
            <a:r>
              <a:rPr b="1" i="1" lang="uk-UA" sz="3200" spc="-1" strike="noStrike">
                <a:solidFill>
                  <a:srgbClr val="17375e"/>
                </a:solidFill>
                <a:latin typeface="Monotype Corsiva"/>
              </a:rPr>
              <a:t>це зміна д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8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Monotype Corsiva"/>
              </a:rPr>
              <a:t> </a:t>
            </a:r>
            <a:r>
              <a:rPr b="1" i="1" lang="uk-UA" sz="3200" spc="-1" strike="noStrike">
                <a:solidFill>
                  <a:srgbClr val="17375e"/>
                </a:solidFill>
                <a:latin typeface="Monotype Corsiva"/>
              </a:rPr>
              <a:t>Відпочинок</a:t>
            </a:r>
            <a:r>
              <a:rPr b="1" lang="uk-UA" sz="3200" spc="-1" strike="noStrike">
                <a:solidFill>
                  <a:srgbClr val="17375e"/>
                </a:solidFill>
                <a:latin typeface="Monotype Corsiva"/>
              </a:rPr>
              <a:t> — </a:t>
            </a:r>
            <a:r>
              <a:rPr b="1" i="1" lang="uk-UA" sz="3200" spc="-1" strike="noStrike">
                <a:solidFill>
                  <a:srgbClr val="17375e"/>
                </a:solidFill>
                <a:latin typeface="Monotype Corsiva"/>
              </a:rPr>
              <a:t>це проведення деякого часу без звичних з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8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7375e"/>
                </a:solidFill>
                <a:latin typeface="Monotype Corsiva"/>
              </a:rPr>
              <a:t>(За тлумачним словник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Волна 4" descr=""/>
          <p:cNvPicPr/>
          <p:nvPr/>
        </p:nvPicPr>
        <p:blipFill>
          <a:blip r:embed="rId3"/>
          <a:stretch/>
        </p:blipFill>
        <p:spPr>
          <a:xfrm>
            <a:off x="3449520" y="3382920"/>
            <a:ext cx="4604040" cy="253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1876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c00000"/>
                </a:solidFill>
                <a:latin typeface="Monotype Corsiva"/>
              </a:rPr>
              <a:t>Самостійна робота</a:t>
            </a:r>
            <a:endParaRPr b="0" lang="en-US" sz="6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851280" cy="5111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Users\Администратор\Pictures\shablony_prezentaziy_3.webp"/>
          <p:cNvPicPr/>
          <p:nvPr/>
        </p:nvPicPr>
        <p:blipFill>
          <a:blip r:embed="rId2"/>
          <a:stretch/>
        </p:blipFill>
        <p:spPr>
          <a:xfrm>
            <a:off x="4645080" y="1413000"/>
            <a:ext cx="3959280" cy="5111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3168720" cy="3888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" descr=""/>
          <p:cNvPicPr/>
          <p:nvPr/>
        </p:nvPicPr>
        <p:blipFill>
          <a:blip r:embed="rId4"/>
          <a:stretch/>
        </p:blipFill>
        <p:spPr>
          <a:xfrm>
            <a:off x="5003640" y="1989000"/>
            <a:ext cx="3203640" cy="3888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10"/>
          <p:cNvSpPr/>
          <p:nvPr/>
        </p:nvSpPr>
        <p:spPr>
          <a:xfrm>
            <a:off x="1285920" y="2274840"/>
            <a:ext cx="271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-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.25, №1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5429160" y="2328840"/>
            <a:ext cx="278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-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.26, №5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13880" y="404280"/>
            <a:ext cx="7858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Відповіді до самостійної роботи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851280" cy="5111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C:\Users\Администратор\Pictures\shablony_prezentaziy_3.webp"/>
          <p:cNvPicPr/>
          <p:nvPr/>
        </p:nvPicPr>
        <p:blipFill>
          <a:blip r:embed="rId2"/>
          <a:stretch/>
        </p:blipFill>
        <p:spPr>
          <a:xfrm>
            <a:off x="4645080" y="1413000"/>
            <a:ext cx="3959280" cy="5111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3168720" cy="388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4"/>
          <a:stretch/>
        </p:blipFill>
        <p:spPr>
          <a:xfrm>
            <a:off x="5003640" y="1989000"/>
            <a:ext cx="3203640" cy="3888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9"/>
          <p:cNvSpPr/>
          <p:nvPr/>
        </p:nvSpPr>
        <p:spPr>
          <a:xfrm>
            <a:off x="1071720" y="2365560"/>
            <a:ext cx="300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. х</a:t>
            </a:r>
            <a:r>
              <a:rPr b="1" lang="uk-UA" sz="3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8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 х</a:t>
            </a:r>
            <a:r>
              <a:rPr b="1" lang="uk-UA" sz="3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8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).1/у</a:t>
            </a:r>
            <a:r>
              <a:rPr b="1" lang="uk-UA" sz="3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 1/у</a:t>
            </a:r>
            <a:r>
              <a:rPr b="1" lang="uk-UA" sz="3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).10</a:t>
            </a:r>
            <a:r>
              <a:rPr b="1" lang="uk-UA" sz="3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2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 10</a:t>
            </a:r>
            <a:r>
              <a:rPr b="1" lang="uk-UA" sz="36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6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).9/25; -9/4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5286240" y="2487240"/>
            <a:ext cx="271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).   3*10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7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*10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7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).   16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7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1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4" name="Блок-схема: несколько документов 2"/>
          <p:cNvGrpSpPr/>
          <p:nvPr/>
        </p:nvGrpSpPr>
        <p:grpSpPr>
          <a:xfrm>
            <a:off x="1805040" y="871560"/>
            <a:ext cx="5686200" cy="1871640"/>
            <a:chOff x="1805040" y="871560"/>
            <a:chExt cx="5686200" cy="1871640"/>
          </a:xfrm>
        </p:grpSpPr>
        <p:pic>
          <p:nvPicPr>
            <p:cNvPr id="605" name="Блок-схема: несколько документов 2" descr=""/>
            <p:cNvPicPr/>
            <p:nvPr/>
          </p:nvPicPr>
          <p:blipFill>
            <a:blip r:embed="rId2"/>
            <a:stretch/>
          </p:blipFill>
          <p:spPr>
            <a:xfrm>
              <a:off x="1805040" y="871560"/>
              <a:ext cx="56862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2195640" y="1262160"/>
              <a:ext cx="446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ff0000"/>
                  </a:solidFill>
                  <a:latin typeface="Monotype Corsiva"/>
                </a:rPr>
                <a:t>На  уроці  я…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7" name="Прямоугольник 4" descr=""/>
          <p:cNvPicPr/>
          <p:nvPr/>
        </p:nvPicPr>
        <p:blipFill>
          <a:blip r:embed="rId3"/>
          <a:stretch/>
        </p:blipFill>
        <p:spPr>
          <a:xfrm>
            <a:off x="4181400" y="2670120"/>
            <a:ext cx="264024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9" name="Rectangle 6"/>
          <p:cNvSpPr/>
          <p:nvPr/>
        </p:nvSpPr>
        <p:spPr>
          <a:xfrm>
            <a:off x="1428840" y="977040"/>
            <a:ext cx="7429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Як називається вираз 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Який показник степеня 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00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Основа степеня 2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9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є число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Показник степеня 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є число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исло а в степені 3. А як ще можна назвати цей вир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Дано ( 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3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5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Яку дію треба виконати над показником, щоб піднести степінь до степе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Напишіть замість х показник степеня :  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0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*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=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9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а</a:t>
            </a:r>
            <a:r>
              <a:rPr b="1" lang="uk-UA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исло а в степені 2. А як ще можна назвати цей вир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2786040" y="267840"/>
            <a:ext cx="42148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548dd4"/>
                </a:solidFill>
                <a:uFillTx/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548dd4"/>
                </a:solidFill>
                <a:uFillTx/>
                <a:latin typeface="Times New Roman"/>
                <a:ea typeface="Calibri"/>
              </a:rPr>
              <a:t>Запитання до кросвор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1928880" y="1215000"/>
            <a:ext cx="592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Дом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.</a:t>
            </a: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завд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Повторити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 </a:t>
            </a: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п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.8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№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19,24,</a:t>
            </a: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с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.11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Додатково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№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27,</a:t>
            </a:r>
            <a:r>
              <a:rPr b="1" lang="uk-UA" sz="3200" spc="-1" strike="noStrike">
                <a:solidFill>
                  <a:srgbClr val="bf4d00"/>
                </a:solidFill>
                <a:latin typeface="Calibri"/>
                <a:ea typeface="Calibri"/>
              </a:rPr>
              <a:t>с</a:t>
            </a:r>
            <a:r>
              <a:rPr b="1" lang="uk-UA" sz="3200" spc="-1" strike="noStrike">
                <a:solidFill>
                  <a:srgbClr val="bf4d00"/>
                </a:solidFill>
                <a:latin typeface="comic"/>
                <a:ea typeface="Calibri"/>
              </a:rPr>
              <a:t>.11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2143080" y="369000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f3400"/>
                </a:solidFill>
                <a:latin typeface="Times New Roman"/>
                <a:ea typeface="Calibri"/>
              </a:rPr>
              <a:t>Дякую</a:t>
            </a:r>
            <a:r>
              <a:rPr b="1" lang="uk-UA" sz="4000" spc="-1" strike="noStrike">
                <a:solidFill>
                  <a:srgbClr val="7f3400"/>
                </a:solidFill>
                <a:latin typeface="comic"/>
                <a:ea typeface="Calibri"/>
              </a:rPr>
              <a:t> </a:t>
            </a:r>
            <a:r>
              <a:rPr b="1" lang="uk-UA" sz="4000" spc="-1" strike="noStrike">
                <a:solidFill>
                  <a:srgbClr val="7f3400"/>
                </a:solidFill>
                <a:latin typeface="Times New Roman"/>
                <a:ea typeface="Calibri"/>
              </a:rPr>
              <a:t>за</a:t>
            </a:r>
            <a:r>
              <a:rPr b="1" lang="uk-UA" sz="4000" spc="-1" strike="noStrike">
                <a:solidFill>
                  <a:srgbClr val="7f3400"/>
                </a:solidFill>
                <a:latin typeface="comic"/>
                <a:ea typeface="Calibri"/>
              </a:rPr>
              <a:t> </a:t>
            </a:r>
            <a:r>
              <a:rPr b="1" lang="uk-UA" sz="4000" spc="-1" strike="noStrike">
                <a:solidFill>
                  <a:srgbClr val="7f3400"/>
                </a:solidFill>
                <a:latin typeface="Times New Roman"/>
                <a:ea typeface="Calibri"/>
              </a:rPr>
              <a:t>урок</a:t>
            </a:r>
            <a:r>
              <a:rPr b="1" lang="uk-UA" sz="4000" spc="-1" strike="noStrike">
                <a:solidFill>
                  <a:srgbClr val="7f3400"/>
                </a:solidFill>
                <a:latin typeface="comic"/>
                <a:ea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D:\Documents and Settings\Admin\Рабочий стол\Піфагор.jpg"/>
          <p:cNvPicPr/>
          <p:nvPr/>
        </p:nvPicPr>
        <p:blipFill>
          <a:blip r:embed="rId2"/>
          <a:stretch/>
        </p:blipFill>
        <p:spPr>
          <a:xfrm>
            <a:off x="453960" y="136440"/>
            <a:ext cx="3467160" cy="2590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D:\Documents and Settings\Admin\Рабочий стол\Декарт.jpg"/>
          <p:cNvPicPr/>
          <p:nvPr/>
        </p:nvPicPr>
        <p:blipFill>
          <a:blip r:embed="rId3"/>
          <a:stretch/>
        </p:blipFill>
        <p:spPr>
          <a:xfrm>
            <a:off x="5003640" y="-171360"/>
            <a:ext cx="2737080" cy="2882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D:\Documents and Settings\Admin\Рабочий стол\джон.png"/>
          <p:cNvPicPr/>
          <p:nvPr/>
        </p:nvPicPr>
        <p:blipFill>
          <a:blip r:embed="rId4"/>
          <a:stretch/>
        </p:blipFill>
        <p:spPr>
          <a:xfrm>
            <a:off x="900000" y="3141720"/>
            <a:ext cx="2808360" cy="2590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D:\Documents and Settings\Admin\Рабочий стол\Ньютон.jpg"/>
          <p:cNvPicPr/>
          <p:nvPr/>
        </p:nvPicPr>
        <p:blipFill>
          <a:blip r:embed="rId5"/>
          <a:stretch/>
        </p:blipFill>
        <p:spPr>
          <a:xfrm>
            <a:off x="5003640" y="3213000"/>
            <a:ext cx="2311560" cy="261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D:\Documents and Settings\Admin\Рабочий стол\Ломоносов.jpg"/>
          <p:cNvPicPr/>
          <p:nvPr/>
        </p:nvPicPr>
        <p:blipFill>
          <a:blip r:embed="rId2"/>
          <a:stretch/>
        </p:blipFill>
        <p:spPr>
          <a:xfrm>
            <a:off x="468360" y="2708280"/>
            <a:ext cx="2367000" cy="323208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6"/>
          <p:cNvSpPr/>
          <p:nvPr/>
        </p:nvSpPr>
        <p:spPr>
          <a:xfrm>
            <a:off x="3276720" y="285480"/>
            <a:ext cx="507528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хай будь-хто спробує викреслити 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матики степен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 він побачить, що без них далеко не поїдеш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.В.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3000240" y="890280"/>
            <a:ext cx="557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Перевіряємо домашнє завдання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3786120" y="199836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№</a:t>
            </a: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204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                        </a:t>
            </a: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у=10/х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А(2;5) </a:t>
            </a:r>
            <a:r>
              <a:rPr b="1" lang="uk-UA" sz="2400" spc="-1" strike="noStrike">
                <a:solidFill>
                  <a:srgbClr val="333a1d"/>
                </a:solidFill>
                <a:latin typeface="Calibri"/>
                <a:ea typeface="Calibri"/>
              </a:rPr>
              <a:t>–</a:t>
            </a: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 так;       С(1/4;2,5) </a:t>
            </a:r>
            <a:r>
              <a:rPr b="1" lang="uk-UA" sz="2400" spc="-1" strike="noStrike">
                <a:solidFill>
                  <a:srgbClr val="333a1d"/>
                </a:solidFill>
                <a:latin typeface="Calibri"/>
                <a:ea typeface="Calibri"/>
              </a:rPr>
              <a:t>–</a:t>
            </a: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К(-10;1)- ні;         М(-3;3,3) </a:t>
            </a:r>
            <a:r>
              <a:rPr b="1" lang="uk-UA" sz="2400" spc="-1" strike="noStrike">
                <a:solidFill>
                  <a:srgbClr val="333a1d"/>
                </a:solidFill>
                <a:latin typeface="Calibri"/>
                <a:ea typeface="Calibri"/>
              </a:rPr>
              <a:t>–</a:t>
            </a: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н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В(1/2;20) </a:t>
            </a:r>
            <a:r>
              <a:rPr b="1" lang="uk-UA" sz="2400" spc="-1" strike="noStrike">
                <a:solidFill>
                  <a:srgbClr val="333a1d"/>
                </a:solidFill>
                <a:latin typeface="Calibri"/>
                <a:ea typeface="Calibri"/>
              </a:rPr>
              <a:t>–</a:t>
            </a:r>
            <a:r>
              <a:rPr b="1" lang="uk-UA" sz="2400" spc="-1" strike="noStrike">
                <a:solidFill>
                  <a:srgbClr val="333a1d"/>
                </a:solidFill>
                <a:latin typeface="Times New Roman"/>
                <a:ea typeface="Calibri"/>
              </a:rPr>
              <a:t>так;    F(-2/5;-25)-так</a:t>
            </a:r>
            <a:r>
              <a:rPr b="1" lang="uk-UA" sz="1800" spc="-1" strike="noStrike">
                <a:solidFill>
                  <a:srgbClr val="333a1d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857760" y="39380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№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  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1).4х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-4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у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6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;           4).2х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2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у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4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  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2).27х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6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у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-6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;         5).1/4х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2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  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3).5х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2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у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6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;            6).27х</a:t>
            </a:r>
            <a:r>
              <a:rPr b="1" lang="uk-UA" sz="3200" spc="-1" strike="noStrike" baseline="30000">
                <a:solidFill>
                  <a:srgbClr val="333a1d"/>
                </a:solidFill>
                <a:latin typeface="Times New Roman"/>
                <a:ea typeface="Calibri"/>
              </a:rPr>
              <a:t>-4</a:t>
            </a:r>
            <a:r>
              <a:rPr b="1" lang="uk-UA" sz="3200" spc="-1" strike="noStrike">
                <a:solidFill>
                  <a:srgbClr val="333a1d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"/>
          <p:cNvGraphicFramePr/>
          <p:nvPr/>
        </p:nvGraphicFramePr>
        <p:xfrm>
          <a:off x="684360" y="476280"/>
          <a:ext cx="2736720" cy="2471760"/>
        </p:xfrm>
        <a:graphic>
          <a:graphicData uri="http://schemas.openxmlformats.org/drawingml/2006/table">
            <a:tbl>
              <a:tblPr/>
              <a:tblGrid>
                <a:gridCol w="890280"/>
                <a:gridCol w="911520"/>
                <a:gridCol w="934920"/>
              </a:tblGrid>
              <a:tr h="79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</a:tr>
              <a:tr h="80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</a:tr>
              <a:tr h="862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556000" y="3429000"/>
          <a:ext cx="2803320" cy="2583000"/>
        </p:xfrm>
        <a:graphic>
          <a:graphicData uri="http://schemas.openxmlformats.org/drawingml/2006/table">
            <a:tbl>
              <a:tblPr/>
              <a:tblGrid>
                <a:gridCol w="912600"/>
                <a:gridCol w="933480"/>
                <a:gridCol w="957240"/>
              </a:tblGrid>
              <a:tr h="836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</a:tr>
              <a:tr h="84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</a:tr>
              <a:tr h="90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3600" spc="-1" strike="noStrike" baseline="30000">
                          <a:solidFill>
                            <a:srgbClr val="333a1d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b160"/>
                    </a:solidFill>
                  </a:tcPr>
                </a:tc>
              </a:tr>
            </a:tbl>
          </a:graphicData>
        </a:graphic>
      </p:graphicFrame>
      <p:pic>
        <p:nvPicPr>
          <p:cNvPr id="568" name="Picture 5" descr="Рисунок15"/>
          <p:cNvPicPr/>
          <p:nvPr/>
        </p:nvPicPr>
        <p:blipFill>
          <a:blip r:embed="rId1"/>
          <a:stretch/>
        </p:blipFill>
        <p:spPr>
          <a:xfrm>
            <a:off x="5651640" y="126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0" name="Прямоугольник 2" descr=""/>
          <p:cNvPicPr/>
          <p:nvPr/>
        </p:nvPicPr>
        <p:blipFill>
          <a:blip r:embed="rId2"/>
          <a:stretch/>
        </p:blipFill>
        <p:spPr>
          <a:xfrm>
            <a:off x="426960" y="360360"/>
            <a:ext cx="6613560" cy="1103400"/>
          </a:xfrm>
          <a:prstGeom prst="rect">
            <a:avLst/>
          </a:prstGeom>
          <a:ln w="0">
            <a:noFill/>
          </a:ln>
        </p:spPr>
      </p:pic>
      <p:pic>
        <p:nvPicPr>
          <p:cNvPr id="571" name="Прямоугольник 3" descr=""/>
          <p:cNvPicPr/>
          <p:nvPr/>
        </p:nvPicPr>
        <p:blipFill>
          <a:blip r:embed="rId3"/>
          <a:stretch/>
        </p:blipFill>
        <p:spPr>
          <a:xfrm>
            <a:off x="317520" y="1450800"/>
            <a:ext cx="8582040" cy="4615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424242"/>
              </a:solidFill>
              <a:latin typeface="Century Gothic"/>
            </a:endParaRPr>
          </a:p>
        </p:txBody>
      </p:sp>
      <p:pic>
        <p:nvPicPr>
          <p:cNvPr id="574" name="Picture 2" descr="C:\Users\Администратор\Pictures\shablony_prezentaziy_3.webp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575" name="Прямоугольник 4" descr=""/>
          <p:cNvPicPr/>
          <p:nvPr/>
        </p:nvPicPr>
        <p:blipFill>
          <a:blip r:embed="rId2"/>
          <a:stretch/>
        </p:blipFill>
        <p:spPr>
          <a:xfrm>
            <a:off x="1852560" y="500040"/>
            <a:ext cx="7291440" cy="2859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C:\Users\RUSLANA\Desktop\Успіх\sova.jpg"/>
          <p:cNvPicPr/>
          <p:nvPr/>
        </p:nvPicPr>
        <p:blipFill>
          <a:blip r:embed="rId3"/>
          <a:stretch/>
        </p:blipFill>
        <p:spPr>
          <a:xfrm>
            <a:off x="463680" y="438120"/>
            <a:ext cx="2035080" cy="23353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C:\Users\RUSLANA\Desktop\Успіх\Нова  папка.jpg"/>
          <p:cNvPicPr/>
          <p:nvPr/>
        </p:nvPicPr>
        <p:blipFill>
          <a:blip r:embed="rId4"/>
          <a:stretch/>
        </p:blipFill>
        <p:spPr>
          <a:xfrm>
            <a:off x="6918480" y="4737240"/>
            <a:ext cx="1950840" cy="21207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8"/>
          <p:cNvSpPr/>
          <p:nvPr/>
        </p:nvSpPr>
        <p:spPr>
          <a:xfrm>
            <a:off x="1785960" y="343620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епінь з цілим показником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2"/>
          <p:cNvSpPr/>
          <p:nvPr/>
        </p:nvSpPr>
        <p:spPr>
          <a:xfrm>
            <a:off x="468360" y="1859040"/>
            <a:ext cx="8136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4"/>
          <p:cNvSpPr/>
          <p:nvPr/>
        </p:nvSpPr>
        <p:spPr>
          <a:xfrm>
            <a:off x="571680" y="1028880"/>
            <a:ext cx="8001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bf4d00"/>
                </a:solidFill>
                <a:latin typeface="Arial"/>
              </a:rPr>
              <a:t>Мета уроку: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кріплення й усвідомлення раніше засвоєного матеріалу – поняття степеня з цілим показник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вміння застосовувати властивості степеня до розв’язання впра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пізнавальної активності учнів, інтересу до вивчення теми, логічного мисленн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овання інформаційної компетентності, уваги, старанності, культури математичної мови й запису, впевненості у своїх си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D:\Documents and Settings\Admin\Рабочий стол\winter-landscapes-17-600x600.jpg"/>
          <p:cNvPicPr/>
          <p:nvPr/>
        </p:nvPicPr>
        <p:blipFill>
          <a:blip r:embed="rId1"/>
          <a:stretch/>
        </p:blipFill>
        <p:spPr>
          <a:xfrm>
            <a:off x="-324000" y="-316080"/>
            <a:ext cx="97203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7:57:31Z</dcterms:created>
  <dc:creator>DNA7 X86</dc:creator>
  <dc:description/>
  <dc:language>en-US</dc:language>
  <cp:lastModifiedBy>Марія Миколаївна</cp:lastModifiedBy>
  <dcterms:modified xsi:type="dcterms:W3CDTF">2018-01-24T10:41:4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39000000000001024140</vt:lpwstr>
  </property>
</Properties>
</file>