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CB6-7278-42F0-A9B8-D53F352F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84B-3212-47E5-A913-E8DA4407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1294E-29C4-4066-9CC3-9A9E3469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DB524-3144-4440-801D-5903BA81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8EFF7-BF85-4621-85D5-9766237B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C848E-F7A1-40D0-88C9-05CB73FF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ABD5F-5B92-49E6-9E76-D354E665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EFD60-D2EC-42A8-8768-8A87D74C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AAC03-ECDF-4ADE-BFF3-1BF31A04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DD1CC-FBE5-4727-B7B9-AFC46B01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05233-76E9-4117-BC7A-703ABBC8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09092-31EF-4388-A744-041901BF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5CC-9A4C-4A17-8346-192C5FEB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EB70F-CF50-49C7-B5B5-357EAC4D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DF94B-D69E-4FE7-AB36-D3856DC7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3C606-3D44-4B86-B1AD-EA4162B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2EC28-4F7C-4DC8-85FE-AC90AFE7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175BB-3E4A-456C-BBA0-EF8DD11E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BEA66-D0CE-41D5-9231-98D63241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4A634-22E4-4736-ABF5-1026826B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F0910-478F-4CAB-BE30-E3DB1782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BA4F4-1D64-48DE-9412-D59CA794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B0A0A-348A-4B98-8264-C92AE904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38B-F3A7-4D09-BBDC-25872350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7987F-C73D-45D3-A099-8301F2D9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2A484-A02A-4B89-BF89-0B16FA63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E8C52-985E-4433-9E64-BCCBFDC5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63B0-F49B-42D5-930A-88E2D0B1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D9A3D-4AD2-42EA-B5A9-EC44B019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B6AC2-40A1-408B-B275-37A618CE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D6A4F-52E0-4FB3-86CC-FC64CA42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A970D-CFBC-465C-ABEC-8301DEA2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92881-4A3D-4494-9000-8C91FB17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B5547-86BF-4E15-A159-C74B36E8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7075-75F1-4BFC-9BC2-D124C0C2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57C64-680F-4A35-BFAE-D024F9C8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B0B17-E5C9-4C4B-BEBB-86CF72EC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52EB8-AFAD-4765-B450-66A1959C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FC58-6B8C-480E-B189-5B0A6E9B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0A3A-B27B-4F7F-BFF7-1FE7AB00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71CD-8E0B-4C6E-83E6-FA458CF8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F283-1F89-4DD2-AFD2-6800F10F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AD21-AF2E-4E39-BE3D-98936D07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1A2D-7C1B-4092-B7B1-591FFB01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300-09F4-4A2F-A3B5-E951EE69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3027-895D-460D-AD95-066F1947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F0D6-E720-4AD1-A79D-AD53193F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7687-9D31-4CF9-B62C-DFE81128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9C04-9117-4428-8255-D489CC10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CE00-5DDC-41C7-8892-328FCCE3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CD21-4DEB-4DA1-8DDD-BF0C1AA2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046A5-EED0-4452-BB17-9BDF1F49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7840-38C9-49B8-A9C5-5939F804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34A5-8DC2-47F6-BC57-372AE6A1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713E-7463-4838-99D5-6D291CDB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93B-FE6B-41DC-8625-D0874C10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1B90A-BDF9-45C7-9A42-92898F53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262C-14ED-4C16-A313-1317DE12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A23E-2AEA-453E-91D4-002B87CA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1F86-3382-436F-8935-1794B04F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B11F-8CF1-45D9-B721-074C59AD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223C-31F4-4C5E-8362-6AEA62A9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FC62A-3545-4630-9D9C-04162BF0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2A2E1-1EF2-4755-9248-6068C0E7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18527-0F30-484E-9EBB-59628A4B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423C4-F41B-4A6C-B8D4-99DD9A79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9BA-3FEC-495C-B511-FCE30ADA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BD74F-4390-4BE7-9336-40E746EF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C05A-EAA6-4837-BBC4-4DBF7510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90828-13B7-4979-86BF-9D964986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FED54-51B9-49EF-9C68-DC0287B6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72ECF-2327-4AC8-96B7-A745787C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D00B-D9EC-4040-891C-BB78FEBB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0580-7F4B-4131-B89A-30AC71DD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F5409-57A6-43CA-A03E-4176FBFB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53AE7-A271-41BF-B008-54419B9A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F1061-4831-49D2-81D3-FBD424A7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356-8103-47CA-AD3A-52F5514C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DDCA-72CD-494E-9ED2-B70C8A5F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B7924-DFCE-4FB5-B45D-96353B36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05B55-ADDB-405E-8DC6-05C63C55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3F8A8-0C47-490F-8C09-EE5BD217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1312C-6D55-4E60-9210-9F99D877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21ACA-B17E-4277-8F55-FBCAB7EF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FFA2D-1DC5-4695-B650-641F5049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88CFE-8EB2-4C55-A1AF-C75EACD7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11948-D892-4905-AB8B-74620A35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E491A-C692-48EC-B755-6AF666A9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EBC-9904-4E0C-8A50-90DC97F7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8333F-9F73-45E6-A206-F00DC0C8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B629D-6693-4599-A233-81697C72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A99A6-AF65-4A59-AFBB-8C1488C8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64C88-A762-4E45-9302-EEF5DD18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2F486-BF88-4AA5-9077-CFB20073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EC34BC-85ED-4240-8847-BD9F7F93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245E5-255C-44E2-A2CD-353C65F6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00A7E-EECE-4D9A-8E22-D4E8210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BEFDC-11D6-45C7-A33A-6BFE8C24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75F05-AABA-4434-8E7A-ED0D2BC8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A96-EE8C-4388-A528-F3DAF67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8387E-9026-44A8-9220-3B25D81E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D447F-C6D5-4954-8FAD-960523BA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E3F1B-CB54-401C-8346-097C7A40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8B90B-0467-4B5B-A8A1-BF100FFD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1F8B8-799E-4235-A7E3-F3B4ABDF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40D48-1CF3-47C5-87E3-FD97B55F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FAE74-F73B-4EF0-A701-F298837F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34733-2325-474B-B75B-3572C858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EA4D8-E358-4A48-85CE-A5574DA8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79961-3AE7-482A-8CFA-0935BE32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7FA-3188-440D-AEF9-9492E784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DF13FC-0472-4BB9-BF3E-FDE9AD65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88A04-B13B-4C41-A286-491FC6EB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11CD1-78CC-4EA6-9329-A4318BDC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097AB-7C02-4B2A-9E3D-C3FF3754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EB76BA-44FA-47E6-9774-C065D729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7F2C9-E19E-4017-B7C5-22243F32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78004-B260-4BDC-B354-63147834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A64DC-A698-436E-9829-4F7C504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2765A-D9A3-483E-8267-E149A3D1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01684-06BE-4F61-8F1B-AD962237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673-6D56-4EBE-8E46-B8763ABB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99233-88C6-4CF7-A7EB-51F016B0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140DB-F92F-40AC-9373-E952DC5A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6E5D0-AD27-4EB3-9841-467FCA5E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34ED7-C977-45C8-9C1E-E9ADCF80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C8AED-C243-4F5F-B0A2-D958DE16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6265A-2446-4AEA-A54A-74AC59D0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D7822-5E4C-4F5A-92F6-06957812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830D4-D51F-4D4D-9CB2-DA78C6E5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771DD-CCE8-45E9-9861-04028129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D9315-867B-48B0-9248-56B4B3A9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2E5F-78F1-4554-B546-E4117DB8FBA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9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C5A5-52D3-463F-A764-8984AFE73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6BBF-9A63-46ED-9E06-775B1F9D2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1C79-1D38-41FE-9F02-80274EB32AA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5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669C-313D-4775-8A44-7636C7A211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4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7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9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1875-9B8C-429A-A272-61E3239889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1D30-2480-4E17-B5AF-30FFFF37A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118E-3AF5-4267-9F6B-B9083D979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65C1-263A-495F-A929-F942970035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8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BE0C-3989-42A9-AB1F-38E3631C3A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4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8BD2-895F-4A1B-8839-8ED2A2A01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4360" y="3141720"/>
            <a:ext cx="77724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Monotype Corsiva"/>
              </a:rPr>
              <a:t>Речення  прості і складні,</a:t>
            </a:r>
            <a:br>
              <a:rPr sz="4400"/>
            </a:br>
            <a:r>
              <a:rPr b="1" i="1" lang="uk-UA" sz="4400" spc="-1" strike="noStrike">
                <a:solidFill>
                  <a:srgbClr val="0000ff"/>
                </a:solidFill>
                <a:latin typeface="Monotype Corsiva"/>
              </a:rPr>
              <a:t>двоскладні й односкладні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"/>
          <p:cNvSpPr txBox="1"/>
          <p:nvPr/>
        </p:nvSpPr>
        <p:spPr>
          <a:xfrm rot="20439600">
            <a:off x="1042920" y="1125000"/>
            <a:ext cx="6229440" cy="1940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ема уро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-468360" y="314172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Monotype Corsiva"/>
              </a:rPr>
              <a:t>“ </a:t>
            </a:r>
            <a:r>
              <a:rPr b="1" lang="uk-UA" sz="4400" spc="-1" strike="noStrike">
                <a:solidFill>
                  <a:srgbClr val="ffff00"/>
                </a:solidFill>
                <a:latin typeface="Monotype Corsiva"/>
              </a:rPr>
              <a:t>Найвища  і  найчистіша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Monotype Corsiva"/>
              </a:rPr>
              <a:t>краса  світу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Monotype Corsiva"/>
              </a:rPr>
              <a:t>у  жінці-матері 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1979640" y="476280"/>
            <a:ext cx="4248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Епіграф урок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ccff"/>
                </a:solidFill>
                <a:latin typeface="Book Antiqua"/>
              </a:rPr>
              <a:t>Робота з підручником</a:t>
            </a:r>
            <a:br>
              <a:rPr sz="4000"/>
            </a:br>
            <a:r>
              <a:rPr b="0" lang="uk-UA" sz="4000" spc="-1" strike="noStrike">
                <a:solidFill>
                  <a:srgbClr val="ccccff"/>
                </a:solidFill>
                <a:latin typeface="Book Antiqua"/>
              </a:rPr>
              <a:t>Технологія “ Перефразування 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b7c533"/>
                </a:solidFill>
                <a:latin typeface="Bookman Old Style"/>
              </a:rPr>
              <a:t>Прочитайте  парагра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b7c533"/>
                </a:solidFill>
                <a:latin typeface="Bookman Old Style"/>
              </a:rPr>
              <a:t>Перекажіть своєму сусідов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b7c533"/>
                </a:solidFill>
                <a:latin typeface="Bookman Old Style"/>
              </a:rPr>
              <a:t>Сусід, прослухавши виклад змісту, передасть його своє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b7c533"/>
                </a:solidFill>
                <a:latin typeface="Bookman Old Style"/>
              </a:rPr>
              <a:t>Переказувати почне словами: “ Якщо я тебе правильно зрозумів, що…”, “Чи правильно я тебе зрозумів, що…”, “ Ти маєш на увазі, що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Bookman Old Style"/>
              </a:rPr>
              <a:t>Синтаксичний</a:t>
            </a:r>
            <a:r>
              <a:rPr b="1" i="1" lang="uk-UA" sz="3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i="1" lang="uk-UA" sz="2000" spc="-1" strike="noStrike">
                <a:solidFill>
                  <a:srgbClr val="ffff00"/>
                </a:solidFill>
                <a:latin typeface="Bookman Old Style"/>
              </a:rPr>
              <a:t>розбір</a:t>
            </a:r>
            <a:r>
              <a:rPr b="1" i="1" lang="uk-UA" sz="3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i="1" lang="uk-UA" sz="2000" spc="-1" strike="noStrike">
                <a:solidFill>
                  <a:srgbClr val="ffff00"/>
                </a:solidFill>
                <a:latin typeface="Bookman Old Style"/>
              </a:rPr>
              <a:t>простого</a:t>
            </a:r>
            <a:r>
              <a:rPr b="1" i="1" lang="uk-UA" sz="3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i="1" lang="uk-UA" sz="2000" spc="-1" strike="noStrike">
                <a:solidFill>
                  <a:srgbClr val="ffff00"/>
                </a:solidFill>
                <a:latin typeface="Bookman Old Style"/>
              </a:rPr>
              <a:t>речення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468360" y="476280"/>
          <a:ext cx="8229600" cy="5619600"/>
        </p:xfrm>
        <a:graphic>
          <a:graphicData uri="http://schemas.openxmlformats.org/drawingml/2006/table">
            <a:tbl>
              <a:tblPr/>
              <a:tblGrid>
                <a:gridCol w="4906800"/>
                <a:gridCol w="2303640"/>
                <a:gridCol w="1019160"/>
              </a:tblGrid>
              <a:tr h="37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1. За будовою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прост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склад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2. За метою висловлювання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розповід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питаль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спонукаль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3. За емоційним забарвленням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неоклич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оклич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4. За граматичною основою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двосклад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односклад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5. За наявністю другорядних членів речення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непошире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пошире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6. За наявністю необхідних членів речення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пов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непов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7. За наявністю ускладнюючих елементів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неускладне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ускладнене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Monotype Corsiva"/>
              </a:rPr>
              <a:t>Самодиктан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атері... Все жит..я   дивлят..ся    нам (у)слід   вирядивши   в люди. Так і стоят..  на початку наших доріг, навіт.. коли їх (не)стає. Стоят.. і дивлят..ся. І бажают.. нам добра і щастя.   Сподіваються від своїх дітей (най)вищих духовних злетів,  бо й в оста..ню хв...лину   думают.. про те, щоб діти їхні ж..ли  гідно серед людей і творили добро на своїй землі. Вони мудро і терп..ливо зносят.., те, що їх  в..тісняють з синівс..ких і доч..иних сердець обранці і обраниці, спочатку кохані, потім дружини і чоловіки. Аби тільки щасливо ж..лось їхнім діт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d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611280" y="333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84840" cy="678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7:33:07Z</dcterms:created>
  <dc:creator>Богдана</dc:creator>
  <dc:description/>
  <dc:language>en-US</dc:language>
  <cp:lastModifiedBy>Богдана</cp:lastModifiedBy>
  <dcterms:modified xsi:type="dcterms:W3CDTF">2009-01-09T07:20:20Z</dcterms:modified>
  <cp:revision>7</cp:revision>
  <dc:subject/>
  <dc:title>Речення  прості складні, двоскладні й односкладні.</dc:title>
</cp:coreProperties>
</file>