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2BF6-5DE6-4A89-93A8-3A31F580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002E-DF60-477D-9675-C91B695C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EC96-3EBA-44AA-9523-5BCA529B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870-08FB-414E-947D-86F012280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19803-E66D-4E15-8357-F14D4E5E6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F4B23-BFFE-4DCD-8C60-64CED3C4C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833D1-3D58-4020-A090-5407770E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F299-7C7A-4CFD-B4A1-3E5843DB3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D8DB7-ED84-4D30-B389-7B52AB85F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3F948-9597-4F16-93FC-793C2A71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5D3E-111E-4748-9D02-3794E8C7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A5A3-58EC-4AA7-BF52-D7046CC8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6B4CA-A904-412B-84D6-B1B51787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3F3F8-A736-4C5C-A918-9AFD4AF37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7219E-DDBB-4DF8-A710-7EBA341E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D40C-2B54-47D6-AD55-F7759B11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A0DF-4C51-4093-8740-5F76EE8D3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F90E-168A-4BAB-9F9A-294E9CB45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A73F-CF0C-4110-B7F3-768D0050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DAB-ABD5-48F3-A9C2-B1F165F0A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99DC-E995-4F81-94BD-A11D79A65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27E9-55EA-4B1E-9AAC-76368BD8E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3AB-DEFB-4D9E-A500-DD95822C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1DE-FBDA-4E94-B0FE-3341BD37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E27F4-56E8-41E0-876A-33D3B7E897C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7A0DE-A6EB-4418-AA92-A64EC3C394E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924680" cy="55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брий ранок!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На нас чекає гарний день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Бачу, всі веселі і здорові, 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 уроку всі готові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2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152280" y="4495680"/>
            <a:ext cx="2362320" cy="23623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Похожее изображение"/>
          <p:cNvPicPr/>
          <p:nvPr/>
        </p:nvPicPr>
        <p:blipFill>
          <a:blip r:embed="rId2"/>
          <a:stretch/>
        </p:blipFill>
        <p:spPr>
          <a:xfrm>
            <a:off x="6629400" y="152280"/>
            <a:ext cx="22096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ригадайте!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ельє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Тектонічні структур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латфор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ояс складчастост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рисні копали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Геологічна будова Південної Америки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01000" cy="51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•   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а тектонічною картою світу з’ясуйте, у якій частині Південноамериканської літосферної плити розміщений материк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Таким чином, в основі Південної Америки лежить «залишок» Гондвани — давня Південноамериканська платформа, яка займає всю східну частину материка. Її вік вимірюється кількома мільярдами років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07732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івденну частину материка займає молода платформа, фундамент якої сформувався 300 млн. років тому й перекритий дуже товстим осадовим чохлом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51920" y="277920"/>
            <a:ext cx="853452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Основні форми рельєфу материка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лоня тепла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5" name="" descr="Картинки по запросу тепло"/>
          <p:cNvPicPr/>
          <p:nvPr/>
        </p:nvPicPr>
        <p:blipFill>
          <a:blip r:embed="rId1"/>
          <a:stretch/>
        </p:blipFill>
        <p:spPr>
          <a:xfrm>
            <a:off x="1143000" y="1676520"/>
            <a:ext cx="71247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305920" cy="58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а фізичною картою Південної Америки визначте назви основних форм рельєфу 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материка: рівнин (плоскогір'їв, низовин) та гір (з найвищою точкою)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Формула урок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7" name="" descr="Картинки по запросу позитив"/>
          <p:cNvPicPr/>
          <p:nvPr/>
        </p:nvPicPr>
        <p:blipFill>
          <a:blip r:embed="rId1"/>
          <a:stretch/>
        </p:blipFill>
        <p:spPr>
          <a:xfrm>
            <a:off x="1143000" y="1600200"/>
            <a:ext cx="7124760" cy="45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551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Південній Америці розташовані три найвищих діючих  вулкани світу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Льюльяйльяко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3" name="" descr="Картинки по запросу льюльяйльяко на карте"/>
          <p:cNvPicPr/>
          <p:nvPr/>
        </p:nvPicPr>
        <p:blipFill>
          <a:blip r:embed="rId1"/>
          <a:stretch/>
        </p:blipFill>
        <p:spPr>
          <a:xfrm>
            <a:off x="1219320" y="1371600"/>
            <a:ext cx="7086600" cy="5315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295280" y="5317920"/>
            <a:ext cx="36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68ae"/>
                </a:solidFill>
                <a:latin typeface="Arial"/>
              </a:rPr>
              <a:t>Нині знаходиться на стадії періодичних викидів вулканічних газів, насичених сполуками сірки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Сан-Педро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5943600" cy="5896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809880" y="297180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Котопахі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59" name="" descr="Похожее изображение"/>
          <p:cNvPicPr/>
          <p:nvPr/>
        </p:nvPicPr>
        <p:blipFill>
          <a:blip r:embed="rId1"/>
          <a:stretch/>
        </p:blipFill>
        <p:spPr>
          <a:xfrm>
            <a:off x="1219320" y="1295280"/>
            <a:ext cx="6715080" cy="357192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533520" y="5244840"/>
            <a:ext cx="8076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З кратера вулкана періодично виривається стовп пари з сильним запахом сірки, що виблискує на сонці. Тому назва означає “гора, що димить”. Останнє виверження Котопахі відбулося у 1976 році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46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алеохвилин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400" spc="-1" strike="noStrike">
                <a:solidFill>
                  <a:srgbClr val="ccecff"/>
                </a:solidFill>
                <a:latin typeface="Arial"/>
              </a:rPr>
              <a:t>Практична робота 5 (продовження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).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uk-UA" sz="4400" spc="-1" strike="noStrike" u="sng">
                <a:solidFill>
                  <a:srgbClr val="ccecff"/>
                </a:solidFill>
                <a:uFillTx/>
                <a:latin typeface="Arial"/>
              </a:rPr>
              <a:t>Позначення на контурній карті назв основних географічних об’єктів Південної Америки.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848720" cy="52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ccecff"/>
                </a:solidFill>
                <a:uFillTx/>
                <a:latin typeface="Arial"/>
              </a:rPr>
              <a:t>Дихальна гімнастика «Кролик»</a:t>
            </a:r>
            <a:br>
              <a:rPr sz="4400"/>
            </a:b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Руки стисніть у кулак, підніміть вгору вказівний і середній палець – вдих, опустіть вниз – видих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45820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акономірності поширення родовищ  корисних копалин.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Якнайшвидш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оло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ерво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исл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и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олод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Жов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исо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Гірк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исновк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В основі Південної Америки лежать три великі тектонічні структури: Південноамериканська давня платформа на сході, молода платформа на півдні та молодого поясу складчастості на заході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У зв’язку з будовою земної кори в рельєфі материка чітко виділяються: рівнинний схід, до складу якої входять низовини і плоскогір'я, та гірський захід Анд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•    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івденна Америка багата на різноманітні корисні копалини, особливо на руди металів і нафту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дбиття підсумків уроку вчителем.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кі особливості геологічної будови, закономірності мають розміщення основних форм рельєфу та корисних копалин на матери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Чи виконані були завдання уроку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Картинки по запросу оці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Домашнє завдання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Опрацювати параграф 22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905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Ми вивчаємо материк </a:t>
            </a:r>
            <a:br>
              <a:rPr sz="4000"/>
            </a:br>
            <a:r>
              <a:rPr b="0" lang="uk-UA" sz="4000" spc="-1" strike="noStrike">
                <a:solidFill>
                  <a:srgbClr val="ccecff"/>
                </a:solidFill>
                <a:latin typeface="Arial"/>
              </a:rPr>
              <a:t>Південна Америка на ній є ….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Фронтальне опитуванн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1. У яких півкулях переважно розташована Південна Амери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2.    Які острови прилягають до матери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3.    Назвіть крайні точки материка Південна Америка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4. Береги материка омивають води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5.    Назвіть імена європейських мандрівників, які брали участь у відкритті та дослідженні Південної Америк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ccecff"/>
                </a:solidFill>
                <a:latin typeface="Arial"/>
              </a:rPr>
              <a:t>Який об'єкт?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495680" y="990360"/>
            <a:ext cx="4648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. Галліна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. Гор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. Парінья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. Кабу-Бранк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Магеланова прото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. Фольклендські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атока Ла-Пла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Карибське мор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Протока Дрейк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990720"/>
            <a:ext cx="4495680" cy="5867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Проблемне питанн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від вивчення попереднього материка та план-характеристики підказують вам, що наступними етапами дослідження материка є його геологічна будова, основні форми рельєфу та корисні копалин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Чому ці три складових розглядають та аналізують разом та в названій послідовності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uk-UA" sz="2400" spc="-1" strike="noStrike">
                <a:solidFill>
                  <a:srgbClr val="ffffff"/>
                </a:solidFill>
                <a:latin typeface="Arial"/>
              </a:rPr>
              <a:t>Відповіді учнів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к ці зв’язки проявляються в Південній Америці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кі особливості геологічної будови, закономірності мають розміщення основних форм рельєфу та корисних копалин на материку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найти відповіді на ці питання — задача цього урок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8" name="" descr="Картинки по запросу запитання"/>
          <p:cNvPicPr/>
          <p:nvPr/>
        </p:nvPicPr>
        <p:blipFill>
          <a:blip r:embed="rId1"/>
          <a:stretch/>
        </p:blipFill>
        <p:spPr>
          <a:xfrm>
            <a:off x="152280" y="152280"/>
            <a:ext cx="143856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153280" cy="58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ccecff"/>
                </a:solidFill>
                <a:uFillTx/>
                <a:latin typeface="Arial"/>
              </a:rPr>
              <a:t>Тема</a:t>
            </a: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:  </a:t>
            </a:r>
            <a:br>
              <a:rPr sz="4400"/>
            </a:b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“Геологічна будова, </a:t>
            </a:r>
            <a:br>
              <a:rPr sz="4400"/>
            </a:b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рельєф та</a:t>
            </a:r>
            <a:br>
              <a:rPr sz="4400"/>
            </a:b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корисні копалини</a:t>
            </a:r>
            <a:br>
              <a:rPr sz="4400"/>
            </a:br>
            <a:r>
              <a:rPr b="1" lang="uk-UA" sz="4400" spc="-1" strike="noStrike">
                <a:solidFill>
                  <a:srgbClr val="ccecff"/>
                </a:solidFill>
                <a:latin typeface="Arial"/>
              </a:rPr>
              <a:t> Південної Америки”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9:30:36Z</dcterms:created>
  <dc:creator>user</dc:creator>
  <dc:description/>
  <dc:language>en-US</dc:language>
  <cp:lastModifiedBy>user</cp:lastModifiedBy>
  <dcterms:modified xsi:type="dcterms:W3CDTF">2018-01-11T19:09:19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