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E6C-86A6-40E2-8154-11CFFAA5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211-2C87-44C6-A988-6500CFB5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1C7-EA43-40F4-B60A-7DF765A6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D84-8824-4116-B7C1-23792DDE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B76-341F-4900-97E3-93C8CA22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A0B-F3AE-46F3-B694-6097751D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8A9-E60C-47E0-9191-CEF1AF22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AC9-D403-48BF-BB6F-E81E870C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E8B-A7D1-469C-B9CD-1A64646A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EFC-4C83-4FD1-80F4-1C90FC17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564-0C6F-4C60-9A4E-11E34FC6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F55-1BDD-4F06-8FB7-AED56E35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5E49-46BB-4A8C-869B-BE7F8042ED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юлин ХЛАМ\03.jpg"/>
          <p:cNvPicPr/>
          <p:nvPr/>
        </p:nvPicPr>
        <p:blipFill>
          <a:blip r:embed="rId1"/>
          <a:srcRect l="0" t="0" r="2238" b="2622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225360" y="1290600"/>
            <a:ext cx="85694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60023"/>
                </a:solidFill>
                <a:latin typeface="Monotype Corsiva"/>
                <a:ea typeface="Arial"/>
              </a:rPr>
              <a:t>Тема. </a:t>
            </a:r>
            <a:r>
              <a:rPr b="0" i="1" lang="ru-RU" sz="3200" spc="-1" strike="noStrike">
                <a:solidFill>
                  <a:srgbClr val="460023"/>
                </a:solidFill>
                <a:latin typeface="Monotype Corsiva"/>
                <a:ea typeface="Arial"/>
              </a:rPr>
              <a:t>Порівняльна характеристика  образу  Мазепи  в поемах  Джоржа  Байрона  «Мазепа»,  Олександра  Пушкіна  «Полтава»,  Володимира Сосюри   «Мазеп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юлин ХЛАМ\fon-dlya-prezentacii-po-literature-1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D:\юлин ХЛАМ\11154-volodimir-sosyura-mazepa.jpg"/>
          <p:cNvPicPr/>
          <p:nvPr/>
        </p:nvPicPr>
        <p:blipFill>
          <a:blip r:embed="rId2"/>
          <a:stretch/>
        </p:blipFill>
        <p:spPr>
          <a:xfrm>
            <a:off x="3132000" y="1028880"/>
            <a:ext cx="2857680" cy="444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5" descr="D:\юлин ХЛАМ\dd695e00213808a6a7b6cf3d52206dd4.jpg"/>
          <p:cNvPicPr/>
          <p:nvPr/>
        </p:nvPicPr>
        <p:blipFill>
          <a:blip r:embed="rId3"/>
          <a:srcRect l="0" t="0" r="0" b="4877"/>
          <a:stretch/>
        </p:blipFill>
        <p:spPr>
          <a:xfrm>
            <a:off x="6227640" y="1289160"/>
            <a:ext cx="2665440" cy="418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6" descr="D:\юлин ХЛАМ\img6.jpg"/>
          <p:cNvPicPr/>
          <p:nvPr/>
        </p:nvPicPr>
        <p:blipFill>
          <a:blip r:embed="rId4"/>
          <a:srcRect l="8603" t="43174" r="61508" b="0"/>
          <a:stretch/>
        </p:blipFill>
        <p:spPr>
          <a:xfrm>
            <a:off x="316080" y="1378080"/>
            <a:ext cx="2663640" cy="379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юлин ХЛАМ\fon-dlya-prezentacii-po-literature-1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68360" y="1397160"/>
          <a:ext cx="8280360" cy="5127480"/>
        </p:xfrm>
        <a:graphic>
          <a:graphicData uri="http://schemas.openxmlformats.org/drawingml/2006/table">
            <a:tbl>
              <a:tblPr/>
              <a:tblGrid>
                <a:gridCol w="2760480"/>
                <a:gridCol w="2759040"/>
                <a:gridCol w="276084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В поемі  Дж. Байрона «Мазепа» 1818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В поемі О.Пушкіна «Полтава» 1829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В поемі В. Сосюри «Мазепа» 1929-196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66532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ух   бунтаря,  освідчен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його воля ніколи не могла бути підкорен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тні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лагородний злочинец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еповторний образ українця Мазеп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ідеальний романтичний геро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жорстокий, підступний, хитрий, властолюбив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іє зло, злодій, зрадник, порівнюється з Іудою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5 разів використано слово «злий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9 разів – слово «злодій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утілення пороків,     «исчадие а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е був зрадником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любив Україну, народ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чув біль народу серцем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ріяв бачити країну вільною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останні слова: «Прощай, Україно, прощай»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«Я Україну не забуду, вона для мене, як зоря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Monotype Corsiv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sp>
        <p:nvSpPr>
          <p:cNvPr id="83" name="TextBox 3"/>
          <p:cNvSpPr/>
          <p:nvPr/>
        </p:nvSpPr>
        <p:spPr>
          <a:xfrm>
            <a:off x="1514520" y="404640"/>
            <a:ext cx="61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  <a:ea typeface="Arial"/>
              </a:rPr>
              <a:t>Порівняльна таблиця «</a:t>
            </a:r>
            <a:r>
              <a:rPr b="1" lang="uk-UA" sz="3200" spc="-1" strike="noStrike">
                <a:solidFill>
                  <a:srgbClr val="660033"/>
                </a:solidFill>
                <a:latin typeface="Monotype Corsiva"/>
                <a:ea typeface="Arial"/>
              </a:rPr>
              <a:t>Образ Мазеп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юлин ХЛАМ\fon-dlya-prezentacii-po-literature-1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юлин ХЛАМ\venn-diagram-with-lines-template-i2.png"/>
          <p:cNvPicPr/>
          <p:nvPr/>
        </p:nvPicPr>
        <p:blipFill>
          <a:blip r:embed="rId2"/>
          <a:srcRect l="14598" t="12845" r="9315" b="2686"/>
          <a:stretch/>
        </p:blipFill>
        <p:spPr>
          <a:xfrm>
            <a:off x="1052640" y="558720"/>
            <a:ext cx="7129440" cy="61149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3302640" y="3492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33"/>
                </a:solidFill>
                <a:latin typeface="Monotype Corsiva"/>
                <a:ea typeface="Arial"/>
              </a:rPr>
              <a:t>КОЛО В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457000" y="9810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33"/>
                </a:solidFill>
                <a:latin typeface="Monotype Corsiva"/>
                <a:ea typeface="Arial"/>
              </a:rPr>
              <a:t>Байр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342040" y="9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33"/>
                </a:solidFill>
                <a:latin typeface="Monotype Corsiva"/>
                <a:ea typeface="Arial"/>
              </a:rPr>
              <a:t>Пушк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895200" y="48690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33"/>
                </a:solidFill>
                <a:latin typeface="Monotype Corsiva"/>
                <a:ea typeface="Arial"/>
              </a:rPr>
              <a:t>Сосю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юлин ХЛАМ\fon-dlya-prezentacii-po-literature-1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D:\юлин ХЛАМ\venn-diagram-with-lines-template-i2.png"/>
          <p:cNvPicPr/>
          <p:nvPr/>
        </p:nvPicPr>
        <p:blipFill>
          <a:blip r:embed="rId2"/>
          <a:srcRect l="14598" t="12845" r="9315" b="2686"/>
          <a:stretch/>
        </p:blipFill>
        <p:spPr>
          <a:xfrm>
            <a:off x="1166760" y="558720"/>
            <a:ext cx="7128000" cy="61149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3302640" y="3492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33"/>
                </a:solidFill>
                <a:latin typeface="Monotype Corsiva"/>
                <a:ea typeface="Arial"/>
              </a:rPr>
              <a:t>КОЛО В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57000" y="9810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9933"/>
                </a:solidFill>
                <a:latin typeface="Monotype Corsiva"/>
                <a:ea typeface="Arial"/>
              </a:rPr>
              <a:t>Байр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342040" y="9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33"/>
                </a:solidFill>
                <a:latin typeface="Monotype Corsiva"/>
                <a:ea typeface="Arial"/>
              </a:rPr>
              <a:t>Пушкі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895200" y="48690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Monotype Corsiva"/>
                <a:ea typeface="Arial"/>
              </a:rPr>
              <a:t>Сосю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681360" y="2513160"/>
            <a:ext cx="17845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70c0"/>
                </a:solidFill>
                <a:latin typeface="Monotype Corsiva"/>
                <a:ea typeface="Arial"/>
              </a:rPr>
              <a:t>Українськ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70c0"/>
                </a:solidFill>
                <a:latin typeface="Monotype Corsiva"/>
                <a:ea typeface="Arial"/>
              </a:rPr>
              <a:t>гетьман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70c0"/>
                </a:solidFill>
                <a:latin typeface="Monotype Corsiva"/>
                <a:ea typeface="Arial"/>
              </a:rPr>
              <a:t>самотній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70c0"/>
                </a:solidFill>
                <a:latin typeface="Monotype Corsiva"/>
                <a:ea typeface="Arial"/>
              </a:rPr>
              <a:t>краса Украї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910080" y="1817640"/>
            <a:ext cx="3434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33"/>
                </a:solidFill>
                <a:latin typeface="Monotype Corsiva"/>
                <a:ea typeface="Arial"/>
              </a:rPr>
              <a:t>Передано внутрішній ста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33"/>
                </a:solidFill>
                <a:latin typeface="Monotype Corsiva"/>
                <a:ea typeface="Arial"/>
              </a:rPr>
              <a:t>героя, немає натяку 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33"/>
                </a:solidFill>
                <a:latin typeface="Monotype Corsiva"/>
                <a:ea typeface="Arial"/>
              </a:rPr>
              <a:t>зрадництво, незламни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33"/>
                </a:solidFill>
                <a:latin typeface="Monotype Corsiva"/>
                <a:ea typeface="Arial"/>
              </a:rPr>
              <a:t>як  дуб, вільний, я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9933"/>
                </a:solidFill>
                <a:latin typeface="Monotype Corsiva"/>
                <a:ea typeface="Arial"/>
              </a:rPr>
              <a:t> </a:t>
            </a:r>
            <a:r>
              <a:rPr b="1" lang="uk-UA" sz="1800" spc="-1" strike="noStrike">
                <a:solidFill>
                  <a:srgbClr val="339933"/>
                </a:solidFill>
                <a:latin typeface="Monotype Corsiva"/>
                <a:ea typeface="Arial"/>
              </a:rPr>
              <a:t>віт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698360" y="1832040"/>
            <a:ext cx="372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0026"/>
                </a:solidFill>
                <a:latin typeface="Monotype Corsiva"/>
                <a:ea typeface="Arial"/>
              </a:rPr>
              <a:t>«Готов лить кровь, как воду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0026"/>
                </a:solidFill>
                <a:latin typeface="Monotype Corsiva"/>
                <a:ea typeface="Arial"/>
              </a:rPr>
              <a:t>     </a:t>
            </a:r>
            <a:r>
              <a:rPr b="1" lang="ru-RU" sz="1800" spc="-1" strike="noStrike">
                <a:solidFill>
                  <a:srgbClr val="4c0026"/>
                </a:solidFill>
                <a:latin typeface="Monotype Corsiva"/>
                <a:ea typeface="Arial"/>
              </a:rPr>
              <a:t>«Нет отчизны у нег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0026"/>
                </a:solidFill>
                <a:latin typeface="Monotype Corsiva"/>
                <a:ea typeface="Arial"/>
              </a:rPr>
              <a:t>      </a:t>
            </a:r>
            <a:r>
              <a:rPr b="1" lang="ru-RU" sz="1800" spc="-1" strike="noStrike">
                <a:solidFill>
                  <a:srgbClr val="4c0026"/>
                </a:solidFill>
                <a:latin typeface="Monotype Corsiva"/>
                <a:ea typeface="Arial"/>
              </a:rPr>
              <a:t>«Иуда» . «Злодей.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2060640" y="5330880"/>
            <a:ext cx="6837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6600"/>
                </a:solidFill>
                <a:latin typeface="Monotype Corsiva"/>
              </a:rPr>
              <a:t>Патріот України, боровся з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6600"/>
                </a:solidFill>
                <a:latin typeface="Monotype Corsiva"/>
              </a:rPr>
              <a:t>суверенність своєї країни і  зрадником    не був для  не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D:\юлин ХЛАМ\fon-dlya-prezentacii-po-literature-1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2029680" y="333360"/>
            <a:ext cx="490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33"/>
                </a:solidFill>
                <a:latin typeface="Monotype Corsiva"/>
                <a:ea typeface="Arial"/>
              </a:rPr>
              <a:t>Хто автор рядкі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49200" y="1160640"/>
          <a:ext cx="8448840" cy="5317920"/>
        </p:xfrm>
        <a:graphic>
          <a:graphicData uri="http://schemas.openxmlformats.org/drawingml/2006/table">
            <a:tbl>
              <a:tblPr/>
              <a:tblGrid>
                <a:gridCol w="4056120"/>
                <a:gridCol w="4392720"/>
              </a:tblGrid>
              <a:tr h="1616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. «Я всю віддав би Україну, щоб пережить таку хвилин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І знову ніжним пажем буть – отим щасливим паничем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Із ніжним серцем та мечем»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                          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а) В.Сосю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) О.Пушк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і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) Дж.Байр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. «Любив Вкраїну він душею І зрадником не був для неї.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7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. «Что он не ведает святын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что он не помнит благостын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что он не  любит ничего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что кровь готов он лить как вод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что презирает он своб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что нет отчизны для него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2" descr="D:\юлин ХЛАМ\769605_141118173725.jpg"/>
          <p:cNvPicPr/>
          <p:nvPr/>
        </p:nvPicPr>
        <p:blipFill>
          <a:blip r:embed="rId2"/>
          <a:srcRect l="5934" t="5534" r="55415" b="12105"/>
          <a:stretch/>
        </p:blipFill>
        <p:spPr>
          <a:xfrm>
            <a:off x="7451640" y="2611440"/>
            <a:ext cx="1224000" cy="168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3" descr="D:\юлин ХЛАМ\dzhordzh_bajron_risunok_sorokina.jpg"/>
          <p:cNvPicPr/>
          <p:nvPr/>
        </p:nvPicPr>
        <p:blipFill>
          <a:blip r:embed="rId3"/>
          <a:srcRect l="10260" t="6339" r="7059" b="17234"/>
          <a:stretch/>
        </p:blipFill>
        <p:spPr>
          <a:xfrm>
            <a:off x="4670280" y="4376880"/>
            <a:ext cx="1317600" cy="162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4" descr="D:\юлин ХЛАМ\CYCh1bgWAAAS3JN.jpg"/>
          <p:cNvPicPr/>
          <p:nvPr/>
        </p:nvPicPr>
        <p:blipFill>
          <a:blip r:embed="rId4"/>
          <a:srcRect l="0" t="0" r="0" b="9887"/>
          <a:stretch/>
        </p:blipFill>
        <p:spPr>
          <a:xfrm>
            <a:off x="4670280" y="1268280"/>
            <a:ext cx="1378080" cy="187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:\юлин ХЛАМ\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347400" y="1979640"/>
            <a:ext cx="827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33"/>
                </a:solidFill>
                <a:latin typeface="Monotype Corsiva"/>
                <a:ea typeface="Arial"/>
              </a:rPr>
              <a:t>Домашнє завд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33"/>
                </a:solidFill>
                <a:latin typeface="Monotype Corsiva"/>
                <a:ea typeface="Arial"/>
              </a:rPr>
              <a:t>«Образ Мазепи в різних видах мистецтв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юлин ХЛАМ\04.jpg"/>
          <p:cNvPicPr/>
          <p:nvPr/>
        </p:nvPicPr>
        <p:blipFill>
          <a:blip r:embed="rId1"/>
          <a:srcRect l="0" t="0" r="1614" b="19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142920" y="333360"/>
            <a:ext cx="885816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Monotype Corsiva"/>
              </a:rPr>
              <a:t>Ме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33"/>
                </a:solidFill>
                <a:latin typeface="Monotype Corsiva"/>
              </a:rPr>
              <a:t>порівняти образ Мазепи в  творах  Дж. Байрона «Мазепа»; О.Пушкіна  Полтава»,  В.Сосюри «Мазепа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33"/>
                </a:solidFill>
                <a:latin typeface="Monotype Corsiva"/>
              </a:rPr>
              <a:t>ознайомити з неоднозначним трактуванням образу Мазепи класиками світової літератур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33"/>
                </a:solidFill>
                <a:latin typeface="Monotype Corsiva"/>
              </a:rPr>
              <a:t>вдосконалювати навички дослідницької роботи  з текстом та іншими джерелами і навички компаративного аналізу художнього  образ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юлин ХЛАМ\fon-dlya-prezentacii-po-literature-1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3564000" y="692280"/>
            <a:ext cx="5400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Monotype Corsiva"/>
                <a:ea typeface="Arial"/>
              </a:rPr>
              <a:t>Іван Мазепа</a:t>
            </a:r>
            <a:r>
              <a:rPr b="0" lang="uk-UA" sz="3200" spc="-1" strike="noStrike">
                <a:solidFill>
                  <a:srgbClr val="660033"/>
                </a:solidFill>
                <a:latin typeface="Monotype Corsiva"/>
                <a:ea typeface="Arial"/>
              </a:rPr>
              <a:t> – відомий політичний діяч, найвеличніший і найтрагічніший в українській історії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33"/>
                </a:solidFill>
                <a:latin typeface="Monotype Corsiva"/>
                <a:ea typeface="Arial"/>
              </a:rPr>
              <a:t>Образу Мазепи присвячено 186 гравюр, 42 картини, 6 скульптур, 17 літературних творів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33"/>
                </a:solidFill>
                <a:latin typeface="Monotype Corsiva"/>
                <a:ea typeface="Arial"/>
              </a:rPr>
              <a:t>Знав 7 мов : польську, татарську, латинську, російську, італійську, німецьку, французь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юлин ХЛАМ\711992.jpg"/>
          <p:cNvPicPr/>
          <p:nvPr/>
        </p:nvPicPr>
        <p:blipFill>
          <a:blip r:embed="rId2"/>
          <a:stretch/>
        </p:blipFill>
        <p:spPr>
          <a:xfrm>
            <a:off x="468360" y="938160"/>
            <a:ext cx="2735280" cy="409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юлин ХЛАМ\fon-dlya-prezentacii-po-literature-1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419640" y="1268280"/>
            <a:ext cx="5400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33"/>
                </a:solidFill>
                <a:latin typeface="Monotype Corsiva"/>
                <a:ea typeface="Arial"/>
              </a:rPr>
              <a:t>На якій купюрі зображено портрет Маз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юлин ХЛАМ\711992.jpg"/>
          <p:cNvPicPr/>
          <p:nvPr/>
        </p:nvPicPr>
        <p:blipFill>
          <a:blip r:embed="rId2"/>
          <a:stretch/>
        </p:blipFill>
        <p:spPr>
          <a:xfrm>
            <a:off x="468360" y="938160"/>
            <a:ext cx="2735280" cy="409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юлин ХЛАМ\fon-dlya-prezentacii-po-literature-1.jpg"/>
          <p:cNvPicPr/>
          <p:nvPr/>
        </p:nvPicPr>
        <p:blipFill>
          <a:blip r:embed="rId1"/>
          <a:stretch/>
        </p:blipFill>
        <p:spPr>
          <a:xfrm>
            <a:off x="324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Admin\Desktop\ukrainep106b-10hryven-1992_1996_-donatedoy_f.jpg"/>
          <p:cNvPicPr/>
          <p:nvPr/>
        </p:nvPicPr>
        <p:blipFill>
          <a:blip r:embed="rId2"/>
          <a:srcRect l="0" t="0" r="1427" b="0"/>
          <a:stretch/>
        </p:blipFill>
        <p:spPr>
          <a:xfrm>
            <a:off x="84240" y="115920"/>
            <a:ext cx="4357440" cy="23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Admin\Desktop\i.jpg"/>
          <p:cNvPicPr/>
          <p:nvPr/>
        </p:nvPicPr>
        <p:blipFill>
          <a:blip r:embed="rId3"/>
          <a:stretch/>
        </p:blipFill>
        <p:spPr>
          <a:xfrm>
            <a:off x="4505400" y="2060640"/>
            <a:ext cx="4651200" cy="2305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Admin\Desktop\10_hryvnia_2006_front.jpg"/>
          <p:cNvPicPr/>
          <p:nvPr/>
        </p:nvPicPr>
        <p:blipFill>
          <a:blip r:embed="rId4"/>
          <a:srcRect l="0" t="0" r="1097" b="0"/>
          <a:stretch/>
        </p:blipFill>
        <p:spPr>
          <a:xfrm>
            <a:off x="154080" y="4365720"/>
            <a:ext cx="42876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юлин ХЛАМ\fon-dlya-prezentacii-po-literature-1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-433080" y="3463920"/>
            <a:ext cx="42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33"/>
                </a:solidFill>
                <a:latin typeface="Monotype Corsiva"/>
                <a:ea typeface="Arial"/>
              </a:rPr>
              <a:t>Дж. Байрон «Мазеп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юлин ХЛАМ\i.jpg"/>
          <p:cNvPicPr/>
          <p:nvPr/>
        </p:nvPicPr>
        <p:blipFill>
          <a:blip r:embed="rId2"/>
          <a:srcRect l="5867" t="0" r="681" b="0"/>
          <a:stretch/>
        </p:blipFill>
        <p:spPr>
          <a:xfrm>
            <a:off x="755640" y="385920"/>
            <a:ext cx="1887480" cy="252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3" descr="D:\юлин ХЛАМ\Pushkin.jpg"/>
          <p:cNvPicPr/>
          <p:nvPr/>
        </p:nvPicPr>
        <p:blipFill>
          <a:blip r:embed="rId3"/>
          <a:stretch/>
        </p:blipFill>
        <p:spPr>
          <a:xfrm>
            <a:off x="3517920" y="2878200"/>
            <a:ext cx="2108160" cy="2914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4" descr="D:\юлин ХЛАМ\573_b70d361a556a67ac5765ff487848c67b_10000.jpg"/>
          <p:cNvPicPr/>
          <p:nvPr/>
        </p:nvPicPr>
        <p:blipFill>
          <a:blip r:embed="rId4"/>
          <a:stretch/>
        </p:blipFill>
        <p:spPr>
          <a:xfrm>
            <a:off x="6485040" y="361800"/>
            <a:ext cx="1890720" cy="252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TextBox 2"/>
          <p:cNvSpPr/>
          <p:nvPr/>
        </p:nvSpPr>
        <p:spPr>
          <a:xfrm>
            <a:off x="2685600" y="6013440"/>
            <a:ext cx="44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33"/>
                </a:solidFill>
                <a:latin typeface="Monotype Corsiva"/>
                <a:ea typeface="Arial"/>
              </a:rPr>
              <a:t>О.С. Пушкін «Полтав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8760" y="3433680"/>
            <a:ext cx="38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33"/>
                </a:solidFill>
                <a:latin typeface="Monotype Corsiva"/>
                <a:ea typeface="Arial"/>
              </a:rPr>
              <a:t>В.Сосюра «Мазеп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юлин ХЛАМ\fon-dlya-prezentacii-po-literature-1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1332000" y="468360"/>
            <a:ext cx="687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Monotype Corsiva"/>
                <a:ea typeface="Arial"/>
              </a:rPr>
              <a:t>Порівняльна таблиця «</a:t>
            </a:r>
            <a:r>
              <a:rPr b="1" lang="uk-UA" sz="3200" spc="-1" strike="noStrike">
                <a:solidFill>
                  <a:srgbClr val="660033"/>
                </a:solidFill>
                <a:latin typeface="Monotype Corsiva"/>
                <a:ea typeface="Arial"/>
              </a:rPr>
              <a:t>Образ Мазеп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1397160"/>
          <a:ext cx="8209080" cy="4840200"/>
        </p:xfrm>
        <a:graphic>
          <a:graphicData uri="http://schemas.openxmlformats.org/drawingml/2006/table">
            <a:tbl>
              <a:tblPr/>
              <a:tblGrid>
                <a:gridCol w="2737080"/>
                <a:gridCol w="2735280"/>
                <a:gridCol w="2736720"/>
              </a:tblGrid>
              <a:tr h="155700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В поемі  Дж. Байрона «Мазепа» 1818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В поемі О.Пушкіна «Полтава» 1829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В поемі В. Сосюри «Мазепа» 1929-196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2832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юлин ХЛАМ\fon-dlya-prezentacii-po-literature-1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2" descr="D:\юлин ХЛАМ\800px-George_Gordon_Byron,_6th_Baron_Byron_by_Richard_Westall_(2).jpg"/>
          <p:cNvPicPr/>
          <p:nvPr/>
        </p:nvPicPr>
        <p:blipFill>
          <a:blip r:embed="rId2"/>
          <a:stretch/>
        </p:blipFill>
        <p:spPr>
          <a:xfrm>
            <a:off x="5940360" y="2924280"/>
            <a:ext cx="2774880" cy="363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3" descr="D:\юлин ХЛАМ\586cb12eae12c.jpg"/>
          <p:cNvPicPr/>
          <p:nvPr/>
        </p:nvPicPr>
        <p:blipFill>
          <a:blip r:embed="rId3"/>
          <a:stretch/>
        </p:blipFill>
        <p:spPr>
          <a:xfrm>
            <a:off x="1116000" y="198360"/>
            <a:ext cx="1905120" cy="2914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Picture 4" descr="D:\юлин ХЛАМ\1280px-Mazeppa_-_Byron.png"/>
          <p:cNvPicPr/>
          <p:nvPr/>
        </p:nvPicPr>
        <p:blipFill>
          <a:blip r:embed="rId4"/>
          <a:stretch/>
        </p:blipFill>
        <p:spPr>
          <a:xfrm>
            <a:off x="447840" y="3213000"/>
            <a:ext cx="5146560" cy="350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5" descr="D:\юлин ХЛАМ\text_0630oldofro-9.png"/>
          <p:cNvPicPr/>
          <p:nvPr/>
        </p:nvPicPr>
        <p:blipFill>
          <a:blip r:embed="rId5"/>
          <a:stretch/>
        </p:blipFill>
        <p:spPr>
          <a:xfrm>
            <a:off x="4160880" y="220680"/>
            <a:ext cx="3495600" cy="246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юлин ХЛАМ\fon-dlya-prezentacii-po-literature-1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D:\юлин ХЛАМ\Слайд29.JPG"/>
          <p:cNvPicPr/>
          <p:nvPr/>
        </p:nvPicPr>
        <p:blipFill>
          <a:blip r:embed="rId2"/>
          <a:srcRect l="50142" t="0" r="5551" b="0"/>
          <a:stretch/>
        </p:blipFill>
        <p:spPr>
          <a:xfrm>
            <a:off x="7164360" y="579600"/>
            <a:ext cx="1728720" cy="29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3" descr="D:\юлин ХЛАМ\i (1).jpg"/>
          <p:cNvPicPr/>
          <p:nvPr/>
        </p:nvPicPr>
        <p:blipFill>
          <a:blip r:embed="rId3"/>
          <a:stretch/>
        </p:blipFill>
        <p:spPr>
          <a:xfrm>
            <a:off x="5224320" y="3760920"/>
            <a:ext cx="3313080" cy="268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5" descr="D:\юлин ХЛАМ\1464749929.jpg"/>
          <p:cNvPicPr/>
          <p:nvPr/>
        </p:nvPicPr>
        <p:blipFill>
          <a:blip r:embed="rId4"/>
          <a:stretch/>
        </p:blipFill>
        <p:spPr>
          <a:xfrm>
            <a:off x="5224320" y="579600"/>
            <a:ext cx="1940040" cy="29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6" descr="D:\юлин ХЛАМ\Трутовский Полтава.jpg"/>
          <p:cNvPicPr/>
          <p:nvPr/>
        </p:nvPicPr>
        <p:blipFill>
          <a:blip r:embed="rId5"/>
          <a:stretch/>
        </p:blipFill>
        <p:spPr>
          <a:xfrm>
            <a:off x="782640" y="3780000"/>
            <a:ext cx="3613320" cy="281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7" descr="D:\юлин ХЛАМ\59644_900.jpg"/>
          <p:cNvPicPr/>
          <p:nvPr/>
        </p:nvPicPr>
        <p:blipFill>
          <a:blip r:embed="rId6"/>
          <a:stretch/>
        </p:blipFill>
        <p:spPr>
          <a:xfrm>
            <a:off x="395280" y="272880"/>
            <a:ext cx="2193840" cy="326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Picture 8" descr="D:\юлин ХЛАМ\i (2).jpg"/>
          <p:cNvPicPr/>
          <p:nvPr/>
        </p:nvPicPr>
        <p:blipFill>
          <a:blip r:embed="rId7"/>
          <a:stretch/>
        </p:blipFill>
        <p:spPr>
          <a:xfrm>
            <a:off x="2843280" y="1025640"/>
            <a:ext cx="2070000" cy="251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1T12:00:43Z</dcterms:created>
  <dc:creator>Admin</dc:creator>
  <dc:description/>
  <dc:language>en-US</dc:language>
  <cp:lastModifiedBy>User</cp:lastModifiedBy>
  <dcterms:modified xsi:type="dcterms:W3CDTF">2017-03-02T11:39:02Z</dcterms:modified>
  <cp:revision>39</cp:revision>
  <dc:subject/>
  <dc:title>Презентация PowerPoint</dc:title>
</cp:coreProperties>
</file>