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C26-6D41-4298-A176-22D731F6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A18-3357-49D0-AB2D-F16CD68C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BFF-9F51-483F-8FB4-C3449EE1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335-2435-4110-AA87-8F1FAC3D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C92-CB1A-457B-8104-62175AB0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B07-0323-438E-A61F-5911D969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419-D282-4CF9-AF4E-22A4EF90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F7D-C954-4E29-975E-56F78F8A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25F-0B85-4E43-AEFC-90C17C7C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7ED-5676-415B-9712-C2A5CD6D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7D8-34C2-4F50-92DF-E50698D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BFF-9413-4FFB-975E-147CA6F2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AB81-F407-4226-8F66-DA26BC1B4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hkola-8.net.ua/wp-content/uploads/skazk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abc-color.com/color/trees/001/oak-tree/oak-tree-figure-color.s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.to/kA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abc-color.com/color/leaves/001/maple-leaf/maple-leaf-figure-color.shtml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abc-color.com/color/leaves/001/maple-leaf/maple-leaf-figure-color.shtml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www.abc-color.com/color/leaves/001/maple-leaf/maple-leaf-figure-color.shtml" TargetMode="External"/><Relationship Id="rId8" Type="http://schemas.openxmlformats.org/officeDocument/2006/relationships/image" Target="../media/image11.png"/><Relationship Id="rId9" Type="http://schemas.openxmlformats.org/officeDocument/2006/relationships/hyperlink" Target="http://www.abc-color.com/color/leaves/001/maple-leaf/maple-leaf-figure-color.shtml" TargetMode="External"/><Relationship Id="rId10" Type="http://schemas.openxmlformats.org/officeDocument/2006/relationships/image" Target="../media/image11.png"/><Relationship Id="rId11" Type="http://schemas.openxmlformats.org/officeDocument/2006/relationships/hyperlink" Target="http://www.abc-color.com/color/leaves/001/maple-leaf/maple-leaf-figure-color.shtml" TargetMode="External"/><Relationship Id="rId12" Type="http://schemas.openxmlformats.org/officeDocument/2006/relationships/image" Target="../media/image11.png"/><Relationship Id="rId13" Type="http://schemas.openxmlformats.org/officeDocument/2006/relationships/hyperlink" Target="http://www.abc-color.com/color/leaves/001/maple-leaf/maple-leaf-figure-color.shtml" TargetMode="External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35812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359400">
            <a:off x="1676160" y="1388880"/>
            <a:ext cx="6394320" cy="35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бри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нь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H="1">
            <a:off x="1380960" y="1066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84280" y="96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0400" y="1295280"/>
            <a:ext cx="1600200" cy="685800"/>
          </a:xfrm>
          <a:prstGeom prst="ellipse">
            <a:avLst/>
          </a:prstGeom>
          <a:solidFill>
            <a:srgbClr val="fcd1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2743200"/>
            <a:ext cx="1600200" cy="685800"/>
          </a:xfrm>
          <a:prstGeom prst="ellipse">
            <a:avLst/>
          </a:prstGeom>
          <a:solidFill>
            <a:srgbClr val="fcd1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3124080"/>
            <a:ext cx="1676160" cy="685800"/>
          </a:xfrm>
          <a:prstGeom prst="ellipse">
            <a:avLst/>
          </a:prstGeom>
          <a:solidFill>
            <a:srgbClr val="fcd1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1600200"/>
            <a:ext cx="1600200" cy="685800"/>
          </a:xfrm>
          <a:prstGeom prst="ellipse">
            <a:avLst/>
          </a:prstGeom>
          <a:solidFill>
            <a:srgbClr val="fcd1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0" r="0" b="1870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1752480"/>
            <a:ext cx="112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4560" y="175248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9280" y="4114800"/>
            <a:ext cx="19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= 36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1752480"/>
            <a:ext cx="82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3" descr="Школа художников // Ухтышка. - 2008. - № 2. - С. 43."/>
          <p:cNvPicPr/>
          <p:nvPr/>
        </p:nvPicPr>
        <p:blipFill>
          <a:blip r:embed="rId2"/>
          <a:stretch/>
        </p:blipFill>
        <p:spPr>
          <a:xfrm>
            <a:off x="6629400" y="1523880"/>
            <a:ext cx="1295280" cy="1225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15200" y="41148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3" descr="Школа художников // Ухтышка. - 2008. - № 2. - С. 43."/>
          <p:cNvPicPr/>
          <p:nvPr/>
        </p:nvPicPr>
        <p:blipFill>
          <a:blip r:embed="rId3"/>
          <a:stretch/>
        </p:blipFill>
        <p:spPr>
          <a:xfrm>
            <a:off x="7391520" y="3809880"/>
            <a:ext cx="129528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6325340" descr="Рамка (шаблон) для презентации &quot;Зеленое вдохновение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glad-icon" descr="glad icon"/>
          <p:cNvPicPr/>
          <p:nvPr/>
        </p:nvPicPr>
        <p:blipFill>
          <a:blip r:embed="rId2"/>
          <a:stretch/>
        </p:blipFill>
        <p:spPr>
          <a:xfrm>
            <a:off x="838080" y="1828800"/>
            <a:ext cx="3086280" cy="3086280"/>
          </a:xfrm>
          <a:prstGeom prst="rect">
            <a:avLst/>
          </a:prstGeom>
          <a:ln w="0">
            <a:noFill/>
          </a:ln>
        </p:spPr>
      </p:pic>
      <p:pic>
        <p:nvPicPr>
          <p:cNvPr id="101" name="sad-icon" descr="sad icon"/>
          <p:cNvPicPr/>
          <p:nvPr/>
        </p:nvPicPr>
        <p:blipFill>
          <a:blip r:embed="rId3"/>
          <a:stretch/>
        </p:blipFill>
        <p:spPr>
          <a:xfrm>
            <a:off x="4876920" y="3200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562177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375080" cy="4724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62120" y="533520"/>
            <a:ext cx="403848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4648320"/>
            <a:ext cx="52578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+лод+ці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s_post10701236.jpg_thumb" descr=""/>
          <p:cNvPicPr/>
          <p:nvPr/>
        </p:nvPicPr>
        <p:blipFill>
          <a:blip r:embed="rId2"/>
          <a:stretch/>
        </p:blipFill>
        <p:spPr>
          <a:xfrm>
            <a:off x="1447920" y="838080"/>
            <a:ext cx="61722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6a54fa866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182040" y="1548000"/>
            <a:ext cx="3966840" cy="4471920"/>
            <a:chOff x="3182040" y="1548000"/>
            <a:chExt cx="3966840" cy="4471920"/>
          </a:xfrm>
        </p:grpSpPr>
        <p:sp>
          <p:nvSpPr>
            <p:cNvPr id="48" name=""/>
            <p:cNvSpPr/>
            <p:nvPr/>
          </p:nvSpPr>
          <p:spPr>
            <a:xfrm>
              <a:off x="3581280" y="2819520"/>
              <a:ext cx="2057400" cy="2743200"/>
            </a:xfrm>
            <a:prstGeom prst="triangle">
              <a:avLst>
                <a:gd name="adj" fmla="val 50000"/>
              </a:avLst>
            </a:prstGeom>
            <a:solidFill>
              <a:srgbClr val="f6cda4">
                <a:alpha val="9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7365600">
              <a:off x="4152960" y="1638000"/>
              <a:ext cx="380880" cy="304560"/>
            </a:xfrm>
            <a:prstGeom prst="triangle">
              <a:avLst>
                <a:gd name="adj" fmla="val 50000"/>
              </a:avLst>
            </a:prstGeom>
            <a:solidFill>
              <a:srgbClr val="f6c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253400">
              <a:off x="4838760" y="1638000"/>
              <a:ext cx="380880" cy="304560"/>
            </a:xfrm>
            <a:prstGeom prst="triangle">
              <a:avLst>
                <a:gd name="adj" fmla="val 50000"/>
              </a:avLst>
            </a:prstGeom>
            <a:solidFill>
              <a:srgbClr val="f6c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3962160" y="1905120"/>
              <a:ext cx="1369800" cy="877680"/>
            </a:xfrm>
            <a:prstGeom prst="triangle">
              <a:avLst>
                <a:gd name="adj" fmla="val 50000"/>
              </a:avLst>
            </a:prstGeom>
            <a:solidFill>
              <a:srgbClr val="f6c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7701000">
              <a:off x="5180760" y="3885840"/>
              <a:ext cx="2133720" cy="609480"/>
            </a:xfrm>
            <a:prstGeom prst="triangle">
              <a:avLst>
                <a:gd name="adj" fmla="val 50000"/>
              </a:avLst>
            </a:prstGeom>
            <a:solidFill>
              <a:srgbClr val="f6c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0792400">
              <a:off x="4723920" y="2819160"/>
              <a:ext cx="1257480" cy="304560"/>
            </a:xfrm>
            <a:prstGeom prst="rect">
              <a:avLst/>
            </a:prstGeom>
            <a:solidFill>
              <a:srgbClr val="f6c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1635200">
              <a:off x="3200040" y="2895120"/>
              <a:ext cx="1257480" cy="304920"/>
            </a:xfrm>
            <a:prstGeom prst="rect">
              <a:avLst/>
            </a:prstGeom>
            <a:solidFill>
              <a:srgbClr val="f6c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3920" y="5486400"/>
              <a:ext cx="609480" cy="533520"/>
            </a:xfrm>
            <a:prstGeom prst="ellipse">
              <a:avLst/>
            </a:prstGeom>
            <a:solidFill>
              <a:srgbClr val="f6c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5486400"/>
              <a:ext cx="609480" cy="533520"/>
            </a:xfrm>
            <a:prstGeom prst="ellipse">
              <a:avLst/>
            </a:prstGeom>
            <a:solidFill>
              <a:srgbClr val="f6c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43400" y="2057400"/>
              <a:ext cx="152280" cy="15228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2057400"/>
              <a:ext cx="152280" cy="15228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0" y="2286000"/>
              <a:ext cx="228600" cy="152280"/>
            </a:xfrm>
            <a:prstGeom prst="flowChartConnector">
              <a:avLst/>
            </a:prstGeom>
            <a:solidFill>
              <a:srgbClr val="fba3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kazka" descr="Розробка відкритого уроку по теме Казки українських письменників Лисичка і журавл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ightbox-image" descr=""/>
          <p:cNvPicPr/>
          <p:nvPr/>
        </p:nvPicPr>
        <p:blipFill>
          <a:blip r:embed="rId1"/>
          <a:srcRect l="47248" t="0" r="0" b="42880"/>
          <a:stretch/>
        </p:blipFill>
        <p:spPr>
          <a:xfrm>
            <a:off x="0" y="146160"/>
            <a:ext cx="9144000" cy="6581520"/>
          </a:xfrm>
          <a:prstGeom prst="rect">
            <a:avLst/>
          </a:prstGeom>
          <a:ln w="0">
            <a:noFill/>
          </a:ln>
        </p:spPr>
      </p:pic>
      <p:pic>
        <p:nvPicPr>
          <p:cNvPr id="62" name="oak-tree-color" descr="дуб малюнок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6858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4" name="%25D1%2581%25D0%25BE%25D0%25B2%25D0%25B0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18288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57200"/>
            <a:ext cx="4762800" cy="58294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4038480" y="0"/>
            <a:ext cx="3657600" cy="2514600"/>
            <a:chOff x="4038480" y="0"/>
            <a:chExt cx="3657600" cy="2514600"/>
          </a:xfrm>
        </p:grpSpPr>
        <p:pic>
          <p:nvPicPr>
            <p:cNvPr id="67" name="maple-leaf-color" descr="Малюнок векторний листок клена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038480" y="0"/>
              <a:ext cx="36576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715000" y="87804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948560" y="812880"/>
            <a:ext cx="4428720" cy="4242240"/>
            <a:chOff x="4948560" y="812880"/>
            <a:chExt cx="4428720" cy="4242240"/>
          </a:xfrm>
        </p:grpSpPr>
        <p:pic>
          <p:nvPicPr>
            <p:cNvPr id="70" name="maple-leaf-color" descr="Малюнок векторний листок клена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 rot="2302800">
              <a:off x="5333760" y="1676520"/>
              <a:ext cx="36576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072560" y="230652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56320" y="3665160"/>
            <a:ext cx="4203000" cy="3413160"/>
            <a:chOff x="4756320" y="3665160"/>
            <a:chExt cx="4203000" cy="3413160"/>
          </a:xfrm>
        </p:grpSpPr>
        <p:pic>
          <p:nvPicPr>
            <p:cNvPr id="73" name="maple-leaf-color" descr="Малюнок векторний листок клена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11745000">
              <a:off x="5028840" y="4114440"/>
              <a:ext cx="36576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539040" y="489744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maple-leaf-color" descr="Малюнок векторний листок клена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0"/>
            <a:ext cx="1981080" cy="1362240"/>
          </a:xfrm>
          <a:prstGeom prst="rect">
            <a:avLst/>
          </a:prstGeom>
          <a:ln w="0">
            <a:noFill/>
          </a:ln>
        </p:spPr>
      </p:pic>
      <p:pic>
        <p:nvPicPr>
          <p:cNvPr id="76" name="maple-leaf-color" descr="Малюнок векторний листок клена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3009960"/>
            <a:ext cx="137160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maple-leaf-color" descr="Малюнок векторний листок клена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990720" y="5915160"/>
            <a:ext cx="1371600" cy="942840"/>
          </a:xfrm>
          <a:prstGeom prst="rect">
            <a:avLst/>
          </a:prstGeom>
          <a:ln w="0">
            <a:noFill/>
          </a:ln>
        </p:spPr>
      </p:pic>
      <p:pic>
        <p:nvPicPr>
          <p:cNvPr id="78" name="maple-leaf-color" descr="Малюнок векторний листок клена"/>
          <p:cNvPicPr/>
          <p:nvPr/>
        </p:nvPicPr>
        <p:blipFill>
          <a:blip r:embed="rId15"/>
          <a:stretch/>
        </p:blipFill>
        <p:spPr>
          <a:xfrm rot="19128600">
            <a:off x="3123720" y="5914800"/>
            <a:ext cx="1371600" cy="942840"/>
          </a:xfrm>
          <a:prstGeom prst="rect">
            <a:avLst/>
          </a:prstGeom>
          <a:ln w="0">
            <a:noFill/>
          </a:ln>
        </p:spPr>
      </p:pic>
      <p:pic>
        <p:nvPicPr>
          <p:cNvPr id="79" name="maple-leaf-color" descr="Малюнок векторний листок клена"/>
          <p:cNvPicPr/>
          <p:nvPr/>
        </p:nvPicPr>
        <p:blipFill>
          <a:blip r:embed="rId16"/>
          <a:stretch/>
        </p:blipFill>
        <p:spPr>
          <a:xfrm rot="19128600">
            <a:off x="7691040" y="323640"/>
            <a:ext cx="114300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1" name="%25D1%2581%25D0%25BE%25D0%25B2%25D0%25B0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1828800" cy="1784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304812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Monotype Corsiva"/>
              </a:rPr>
              <a:t>Розв’яжіть задач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88458340" descr="88458340.jpg"/>
          <p:cNvPicPr/>
          <p:nvPr/>
        </p:nvPicPr>
        <p:blipFill>
          <a:blip r:embed="rId1"/>
          <a:srcRect l="0" t="0" r="0" b="270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11-27T14:51:0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