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C339-F2B8-4E17-89A2-8D379E73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6C48-6B69-4DC7-AE1C-EA35C1A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F5A2-D697-49E0-A0DC-CAEF43E4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6DD5-086C-486A-9200-7B47F228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1ED0-095F-4A5E-A693-19ABE083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FCFA-ABD1-4228-B649-6AE5E84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7C03-74EB-482D-A062-537BBB4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F36-57D6-41CD-846D-83AA66F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53CD-FEB7-4EC0-AD7A-A4F45403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873B-26CA-474B-93C6-2714D51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451-014F-416D-B82F-660CE65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69B0-51A8-42FB-9044-35FD4F2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D68-7227-4FA0-8D23-D882D73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83E6-0E12-4EF2-9306-A36F0C8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4B73-5C7A-46D4-AAA3-B05B894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9C32-7621-43B2-89EB-A274D445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467-F6AE-44CD-8676-05DC803D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A026-4122-40B9-8910-34EE9AB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A400-9406-40A1-A4B9-89345F42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C072-66B4-4C3E-9A2C-B366BB5F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61A2-8E07-46AE-A9F3-88105A46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89CE-E076-41C9-A38B-E658B9A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B9FD-AC62-4E41-9A24-9F10D4D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1C31-C28E-4836-89EF-02ECFA1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34D5-92BE-42E3-9F4F-00F07760D3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3C9E-260D-452F-9DC4-D3F037A595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e5ff"/>
                </a:solidFill>
                <a:latin typeface="Times New Roman"/>
              </a:rPr>
              <a:t>Водянська загальноосвітня школа 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I-III</a:t>
            </a:r>
            <a:r>
              <a:rPr b="1" lang="uk-UA" sz="2000" spc="-1" strike="noStrike">
                <a:solidFill>
                  <a:srgbClr val="e5e5ff"/>
                </a:solidFill>
                <a:latin typeface="Times New Roman"/>
              </a:rPr>
              <a:t> ступенів №11</a:t>
            </a:r>
            <a:br>
              <a:rPr sz="2000"/>
            </a:br>
            <a:r>
              <a:rPr b="1" lang="uk-UA" sz="2000" spc="-1" strike="noStrike">
                <a:solidFill>
                  <a:srgbClr val="e5e5ff"/>
                </a:solidFill>
                <a:latin typeface="Times New Roman"/>
              </a:rPr>
              <a:t>Добропільської міської ради</a:t>
            </a:r>
            <a:br>
              <a:rPr sz="2000"/>
            </a:br>
            <a:r>
              <a:rPr b="1" lang="uk-UA" sz="2000" spc="-1" strike="noStrike">
                <a:solidFill>
                  <a:srgbClr val="e5e5ff"/>
                </a:solidFill>
                <a:latin typeface="Times New Roman"/>
              </a:rPr>
              <a:t>Донецької області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Літературне читанн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2 кла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Times New Roman"/>
              </a:rPr>
              <a:t>Дорожчого за Вітчизну немає нічого.</a:t>
            </a:r>
            <a:br>
              <a:rPr sz="2400"/>
            </a:br>
            <a:r>
              <a:rPr b="1" i="1" lang="uk-UA" sz="2400" spc="-1" strike="noStrike">
                <a:solidFill>
                  <a:srgbClr val="ffff66"/>
                </a:solidFill>
                <a:latin typeface="Times New Roman"/>
              </a:rPr>
              <a:t>Василь Сухомлинсь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uk-UA" sz="2400" spc="-1" strike="noStrike">
                <a:solidFill>
                  <a:srgbClr val="ffff66"/>
                </a:solidFill>
                <a:latin typeface="Times New Roman"/>
              </a:rPr>
              <a:t>Верба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66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66"/>
                </a:solidFill>
                <a:latin typeface="Times New Roman"/>
              </a:rPr>
              <a:t>мов дівчина золотокоса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Підготувал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вчитель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початкових класів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Лагойко Тетяна Валентинів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Garamond"/>
              </a:rPr>
              <a:t>2017 рік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Словникова робо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Ві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суму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щасл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гніздечк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прокидаєть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Ко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тих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тремт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золотоко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зазеленіють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aramond"/>
              </a:rPr>
              <a:t>Головна дум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ff00"/>
                </a:solidFill>
                <a:latin typeface="Garamond"/>
              </a:rPr>
              <a:t>Бо Батьківщина – це найдорожче для нас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ff00"/>
                </a:solidFill>
                <a:latin typeface="Garamond"/>
              </a:rPr>
              <a:t>Дорожчього за Вітчизну немає нічо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66"/>
                </a:solidFill>
                <a:latin typeface="Garamond"/>
              </a:rPr>
              <a:t>Любов до рідного краю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Робота з прислів</a:t>
            </a: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`</a:t>
            </a: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я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Де рідний край, там і під ялинкою ра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У чужій стороні не так світить і сон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Навіть у птахів є Батьківщ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Кожна рослина на своєму корені росте.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Порівнянн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Облітав журав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Сто доріг, сто зем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Ми спитали журавл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Де найкращая земл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Журавель відповідає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Краще рідної немає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                                       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латон Вороньк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Garamond"/>
              </a:rPr>
              <a:t>Сенкан до слова Батьківщ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Імен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Прикмет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Дієсло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Реч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Синоні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1384566768_ekolog"/>
          <p:cNvPicPr/>
          <p:nvPr/>
        </p:nvPicPr>
        <p:blipFill>
          <a:blip r:embed="rId1"/>
          <a:stretch/>
        </p:blipFill>
        <p:spPr>
          <a:xfrm>
            <a:off x="3419640" y="1989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Garamond"/>
              </a:rPr>
              <a:t>Підсум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OSdeBKMxY9M"/>
          <p:cNvPicPr/>
          <p:nvPr/>
        </p:nvPicPr>
        <p:blipFill>
          <a:blip r:embed="rId1"/>
          <a:stretch/>
        </p:blipFill>
        <p:spPr>
          <a:xfrm>
            <a:off x="6084720" y="220500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2741369_96521nothumb650"/>
          <p:cNvPicPr/>
          <p:nvPr/>
        </p:nvPicPr>
        <p:blipFill>
          <a:blip r:embed="rId2"/>
          <a:stretch/>
        </p:blipFill>
        <p:spPr>
          <a:xfrm>
            <a:off x="179280" y="220500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"/>
          <p:cNvPicPr/>
          <p:nvPr/>
        </p:nvPicPr>
        <p:blipFill>
          <a:blip r:embed="rId3"/>
          <a:stretch/>
        </p:blipFill>
        <p:spPr>
          <a:xfrm>
            <a:off x="3132000" y="2205000"/>
            <a:ext cx="288000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66"/>
                </a:solidFill>
                <a:latin typeface="Garamond"/>
              </a:rPr>
              <a:t>Самооцінк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Домашнє завда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ерша група. Переказувати змі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оповідання за малюн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Друга група. Переказувати змі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оповідання від імені верб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Будь великий, як верб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Будь здоровий, як вод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Будь багатий, як земл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Garamond"/>
              </a:rPr>
              <a:t>А вродливий, як весна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8133"/>
          <p:cNvPicPr/>
          <p:nvPr/>
        </p:nvPicPr>
        <p:blipFill>
          <a:blip r:embed="rId1"/>
          <a:stretch/>
        </p:blipFill>
        <p:spPr>
          <a:xfrm>
            <a:off x="1403280" y="2602080"/>
            <a:ext cx="6408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Чистом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На-на-на – рідна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Ай-ай-ай – наш рідний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Жи-жи-жи – землю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Би-би-би – золоті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Ті-ті-ті – рук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img1"/>
          <p:cNvPicPr/>
          <p:nvPr/>
        </p:nvPicPr>
        <p:blipFill>
          <a:blip r:embed="rId1"/>
          <a:stretch/>
        </p:blipFill>
        <p:spPr>
          <a:xfrm>
            <a:off x="4716360" y="2997360"/>
            <a:ext cx="44276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Скором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На болоті журавел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цілий день збирав щав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Назбирав собі на борщ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та якраз вперіщив дощ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daru"/>
          <p:cNvPicPr/>
          <p:nvPr/>
        </p:nvPicPr>
        <p:blipFill>
          <a:blip r:embed="rId1"/>
          <a:stretch/>
        </p:blipFill>
        <p:spPr>
          <a:xfrm>
            <a:off x="5003640" y="375300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Гра “Знайди зайве слово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435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ff00"/>
                </a:solidFill>
                <a:latin typeface="Garamond"/>
              </a:rPr>
              <a:t>Рідний край, земля батьків, книг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ff00"/>
                </a:solidFill>
                <a:latin typeface="Garamond"/>
              </a:rPr>
              <a:t>Вітчизна, Батьківщи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ff00"/>
                </a:solidFill>
                <a:latin typeface="Garamond"/>
              </a:rPr>
              <a:t>Хліб, поля, колоски, прапорець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ff00"/>
                </a:solidFill>
                <a:latin typeface="Garamond"/>
              </a:rPr>
              <a:t>хліборо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heart-clip-art-911176"/>
          <p:cNvPicPr/>
          <p:nvPr/>
        </p:nvPicPr>
        <p:blipFill>
          <a:blip r:embed="rId1"/>
          <a:stretch/>
        </p:blipFill>
        <p:spPr>
          <a:xfrm>
            <a:off x="762120" y="104760"/>
            <a:ext cx="7619760" cy="6648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9640" y="1125000"/>
            <a:ext cx="75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оки дитинства –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це перш за все виховання серц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 Сухомлинсь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Загад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Довгі, тонкі віти має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Золотом кору вкриває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З гілок кошики плету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00"/>
                </a:solidFill>
                <a:latin typeface="Garamond"/>
              </a:rPr>
              <a:t>В церкву раз на рік несу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salix-alba-tristis-resistenta"/>
          <p:cNvPicPr/>
          <p:nvPr/>
        </p:nvPicPr>
        <p:blipFill>
          <a:blip r:embed="rId1"/>
          <a:stretch/>
        </p:blipFill>
        <p:spPr>
          <a:xfrm>
            <a:off x="5796000" y="2205000"/>
            <a:ext cx="3190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“</a:t>
            </a:r>
            <a:r>
              <a:rPr b="1" lang="uk-UA" sz="4400" spc="-1" strike="noStrike">
                <a:solidFill>
                  <a:srgbClr val="ffff66"/>
                </a:solidFill>
                <a:latin typeface="Garamond"/>
              </a:rPr>
              <a:t>Асоціативний кущ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ff00"/>
                </a:solidFill>
                <a:latin typeface="Garamond"/>
              </a:rPr>
              <a:t>Верб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5508720" y="3284640"/>
            <a:ext cx="1008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6"/>
          <p:cNvSpPr/>
          <p:nvPr/>
        </p:nvSpPr>
        <p:spPr>
          <a:xfrm flipH="1" flipV="1">
            <a:off x="2484360" y="3284640"/>
            <a:ext cx="122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572000" y="249228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0" y="486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555640" y="458136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435640" y="4508640"/>
            <a:ext cx="115236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Garamond"/>
              </a:rPr>
              <a:t>Тема. Дорожчого за Вітчизну немає нічого.</a:t>
            </a:r>
            <a:br>
              <a:rPr sz="4000"/>
            </a:br>
            <a:r>
              <a:rPr b="1" i="1" lang="uk-UA" sz="4000" spc="-1" strike="noStrike">
                <a:solidFill>
                  <a:srgbClr val="ffff66"/>
                </a:solidFill>
                <a:latin typeface="Garamond"/>
              </a:rPr>
              <a:t>Василь Сухомлинський “Верба-мов дівчина        золотокоса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8" descr="Sukhomlinsky-250"/>
          <p:cNvPicPr/>
          <p:nvPr/>
        </p:nvPicPr>
        <p:blipFill>
          <a:blip r:embed="rId1"/>
          <a:stretch/>
        </p:blipFill>
        <p:spPr>
          <a:xfrm>
            <a:off x="179280" y="2421000"/>
            <a:ext cx="3481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Garamond"/>
              </a:rPr>
              <a:t>Інтерактивна вправа “Передбачення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00"/>
                </a:solidFill>
                <a:latin typeface="Garamond"/>
              </a:rPr>
              <a:t>“</a:t>
            </a:r>
            <a:r>
              <a:rPr b="1" i="1" lang="uk-UA" sz="4000" spc="-1" strike="noStrike">
                <a:solidFill>
                  <a:srgbClr val="00ff00"/>
                </a:solidFill>
                <a:latin typeface="Garamond"/>
              </a:rPr>
              <a:t>Верба – мов дівчина золотокоса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00"/>
                </a:solidFill>
                <a:latin typeface="Garamond"/>
              </a:rPr>
              <a:t>“</a:t>
            </a:r>
            <a:r>
              <a:rPr b="0" lang="uk-UA" sz="3600" spc="-1" strike="noStrike">
                <a:solidFill>
                  <a:srgbClr val="00ff00"/>
                </a:solidFill>
                <a:latin typeface="Garamond"/>
              </a:rPr>
              <a:t>Я думаю…”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00"/>
                </a:solidFill>
                <a:latin typeface="Garamond"/>
              </a:rPr>
              <a:t>“</a:t>
            </a:r>
            <a:r>
              <a:rPr b="0" lang="uk-UA" sz="3600" spc="-1" strike="noStrike">
                <a:solidFill>
                  <a:srgbClr val="00ff00"/>
                </a:solidFill>
                <a:latin typeface="Garamond"/>
              </a:rPr>
              <a:t>На мою думку…”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14:50:33Z</dcterms:created>
  <dc:creator>SG</dc:creator>
  <dc:description/>
  <dc:language>en-US</dc:language>
  <cp:lastModifiedBy>Пользователь Windows</cp:lastModifiedBy>
  <dcterms:modified xsi:type="dcterms:W3CDTF">2018-01-03T17:06:46Z</dcterms:modified>
  <cp:revision>5</cp:revision>
  <dc:subject/>
  <dc:title>Водянська загальноосвітня школа I-III ступенів №11 Добропільської міської ради Донецької області</dc:title>
</cp:coreProperties>
</file>