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351B-E0F8-453F-83D1-9049D39E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E9CE-AE1B-4FD6-9C88-60D6B963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4554-BF24-4945-8FB1-978CB46E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F20B-10CB-47C1-B264-3DE0A5A4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5EA4-DE5B-4EB0-898D-33633D40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E244-452D-456D-AFDB-0E75E351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316B-4D43-44A6-9837-3344E6A2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ACBE-188C-4207-B834-C8BF1E99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910F-6AD3-49FA-9427-7503850B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A823-5892-47E5-B730-8B927493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8E7F-ACB6-4F5F-B10A-BE12A3AB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AAE5-50E3-47A5-BD0E-071754C7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9B9E-7801-4FBF-91CC-30B82D753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52;&#1077;&#1076;&#1080;&#1094;&#1080;&#1085;&#1072;" TargetMode="External"/><Relationship Id="rId2" Type="http://schemas.openxmlformats.org/officeDocument/2006/relationships/hyperlink" Target="http://uk.wikipedia.org/wiki/&#1057;&#1087;&#1086;&#1088;&#1090;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52;&#1086;&#1088;&#1092;&#1110;&#1085;" TargetMode="External"/><Relationship Id="rId2" Type="http://schemas.openxmlformats.org/officeDocument/2006/relationships/hyperlink" Target="http://uk.wikipedia.org/wiki/&#1052;&#1077;&#1090;&#1072;&#1076;&#1086;&#1085;" TargetMode="External"/><Relationship Id="rId3" Type="http://schemas.openxmlformats.org/officeDocument/2006/relationships/hyperlink" Target="http://uk.wikipedia.org/wiki/&#1043;&#1077;&#1088;&#1086;&#1111;&#1085;" TargetMode="External"/><Relationship Id="rId4" Type="http://schemas.openxmlformats.org/officeDocument/2006/relationships/hyperlink" Target="http://uk.wikipedia.org/wiki/&#1064;&#1083;&#1091;&#1085;&#1082;&#1086;&#1074;&#1086;-&#1082;&#1080;&#1096;&#1082;&#1086;&#1074;&#1080;&#1081;_&#1090;&#1088;&#1072;&#1082;&#1090;" TargetMode="External"/><Relationship Id="rId5" Type="http://schemas.openxmlformats.org/officeDocument/2006/relationships/hyperlink" Target="http://uk.wikipedia.org/wiki/&#1064;&#1083;&#1091;&#1085;&#1082;&#1086;&#1074;&#1086;-&#1082;&#1080;&#1096;&#1082;&#1086;&#1074;&#1080;&#1081;_&#1090;&#1088;&#1072;&#1082;&#1090;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43;&#1086;&#1088;&#1084;&#1086;&#1085;&#1080;" TargetMode="External"/><Relationship Id="rId2" Type="http://schemas.openxmlformats.org/officeDocument/2006/relationships/hyperlink" Target="http://uk.wikipedia.org/wiki/&#1040;&#1075;&#1088;&#1077;&#1089;&#1110;&#1103;" TargetMode="External"/><Relationship Id="rId3" Type="http://schemas.openxmlformats.org/officeDocument/2006/relationships/hyperlink" Target="http://uk.wikipedia.org/wiki/&#1053;&#1080;&#1088;&#1082;&#1080;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8137440" cy="19749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Допінг і його вплив на організ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аборонені мето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557360"/>
            <a:ext cx="8640720" cy="270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опінг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рові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тучне введення в організм спортсмена (часто у видах спорту на витривалість, тобто у бігунів, плавців, велисопедистів тощо) крові,еретроцитів або плазми, щоб посилити здатність організма засвоювати кисень, в т.ч. і у формі додаткових переливань крові ; здатне викликати сгустіння крові, порушення кровообігу, ураження нирок тощо; фактично неможливо виявити під час аналізі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Фармакологічні,хімічні і фізичні стимуляції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 біологічними рідинами (маскуючі засоби, додавання ароматичних сполук в проби сечі, катерерізація, підміна проб, придушення виділення сечі ниркам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4365720"/>
            <a:ext cx="4032360" cy="2492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932360" y="4365720"/>
            <a:ext cx="3743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8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-1080"/>
            <a:ext cx="9144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сь кілька прикладів раптових смертей, причиною яких, як було доведено, був прийом допінгу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564560"/>
            <a:ext cx="9144000" cy="404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Олімпійських іграх у Хельсінкі загинув 25-літній велосипедист, що прийняв з кавою 15 таблеток фенаміну і 8 таблеток фенілізопропаміна, що є допінг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1960 році на Олімпійських іграх у Римі в команді велосипедистів Данії в гонці на 110 кілометрів на 66-му кілометрі помер спортсмен Иєжен Кнут Йєнсен, а два його товариші по команді Боанстон і Йоргансен знепритомніли, але залишилися живі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ксер напівсередньої ваги Белло помер у 1963 році від отруєння героїн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1967 році на одному із гірських етапів багатоденної гонки “Тур де Франс” загинув велогонщик-професіонал Тоні Сімео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1968 році на велокросі гине відомий гонщик Верб Мартін. Він помер через дві години після того, як виграв гонку. На європейській першості по боксу в тому ж році помер боксер середньої ваги з ФРН Ельце. Усього в 1968 році на різних змаганнях боксерів у ФРН загинуло ще два спортсмени — Белло і Еспарс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літку 1986 року в результаті зловживання кокаїном гине талановитий американський баскетболіст Лео Байе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1987 році в результаті вживання допінгу помирає професійний футболіст Дон Роджер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4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Боротьба з допінго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708280"/>
            <a:ext cx="9144000" cy="4149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9280" y="1197000"/>
            <a:ext cx="86425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ерйозних національних і міжнародних змаганнях проводиться допінг-контроль не тільки призерів ,але і усіх учасників.Мобільні лабораторії допінг-контроля присутні на всіх змаганнях.В більшості видів спорту вживання допінгу призводить до дискваліфікації учасників на 2 роки,а повторну-на 4 роки або і назавжди. Для боротьби з допінгом в олімпійських видах спорту створена Всесвітня антидопінгова асоціація (ВА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e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Що таке допін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6792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́пін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фармакологічні та інші речовини, що при введенні в організм сприяють активізації його роботи і росту, стимуляції фізичної і нервової діяльності тощ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6028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ін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психоактивні, ендокринні та ін. речовини чи методи, що здатні штучно підвищувати працездатність і нівелювати відчуття втоми, у зв'язку з чим були внесені до переліку заборонених для використання спротсмен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932360" y="3500280"/>
            <a:ext cx="3527280" cy="2646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203640" y="314172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37396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астосування допінг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8392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інг застосовують у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едицин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ле найвідомішим і найскандальнішим є вживання допінгу в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порт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дже як у професійному, так і аматорському спорті воно суворо забороне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2997360"/>
            <a:ext cx="4321080" cy="2536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076720" y="3068640"/>
            <a:ext cx="4067280" cy="225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843280" y="4076640"/>
            <a:ext cx="352728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e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91280" y="404640"/>
            <a:ext cx="2952720" cy="2213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4292640"/>
            <a:ext cx="3024360" cy="2419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456120"/>
            <a:ext cx="6084720" cy="2832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звиток професійного та напівпрофесійного спорту, його популярність у глядачів, високі гонорари, призвели до бажання серед атлетів і тренерів досягти успіху будь-якою ціною. В кінці XX-го століття виникли проблеми з масовим вживанням спортсменами допінгу — медичних препаратів, які сприяють покращенню спортивних результатів, хоча можуть мати в майбутньому негативні наслідки й зашкодити здоров'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87640" y="3141720"/>
            <a:ext cx="6012000" cy="3075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ак в сучасну епоху боротьба з допінгом перетворилася в наукове змаганням між ВАДА та хімічними лабораторіями виробників медикаментів, що мають потенціал покращити результати спортсменів. Сучасний спорт високих досягнень неможливий без фармакологічної підтримки, медикаментів, які дозволяють спортсменам зняти напруження з організму після виснажливих тренувань. Границя між дозволеними та забороненими хімічними речовинами часто дуже невизначена, що призводить до регулярних допінгових скандалів, особливо у видах спорту, які вимагають витривалості, наприклад, велоспорту й плавання, або великої сили м'язів (важка атлетика, спринт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e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280360" cy="180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ифікація засобів допінгу в спорті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98200" y="1438560"/>
            <a:ext cx="7192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752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боронені класи фармакологічних препара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205000"/>
            <a:ext cx="5456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имуля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ркотичні анальге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наболічні стерої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іуре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птидні гормони та їх ана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156360" y="24210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24360" y="46530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042920" y="5084640"/>
            <a:ext cx="237492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e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тимулято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1340280"/>
            <a:ext cx="8785440" cy="448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 цієї групи відносять препарати, які підвищують рухову активність, агресивність і працездатність та знижують відчуття втоми. Це амфетамін (і його похідні), ефедрин і фенілпропаноламін (ці речовини, до речі, часто входять до складу різних ліків). І ще у них дуже важкі побічні ефекти: головний біль, нудота, занепокоєння і збій серцевого ритму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e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Наркотичні анальг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1455480"/>
            <a:ext cx="8678880" cy="448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ізновид сильнодіючих знеболюючих засобів (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орфін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етадон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петидин, 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герої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декстраморамід, декстрапропоксіфен, пентазоцин тощо); мають численні побічні ефекти (звикання, втрата рівноваги і концентрації, захворювання 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шлунково-кишкового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тракт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; виявляються в організмі протягом трьох місяців після вживан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e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болічні стерої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407960"/>
            <a:ext cx="9144000" cy="484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ні або штучні препарати, дія яких аналогічна до чоловічого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ормон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стостерон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бто викликають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агресі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силюють відчуття змагальності і жаги до перемоги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ндролон, тетрагідрогестринон, станозолол, андростенедион, дегідроепіондростерон клостебол, метандієнон, флюоксіместерон, метенолон, оксандролон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та антагоністи бета-адренорецепторів: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енбутерол, сальбутамол, тербуталін, сальметерол, фенотеро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 побічні ефекти, як фізіологічні (ураження внутрішніх органів, напр.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нир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сихічні (підвищена агресивність), так і комбіновані (імпотенція), у жінок також розвиток чоловічих рис; стероїди залишаються в організмі напротязі 6 місяців і легко виявляються в сеч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e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24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іуре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415520"/>
            <a:ext cx="9036000" cy="51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3800" rIns="0" tIns="47520" bIns="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парати, які виводять із організму рідину 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цетазоламід, буметанід, хлорталідон, етакринова кислота, фуросемід, гідрохлортіазен, манітол, спіронолактон, тріамтерен та схожі речови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 вживаються для швидкої втрати ваги або для виведення з організму інших допінгових засобів; до побічних ефектів слід занести можливе обезводнення організму і ураження нирок; виявляються легко за результатами тес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7T21:52:38Z</dcterms:created>
  <dc:creator>punsh</dc:creator>
  <dc:description/>
  <dc:language>en-US</dc:language>
  <cp:lastModifiedBy>punsh</cp:lastModifiedBy>
  <dcterms:modified xsi:type="dcterms:W3CDTF">2015-03-28T21:20:54Z</dcterms:modified>
  <cp:revision>3</cp:revision>
  <dc:subject/>
  <dc:title>Допінг і його вплив на організм</dc:title>
</cp:coreProperties>
</file>