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189-6F59-4111-AA51-8A150F41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834-A040-4FB4-B763-4C14A8D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5C7-07E0-4B3C-ABA3-1092CD82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75F-A50C-45C3-B9F7-0C95A5E2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912-C586-4180-8F29-69E715F1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53E-6A0F-4D74-AB77-ADF52C41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0EFD-04AA-4A8C-915A-4DFF868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E250-4AE7-426B-AF80-54EBB7D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DB73-1532-453A-856B-B336E8F8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6F5-E801-4A8F-ABD8-6F1F1EE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0550-19FC-42FA-BF46-9991D7C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625-22A1-47F4-B1D6-4F6B2E1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789E-7566-4E2D-9883-5E6F300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F31-1E1B-46ED-87CF-9996466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317-0035-41AD-B520-6C31DFC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FC32-FF47-4D6E-A5C5-446C4015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2614-46AD-4EC7-AFC9-BEFE0B97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CE25-2E1C-4D70-A6CF-E7D49AC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EE12-8F23-43E4-BF85-B6BB0F98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0E94-9F05-453E-887E-DDFC0C83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814B-F8CF-4F7A-9A1F-F2D61D6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1B28-1F05-4C5F-BC00-49840DC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E6C-27B6-4825-807D-A85EC30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F682-F201-46F6-8023-2F9CA9B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8CD3-1609-4C06-B4B1-78075A1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B53D-78E6-46F8-809C-A51D6E2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706D-C30B-4D85-8405-0DC47D3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C6E7-6368-45CD-A45B-4A5BC49F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65B9-9B4A-4172-BD17-28C942BD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DD6E-1D7C-480C-A65D-A4DA9CD8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729A-034B-4082-83AF-63A87CD2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F207-1C11-45DA-BBF8-D82B11F1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4BD7-C632-41C8-90F2-2CE213E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8E8-7CD6-4992-8C0B-530FE3F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077F-E91A-45BC-9D25-DA6B9254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DC8C-B55D-464F-944D-ABF3FE28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99D40-AACC-4BE1-823C-4631C32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3914-558D-438F-9CDA-A1B58E8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FCE6-913C-4EFA-9626-A3EF4E6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71D0-1D1B-46AD-BBDB-2901548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77E3-7A54-4B53-A099-270EF33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3FAE-6A77-4227-A1A7-5EB6D4D5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CCF9-BA71-4726-B282-DACAA53E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279B-FD0B-4E57-B3BE-7D3F471C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1EA-8168-4403-AE0A-79B02548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2BAA-B4B6-450F-A1AE-21A35103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1A6C-DEC9-48A8-8AE3-3CF95FA3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593B-6621-4DAB-9271-4C9984E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5664-3937-4B1A-894A-B91901C6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DF3E-E834-40CE-AD2B-618B4CB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8CBF6-D953-4671-A7E3-6C9D8E1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18D1-E1BA-4330-B1D8-362195C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DD36-E09B-40B0-966B-42F1A6B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9182-A201-4731-A9E2-49BD212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7D30-9297-4848-9CD9-B2E14C34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C54-09E6-495C-A1BD-A20C289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DDFD-A501-454A-9B2C-42D83790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8A79-354A-43E8-8CA6-BCA9BDAE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4FCB-5F53-4E80-9FA0-DD99A83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CBD2-A627-4440-96A8-EE2BEF0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ADB8-2F1C-487C-838D-D52E8E1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2574-1857-4D67-95E4-92E866C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127C3-010E-4314-9991-1C904D7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2B07-904B-4F68-BEA3-033B77D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3AEBD-ED30-43AA-B0F5-05962C7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6811-7F37-4F22-BE09-02AD8BF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CA8-E70F-4B4E-93B0-247AE0D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E2AA-4912-4849-9579-E37B092A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1493-8A70-47C8-95BF-C802E569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9BED-78F4-4513-8F8C-A399C6AE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7064-AC9D-4AEC-97D7-A83D9CC4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09B6-A1C6-4153-A8B1-7649469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CBBF-0B7F-4D1E-9281-A76F7462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CDEB-C54D-45B9-A5F4-BD5283F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1B64-2DEC-4E69-9C89-D9E4ABB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CA04-C358-4CD6-B730-3B092E9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CE502-E511-4129-A018-187ADEB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C51-F392-41C8-8017-ACAF73A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63058-1D05-407A-9D1B-62F3FD1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3371-A91B-4A01-92D2-3E63439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A979-797E-412F-8325-BB5C0E42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3C9B-9045-4111-ACAB-EEDF945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FE3D-6CE8-4F05-8B55-2EF41FF5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3E9-4CB0-45F7-A348-4CB9C6F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774-0665-49BB-91A4-C86FD09A08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6B3-94F9-4B4A-808D-347802402F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5A5-C51D-4C06-92DC-0A55CC8B06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FAF-8A7A-442D-ABE6-9AFBAAF593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53B9-9353-4C9B-B0C3-06B15D748F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8AD3-3571-4D15-AC97-B73C28072E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74C-0FE6-4BF5-BF9A-1F99F31A40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2060"/>
                </a:solidFill>
                <a:latin typeface="Corbel"/>
              </a:rPr>
              <a:t>ПОДОРОЖ СТЕЖКАМИ ЗНАНЬ</a:t>
            </a:r>
            <a:br>
              <a:rPr sz="3900"/>
            </a:br>
            <a:r>
              <a:rPr b="1" lang="uk-UA" sz="3900" spc="-1" strike="noStrike">
                <a:solidFill>
                  <a:srgbClr val="002060"/>
                </a:solidFill>
                <a:latin typeface="Corbel"/>
              </a:rPr>
              <a:t>за 45 хвилин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3714840" y="2286000"/>
            <a:ext cx="50004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394720" y="2149920"/>
            <a:ext cx="6462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«Єдиний шлях, що веде до знань – це діяльн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Дорогу здолає той, хто йд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Бернард Ш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То ж вперед до зна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2060"/>
                </a:solidFill>
                <a:latin typeface="Corbel"/>
              </a:rPr>
              <a:t>Стежка “Застосування знань в стандартних ситуаціях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28480" y="1143000"/>
            <a:ext cx="7499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Скласти рівняння кола, якщ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) центр кола має координати (-2;3), а радіус 1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) центр кола має координати (4;0), а радіус 5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) центр кола має координати (0;0), а радіус 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2. Які з точок: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1; 2),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3; 4),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-4; 3), 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0; 5), 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5; -1) — ле­жать на колі, рівняння якого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+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= 25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3.   Запишіть рівняння кола радіуса 1, а координати центр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а) (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; 1);  б) (-1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);    в) (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; 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);    г) (-1; 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.   Укажіть координати центра і радіус кола, яке задан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івняння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) 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x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– 1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 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+ 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= 9;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      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б) 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+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+ (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у +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3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= 1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) 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+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+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= 2;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     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г)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+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+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uk-UA" sz="2000" spc="-1" strike="noStrike">
                <a:solidFill>
                  <a:srgbClr val="000000"/>
                </a:solidFill>
                <a:latin typeface="Corbel"/>
              </a:rPr>
              <a:t> +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 2)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rbel"/>
              </a:rPr>
              <a:t>2 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= 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5.      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214800" y="628668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.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ування в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Стежка “Розв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’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язування складніших задач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71440" y="2000160"/>
            <a:ext cx="6499080" cy="23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Робота з підручником  (ст. 41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56, № 160(а), №17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Схема 4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8156880" cy="631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407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orbel"/>
              </a:rPr>
              <a:t>Домашнє завданн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14240" y="2143080"/>
            <a:ext cx="6429600" cy="22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підручни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§5  опрацювати (ст. 38-40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Розв’язати № 165, №173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       </a:t>
            </a: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За бажанням презентаці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 “</a:t>
            </a: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Коло в світі”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0" descr="CHLD558"/>
          <p:cNvPicPr/>
          <p:nvPr/>
        </p:nvPicPr>
        <p:blipFill>
          <a:blip r:embed="rId1"/>
          <a:stretch/>
        </p:blipFill>
        <p:spPr>
          <a:xfrm>
            <a:off x="6572160" y="1143000"/>
            <a:ext cx="2571840" cy="2724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42920" y="4143240"/>
            <a:ext cx="1825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45920" y="142920"/>
            <a:ext cx="7497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2060"/>
                </a:solidFill>
                <a:latin typeface="Corbel"/>
              </a:rPr>
              <a:t>Стежина випробування на перевірку знайомих фактів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І. Перевірка домашнього завд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писання самостійної робо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ідповід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аріант І                            Варіант ІІ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1. Б                                                           1. С(0,5;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2. А                                                           2. В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3. В                                                           3.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4. В                                                           4. А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5. А                                                          5.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orbel"/>
              </a:rPr>
              <a:t>Стежина покаже “Назву 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Corbel"/>
              </a:rPr>
              <a:t>обраного напрямку руху до знань”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2071800"/>
            <a:ext cx="749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ІІ. Формулювання теми та мети уро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Гра “Чорний ящик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sp>
        <p:nvSpPr>
          <p:cNvPr id="328" name="Куб 4"/>
          <p:cNvSpPr/>
          <p:nvPr/>
        </p:nvSpPr>
        <p:spPr>
          <a:xfrm>
            <a:off x="4143240" y="3357720"/>
            <a:ext cx="3071880" cy="20714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80722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572314"/>
                </a:solidFill>
                <a:latin typeface="Corbel"/>
              </a:rPr>
              <a:t>Рівняння кола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28480" y="5143680"/>
            <a:ext cx="7072200" cy="1714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20e04"/>
                </a:solidFill>
                <a:latin typeface="Corbel"/>
              </a:rPr>
              <a:t>Урок геометрії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20e04"/>
                </a:solidFill>
                <a:latin typeface="Corbel"/>
              </a:rPr>
              <a:t>9 кла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1" name="Object 26"/>
          <p:cNvGraphicFramePr/>
          <p:nvPr/>
        </p:nvGraphicFramePr>
        <p:xfrm>
          <a:off x="2714760" y="1714680"/>
          <a:ext cx="400032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1714680"/>
                    <a:ext cx="40003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2" descr=""/>
          <p:cNvPicPr/>
          <p:nvPr/>
        </p:nvPicPr>
        <p:blipFill>
          <a:blip r:embed="rId3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2060"/>
                </a:solidFill>
                <a:latin typeface="Corbel"/>
              </a:rPr>
              <a:t>Стежина “Математичне доміно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Результат пошуку зображень за запитом &quot;картинка робота в групі&quot;"/>
          <p:cNvPicPr/>
          <p:nvPr/>
        </p:nvPicPr>
        <p:blipFill>
          <a:blip r:embed="rId2"/>
          <a:stretch/>
        </p:blipFill>
        <p:spPr>
          <a:xfrm>
            <a:off x="3929040" y="2013120"/>
            <a:ext cx="4238640" cy="382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5"/>
          <p:cNvSpPr/>
          <p:nvPr/>
        </p:nvSpPr>
        <p:spPr>
          <a:xfrm>
            <a:off x="2000160" y="13572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І. Актуалізація опорних зн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Результат пошуку зображень за запитом &quot;коло циркуль картинка&quot;"/>
          <p:cNvPicPr/>
          <p:nvPr/>
        </p:nvPicPr>
        <p:blipFill>
          <a:blip r:embed="rId2"/>
          <a:stretch/>
        </p:blipFill>
        <p:spPr>
          <a:xfrm>
            <a:off x="3286080" y="4680"/>
            <a:ext cx="5429160" cy="57373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285840" y="21672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ін «циркуль» походить від латинськ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rculu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“кол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214800" y="58190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\з : Презентація учня  </a:t>
            </a:r>
            <a:r>
              <a:rPr b="1" lang="uk-UA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«Коло в світі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2060"/>
                </a:solidFill>
                <a:latin typeface="Corbel"/>
              </a:rPr>
              <a:t>Стежина “Формул з теми”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42920" y="3351240"/>
            <a:ext cx="2357280" cy="35067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3071880" y="29289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вчення нової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07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572314"/>
                </a:solidFill>
                <a:latin typeface="Corbel"/>
              </a:rPr>
              <a:t>Рівняння кола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285920" y="714240"/>
            <a:ext cx="49536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Группа 26"/>
          <p:cNvGrpSpPr/>
          <p:nvPr/>
        </p:nvGrpSpPr>
        <p:grpSpPr>
          <a:xfrm>
            <a:off x="1285920" y="1285920"/>
            <a:ext cx="6280200" cy="4429080"/>
            <a:chOff x="1285920" y="1285920"/>
            <a:chExt cx="6280200" cy="4429080"/>
          </a:xfrm>
        </p:grpSpPr>
        <p:cxnSp>
          <p:nvCxnSpPr>
            <p:cNvPr id="348" name="AutoShape 3"/>
            <p:cNvCxnSpPr/>
            <p:nvPr/>
          </p:nvCxnSpPr>
          <p:spPr>
            <a:xfrm>
              <a:off x="1501200" y="5067720"/>
              <a:ext cx="5024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AutoShape 4"/>
            <p:cNvCxnSpPr/>
            <p:nvPr/>
          </p:nvCxnSpPr>
          <p:spPr>
            <a:xfrm flipV="1">
              <a:off x="1906200" y="1285920"/>
              <a:ext cx="2160" cy="414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0" name="Oval 5"/>
            <p:cNvSpPr/>
            <p:nvPr/>
          </p:nvSpPr>
          <p:spPr>
            <a:xfrm>
              <a:off x="2645280" y="1361880"/>
              <a:ext cx="2883600" cy="286272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AutoShape 6"/>
            <p:cNvCxnSpPr/>
            <p:nvPr/>
          </p:nvCxnSpPr>
          <p:spPr>
            <a:xfrm>
              <a:off x="4091040" y="2777040"/>
              <a:ext cx="15480" cy="22906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352" name="AutoShape 7"/>
            <p:cNvCxnSpPr/>
            <p:nvPr/>
          </p:nvCxnSpPr>
          <p:spPr>
            <a:xfrm>
              <a:off x="4092120" y="2777400"/>
              <a:ext cx="16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353" name="Text Box 8"/>
            <p:cNvSpPr/>
            <p:nvPr/>
          </p:nvSpPr>
          <p:spPr>
            <a:xfrm>
              <a:off x="5508000" y="1285920"/>
              <a:ext cx="2058120" cy="63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</a:rPr>
                <a:t>М(х;у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AutoShape 9"/>
            <p:cNvCxnSpPr/>
            <p:nvPr/>
          </p:nvCxnSpPr>
          <p:spPr>
            <a:xfrm flipV="1">
              <a:off x="4107240" y="2053440"/>
              <a:ext cx="1175760" cy="72396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</a:ln>
          </p:spPr>
        </p:cxnSp>
        <p:sp>
          <p:nvSpPr>
            <p:cNvPr id="355" name="Text Box 10"/>
            <p:cNvSpPr/>
            <p:nvPr/>
          </p:nvSpPr>
          <p:spPr>
            <a:xfrm>
              <a:off x="3864240" y="5173560"/>
              <a:ext cx="457560" cy="5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"/>
            <p:cNvSpPr/>
            <p:nvPr/>
          </p:nvSpPr>
          <p:spPr>
            <a:xfrm>
              <a:off x="1285920" y="2597040"/>
              <a:ext cx="457560" cy="5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1285920" y="5173560"/>
              <a:ext cx="457560" cy="5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3559320" y="2055240"/>
              <a:ext cx="457560" cy="5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AutoShape 6"/>
            <p:cNvCxnSpPr/>
            <p:nvPr/>
          </p:nvCxnSpPr>
          <p:spPr>
            <a:xfrm flipH="1" flipV="1">
              <a:off x="1946520" y="2805840"/>
              <a:ext cx="211608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360" name="Text Box 10"/>
            <p:cNvSpPr/>
            <p:nvPr/>
          </p:nvSpPr>
          <p:spPr>
            <a:xfrm>
              <a:off x="6640920" y="5054040"/>
              <a:ext cx="457560" cy="5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4" descr=""/>
          <p:cNvPicPr/>
          <p:nvPr/>
        </p:nvPicPr>
        <p:blipFill>
          <a:blip r:embed="rId1"/>
          <a:stretch/>
        </p:blipFill>
        <p:spPr>
          <a:xfrm>
            <a:off x="1357200" y="5951520"/>
            <a:ext cx="7143840" cy="9064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4714920" y="2500200"/>
            <a:ext cx="49536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Левая фигурная скобка 29"/>
          <p:cNvSpPr/>
          <p:nvPr/>
        </p:nvSpPr>
        <p:spPr>
          <a:xfrm rot="14328000">
            <a:off x="4643280" y="1857240"/>
            <a:ext cx="357120" cy="1385640"/>
          </a:xfrm>
          <a:custGeom>
            <a:avLst/>
            <a:gdLst>
              <a:gd name="textAreaLeft" fmla="*/ 228240 w 357120"/>
              <a:gd name="textAreaRight" fmla="*/ 357480 w 357120"/>
              <a:gd name="textAreaTop" fmla="*/ 47520 h 1385640"/>
              <a:gd name="textAreaBottom" fmla="*/ 1338120 h 138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1"/>
                  <a:pt x="10800" y="2382"/>
                </a:cubicBezTo>
                <a:lnTo>
                  <a:pt x="10800" y="8621"/>
                </a:lnTo>
                <a:cubicBezTo>
                  <a:pt x="10800" y="9812"/>
                  <a:pt x="5400" y="11003"/>
                  <a:pt x="0" y="11003"/>
                </a:cubicBezTo>
                <a:cubicBezTo>
                  <a:pt x="5400" y="11003"/>
                  <a:pt x="10800" y="12194"/>
                  <a:pt x="10800" y="13385"/>
                </a:cubicBezTo>
                <a:lnTo>
                  <a:pt x="10800" y="19218"/>
                </a:lnTo>
                <a:cubicBezTo>
                  <a:pt x="10800" y="204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0" y="3429000"/>
            <a:ext cx="148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07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572314"/>
                </a:solidFill>
                <a:latin typeface="Corbel"/>
              </a:rPr>
              <a:t>Рівняння кола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22"/>
          <p:cNvGrpSpPr/>
          <p:nvPr/>
        </p:nvGrpSpPr>
        <p:grpSpPr>
          <a:xfrm>
            <a:off x="1143000" y="857160"/>
            <a:ext cx="6014880" cy="4786200"/>
            <a:chOff x="1143000" y="857160"/>
            <a:chExt cx="6014880" cy="4786200"/>
          </a:xfrm>
        </p:grpSpPr>
        <p:sp>
          <p:nvSpPr>
            <p:cNvPr id="369" name="Oval 5"/>
            <p:cNvSpPr/>
            <p:nvPr/>
          </p:nvSpPr>
          <p:spPr>
            <a:xfrm>
              <a:off x="2339280" y="1814400"/>
              <a:ext cx="3219480" cy="319644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3137040" y="857160"/>
              <a:ext cx="552240" cy="65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AutoShape 3"/>
            <p:cNvCxnSpPr/>
            <p:nvPr/>
          </p:nvCxnSpPr>
          <p:spPr>
            <a:xfrm>
              <a:off x="1143000" y="3489480"/>
              <a:ext cx="5609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4"/>
            <p:cNvCxnSpPr/>
            <p:nvPr/>
          </p:nvCxnSpPr>
          <p:spPr>
            <a:xfrm flipV="1">
              <a:off x="3934800" y="1015920"/>
              <a:ext cx="2160" cy="46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AutoShape 7"/>
            <p:cNvCxnSpPr/>
            <p:nvPr/>
          </p:nvCxnSpPr>
          <p:spPr>
            <a:xfrm>
              <a:off x="3638160" y="2203560"/>
              <a:ext cx="18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374" name="Text Box 12"/>
            <p:cNvSpPr/>
            <p:nvPr/>
          </p:nvSpPr>
          <p:spPr>
            <a:xfrm>
              <a:off x="3456000" y="3569040"/>
              <a:ext cx="398520" cy="4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0"/>
            <p:cNvSpPr/>
            <p:nvPr/>
          </p:nvSpPr>
          <p:spPr>
            <a:xfrm>
              <a:off x="6647040" y="3648960"/>
              <a:ext cx="51084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Левая фигурная скобка 19"/>
            <p:cNvSpPr/>
            <p:nvPr/>
          </p:nvSpPr>
          <p:spPr>
            <a:xfrm rot="5400000">
              <a:off x="4533120" y="2492280"/>
              <a:ext cx="398160" cy="1595160"/>
            </a:xfrm>
            <a:custGeom>
              <a:avLst/>
              <a:gdLst>
                <a:gd name="textAreaLeft" fmla="*/ 254520 w 398160"/>
                <a:gd name="textAreaRight" fmla="*/ 398520 w 398160"/>
                <a:gd name="textAreaTop" fmla="*/ 53280 h 1595160"/>
                <a:gd name="textAreaBottom" fmla="*/ 1541880 h 15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55"/>
                    <a:pt x="10800" y="2309"/>
                  </a:cubicBezTo>
                  <a:lnTo>
                    <a:pt x="10800" y="8694"/>
                  </a:lnTo>
                  <a:cubicBezTo>
                    <a:pt x="10800" y="9849"/>
                    <a:pt x="5400" y="11003"/>
                    <a:pt x="0" y="11003"/>
                  </a:cubicBezTo>
                  <a:cubicBezTo>
                    <a:pt x="5400" y="11003"/>
                    <a:pt x="10800" y="12158"/>
                    <a:pt x="10800" y="13312"/>
                  </a:cubicBezTo>
                  <a:lnTo>
                    <a:pt x="10800" y="19291"/>
                  </a:lnTo>
                  <a:cubicBezTo>
                    <a:pt x="10800" y="2044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4333680" y="2532240"/>
              <a:ext cx="552240" cy="65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4572000" y="5643720"/>
            <a:ext cx="4071960" cy="998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28760" y="4500720"/>
            <a:ext cx="1488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2:22:24Z</dcterms:created>
  <dc:creator>msd</dc:creator>
  <dc:description/>
  <dc:language>en-US</dc:language>
  <cp:lastModifiedBy>Юлия</cp:lastModifiedBy>
  <dcterms:modified xsi:type="dcterms:W3CDTF">2017-10-19T19:26:36Z</dcterms:modified>
  <cp:revision>33</cp:revision>
  <dc:subject/>
  <dc:title>Рівняння кола</dc:title>
</cp:coreProperties>
</file>