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160-AB03-453E-80EA-DE75CFBA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D26-66BA-48F1-873E-9EC63830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7C6-296D-4E00-BDFC-E4A3D2F2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F55B-6327-4B68-A9C3-2DA211F3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D29-120E-4486-8009-46B81F02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ADB-3522-4238-9296-8950ECB5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A9F-2A69-4A7E-9742-E6E7D3E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919-4F61-404B-8140-0389D30A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CC3-1226-4ACC-9A80-B59812D9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0D4-0D6A-4A12-BB3E-67AAFF3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189-B404-4251-AF4D-BF93B88B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0D3-DCF4-4CFB-A9BC-512B6846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4479-C93E-46DA-9C8D-B22DB5C79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73392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Britannic Bold"/>
              </a:rPr>
              <a:t>How healthy are you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?id=f2da6482617ae77f1cb8beaadd9f5cf5-l&amp;n=13"/>
          <p:cNvPicPr/>
          <p:nvPr/>
        </p:nvPicPr>
        <p:blipFill>
          <a:blip r:embed="rId1"/>
          <a:stretch/>
        </p:blipFill>
        <p:spPr>
          <a:xfrm>
            <a:off x="4114800" y="1371600"/>
            <a:ext cx="3875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dc4paGzce"/>
          <p:cNvPicPr/>
          <p:nvPr/>
        </p:nvPicPr>
        <p:blipFill>
          <a:blip r:embed="rId1"/>
          <a:stretch/>
        </p:blipFill>
        <p:spPr>
          <a:xfrm>
            <a:off x="923760" y="252360"/>
            <a:ext cx="729648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shutterstock_79056592-Belly-Pain"/>
          <p:cNvPicPr/>
          <p:nvPr/>
        </p:nvPicPr>
        <p:blipFill>
          <a:blip r:embed="rId1"/>
          <a:stretch/>
        </p:blipFill>
        <p:spPr>
          <a:xfrm>
            <a:off x="2743200" y="304920"/>
            <a:ext cx="3511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23099799-Portrait-of-boy-with-real-eye-bruise-isolated-on-white-background-Stock-Photo"/>
          <p:cNvPicPr/>
          <p:nvPr/>
        </p:nvPicPr>
        <p:blipFill>
          <a:blip r:embed="rId1"/>
          <a:stretch/>
        </p:blipFill>
        <p:spPr>
          <a:xfrm>
            <a:off x="2590920" y="685800"/>
            <a:ext cx="3843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i?id=1f4f43ec864db6b11c8b5964d50db8c6-l&amp;n=13"/>
          <p:cNvPicPr/>
          <p:nvPr/>
        </p:nvPicPr>
        <p:blipFill>
          <a:blip r:embed="rId1"/>
          <a:stretch/>
        </p:blipFill>
        <p:spPr>
          <a:xfrm>
            <a:off x="1476360" y="776160"/>
            <a:ext cx="6448320" cy="55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i?id=870560de8c1d0290cd1012c6bf9f5aea-l&amp;n=13"/>
          <p:cNvPicPr/>
          <p:nvPr/>
        </p:nvPicPr>
        <p:blipFill>
          <a:blip r:embed="rId1"/>
          <a:stretch/>
        </p:blipFill>
        <p:spPr>
          <a:xfrm>
            <a:off x="1676520" y="457200"/>
            <a:ext cx="5867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?id=50a9abea0c04b17b87607dd22d9dcb4a-l&amp;n=13"/>
          <p:cNvPicPr/>
          <p:nvPr/>
        </p:nvPicPr>
        <p:blipFill>
          <a:blip r:embed="rId1"/>
          <a:stretch/>
        </p:blipFill>
        <p:spPr>
          <a:xfrm>
            <a:off x="1447920" y="434880"/>
            <a:ext cx="61722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i?id=1e05a484597a04dbbd16aaa5ccbd3f06-l&amp;n=13"/>
          <p:cNvPicPr/>
          <p:nvPr/>
        </p:nvPicPr>
        <p:blipFill>
          <a:blip r:embed="rId1"/>
          <a:stretch/>
        </p:blipFill>
        <p:spPr>
          <a:xfrm>
            <a:off x="838080" y="730080"/>
            <a:ext cx="746784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и по запросу боль в спине рисунки"/>
          <p:cNvPicPr/>
          <p:nvPr/>
        </p:nvPicPr>
        <p:blipFill>
          <a:blip r:embed="rId1"/>
          <a:stretch/>
        </p:blipFill>
        <p:spPr>
          <a:xfrm>
            <a:off x="898560" y="685800"/>
            <a:ext cx="74073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maxresdefault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Your cold is getting w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57400" y="1294920"/>
            <a:ext cx="6400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Your cold is getting wo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You should see the n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- Oh, no, I’m 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My cold is much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- Your cough is getting wo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You should see the n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- Oh, no, I’m 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My cough is much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- Your cough sounds 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It doesn’t sound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You should see the n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You really sh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lin Sans FB"/>
              </a:rPr>
              <a:t>Is it good to be off school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2"/>
          <a:stretch/>
        </p:blipFill>
        <p:spPr>
          <a:xfrm>
            <a:off x="914400" y="1430280"/>
            <a:ext cx="73915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1523880" y="838080"/>
            <a:ext cx="6477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Answer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long has Michael been off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did he break his le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long did he stay at the hospi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Who brought him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did he feel being at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many word puzzles had h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What advice does Michael give us in his l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1523880" y="990720"/>
            <a:ext cx="64771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Answer th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long has Michael been off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did he break his le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long did he stay at the hospit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Who brought him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did he feel being at h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How many word puzzles had h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What advice does Michael give us in his l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eehand521 BT"/>
              </a:rPr>
              <a:t>What people do i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376280"/>
          <a:ext cx="8229600" cy="593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4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*they have a headac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*they can’t  slee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*they have a toothac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*they have a pain in the hea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*they have a col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*they have a stomachac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Freehand521 BT"/>
                        </a:rPr>
                        <a:t>If people have a headache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to go to the denti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to call a doct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to go to 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to take some  medici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to have a walk outdoo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2060"/>
                          </a:solidFill>
                          <a:latin typeface="Freehand521 BT"/>
                        </a:rPr>
                        <a:t>to drink warm milk with honey and but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Freehand521 BT"/>
                        </a:rPr>
                        <a:t>they go to be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Freehand521 BT"/>
              </a:rPr>
              <a:t>Wednesday, the first of March.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Freehand521 BT"/>
              </a:rPr>
              <a:t>Class Work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Freehand521 BT"/>
              </a:rPr>
              <a:t>Home task: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Freehand521 BT"/>
              </a:rPr>
              <a:t>ex.5a, page 127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Your cold is getting w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Объект 7" descr=""/>
          <p:cNvPicPr/>
          <p:nvPr/>
        </p:nvPicPr>
        <p:blipFill>
          <a:blip r:embed="rId2"/>
          <a:stretch/>
        </p:blipFill>
        <p:spPr>
          <a:xfrm>
            <a:off x="990720" y="1484280"/>
            <a:ext cx="72388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itannic Bold"/>
              </a:rPr>
              <a:t>Pronun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i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da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ra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i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zz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c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ik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Comic Sans MS"/>
                        </a:rPr>
                        <a:t>a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otha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mmy a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cka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prichiny-ugrevoj-sypi-3"/>
          <p:cNvPicPr/>
          <p:nvPr/>
        </p:nvPicPr>
        <p:blipFill>
          <a:blip r:embed="rId1"/>
          <a:stretch/>
        </p:blipFill>
        <p:spPr>
          <a:xfrm>
            <a:off x="1809720" y="666720"/>
            <a:ext cx="55245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get_img?ImageWidth=620&amp;ImageHeight=465&amp;ImageId=19492"/>
          <p:cNvPicPr/>
          <p:nvPr/>
        </p:nvPicPr>
        <p:blipFill>
          <a:blip r:embed="rId1"/>
          <a:stretch/>
        </p:blipFill>
        <p:spPr>
          <a:xfrm>
            <a:off x="533520" y="415800"/>
            <a:ext cx="81532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i?id=36197a218cf89b12066dce72f4921029-l&amp;n=13"/>
          <p:cNvPicPr/>
          <p:nvPr/>
        </p:nvPicPr>
        <p:blipFill>
          <a:blip r:embed="rId1"/>
          <a:stretch/>
        </p:blipFill>
        <p:spPr>
          <a:xfrm>
            <a:off x="2371680" y="304920"/>
            <a:ext cx="4456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Depositphotos_67383505_s-2015"/>
          <p:cNvPicPr/>
          <p:nvPr/>
        </p:nvPicPr>
        <p:blipFill>
          <a:blip r:embed="rId1"/>
          <a:stretch/>
        </p:blipFill>
        <p:spPr>
          <a:xfrm>
            <a:off x="533520" y="1066680"/>
            <a:ext cx="821052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kak-borotsya-s-ushnoy-bolyu-u-vzroslyih-1"/>
          <p:cNvPicPr/>
          <p:nvPr/>
        </p:nvPicPr>
        <p:blipFill>
          <a:blip r:embed="rId1"/>
          <a:stretch/>
        </p:blipFill>
        <p:spPr>
          <a:xfrm>
            <a:off x="838080" y="990720"/>
            <a:ext cx="765828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3T20:47:55Z</dcterms:created>
  <dc:creator>a</dc:creator>
  <dc:description/>
  <dc:language>en-US</dc:language>
  <cp:lastModifiedBy>Сергей</cp:lastModifiedBy>
  <dcterms:modified xsi:type="dcterms:W3CDTF">2017-02-27T19:27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