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89E6-5685-4927-BB6F-64A35513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4A4-CFEA-4FA6-B02A-FEE069F8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C61-F0F4-4E10-BB3D-98B12FEC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E03-B95C-4D07-BCCF-3394C574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929A-33C9-4434-8906-79DFD50F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1193-74BD-4FE0-B473-028E8434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E138-EFCE-4859-9FAD-5429A71F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BE31-21C1-42BB-B9FF-EA5F149A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B135-2814-4861-B32B-AC898CA8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2992-C7ED-4ECB-825B-CB5401AA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FFAD-5A90-40C8-8838-E1E6A44B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2E3-58C7-4BEF-A4B4-1509B17A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A2BA-C799-407D-B53A-AD75E87D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D64F-71CE-4DA8-B3AE-E494B9D2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DBFE-2DFA-4DFB-8F72-4E44FDD5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F4C1-390D-4636-9262-43F93052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8AD3-3D0A-48D6-9F25-3B324BCE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4786-A975-4A8C-A81C-6AAF33E4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70D4-CA91-45CC-93F4-72DD8CF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9C300-B071-4623-93EF-9312AEB5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B573-1CDA-49F1-8820-3E490850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C8CF-CC3D-4006-AD89-9DFAD013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D0F-FEEC-42C1-8E56-93C425EE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9804D-1983-4775-BD3D-D76F6D62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60EE4-82FA-4403-90C6-9FBB8B1A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831E-0732-4975-ADE4-A4FBE026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9E11-6454-4564-8F21-69515F1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148F-0BC7-4267-9757-42B59261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0D5B-2EEE-4E2D-8F10-C7EAD0C3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F70B-5868-41B6-8AFC-D3F2CE19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92A55-97CD-428A-BDE5-691E98BE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A066-3B9B-4DA6-AD18-0AFF46E4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68324-A2B9-43A7-B7F3-38F5F2A6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6D2-01AD-477F-ABEA-2BCA2116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776F0-55E1-486E-94D3-82E5C74A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8261A-1605-4448-A2DA-C70F752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B490-47DF-47E3-BA4E-8DB1B684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0168D-E25A-4BD0-B9CD-41CDE46E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A0EC-D090-4059-B02A-8563F0DD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85A35-D3EF-4E22-B161-66C3BBE0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C0A6-FE07-4673-AE95-0A4A7D2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AAA61-767A-449B-8DED-62554F46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B0185-FDC4-44A9-9C38-8632ECE0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E4A5D-C08D-44A7-AA24-6EF7EFFF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29A-A6A5-4416-8AB4-2E4E761E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1BED-EC14-44D7-A6FE-BBB24F4D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1BE6-DA55-4FB9-8DE6-0FF82210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956B-8486-4385-9E27-9EDC2EDF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D9B82-0CEE-45CE-A81D-98F921F6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0AFC3-F5C2-4FA0-9627-2A43E011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2F210-77D1-43A0-AB9F-6C38D481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12168-D7EF-4555-A055-088FBC74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C82A2-815E-4156-975E-128D2BFA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BECE9-112C-4DA4-B942-0212028F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17C06-BBBA-4350-B52B-8BB3C202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F52-479E-4983-8F4B-104C1985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E23B9-57AD-4117-8B90-35AD0D63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A92F-5A38-4E11-AA67-CF8E2AD1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15507-237B-4A4B-B7A3-BB4271A6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42DC0-64EE-4189-BCD8-8E48E36A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050F1-28F6-42C6-A5E0-400B6870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99B36-C848-4F5F-9CDB-71518961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642B-6115-4A7D-BC12-47234F1E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0E01-A128-41A3-8ED2-33C32767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AA9BC-9AAE-4FEC-A193-830DE9C4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27B61-E6AA-419A-9491-F42F2226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C7F-76CF-4718-AB72-49165824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5CE69-9980-4E4F-B103-9BD3FD88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A8D4-62D0-4335-989A-781496AB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28C7-B8CC-4874-8568-B409BE2A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D3A22-77E7-4B11-9968-45DAD30B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96D29-1CF6-4F62-868E-5425756B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C6D1D-E999-4774-BDD6-0D0C3570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6DB96-5790-4FC5-8CDB-A997E0D8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BF818-9D4A-4419-96C0-7BDFECB3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F03D1-75EE-4979-91BE-55BE2338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05246-FD28-4982-ADB0-110CFEFA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B39E-0D55-4CC0-877A-77F9CF60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0DE6D-3014-421A-A027-A11F4967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738AB-4D97-4227-AD9F-E5A752B4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FFFD4-2CDD-403A-88D1-853E430A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4F1E9-A1AB-4EB9-9825-0E2FA585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70DB3-C4D1-418D-89D8-AC0DF839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FF2-A91C-41CE-943D-B6ED48FA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CAB9-5088-4826-9786-5B703D182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27C0-FA31-4730-99A1-3E96CAF2575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E277-BB63-4026-853D-7A78B9A7A81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27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2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3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7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8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8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9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9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0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F24F-BA36-441D-BE0F-D3D2EE9B67C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61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9D9F-7249-4DDA-B95C-E735B92A0DC0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1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2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2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F992-830F-4E93-9144-C13351A4BA0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373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374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88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392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396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400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404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AF49-2C1C-42A3-8735-89F39A09E896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5" descr="pfau-radschlagend"/>
          <p:cNvPicPr/>
          <p:nvPr/>
        </p:nvPicPr>
        <p:blipFill>
          <a:blip r:embed="rId1"/>
          <a:stretch/>
        </p:blipFill>
        <p:spPr>
          <a:xfrm>
            <a:off x="-1440" y="0"/>
            <a:ext cx="2881080" cy="2155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60976-6df46-61043637-m750x740-u118b7"/>
          <p:cNvPicPr/>
          <p:nvPr/>
        </p:nvPicPr>
        <p:blipFill>
          <a:blip r:embed="rId2"/>
          <a:stretch/>
        </p:blipFill>
        <p:spPr>
          <a:xfrm>
            <a:off x="2192400" y="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1144752518_1"/>
          <p:cNvPicPr/>
          <p:nvPr/>
        </p:nvPicPr>
        <p:blipFill>
          <a:blip r:embed="rId3"/>
          <a:stretch/>
        </p:blipFill>
        <p:spPr>
          <a:xfrm>
            <a:off x="6335640" y="0"/>
            <a:ext cx="2808360" cy="19335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1" descr="klGRl9h6pB7dH4RB5_VKr4XXXL4j3HpexhjNOf_P3YmryPKwJ94QGRtDb3Sbc6KY"/>
          <p:cNvPicPr/>
          <p:nvPr/>
        </p:nvPicPr>
        <p:blipFill>
          <a:blip r:embed="rId4"/>
          <a:stretch/>
        </p:blipFill>
        <p:spPr>
          <a:xfrm>
            <a:off x="4314960" y="0"/>
            <a:ext cx="2340000" cy="1992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3" descr="i?id=2e89cd460526811eb1da68549803bb69&amp;n=33&amp;h=190&amp;w=338"/>
          <p:cNvPicPr/>
          <p:nvPr/>
        </p:nvPicPr>
        <p:blipFill>
          <a:blip r:embed="rId5"/>
          <a:stretch/>
        </p:blipFill>
        <p:spPr>
          <a:xfrm>
            <a:off x="0" y="2708280"/>
            <a:ext cx="2879640" cy="1809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5" descr="205"/>
          <p:cNvPicPr/>
          <p:nvPr/>
        </p:nvPicPr>
        <p:blipFill>
          <a:blip r:embed="rId6"/>
          <a:stretch/>
        </p:blipFill>
        <p:spPr>
          <a:xfrm>
            <a:off x="6653160" y="2158920"/>
            <a:ext cx="2490840" cy="2359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7" descr="index"/>
          <p:cNvPicPr/>
          <p:nvPr/>
        </p:nvPicPr>
        <p:blipFill>
          <a:blip r:embed="rId7"/>
          <a:stretch/>
        </p:blipFill>
        <p:spPr>
          <a:xfrm>
            <a:off x="6480000" y="4518000"/>
            <a:ext cx="2664000" cy="23400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9" descr="f88c01d50b59e6ad17037b132caa8222"/>
          <p:cNvPicPr/>
          <p:nvPr/>
        </p:nvPicPr>
        <p:blipFill>
          <a:blip r:embed="rId8"/>
          <a:stretch/>
        </p:blipFill>
        <p:spPr>
          <a:xfrm>
            <a:off x="-1440" y="4707000"/>
            <a:ext cx="2265120" cy="20286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23" descr="56170a9616637"/>
          <p:cNvPicPr/>
          <p:nvPr/>
        </p:nvPicPr>
        <p:blipFill>
          <a:blip r:embed="rId9"/>
          <a:stretch/>
        </p:blipFill>
        <p:spPr>
          <a:xfrm>
            <a:off x="2192400" y="2401920"/>
            <a:ext cx="3030480" cy="23112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1" descr="dyatel-belospinnyj_1"/>
          <p:cNvPicPr/>
          <p:nvPr/>
        </p:nvPicPr>
        <p:blipFill>
          <a:blip r:embed="rId10"/>
          <a:stretch/>
        </p:blipFill>
        <p:spPr>
          <a:xfrm>
            <a:off x="4998960" y="1992240"/>
            <a:ext cx="1944720" cy="3033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7" descr="phoca_thumb_l_Japanese%20zhuravl_Goroshko%20O"/>
          <p:cNvPicPr/>
          <p:nvPr/>
        </p:nvPicPr>
        <p:blipFill>
          <a:blip r:embed="rId11"/>
          <a:stretch/>
        </p:blipFill>
        <p:spPr>
          <a:xfrm>
            <a:off x="4211640" y="5025960"/>
            <a:ext cx="2441520" cy="1832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5" descr="great-horned-owl"/>
          <p:cNvPicPr/>
          <p:nvPr/>
        </p:nvPicPr>
        <p:blipFill>
          <a:blip r:embed="rId12"/>
          <a:stretch/>
        </p:blipFill>
        <p:spPr>
          <a:xfrm>
            <a:off x="1835280" y="4724280"/>
            <a:ext cx="30240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5" descr="therapy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3922560"/>
            <a:ext cx="3635280" cy="293544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908000" y="549000"/>
            <a:ext cx="68407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99"/>
                </a:solidFill>
                <a:latin typeface="Verdana"/>
              </a:rPr>
              <a:t>Я вірю в силу доброт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99"/>
                </a:solidFill>
                <a:latin typeface="Verdana"/>
              </a:rPr>
              <a:t>Добро завжди сильніше злого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99"/>
                </a:solidFill>
                <a:latin typeface="Verdana"/>
              </a:rPr>
              <a:t>Дає наснагу, щоб цвіст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99"/>
                </a:solidFill>
                <a:latin typeface="Verdana"/>
              </a:rPr>
              <a:t>І світлу обирать дорог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99"/>
                </a:solidFill>
                <a:latin typeface="Verdana"/>
              </a:rPr>
              <a:t>Я вірю в силу доброт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99"/>
                </a:solidFill>
                <a:latin typeface="Verdana"/>
              </a:rPr>
              <a:t>Що має долю роботящ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99"/>
                </a:solidFill>
                <a:latin typeface="Verdana"/>
              </a:rPr>
              <a:t>Що хоче, щоб і я, і ти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99"/>
                </a:solidFill>
                <a:latin typeface="Verdana"/>
              </a:rPr>
              <a:t>І все було у світі кращи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0" i="1" lang="uk-UA" sz="2800" spc="-1" strike="noStrike">
                <a:solidFill>
                  <a:srgbClr val="006699"/>
                </a:solidFill>
                <a:latin typeface="Verdana"/>
              </a:rPr>
              <a:t>В.Крищенк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8" descr=""/>
          <p:cNvPicPr/>
          <p:nvPr/>
        </p:nvPicPr>
        <p:blipFill>
          <a:blip r:embed="rId1"/>
          <a:stretch/>
        </p:blipFill>
        <p:spPr>
          <a:xfrm>
            <a:off x="216000" y="2043000"/>
            <a:ext cx="2365200" cy="355140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2"/>
          <a:stretch/>
        </p:blipFill>
        <p:spPr>
          <a:xfrm>
            <a:off x="195120" y="4592520"/>
            <a:ext cx="2171880" cy="2105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"/>
          <p:cNvPicPr/>
          <p:nvPr/>
        </p:nvPicPr>
        <p:blipFill>
          <a:blip r:embed="rId3"/>
          <a:stretch/>
        </p:blipFill>
        <p:spPr>
          <a:xfrm>
            <a:off x="216000" y="19512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"/>
          <p:cNvPicPr/>
          <p:nvPr/>
        </p:nvPicPr>
        <p:blipFill>
          <a:blip r:embed="rId4"/>
          <a:stretch/>
        </p:blipFill>
        <p:spPr>
          <a:xfrm>
            <a:off x="2678040" y="190440"/>
            <a:ext cx="3387960" cy="18795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5"/>
          <a:stretch/>
        </p:blipFill>
        <p:spPr>
          <a:xfrm>
            <a:off x="2416320" y="2106720"/>
            <a:ext cx="3585960" cy="24699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"/>
          <p:cNvPicPr/>
          <p:nvPr/>
        </p:nvPicPr>
        <p:blipFill>
          <a:blip r:embed="rId6"/>
          <a:stretch/>
        </p:blipFill>
        <p:spPr>
          <a:xfrm>
            <a:off x="5680080" y="4297320"/>
            <a:ext cx="3290760" cy="2465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"/>
          <p:cNvPicPr/>
          <p:nvPr/>
        </p:nvPicPr>
        <p:blipFill>
          <a:blip r:embed="rId7"/>
          <a:stretch/>
        </p:blipFill>
        <p:spPr>
          <a:xfrm>
            <a:off x="6070680" y="195120"/>
            <a:ext cx="3002040" cy="19908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"/>
          <p:cNvPicPr/>
          <p:nvPr/>
        </p:nvPicPr>
        <p:blipFill>
          <a:blip r:embed="rId8"/>
          <a:stretch/>
        </p:blipFill>
        <p:spPr>
          <a:xfrm>
            <a:off x="2367000" y="40798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1" descr=""/>
          <p:cNvPicPr/>
          <p:nvPr/>
        </p:nvPicPr>
        <p:blipFill>
          <a:blip r:embed="rId9"/>
          <a:stretch/>
        </p:blipFill>
        <p:spPr>
          <a:xfrm>
            <a:off x="5502240" y="2141640"/>
            <a:ext cx="3456000" cy="22176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"/>
          <p:cNvPicPr/>
          <p:nvPr/>
        </p:nvPicPr>
        <p:blipFill>
          <a:blip r:embed="rId10"/>
          <a:stretch/>
        </p:blipFill>
        <p:spPr>
          <a:xfrm>
            <a:off x="3995640" y="4692600"/>
            <a:ext cx="2381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DZQB2LIzrOk"/>
          <p:cNvPicPr/>
          <p:nvPr/>
        </p:nvPicPr>
        <p:blipFill>
          <a:blip r:embed="rId1"/>
          <a:stretch/>
        </p:blipFill>
        <p:spPr>
          <a:xfrm>
            <a:off x="2789280" y="189000"/>
            <a:ext cx="2790720" cy="38545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69127100"/>
          <p:cNvPicPr/>
          <p:nvPr/>
        </p:nvPicPr>
        <p:blipFill>
          <a:blip r:embed="rId2"/>
          <a:stretch/>
        </p:blipFill>
        <p:spPr>
          <a:xfrm>
            <a:off x="2154240" y="3341520"/>
            <a:ext cx="5057640" cy="32972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5" descr="c99e5f0dca035aed99a92c23fdd5696c"/>
          <p:cNvPicPr/>
          <p:nvPr/>
        </p:nvPicPr>
        <p:blipFill>
          <a:blip r:embed="rId3"/>
          <a:stretch/>
        </p:blipFill>
        <p:spPr>
          <a:xfrm>
            <a:off x="5580000" y="189000"/>
            <a:ext cx="3500640" cy="2808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nB7aShLwxWI"/>
          <p:cNvPicPr/>
          <p:nvPr/>
        </p:nvPicPr>
        <p:blipFill>
          <a:blip r:embed="rId4"/>
          <a:stretch/>
        </p:blipFill>
        <p:spPr>
          <a:xfrm>
            <a:off x="317520" y="189000"/>
            <a:ext cx="2471760" cy="3240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25349_html_m21e68068"/>
          <p:cNvPicPr/>
          <p:nvPr/>
        </p:nvPicPr>
        <p:blipFill>
          <a:blip r:embed="rId5"/>
          <a:stretch/>
        </p:blipFill>
        <p:spPr>
          <a:xfrm>
            <a:off x="119160" y="3035160"/>
            <a:ext cx="2711520" cy="3616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3" descr="pest4_03-1"/>
          <p:cNvPicPr/>
          <p:nvPr/>
        </p:nvPicPr>
        <p:blipFill>
          <a:blip r:embed="rId6"/>
          <a:stretch/>
        </p:blipFill>
        <p:spPr>
          <a:xfrm>
            <a:off x="6043680" y="2975040"/>
            <a:ext cx="303696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асиль СУХОМЛИНСЬКИЙ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ЯКИЙ СЛІД ПОВИННА ЗАЛИШАТИ ЛЮДИНА НА ЗЕМЛІ?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Старий Майстер звів кам'яний будинок. Став осторонь і милується. "Завтра в ньому оселяться люди", — думає з гордістю. А в цей час біля будинку грався Хлопчик. Він стрибнув на сходинку й залишив слід своєї маленької ніжки на цементі, який ще не затвердів.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— Для чого ти псуєш мою роботу? — сказав з докором Майстер.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Хлопчик подивився на відбиток ноги, засміявся й побіг собі.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Минуло багато років, Хлопчик став дорослим Чоловіком. Життя його склалось так, що він часто переїздив з міста до міста, ніде довго не затримувався, ні до чого не прихилявся — ні руками, ні душею.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Прийшла старість. Згадав старий Чоловік своє рідне село на березі Дніпра. Захотілось йому побувати там. Приїхав на батьківщину, зустрічається з людьми, називає своє прізвище, але всі здвигують плечима — ніхто не пам'ятає такого Чоловіка.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— Що ж ти залишив після себе? — питає у старого Чоловіка один дід, — Є в тебе син чи дочка?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— Немає у мене ні сина, ні дочки.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— Може, ти дуба посадив?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— Ні, не посадив я дуба...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— Може, ти поле випестував?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— Ні, не випестував я поля...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— Так, мабуть, ти пісню склав?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— Ні, й пісні я не склав.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— Так хто ж ти такий? Що ж ти робив усе своє життя? — здивувався дід.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Нічого не міг відповісти старий Чоловік. Згадалась йому та мить, коли він залишив слід на сходинці. Пішов до будинку. Стоїть той наче вчора збудований, а на найнижчій сходинці — закам'янілий відбиток Хлопчикової ніжки.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"Ось і все, що залишилось після мене на землі, — з болем подумав старий Чоловік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— Але цього ж мало, дуже мало... Не так треба було жити..."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64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 u="sng">
                <a:solidFill>
                  <a:srgbClr val="000000"/>
                </a:solidFill>
                <a:uFillTx/>
                <a:latin typeface="Comic Sans MS"/>
              </a:rPr>
              <a:t>Текст – міркування</a:t>
            </a:r>
            <a:r>
              <a:rPr b="1" i="1" lang="uk-UA" sz="4800" spc="-1" strike="noStrike">
                <a:solidFill>
                  <a:srgbClr val="000000"/>
                </a:solidFill>
                <a:latin typeface="Comic Sans MS"/>
              </a:rPr>
              <a:t> – це зв'язне висловлювання, в якому для доведення використовуються приклади, зіставлення, що приводять до певних висновків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5400"/>
            </a:br>
            <a:r>
              <a:rPr b="0" lang="uk-UA" sz="5400" spc="-1" strike="noStrike">
                <a:solidFill>
                  <a:srgbClr val="420000"/>
                </a:solidFill>
                <a:latin typeface="Times New Roman"/>
              </a:rPr>
              <a:t>Будова тексту</a:t>
            </a: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uk-UA" sz="5400" spc="-1" strike="noStrike">
                <a:solidFill>
                  <a:srgbClr val="420000"/>
                </a:solidFill>
                <a:latin typeface="Times New Roman"/>
              </a:rPr>
              <a:t>-міркування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611280" y="1773360"/>
          <a:ext cx="7993080" cy="4708440"/>
        </p:xfrm>
        <a:graphic>
          <a:graphicData uri="http://schemas.openxmlformats.org/drawingml/2006/table">
            <a:tbl>
              <a:tblPr/>
              <a:tblGrid>
                <a:gridCol w="2719440"/>
                <a:gridCol w="52736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ТВЕРДЖЕНН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чення, в яких міститься необхідна для доведення думк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КА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чення, в яких міститься поясненн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ВИСНОВ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чення, в яких міститься оцінка, враженн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20000"/>
                </a:solidFill>
                <a:latin typeface="Times New Roman"/>
              </a:rPr>
              <a:t>         </a:t>
            </a:r>
            <a:r>
              <a:rPr b="0" lang="uk-UA" sz="8000" spc="-1" strike="noStrike">
                <a:solidFill>
                  <a:srgbClr val="420000"/>
                </a:solidFill>
                <a:latin typeface="Times New Roman"/>
              </a:rPr>
              <a:t>План</a:t>
            </a:r>
            <a:endParaRPr b="0" lang="en-US" sz="8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0000"/>
                </a:solidFill>
                <a:latin typeface="Times New Roman"/>
              </a:rPr>
              <a:t>Прислів'я – вустами народ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0000"/>
                </a:solidFill>
                <a:latin typeface="Times New Roman"/>
              </a:rPr>
              <a:t>Великі справи великих люде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0000"/>
                </a:solidFill>
                <a:latin typeface="Times New Roman"/>
              </a:rPr>
              <a:t>Добрий слід кожного із на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0000"/>
                </a:solidFill>
                <a:latin typeface="Times New Roman"/>
              </a:rPr>
              <a:t>Мої власні добрі справ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26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0000"/>
                </a:solidFill>
                <a:latin typeface="Times New Roman"/>
              </a:rPr>
              <a:t>Слід після себе у світі</a:t>
            </a:r>
            <a:r>
              <a:rPr b="1" i="1" lang="uk-UA" sz="4100" spc="-1" strike="noStrike">
                <a:solidFill>
                  <a:srgbClr val="330000"/>
                </a:solidFill>
                <a:latin typeface="Times New Roman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0" lang="uk-UA" sz="6600" spc="-1" strike="noStrike">
                <a:solidFill>
                  <a:srgbClr val="420000"/>
                </a:solidFill>
                <a:latin typeface="Times New Roman"/>
              </a:rPr>
              <a:t>Сенкан (синквейн)</a:t>
            </a:r>
            <a:endParaRPr b="0" lang="en-US" sz="6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147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d0d0d"/>
                </a:solidFill>
                <a:latin typeface="Times New Roman"/>
              </a:rPr>
              <a:t>Ключове сло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d0d0d"/>
                </a:solidFill>
                <a:latin typeface="Times New Roman"/>
              </a:rPr>
              <a:t>Два прикмет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d0d0d"/>
                </a:solidFill>
                <a:latin typeface="Times New Roman"/>
              </a:rPr>
              <a:t>Три дієсло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d0d0d"/>
                </a:solidFill>
                <a:latin typeface="Times New Roman"/>
              </a:rPr>
              <a:t>Коротке речення з ключовим слово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1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d0d0d"/>
                </a:solidFill>
                <a:latin typeface="Times New Roman"/>
              </a:rPr>
              <a:t>Синонім (асоціація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Прямоугольник 1" descr=""/>
          <p:cNvPicPr/>
          <p:nvPr/>
        </p:nvPicPr>
        <p:blipFill>
          <a:blip r:embed="rId1"/>
          <a:stretch/>
        </p:blipFill>
        <p:spPr>
          <a:xfrm>
            <a:off x="401760" y="438120"/>
            <a:ext cx="85834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15:12:39Z</dcterms:created>
  <dc:creator>Admin</dc:creator>
  <dc:description/>
  <dc:language>en-US</dc:language>
  <cp:lastModifiedBy>Admin</cp:lastModifiedBy>
  <dcterms:modified xsi:type="dcterms:W3CDTF">2018-02-05T15:39:37Z</dcterms:modified>
  <cp:revision>15</cp:revision>
  <dc:subject/>
  <dc:title>Слайд 1</dc:title>
</cp:coreProperties>
</file>