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97E-582A-4F6C-AE99-B6F5C07E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C9F-5C96-45FF-B876-28EF39D9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1CF-E558-4E7D-988A-A7673963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AC3-80ED-4EA2-A739-C552DD69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B71E-28F6-4B7C-AD38-EF95E6B3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5B5A-6B00-4511-9599-1FD6ADEF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5C11-44A7-42FF-BB07-B96D2EF4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8D94-452E-4A59-AD24-071FA0F2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37C3-D2BC-46B2-9738-7AB5EA4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4B01-FFBF-4216-9E13-CCB91B02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D751-FD53-4212-8962-17A6FB3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A27-A506-47D3-B929-0B4CC5A5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2F6C-9BC3-4DAC-9A76-A356146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92C1-AA48-442A-88DE-8A483DE0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F3CD-0539-4B16-B88C-5F01B5E2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1138-1A22-42CD-824E-17034322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F9C-3735-46E5-AAE8-6FB88CD9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DCF-791C-4194-91C4-E31E0F5B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77A-A021-4DC1-B429-C731AF1C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C72-7D64-45A8-BAEC-28749FA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A43-DBC3-4E32-99B6-0035509C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440-EE31-40AA-9DF2-E31D42F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728-065E-4CA9-A8D5-B459669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3B7-E5DA-4FEF-B9A0-CFE09C8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722-729B-4376-A80F-01B74333EBB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1F48-180A-430A-9F35-B2CDDFA4D4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Спільна робота</a:t>
            </a:r>
            <a:br>
              <a:rPr sz="3600"/>
            </a:b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 з документами. Розробка колективного проект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КОНВЕРТИ ЗІ ЗРАЗКАМИ ЗАВДАНЬ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ОБРАТИ НАЗВУ ДЛЯ ФІР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ЛОГОТИ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ЕВІ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буклет-рекламу для власної фірми в програмі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S Publisher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Мета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узагальнення знань і практичних умінь з тем:”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Word”, ”MS Excel”, “MS Access”, “MS Power Point”, “MS Publisher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емонстрація міжпредметних зв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зкі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озвиток па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ті, уваги, цілеспрямованості, вміння активізувати поставлену мет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озвиток почуття колективізм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воримо дві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фір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47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торгівельна фірма, продаж комп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ютерної техні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ветеринарна кліні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Для кожної фірми оберемо директо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47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Директор торгівельної фір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Директор ветеринарної кліні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Завдання для директорів та майбутніх робітників фір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49360"/>
            <a:ext cx="7479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3366"/>
                </a:solidFill>
                <a:latin typeface="Arial"/>
              </a:rPr>
              <a:t>Розробити колективний проект, який буде заключатись в тому, що директора створюють по три відділи на фірмі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відділ кадрів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відділ маркетингу та бухгалтерії – для торгівельної фірми, а для ветеринарної клініки: посади – хірурга, аптекаря та бухгал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відділ рекл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Посада: адміністратор(збір інформації на сервер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Всі кадрові призначення – обов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язок директо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бов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язки відділу кадрі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творення контракту з найнятим працівником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творення бейджиків  для працівникі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творення бази–картотеки по працівникам фір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ЯКІ ПРОГРАМИ НЕОБХІДНО ВИКОРИСТОВУВАТИ ДЛЯ РЕАЛІЗАЦІЇ ЦИХ ЗАВДАН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бов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зки відділу маркетингу та бухгалтерії(для торгівельної фірми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изначати щоденний прибуток фірми протягом тижн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рахування заробітної плати працівник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рівняльний аналіз продукції, що продається з прибутк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ЯКІ ПРОГРАМИ НЕОБХІДНО ВИКОРИСТОВУВАТИ ДЛЯ РЕАЛІЗАЦІЇ ЦИХ ЗАВДАН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бов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зки хірурга, атекаря та бухгалте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изначати щоденний прибуток при продажі ліків (аптекар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вести історію хвороб пацієнтів (хірур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нарахування заробітної плати працівникам(бухгалтер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ЯКІ ПРОГРАМИ НЕОБХІДНО ВИКОРИСТОВУВАТИ ДЛЯ РЕАЛІЗАЦІЇ ЦИХ ЗАВДАН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бов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язки відділу реклам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озробити буклет та візитки для фірми (клінік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творити рекламу-презентацію фір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еклама послуг фір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ЯКІ ПРОГРАМИ НЕОБХІДНО ВИКОРИСТОВУВАТИ ДЛЯ РЕАЛІЗАЦІЇ ЦИХ ЗАВДАН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2:59:46Z</dcterms:created>
  <dc:creator>UserXP</dc:creator>
  <dc:description/>
  <dc:language>en-US</dc:language>
  <cp:lastModifiedBy>UserXP</cp:lastModifiedBy>
  <dcterms:modified xsi:type="dcterms:W3CDTF">2011-11-30T21:41:33Z</dcterms:modified>
  <cp:revision>11</cp:revision>
  <dc:subject/>
  <dc:title>Спільна робота з документами. Розробка колективного проекту.</dc:title>
</cp:coreProperties>
</file>