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450-0A48-4042-A4C3-4D46CC9B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A2B-C721-4429-B7F0-C2A0F6A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876-6F5C-4F97-B249-9E8297FB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B1B-5D8E-494A-AEA3-BAA56528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EC4-EE19-44C6-A4F5-EBCFD13C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EDE-1B96-4C22-9E6D-21882C46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F6E-3431-4415-91C0-1CBDBCB9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F1C-7647-478E-8B20-1314586B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86C-8795-4C11-830D-B4E511BF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A61-1419-4EFE-902D-FF574A21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CC1-5EA0-45BC-871E-773DDA96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7A2-B900-4449-87DC-0BC7829C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E1E2-6702-4873-BEDE-5C63ADB62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2016000" cy="172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73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1700280"/>
            <a:ext cx="59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3300"/>
                </a:solidFill>
                <a:latin typeface="Arial"/>
              </a:rPr>
              <a:t>ФАЛЕС МІЛЕТСЬКИЙ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1" lang="uk-UA" sz="4000" spc="-1" strike="noStrike">
                <a:solidFill>
                  <a:srgbClr val="663300"/>
                </a:solidFill>
                <a:latin typeface="Arial"/>
              </a:rPr>
              <a:t>геній Елл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15772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ідготувала Кармазіна Л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леса, за давньою традицією, відносять до славетних «семи мудреців» Еллади. Він був одним з найвидатніших математиків, філософів, фізиків, астрономів  свого ча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сторичних документів про життя вченого немає, тому про нього ми дізнаємось тільки з переказів учених пізнішого ча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снував Іонійську філософську школу, в якій ознайомлював учнів зі своїми філософськими поглядами і передавав зн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76240" y="1814400"/>
            <a:ext cx="3200400" cy="409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сягнення в математ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6920" y="2349360"/>
            <a:ext cx="2827440" cy="3168720"/>
            <a:chOff x="826920" y="2349360"/>
            <a:chExt cx="2827440" cy="316872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826920" y="2349360"/>
              <a:ext cx="28274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826920" y="2349360"/>
              <a:ext cx="2827440" cy="31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вів у геометрію ідею довед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в теорему про рівність вертикальних ку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в теорему про рівність кутів при основі рівнобедреного трикут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в теорему про рівність двох трикутників за стороною і двома прилеглими ку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в теорему про те, що вписаний у коло трикутник, сторона якого є діаметром, прямокут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Єгип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легендою, Фалес здивував єгипетських жерців, вимірявши висоту піраміди Хеопса за допомогою подібності трикут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182840" cy="334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Єгип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’язав задачу про визначення відстані від корабля, що перебуває в морі, до гава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сягнення у астроном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3109680" cy="309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значив тривалість року – 365 дн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ерджував, що Земля – середина Всесвіту, і вона має кулясту фор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числив, що відношення діаметра Сонця до довжини екліптики дорівнює 1/7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едбачив сонячне затемнення 28 травня 585 р. до н.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79640" y="198900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відома сторі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важається, що Фалес загинув у 80 років під час олімпійських іг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2232360" cy="26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ймудріший – час, бо він відкриває все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3251160" cy="37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22:11:54Z</dcterms:created>
  <dc:creator>User</dc:creator>
  <dc:description/>
  <dc:language>en-US</dc:language>
  <cp:lastModifiedBy>samsung</cp:lastModifiedBy>
  <dcterms:modified xsi:type="dcterms:W3CDTF">2018-02-21T12:30:12Z</dcterms:modified>
  <cp:revision>19</cp:revision>
  <dc:subject/>
  <dc:title>Слайд 1</dc:title>
</cp:coreProperties>
</file>