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45B-07D6-4A8D-9B01-A8BFF0C5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5024-581A-4660-8DEA-99FAA4C8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24B8-BB02-436A-A16C-E8BF9B38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C291-A0B8-452C-AB8B-82580816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7746-6B90-4A05-8940-27ACB281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1EF5-8FEF-44E0-9DFC-0D05DCCC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3685-9DD9-4887-83C2-49E3F1ED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1361-6F1D-4961-82B8-96A8CCC0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084E-91E1-49D9-A7F3-97AF19C7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D463-E96B-419D-8DF8-490FEE39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0E5C-4A77-4B65-8CC0-3C97D558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2016-AE30-49B6-A274-5C40E5C9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7B37-F2CE-41A3-915F-602CBBD7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56A4-2944-4649-B90A-310E8F50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B18B-A4BC-45BB-BBF1-CAD0BF88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2065-D015-4C9B-AEBB-DD9A7A65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4887-C217-4A52-BAAF-60867760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167A-2164-4C17-B9CB-C7B5E800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E132-85CD-44C6-A95E-B2FA9526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DA3A-45A6-40C3-A6B4-5C24FDBC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BCC6-E0FD-4495-BA38-539FAA47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C95-2DC6-4154-8278-7D4EC186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4BE-0008-4833-B7C5-7BBD41F1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C4B8-6379-44C3-AC77-156C62B3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95A4-BA4F-4D6C-8961-28C0E065F9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BF18-AC1C-4E94-A56F-166C1BD0B7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330033"/>
                </a:solidFill>
                <a:latin typeface="Monotype Corsiva"/>
              </a:rPr>
              <a:t>Розв</a:t>
            </a:r>
            <a:r>
              <a:rPr b="1" lang="uk-UA" sz="6600" spc="-1" strike="noStrike">
                <a:solidFill>
                  <a:srgbClr val="330033"/>
                </a:solidFill>
                <a:latin typeface="Monotype Corsiva"/>
                <a:ea typeface="Times New Roman"/>
              </a:rPr>
              <a:t>’</a:t>
            </a:r>
            <a:r>
              <a:rPr b="1" lang="uk-UA" sz="6600" spc="-1" strike="noStrike">
                <a:solidFill>
                  <a:srgbClr val="330033"/>
                </a:solidFill>
                <a:latin typeface="Monotype Corsiva"/>
              </a:rPr>
              <a:t>язування задач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читель Кармазіна Л.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Розв</a:t>
            </a:r>
            <a:r>
              <a:rPr b="0" lang="uk-UA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’</a:t>
            </a: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язати задачу усн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-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003640" y="1916280"/>
            <a:ext cx="1008360" cy="424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00360" y="2492280"/>
            <a:ext cx="2303280" cy="367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484360" y="4365360"/>
            <a:ext cx="4967280" cy="43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32000" y="29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08360" y="47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03640" y="6093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407664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5620200">
            <a:off x="5310000" y="4254840"/>
            <a:ext cx="430560" cy="43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55032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55032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268360" y="2923920"/>
            <a:ext cx="4967640" cy="43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492360" y="3929040"/>
            <a:ext cx="21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405320" y="5360760"/>
            <a:ext cx="214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64000" y="458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2708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19640" y="522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rot="11871600">
            <a:off x="5536080" y="2822760"/>
            <a:ext cx="431280" cy="43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55032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55032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rot="10780200">
            <a:off x="5486040" y="2743200"/>
            <a:ext cx="431640" cy="42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99498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99498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24360" y="321300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2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03640" y="36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Розв</a:t>
            </a:r>
            <a:r>
              <a:rPr b="0" lang="uk-UA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’</a:t>
            </a: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язати задачу усн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 -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51640" y="3141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24360" y="5013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67280" y="3141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rot="18277800">
            <a:off x="3656160" y="4821840"/>
            <a:ext cx="43164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14" y="521"/>
                </a:moveTo>
                <a:arcTo wR="10800" hR="10800" stAng="-4327734" swAng="5478055"/>
                <a:lnTo>
                  <a:pt x="10800" y="10800"/>
                </a:lnTo>
                <a:close/>
              </a:path>
              <a:path fill="none" w="21600" h="21600">
                <a:moveTo>
                  <a:pt x="14114" y="521"/>
                </a:moveTo>
                <a:arcTo wR="10800" hR="10800" stAng="-4327734" swAng="547805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298240" y="1911600"/>
            <a:ext cx="5097600" cy="4165920"/>
            <a:chOff x="2298240" y="1911600"/>
            <a:chExt cx="5097600" cy="4165920"/>
          </a:xfrm>
        </p:grpSpPr>
        <p:sp>
          <p:nvSpPr>
            <p:cNvPr id="290" name=""/>
            <p:cNvSpPr/>
            <p:nvPr/>
          </p:nvSpPr>
          <p:spPr>
            <a:xfrm flipH="1">
              <a:off x="3558600" y="1911600"/>
              <a:ext cx="1310400" cy="4165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4869000" y="1911600"/>
              <a:ext cx="2034000" cy="382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2298240" y="3457080"/>
              <a:ext cx="4985640" cy="74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410200" y="4910400"/>
              <a:ext cx="4985640" cy="74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6001920" y="4174560"/>
              <a:ext cx="21960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194440" y="2681280"/>
              <a:ext cx="219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6227640" y="4941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0" y="162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rot="5278200">
            <a:off x="4146480" y="3248280"/>
            <a:ext cx="431640" cy="42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99498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99498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5128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12000" y="37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84720" y="256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9272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Monotype Corsiva"/>
              </a:rPr>
              <a:t>Молодці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Розв</a:t>
            </a:r>
            <a:r>
              <a:rPr b="0" lang="uk-UA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’</a:t>
            </a: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язати задачу усн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К -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79640" y="2421000"/>
            <a:ext cx="5113440" cy="2736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2421000"/>
            <a:ext cx="0" cy="2736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9640" y="5157720"/>
            <a:ext cx="5113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3611520"/>
            <a:ext cx="0" cy="1546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79640" y="5013360"/>
            <a:ext cx="144360" cy="14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11640" y="5013360"/>
            <a:ext cx="144360" cy="14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8920" y="2924280"/>
            <a:ext cx="144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508360" y="4221000"/>
            <a:ext cx="144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19280" y="2133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5157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11640" y="3213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564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37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4149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4836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Розв</a:t>
            </a:r>
            <a:r>
              <a:rPr b="0" lang="uk-UA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’</a:t>
            </a: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язати задачу усн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С -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2421000"/>
            <a:ext cx="3168720" cy="2736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2421000"/>
            <a:ext cx="0" cy="2736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5157720"/>
            <a:ext cx="3168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79640" y="5013360"/>
            <a:ext cx="144360" cy="14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19280" y="2133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5157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19640" y="5157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5157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19280" y="3716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278136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rot="11518800">
            <a:off x="1812960" y="2379240"/>
            <a:ext cx="4312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Розв</a:t>
            </a:r>
            <a:r>
              <a:rPr b="0" lang="uk-UA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’</a:t>
            </a: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язати задачу усн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С -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79640" y="2421000"/>
            <a:ext cx="5113440" cy="2736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2421000"/>
            <a:ext cx="0" cy="2736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5157720"/>
            <a:ext cx="5113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79640" y="5013360"/>
            <a:ext cx="144360" cy="14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2360" y="5157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1164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19280" y="3716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4836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9280" y="220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278136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rot="11518800">
            <a:off x="1814760" y="2377080"/>
            <a:ext cx="430560" cy="43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55032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55032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Розв</a:t>
            </a:r>
            <a:r>
              <a:rPr b="0" lang="uk-UA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’</a:t>
            </a: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язати задачу усн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ут В - ? кут С - ? ку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-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59280" y="2708280"/>
            <a:ext cx="2881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0360" y="2708280"/>
            <a:ext cx="1152720" cy="244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5157720"/>
            <a:ext cx="5113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11280" y="3716280"/>
            <a:ext cx="28116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372000" y="3716280"/>
            <a:ext cx="21564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5084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242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20000" y="5157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43280" y="2349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979280" y="2708280"/>
            <a:ext cx="1079640" cy="244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8360" y="465300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rot="6837600">
            <a:off x="1892520" y="4823280"/>
            <a:ext cx="431280" cy="43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55032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55032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72360" y="4653000"/>
            <a:ext cx="43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rot="632400">
            <a:off x="6678360" y="4884120"/>
            <a:ext cx="431280" cy="43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55032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55032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5640" y="2852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1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rot="15861600">
            <a:off x="5712480" y="2485800"/>
            <a:ext cx="431280" cy="43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55032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55032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59280" y="2852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1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rot="12704400">
            <a:off x="2899440" y="2451240"/>
            <a:ext cx="4312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55032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55032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Розв</a:t>
            </a:r>
            <a:r>
              <a:rPr b="0" lang="uk-UA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’</a:t>
            </a: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язати задачу усн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59280" y="2708280"/>
            <a:ext cx="2881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0360" y="2708280"/>
            <a:ext cx="1152720" cy="244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157720"/>
            <a:ext cx="5113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3716280"/>
            <a:ext cx="28116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372000" y="3716280"/>
            <a:ext cx="21564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8000" y="5084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242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20000" y="5157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2349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979280" y="2708280"/>
            <a:ext cx="1079640" cy="244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465300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rot="6837600">
            <a:off x="1892520" y="4823280"/>
            <a:ext cx="431280" cy="43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55032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55032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40360" y="2708280"/>
            <a:ext cx="0" cy="244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59280" y="2708280"/>
            <a:ext cx="0" cy="244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7772400" cy="453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К -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5013360"/>
            <a:ext cx="144360" cy="14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5013360"/>
            <a:ext cx="144360" cy="14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00720" y="2349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6360" y="5229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24360" y="522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11640" y="54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515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Розв</a:t>
            </a:r>
            <a:r>
              <a:rPr b="0" lang="uk-UA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’</a:t>
            </a: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язати задачу усн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Н -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71640" y="2708280"/>
            <a:ext cx="288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51640" y="2708280"/>
            <a:ext cx="1441440" cy="244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5157720"/>
            <a:ext cx="5113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3284640"/>
            <a:ext cx="28116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867280" y="3213000"/>
            <a:ext cx="21600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5084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242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5157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43280" y="2349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979640" y="2708280"/>
            <a:ext cx="792000" cy="244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411280" y="3855600"/>
            <a:ext cx="3907080" cy="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4720" y="2349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35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00720" y="36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40360" y="3500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4292640"/>
            <a:ext cx="28116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940360" y="3284640"/>
            <a:ext cx="216000" cy="14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516720" y="4292640"/>
            <a:ext cx="21600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6588000" y="4365720"/>
            <a:ext cx="216000" cy="14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1164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Розв</a:t>
            </a:r>
            <a:r>
              <a:rPr b="0" lang="uk-UA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’</a:t>
            </a: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язати задачу усн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-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71640" y="2708280"/>
            <a:ext cx="288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1640" y="2708280"/>
            <a:ext cx="1441440" cy="244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79640" y="5157720"/>
            <a:ext cx="5113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11280" y="3284640"/>
            <a:ext cx="28116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867280" y="3213000"/>
            <a:ext cx="21600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08000" y="5084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242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20000" y="5157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43280" y="2349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979640" y="2708280"/>
            <a:ext cx="792000" cy="244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411280" y="3855600"/>
            <a:ext cx="3907080" cy="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234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5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00720" y="35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40360" y="3500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4292640"/>
            <a:ext cx="28116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940360" y="3284640"/>
            <a:ext cx="216000" cy="14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516720" y="4292640"/>
            <a:ext cx="21600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588000" y="4365720"/>
            <a:ext cx="216000" cy="14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036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Розв</a:t>
            </a:r>
            <a:r>
              <a:rPr b="0" lang="uk-UA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’</a:t>
            </a: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язати задачу усн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В - 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 -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3640" y="2421000"/>
            <a:ext cx="3816360" cy="1728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141440" y="4149720"/>
            <a:ext cx="2878200" cy="129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2410920" y="4149720"/>
            <a:ext cx="1729080" cy="129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2924280"/>
            <a:ext cx="19836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284360" y="2852640"/>
            <a:ext cx="14292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3068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8720" y="479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987640" y="47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92720" y="306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410920" y="2421000"/>
            <a:ext cx="792360" cy="1728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411280" y="4149360"/>
            <a:ext cx="4608720" cy="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32000" y="21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24000" y="4005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40360" y="3716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584520" y="5038200"/>
            <a:ext cx="216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363560" y="2900520"/>
            <a:ext cx="1335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67280" y="443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290760" y="4789080"/>
            <a:ext cx="2273400" cy="12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771640" y="3349800"/>
            <a:ext cx="2481480" cy="7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56000" y="3645000"/>
            <a:ext cx="19836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635280" y="5084280"/>
            <a:ext cx="216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792520" y="4462560"/>
            <a:ext cx="215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843280" y="450864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211280" y="2781360"/>
            <a:ext cx="14292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994000" y="3678120"/>
            <a:ext cx="14292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6106680" y="3699000"/>
            <a:ext cx="1335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938560" y="3645000"/>
            <a:ext cx="142920" cy="14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95640" y="54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20000" y="3933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2997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279800">
            <a:off x="6068880" y="4484520"/>
            <a:ext cx="14292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279800">
            <a:off x="4624560" y="5135400"/>
            <a:ext cx="14256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4:16:03Z</dcterms:created>
  <dc:creator>Yura</dc:creator>
  <dc:description/>
  <dc:language>en-US</dc:language>
  <cp:lastModifiedBy>samsung</cp:lastModifiedBy>
  <dcterms:modified xsi:type="dcterms:W3CDTF">2018-02-21T12:29:49Z</dcterms:modified>
  <cp:revision>7</cp:revision>
  <dc:subject/>
  <dc:title>Слайд 1</dc:title>
</cp:coreProperties>
</file>