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04E-51AB-4F21-98FE-44C7545CF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5B2-2084-44F3-9F4A-A7F84B985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CE94-1988-4847-B735-79C833C33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FE3A-D737-4DC2-B8A9-2EB2140FB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03E-05F3-48AD-8A6E-7939DED45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E74-E80D-42EA-BFF1-E07817C79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2D09-5FF1-4E76-86CB-764F4706EE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89D-8C55-415D-8E76-D01C34312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FD3-51D8-4658-85E2-CBFCBE4DE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2A3-A1EF-4626-A683-F68870710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5D1-2817-4368-8799-C1473E26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609-26DF-4BA6-8DB1-CE3B2906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2D8-EDF8-445E-9866-28A003D5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2E9-0894-463E-BB7F-D6C3A8E8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F60-58C2-4037-83A6-D5C196E7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853-75E1-40EC-9D21-70D7512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6BF-BF60-4D03-90BB-1F68065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E61-59B4-4A2A-B12E-2F5B053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729-FAA0-4798-86A4-C1653EA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365-A72A-45AA-842A-F79EAEC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2CE-C58B-442D-B343-0C927ED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DD7-565B-40C8-B766-F0E9C20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7D5-EE0A-4966-AF27-782720B87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ван Якович Франко. Розповідь про життєвий і творчий шлях письменни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івська куз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4" descr="5851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і моїх споминів і досі горить той маленький, але міцний огонь… Се огонь у кузні мого батька. І мені здається, що запас його я взяв дитиною в свою душу на далеку мандрівку життя. І що він не погас і досі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ченка… я вивчив майже напам’ять, а пам’ять у мене була така, що лекцію з історії, яку вчитель цілу годину говорив, я міг опісля продиктувати товаришам майже слово в слово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8 рік – І. Франко вступає у  Дрогобицьку гімназі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в гімназії я почав збирати пісні народні, спершу від моєї матері, а опісля і в Дрогобичі розпитував свідущих людей (ремісників і т. д.), так що швидко мав мілко списані два товсті зшитки, вміщаючі 800 номерів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інь1875 року –  Франко вступає до Львівського університет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4"/>
          <p:cNvSpPr/>
          <p:nvPr/>
        </p:nvSpPr>
        <p:spPr>
          <a:xfrm>
            <a:off x="0" y="602784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. Університетський корпус, де навчався І. Фран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5" descr="сканирование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4"/>
          <p:cNvSpPr/>
          <p:nvPr/>
        </p:nvSpPr>
        <p:spPr>
          <a:xfrm>
            <a:off x="0" y="6027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ворі цього будинку знаходилася тюрма, в якій відбував ув’язнення І. Франк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4" descr="сканирование0002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’язниці, не знаю чому – ставились до мене з особливою суворістю. Запхано мене до найгіршої камери, до злодіїв, убійників та інших звичайних злочинців. Протягом 9 місяців, проведених у тюрмі сидів я переважно у великій камері, де перебувало 18-28 злочинців, де зимою ніколи вікно не зачинялось і де я , слабий на груди, прокидався майже завжди з повним снігу волоссям на голові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7, 1880, 1889 роки – три арешти Івана Фран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ибити і доповнити знання про видатного майстра слова, людину надзвичайної працьовитості та енциклопедичних знан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зуміти значення творчості Івана Франка для розвитку української літератури, нашої духовної культу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і його життя вчитися наполегливості, твердості духу і характеру, вчитися любити свій народ і самовіддано служити йом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рік – виходить     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 світ перша збірка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оезій Івана Франка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“З вершин і низин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images.jpeg"/>
          <p:cNvPicPr/>
          <p:nvPr/>
        </p:nvPicPr>
        <p:blipFill>
          <a:blip r:embed="rId1"/>
          <a:stretch/>
        </p:blipFill>
        <p:spPr>
          <a:xfrm>
            <a:off x="714240" y="357120"/>
            <a:ext cx="27147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рік – захищає у Віденському університеті  докторську дисертаці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43280" y="71424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500280" cy="5348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57120" y="58579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мейні фото Івана Фр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бірки: “Зів’яле листя” (1896 р.) 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Мій Ізмарагд” (1898 р.)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Із днів журби” (1900 р.)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ема “Мойсей” (1905 р.)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вісті: “Борислав сміється” (1882 р.) 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Захар Беркут” (1883 р.) </a:t>
            </a:r>
            <a:br>
              <a:rPr sz="3800"/>
            </a:b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’єса “Украдене щастя” (1893 р.)</a:t>
            </a:r>
            <a:br>
              <a:rPr sz="36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ізь і завжди у мене була провідна думка – служити інтересам мого народу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травня 1916 року – помер 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ан Якович Франк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4"/>
          <p:cNvSpPr/>
          <p:nvPr/>
        </p:nvSpPr>
        <p:spPr>
          <a:xfrm>
            <a:off x="0" y="62150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ьвів. Личаківське кладовище. Могила Івана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5" descr="3767921_a99f29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тєвий шлях письмен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серпня 1856 року – народився І. Я. Франко в                  с. Нагуєвичі на Дрогобиччин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8 рік – І. Франко вступає у  Дрогобицьку гімназі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інь1875 року –  Франко вступає до Львівського університе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7, 1880, 1889 роки – три арешти Івана Фра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рік – виходить  у світ перша збірка поезій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вана Франка “З вершин і низин”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рік – захищає у Віденському університеті  докторську дисертаці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травня 1916 року – помер Іван Якович Фран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4"/>
          <p:cNvSpPr/>
          <p:nvPr/>
        </p:nvSpPr>
        <p:spPr>
          <a:xfrm>
            <a:off x="0" y="62150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’ятник І. Франку в Івано-Франківс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4" descr="113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4"/>
          <p:cNvSpPr/>
          <p:nvPr/>
        </p:nvSpPr>
        <p:spPr>
          <a:xfrm>
            <a:off x="0" y="62150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’ятник І. Франку у Львов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73.jpg"/>
          <p:cNvPicPr/>
          <p:nvPr/>
        </p:nvPicPr>
        <p:blipFill>
          <a:blip r:embed="rId1"/>
          <a:stretch/>
        </p:blipFill>
        <p:spPr>
          <a:xfrm>
            <a:off x="2143080" y="0"/>
            <a:ext cx="471492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13" descr="pic1.gif"/>
          <p:cNvPicPr/>
          <p:nvPr/>
        </p:nvPicPr>
        <p:blipFill>
          <a:blip r:embed="rId1"/>
          <a:stretch/>
        </p:blipFill>
        <p:spPr>
          <a:xfrm>
            <a:off x="2500200" y="0"/>
            <a:ext cx="3562560" cy="5072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53578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56-19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 боротись – значить жить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. Я. Франк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4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національний університет імені Івана Фран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4" descr="Львовский_университет_Франк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4"/>
          <p:cNvSpPr/>
          <p:nvPr/>
        </p:nvSpPr>
        <p:spPr>
          <a:xfrm>
            <a:off x="0" y="62150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Івана Франка у рідному се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4" descr="5851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4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ий літературно-меморіальний музей Івана Фран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5" descr="12344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дне село Івана Франка на Дрогобичч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4" descr="сканирование000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дна хата Івана Фр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5" descr="585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серпня 1856 року – народився І. Я. Франко в   с. Нагуєвичі на Дрогобиччин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дна хата Івана Франка. Сі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585105.jpg"/>
          <p:cNvPicPr/>
          <p:nvPr/>
        </p:nvPicPr>
        <p:blipFill>
          <a:blip r:embed="rId1"/>
          <a:stretch/>
        </p:blipFill>
        <p:spPr>
          <a:xfrm>
            <a:off x="1071720" y="0"/>
            <a:ext cx="728640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дна хата Івана Франка. Кім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5851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4"/>
          <p:cNvSpPr/>
          <p:nvPr/>
        </p:nvSpPr>
        <p:spPr>
          <a:xfrm>
            <a:off x="0" y="6027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дна хата Івана Франка. Кім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5851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9:13:55Z</dcterms:created>
  <dc:creator>WORK</dc:creator>
  <dc:description/>
  <dc:language>en-US</dc:language>
  <cp:lastModifiedBy>WORK</cp:lastModifiedBy>
  <dcterms:modified xsi:type="dcterms:W3CDTF">2011-10-18T13:24:25Z</dcterms:modified>
  <cp:revision>27</cp:revision>
  <dc:subject/>
  <dc:title>Тема: Іван Якович Франко. Розповідь про життєвий і творчий шлях.</dc:title>
</cp:coreProperties>
</file>