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45EA-2738-4594-9B31-84CAD021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1253-17D5-4911-A190-4513189C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5286-7653-4F9E-93B8-5DA6B881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321-6EB9-48AC-ACFD-07D6A8C5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00E9-1979-4126-AB96-C5323887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6EF7-4EB3-4399-B31F-095A5D9C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0871-FC79-45E3-B883-EDD9D907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FC33-526F-45FB-89D3-5A7BC62C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EF3A-3DE6-402A-8E71-E2BAFDA6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1F01-04E8-4186-8846-FC3CE66B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8181-AB88-4DC6-B85E-2126AD6E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470F-321A-410B-9CE1-49AA346C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1E18-5D77-4967-9498-8B9828B7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F335-C13F-4293-BCDD-EFDDF3DF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5D12-2F1D-4754-AEC5-63A55E24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6CC8-EE77-4E75-80F7-5C324F79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9DE5-954A-42CB-8C12-FF8EE988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5D1E7-474A-4E95-8A37-38C4A2D7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551D8-C48B-4404-9D62-09630736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0B337-A8ED-4C6C-92DB-03D94A7F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06CBB-A72C-4D94-B64F-FEB4561E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F7581-AB05-4218-8525-B90CFA80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53E4-7899-4502-8400-491357EB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63BA4-FE84-4D21-8F8B-077C7D3C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67746-1C62-4493-B068-8B2FDE39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4C2E3-2D23-4633-A1A2-D45F1282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447F7-4958-4DCF-9BA0-0B54CF93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8E360-4D29-44DA-8C02-566CDEC8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3BE4F-F5AE-4CB0-A490-E6B2C04F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1DFEF-01E6-4AC5-A45B-A13CEB66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62ECB-CC02-4314-A8F3-A37DD158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66210-83AA-472A-9E05-F6E2A6D0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C903D-6916-4A3B-9624-579F3DD5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A3F-690E-4C89-9483-B695B933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30F27-9C22-418B-B3DF-2F41D5E5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B4658-2D22-488D-8629-A5DF613D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05D71-7E49-45E4-AC08-D8A744F1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26B45-CBB8-4F88-A921-F72DF374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539E5-3C26-4DCE-97F7-EAAED3FE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7CAA2-0BF1-484B-AEDF-3E3EE2E8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8FC41-30C0-41DC-9A62-3AC1F25F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24A49-7D02-4F30-928B-4EB7756C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12C62-11EC-4AD2-8CCB-2E6A47BF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18D1-DE28-4F5E-80B4-946EF9FC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7A4D-7DD3-4FBB-A413-D4FEF8D3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CDD-58C4-4803-B2CE-BB8EC909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F30-BE51-4FF1-93B4-5381759F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9805-3AA4-4021-A8E9-6F42025A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9DF8-0F67-49E6-9B93-51A13022A28F}" type="slidenum">
              <a:rPr b="1" lang="uk-U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2144-0514-4692-A5F6-7BDCDB17E4A2}" type="slidenum">
              <a:rPr b="1" lang="uk-U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47C6-67E1-45D7-8B7C-D738654E0F9A}" type="slidenum">
              <a:rPr b="1" lang="uk-U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EA02-9429-467B-9C31-B62147B335D1}" type="slidenum">
              <a:rPr b="1" lang="uk-U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фон заставки.jpg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-60480" y="-36360"/>
            <a:ext cx="9259920" cy="69800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692000" y="3789000"/>
            <a:ext cx="72025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212745"/>
                </a:solidFill>
                <a:latin typeface="Trebuchet MS"/>
              </a:rPr>
              <a:t>Розв'язування задач і вправ з теми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212745"/>
                </a:solidFill>
                <a:latin typeface="Trebuchet MS"/>
              </a:rPr>
              <a:t>«Електричний струм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3"/>
          <a:srcRect l="0" t="0" r="0" b="202"/>
          <a:stretch/>
        </p:blipFill>
        <p:spPr>
          <a:xfrm>
            <a:off x="6804000" y="2924280"/>
            <a:ext cx="1946160" cy="2808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763640" y="1484280"/>
            <a:ext cx="5761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ідкритий урок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8 кла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968200" y="27936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8000"/>
                </a:solidFill>
                <a:uFillTx/>
                <a:latin typeface="Arial"/>
              </a:rPr>
              <a:t>Перевірка завдан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981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Задача 1.(На 8б.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2031840" cy="1612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006160" y="981000"/>
            <a:ext cx="22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Задача 2.(На 10б.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932360" y="1413000"/>
            <a:ext cx="2449440" cy="21603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74160" y="3429000"/>
            <a:ext cx="22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Задача 3.(На 12б.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755640" y="3933720"/>
            <a:ext cx="28796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755640" y="259920"/>
            <a:ext cx="7561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76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04040"/>
                </a:solidFill>
                <a:latin typeface="Trebuchet MS"/>
              </a:rPr>
              <a:t>Робота в групах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176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04040"/>
                </a:solidFill>
                <a:latin typeface="Trebuchet MS"/>
              </a:rPr>
              <a:t>Виконання експериментальних завдан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2"/>
          <a:stretch/>
        </p:blipFill>
        <p:spPr>
          <a:xfrm>
            <a:off x="2700360" y="1844640"/>
            <a:ext cx="36734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86200" y="189000"/>
            <a:ext cx="731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Експерементальне завданн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бирання найпростішого електричного кола”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"/>
          <p:cNvSpPr/>
          <p:nvPr/>
        </p:nvSpPr>
        <p:spPr>
          <a:xfrm>
            <a:off x="468360" y="981000"/>
            <a:ext cx="7756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лади: гальванічний елемент, лампа, ключ, з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ʼ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днувальні дрот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рядок виконання робот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. Зберіть за схемою електричне коло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084720" y="1773360"/>
            <a:ext cx="2303640" cy="1828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68360" y="2349360"/>
            <a:ext cx="5349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. Увімкніть електричне коло, а потім вимкніт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. Дайте відповіді на питанн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а рольджерела струму в електричному колі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а роль ключа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а дія струму свідчить про наявність струму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кажіть напрямок електричного струм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8064360" cy="4681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907640" y="404640"/>
            <a:ext cx="58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8000"/>
                </a:solidFill>
                <a:latin typeface="Arial"/>
              </a:rPr>
              <a:t>Правильно зібране електричне кол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565440" y="40464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8000"/>
                </a:solidFill>
                <a:uFillTx/>
                <a:latin typeface="Arial"/>
              </a:rPr>
              <a:t>Підсумок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"/>
          <p:cNvSpPr/>
          <p:nvPr/>
        </p:nvSpPr>
        <p:spPr>
          <a:xfrm>
            <a:off x="755640" y="907920"/>
            <a:ext cx="7704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253779"/>
                </a:solidFill>
                <a:uFillTx/>
                <a:latin typeface="Arial"/>
              </a:rPr>
              <a:t>Чи справились ми із завданням уроку?  –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кріпили здобуті знання на практиці, а саме навчилися 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яснювати електричні явища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еслити схеми електричних кіл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кладати прості електричні кола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им самим здобу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ксперементальні вміння й дослідницькі навички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2"/>
          <a:stretch/>
        </p:blipFill>
        <p:spPr>
          <a:xfrm>
            <a:off x="603360" y="487440"/>
            <a:ext cx="8016840" cy="5029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3"/>
          <a:stretch/>
        </p:blipFill>
        <p:spPr>
          <a:xfrm>
            <a:off x="5651640" y="3716280"/>
            <a:ext cx="2884320" cy="2763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/>
          <p:cNvPicPr/>
          <p:nvPr/>
        </p:nvPicPr>
        <p:blipFill>
          <a:blip r:embed="rId4"/>
          <a:stretch/>
        </p:blipFill>
        <p:spPr>
          <a:xfrm>
            <a:off x="900000" y="328464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1" descr="фон заставки.jpg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-60480" y="-36360"/>
            <a:ext cx="9259920" cy="6980040"/>
          </a:xfrm>
          <a:prstGeom prst="rect">
            <a:avLst/>
          </a:prstGeom>
          <a:ln w="0">
            <a:noFill/>
          </a:ln>
        </p:spPr>
      </p:pic>
      <p:pic>
        <p:nvPicPr>
          <p:cNvPr id="219" name="Заголовок 1" descr=""/>
          <p:cNvPicPr/>
          <p:nvPr/>
        </p:nvPicPr>
        <p:blipFill>
          <a:blip r:embed="rId3"/>
          <a:stretch/>
        </p:blipFill>
        <p:spPr>
          <a:xfrm>
            <a:off x="781200" y="665280"/>
            <a:ext cx="7656480" cy="4863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143000" y="731880"/>
            <a:ext cx="115920" cy="2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4"/>
          <a:stretch/>
        </p:blipFill>
        <p:spPr>
          <a:xfrm>
            <a:off x="1403280" y="3716280"/>
            <a:ext cx="2305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фон заставки.jpg"/>
          <p:cNvPicPr/>
          <p:nvPr/>
        </p:nvPicPr>
        <p:blipFill>
          <a:blip r:embed="rId2">
            <a:lum bright="32000"/>
          </a:blip>
          <a:stretch/>
        </p:blipFill>
        <p:spPr>
          <a:xfrm>
            <a:off x="-60480" y="-36360"/>
            <a:ext cx="9259920" cy="6980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55640" y="620640"/>
            <a:ext cx="799452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253779"/>
                </a:solidFill>
                <a:uFillTx/>
                <a:latin typeface="Arial"/>
              </a:rPr>
              <a:t>Завдання уроку –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кріпити здобуті знання на практиці, а саме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вчитися пояснювати електричні явища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исувати схеми електричних кіл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ладати прості електричні кола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им самим розвинем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ксперементальні вміння й дослідницькі навичк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Рисунок 1" descr="фон заставки.jpg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259920" cy="698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539640" y="2060640"/>
          <a:ext cx="8353440" cy="3282840"/>
        </p:xfrm>
        <a:graphic>
          <a:graphicData uri="http://schemas.openxmlformats.org/drawingml/2006/table">
            <a:tbl>
              <a:tblPr/>
              <a:tblGrid>
                <a:gridCol w="1584360"/>
                <a:gridCol w="1224000"/>
                <a:gridCol w="1224000"/>
                <a:gridCol w="1008000"/>
                <a:gridCol w="1656000"/>
                <a:gridCol w="16570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зва виду діяльност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 algn="ctr">
                        <a:spcBef>
                          <a:spcPts val="45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ізичний дикт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 algn="ctr">
                        <a:spcBef>
                          <a:spcPts val="45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сна відпові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 algn="ctr">
                        <a:spcBef>
                          <a:spcPts val="45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да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 algn="ctr">
                        <a:spcBef>
                          <a:spcPts val="45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04040"/>
                          </a:solidFill>
                          <a:latin typeface="Trebuchet MS"/>
                        </a:rPr>
                        <a:t>Експере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 algn="ctr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404040"/>
                          </a:solidFill>
                          <a:latin typeface="Trebuchet MS"/>
                        </a:rPr>
                        <a:t>Середній б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5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04040"/>
                          </a:solidFill>
                          <a:latin typeface="Trebuchet MS"/>
                        </a:rPr>
                        <a:t>ПІП учня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5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04040"/>
                          </a:solidFill>
                          <a:latin typeface="Trebuchet MS"/>
                        </a:rPr>
                        <a:t>ПІП учня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5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04040"/>
                          </a:solidFill>
                          <a:latin typeface="Trebuchet MS"/>
                        </a:rPr>
                        <a:t>ПІП учня №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5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04040"/>
                          </a:solidFill>
                          <a:latin typeface="Trebuchet MS"/>
                        </a:rPr>
                        <a:t>ПІП учня №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5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04040"/>
                          </a:solidFill>
                          <a:latin typeface="Trebuchet MS"/>
                        </a:rPr>
                        <a:t>ПІП учня №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3638520" y="98100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 u="sng">
                <a:solidFill>
                  <a:srgbClr val="008000"/>
                </a:solidFill>
                <a:uFillTx/>
                <a:latin typeface="Arial"/>
              </a:rPr>
              <a:t>Картка облік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фон заставки.jpg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259920" cy="6980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55640" y="0"/>
            <a:ext cx="813744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253779"/>
                </a:solidFill>
                <a:uFillTx/>
                <a:latin typeface="Arial"/>
              </a:rPr>
              <a:t>Фізичний диктан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порядкованим рухом заряджених частинок називають ......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истрої, у яких відбувається перетворення певного виду енергії на електричну називають .....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а напрямок електричного струму умовно обрали напрямок від .........                                                               до........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жерела електричного струму поділяють на ...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Електричний струм виникає та існує за умов ..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1459080"/>
            <a:ext cx="32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i="1" lang="uk-UA" sz="2000" spc="-1" strike="noStrike">
                <a:solidFill>
                  <a:srgbClr val="008000"/>
                </a:solidFill>
                <a:latin typeface="Arial"/>
              </a:rPr>
              <a:t>електричний стру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"/>
          <p:cNvSpPr/>
          <p:nvPr/>
        </p:nvSpPr>
        <p:spPr>
          <a:xfrm>
            <a:off x="240840" y="2708280"/>
            <a:ext cx="75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8000"/>
                </a:solidFill>
                <a:latin typeface="Arial"/>
              </a:rPr>
              <a:t>                                                                      </a:t>
            </a:r>
            <a:r>
              <a:rPr b="1" i="1" lang="uk-UA" sz="2000" spc="-1" strike="noStrike">
                <a:solidFill>
                  <a:srgbClr val="008000"/>
                </a:solidFill>
                <a:latin typeface="Arial"/>
              </a:rPr>
              <a:t>джерелами струму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"/>
          <p:cNvSpPr/>
          <p:nvPr/>
        </p:nvSpPr>
        <p:spPr>
          <a:xfrm>
            <a:off x="608040" y="3933720"/>
            <a:ext cx="78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i="1" lang="uk-UA" sz="2000" spc="-1" strike="noStrike">
                <a:solidFill>
                  <a:srgbClr val="008000"/>
                </a:solidFill>
                <a:latin typeface="Arial"/>
              </a:rPr>
              <a:t>позитивного полюса джерела струму      негативного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"/>
          <p:cNvSpPr/>
          <p:nvPr/>
        </p:nvSpPr>
        <p:spPr>
          <a:xfrm>
            <a:off x="605880" y="4941720"/>
            <a:ext cx="548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uk-UA" sz="2000" spc="-1" strike="noStrike">
                <a:solidFill>
                  <a:srgbClr val="008000"/>
                </a:solidFill>
                <a:latin typeface="Arial"/>
              </a:rPr>
              <a:t>хімічні, світлові, теплові, механічні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"/>
          <p:cNvSpPr/>
          <p:nvPr/>
        </p:nvSpPr>
        <p:spPr>
          <a:xfrm>
            <a:off x="684360" y="566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"/>
          <p:cNvSpPr/>
          <p:nvPr/>
        </p:nvSpPr>
        <p:spPr>
          <a:xfrm>
            <a:off x="971280" y="5589720"/>
            <a:ext cx="563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008000"/>
                </a:solidFill>
                <a:latin typeface="Arial"/>
              </a:rPr>
              <a:t>наявність вільних заряджених частинок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008000"/>
                </a:solidFill>
                <a:latin typeface="Arial"/>
              </a:rPr>
              <a:t>наявність електричного пол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23600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20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1" descr="фон заставки.jpg"/>
          <p:cNvPicPr/>
          <p:nvPr/>
        </p:nvPicPr>
        <p:blipFill>
          <a:blip r:embed="rId2">
            <a:lum bright="32000"/>
          </a:blip>
          <a:stretch/>
        </p:blipFill>
        <p:spPr>
          <a:xfrm>
            <a:off x="-60480" y="-36360"/>
            <a:ext cx="9259920" cy="6980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3"/>
          <a:stretch/>
        </p:blipFill>
        <p:spPr>
          <a:xfrm>
            <a:off x="1476360" y="3141720"/>
            <a:ext cx="5616720" cy="3186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983240" y="476280"/>
            <a:ext cx="473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53779"/>
                </a:solidFill>
                <a:latin typeface="Arial"/>
              </a:rPr>
              <a:t>Він у всьому помічник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53779"/>
                </a:solidFill>
                <a:latin typeface="Arial"/>
              </a:rPr>
              <a:t>Кожен вже до нього звик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53779"/>
                </a:solidFill>
                <a:latin typeface="Arial"/>
              </a:rPr>
              <a:t>Дайте відповідь без ду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53779"/>
                </a:solidFill>
                <a:latin typeface="Arial"/>
              </a:rPr>
              <a:t>Що це? Електричний ...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16000" y="476280"/>
            <a:ext cx="72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8000"/>
                </a:solidFill>
                <a:uFillTx/>
                <a:latin typeface="Arial"/>
              </a:rPr>
              <a:t>Бесіда за запитаннями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к можна за допомогою магнітної стрілки дізнатись про наявність струму в колі? Поясніть це явищ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ку ще дію може здійснювати струм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"/>
          <p:cNvSpPr/>
          <p:nvPr/>
        </p:nvSpPr>
        <p:spPr>
          <a:xfrm>
            <a:off x="755640" y="2924280"/>
            <a:ext cx="210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8000"/>
                </a:solidFill>
                <a:uFillTx/>
                <a:latin typeface="Arial"/>
              </a:rPr>
              <a:t>Магнітна ді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200000"/>
              </a:lnSpc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8000"/>
                </a:solidFill>
                <a:uFillTx/>
                <a:latin typeface="Arial"/>
              </a:rPr>
              <a:t>Теплова ді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200000"/>
              </a:lnSpc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8000"/>
                </a:solidFill>
                <a:uFillTx/>
                <a:latin typeface="Arial"/>
              </a:rPr>
              <a:t>Механічна ді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200000"/>
              </a:lnSpc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8000"/>
                </a:solidFill>
                <a:uFillTx/>
                <a:latin typeface="Arial"/>
              </a:rPr>
              <a:t>Світлова ді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200000"/>
              </a:lnSpc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8000"/>
                </a:solidFill>
                <a:uFillTx/>
                <a:latin typeface="Arial"/>
              </a:rPr>
              <a:t>Хімічна ді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"/>
          <p:cNvSpPr/>
          <p:nvPr/>
        </p:nvSpPr>
        <p:spPr>
          <a:xfrm>
            <a:off x="501840" y="2565360"/>
            <a:ext cx="86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Встановіть відповідність між дією струму і її використанням у побуті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"/>
          <p:cNvSpPr/>
          <p:nvPr/>
        </p:nvSpPr>
        <p:spPr>
          <a:xfrm>
            <a:off x="3064680" y="2924280"/>
            <a:ext cx="5864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8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Нагрівання води електричним кип</a:t>
            </a:r>
            <a:r>
              <a:rPr b="1" lang="uk-UA" sz="1800" spc="-1" strike="noStrike">
                <a:solidFill>
                  <a:srgbClr val="008000"/>
                </a:solidFill>
                <a:latin typeface="Arial"/>
                <a:ea typeface="Arial"/>
              </a:rPr>
              <a:t>ʼ</a:t>
            </a: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ятильнико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200000"/>
              </a:lnSpc>
              <a:buClr>
                <a:srgbClr val="008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Хромування та нікелювання детале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200000"/>
              </a:lnSpc>
              <a:buClr>
                <a:srgbClr val="008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Освітлення лампою денного світл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200000"/>
              </a:lnSpc>
              <a:buClr>
                <a:srgbClr val="008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Охолодження компютера вентиляторо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200000"/>
              </a:lnSpc>
              <a:buClr>
                <a:srgbClr val="008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Піднімання металу електромагніто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"/>
          <p:cNvSpPr/>
          <p:nvPr/>
        </p:nvSpPr>
        <p:spPr>
          <a:xfrm>
            <a:off x="2700360" y="3427560"/>
            <a:ext cx="43164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556000" y="3427560"/>
            <a:ext cx="720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"/>
          <p:cNvSpPr/>
          <p:nvPr/>
        </p:nvSpPr>
        <p:spPr>
          <a:xfrm>
            <a:off x="2771640" y="4579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627280" y="457956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484360" y="4003560"/>
            <a:ext cx="71928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900000" y="476280"/>
            <a:ext cx="76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ід теорії до практик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Объект 2"/>
          <p:cNvSpPr/>
          <p:nvPr/>
        </p:nvSpPr>
        <p:spPr>
          <a:xfrm>
            <a:off x="611280" y="1916280"/>
            <a:ext cx="806436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04040"/>
                </a:solidFill>
                <a:latin typeface="Trebuchet MS"/>
              </a:rPr>
              <a:t>Індивідуальна робота «Розв'язування задач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2843280" y="2635200"/>
            <a:ext cx="34178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68360" y="47628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8000"/>
                </a:solidFill>
                <a:uFillTx/>
                <a:latin typeface="Arial"/>
              </a:rPr>
              <a:t>Аукціон задач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1.(На 8б.)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Накресліть схему електричного кола кишенькового ліхтарик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2276640"/>
            <a:ext cx="79218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2.(На 10б.)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кресліть схему з’єднання батарейки, двох лампочок і двох ключів у коло, в якому кожна з лампочок вмикається та вимикається незалежно одна від одної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"/>
          <p:cNvSpPr/>
          <p:nvPr/>
        </p:nvSpPr>
        <p:spPr>
          <a:xfrm>
            <a:off x="539640" y="393372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3.(На 12б.)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кресліть схему з’єднання батарейки, лампочки, дзвінка й двох ключів. Лампочка вмикається щоразу, коли дзвонить дзвінок, але може працювати й у випадку, коли дзвінок вимкнений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5T08:20:22Z</dcterms:created>
  <dc:creator>Teacher_inform</dc:creator>
  <dc:description/>
  <dc:language>en-US</dc:language>
  <cp:lastModifiedBy>Администратор</cp:lastModifiedBy>
  <dcterms:modified xsi:type="dcterms:W3CDTF">2017-01-31T19:24:26Z</dcterms:modified>
  <cp:revision>12</cp:revision>
  <dc:subject/>
  <dc:title>Подорож країною «Електрик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1b000000000001024140</vt:lpwstr>
  </property>
</Properties>
</file>