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313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49400"/>
            <a:ext cx="7313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236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240" y="243792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080" y="243792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4940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240" y="464940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080" y="464940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7313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3137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723600"/>
            <a:ext cx="73137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7313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236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49400"/>
            <a:ext cx="7313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313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49400"/>
            <a:ext cx="7313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236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240" y="243792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080" y="243792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4940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240" y="464940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080" y="4649400"/>
            <a:ext cx="23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3137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723600"/>
            <a:ext cx="73137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2360" y="464940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360" y="2437920"/>
            <a:ext cx="3569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49400"/>
            <a:ext cx="7313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3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7920"/>
            <a:ext cx="73137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9687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840" y="126720"/>
            <a:ext cx="5510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Times New Roman"/>
              </a:rPr>
              <a:t>ПСИХО-ЕМОЦІЙНА ПІДГОТОВКА ДО ЗНО</a:t>
            </a: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47640" y="4779720"/>
            <a:ext cx="446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2100" spc="-1" strike="noStrike">
                <a:solidFill>
                  <a:srgbClr val="000080"/>
                </a:solidFill>
                <a:latin typeface="Times New Roman"/>
              </a:rPr>
              <a:t>ТРЕНІНГ ДЛЯ УЧНІВ 11-ГО КЛАСУ</a:t>
            </a:r>
            <a:endParaRPr b="0" lang="en-US" sz="21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5160" y="127080"/>
            <a:ext cx="73152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5f5f5f"/>
                </a:solidFill>
                <a:latin typeface="Times New Roman"/>
              </a:rPr>
              <a:t>Рефлексія</a:t>
            </a:r>
            <a:br>
              <a:rPr sz="3200"/>
            </a:br>
            <a:r>
              <a:rPr b="1" i="1" lang="uk-UA" sz="4400" spc="-1" strike="noStrike">
                <a:solidFill>
                  <a:srgbClr val="0047ff"/>
                </a:solidFill>
                <a:latin typeface="Times New Roman"/>
              </a:rPr>
              <a:t>ВІРЮ   В   УСПІХ!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16000" y="1584360"/>
            <a:ext cx="66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 відчуваю приплив сил та енергії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 мене гарний настрій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 легко володію собою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ені спокійно і радісно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 легко справлюсь з будь-якою справою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оє обличчя повністю спокійне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никає тривога. Зростає впевненість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оє дихання спокійне і рівне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 спокійний, повністю спокійний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 активний і готовий до дій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мене все вийде добре.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400" spc="-1" strike="noStrike">
                <a:solidFill>
                  <a:srgbClr val="008000"/>
                </a:solidFill>
                <a:latin typeface="Times New Roman"/>
              </a:rPr>
              <a:t>Лише той досягає мети, хто іде. Лише той, хто горить не згорає.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00360" y="3024360"/>
            <a:ext cx="693396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2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2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2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25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6000" spc="-1" strike="noStrike">
                <a:solidFill>
                  <a:srgbClr val="008000"/>
                </a:solidFill>
                <a:latin typeface="Times New Roman"/>
              </a:rPr>
              <a:t>Бажаю всім успіху!</a:t>
            </a: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transition spd="med">
    <p:wheel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723600"/>
            <a:ext cx="73152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100" spc="-1" strike="noStrike">
                <a:solidFill>
                  <a:srgbClr val="5f5f5f"/>
                </a:solidFill>
                <a:latin typeface="Times New Roman"/>
              </a:rPr>
              <a:t>ПРИТЧА</a:t>
            </a:r>
            <a:endParaRPr b="0" lang="en-US" sz="41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86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905440" y="1584360"/>
            <a:ext cx="2590920" cy="365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50880" y="1619280"/>
            <a:ext cx="4821120" cy="363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2000" y="1290600"/>
            <a:ext cx="73152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6000" spc="-1" strike="noStrike">
                <a:solidFill>
                  <a:srgbClr val="b84700"/>
                </a:solidFill>
                <a:latin typeface="Times New Roman"/>
              </a:rPr>
              <a:t>Зовнішнє Незалежне Оцінювання — ЦЕ...</a:t>
            </a: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315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9160" y="215640"/>
            <a:ext cx="7315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400" spc="-1" strike="noStrike">
                <a:solidFill>
                  <a:srgbClr val="5f5f5f"/>
                </a:solidFill>
                <a:latin typeface="Times New Roman"/>
              </a:rPr>
              <a:t>Я досягну успіху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56868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08000" y="1236600"/>
            <a:ext cx="7199280" cy="4738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92000" y="1236600"/>
            <a:ext cx="5904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Тому що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Навіть якщо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Незважаючи на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Так, що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За допомогою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Так само, як і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Разом з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Опираючись на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5f5f5f"/>
                </a:solidFill>
                <a:latin typeface="Times New Roman"/>
              </a:rPr>
              <a:t>Тому що прагну...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080" y="70920"/>
            <a:ext cx="7315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imes New Roman"/>
              </a:rPr>
              <a:t>Дослід № 1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600" y="1079280"/>
            <a:ext cx="8393400" cy="22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Журнал, малина, стовп, свічка, тачка, кіно, співчуття, корм, молодість, стіл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60360" y="2437920"/>
            <a:ext cx="607212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4800" spc="-1" strike="noStrike">
                <a:solidFill>
                  <a:srgbClr val="dc2300"/>
                </a:solidFill>
                <a:latin typeface="Times New Roman"/>
                <a:ea typeface="Lucida Sans Unicode"/>
              </a:rPr>
              <a:t>“</a:t>
            </a:r>
            <a:r>
              <a:rPr b="1" i="1" lang="uk-UA" sz="4800" spc="-1" strike="noStrike">
                <a:solidFill>
                  <a:srgbClr val="dc2300"/>
                </a:solidFill>
                <a:latin typeface="Times New Roman"/>
                <a:ea typeface="Lucida Sans Unicode"/>
              </a:rPr>
              <a:t>Правило сімки”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5f5f5f"/>
                </a:solidFill>
                <a:latin typeface="Times New Roman"/>
                <a:ea typeface="Lucida Sans Unicode"/>
              </a:rPr>
              <a:t>людина здатна запам'ятати і утримати в оперативній пам'яті не більше семи об'єктів, так званих згустків інформації, за один раз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3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5f5f5f"/>
                </a:solidFill>
                <a:latin typeface="Times New Roman"/>
                <a:ea typeface="Lucida Sans Unicode"/>
              </a:rPr>
              <a:t>(норма 7+/-2)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transition spd="med">
    <p:wheel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00" y="287280"/>
            <a:ext cx="73152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imes New Roman"/>
              </a:rPr>
              <a:t>Дослід №2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9640" y="1944360"/>
            <a:ext cx="8013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Правило яскравої плями”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666666"/>
                </a:solidFill>
                <a:latin typeface="Times New Roman"/>
              </a:rPr>
              <a:t>запам'ятовується найкраще та інформація, що емоційно змальована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666666"/>
                </a:solidFill>
                <a:latin typeface="Times New Roman"/>
              </a:rPr>
              <a:t>В цьому випадку — про ЗНО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6000" y="109440"/>
            <a:ext cx="73152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imes New Roman"/>
              </a:rPr>
              <a:t>Дослід №3</a:t>
            </a:r>
            <a:br>
              <a:rPr sz="4400"/>
            </a:br>
            <a:r>
              <a:rPr b="0" lang="uk-UA" sz="3200" spc="-1" strike="noStrike">
                <a:solidFill>
                  <a:srgbClr val="4c4c4c"/>
                </a:solidFill>
                <a:latin typeface="Times New Roman"/>
              </a:rPr>
              <a:t>“Скільки тварин взяв з собою Мойсей на свій ковчег?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2592000"/>
            <a:ext cx="7581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Правило детального осмислення”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666666"/>
                </a:solidFill>
                <a:latin typeface="Times New Roman"/>
              </a:rPr>
              <a:t>Вдивляйтеся в питання. Ретельно вичитуйте його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0800" y="216000"/>
            <a:ext cx="73152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5f5f5f"/>
                </a:solidFill>
                <a:latin typeface="Microsoft Sans Serif"/>
              </a:rPr>
              <a:t>Розпорядок дн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7280" y="2122560"/>
            <a:ext cx="2355840" cy="176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4880" y="1062000"/>
            <a:ext cx="2355840" cy="153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095640" y="5040360"/>
            <a:ext cx="2355840" cy="14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068880" y="2087640"/>
            <a:ext cx="2355840" cy="1641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016000" y="1944720"/>
            <a:ext cx="4680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63640" y="219240"/>
            <a:ext cx="73152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400" spc="-1" strike="noStrike">
                <a:solidFill>
                  <a:srgbClr val="5f5f5f"/>
                </a:solidFill>
                <a:latin typeface="Times New Roman"/>
              </a:rPr>
              <a:t>Вигляд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1684440" cy="253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344680" y="1295280"/>
            <a:ext cx="1687680" cy="253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480000" y="431640"/>
            <a:ext cx="2160720" cy="259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543640" y="4049640"/>
            <a:ext cx="2663640" cy="257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240000" y="4021200"/>
            <a:ext cx="1685880" cy="2530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248000" y="1284120"/>
            <a:ext cx="1944720" cy="253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Julia</cp:lastModifiedBy>
  <dcterms:modified xsi:type="dcterms:W3CDTF">2011-05-30T14:02:21Z</dcterms:modified>
  <cp:revision>283</cp:revision>
  <dc:subject/>
  <dc:title>Name of presentation</dc:title>
</cp:coreProperties>
</file>