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3D9-33C1-42A2-AAAA-45A962A5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5F2-89C3-4C10-A91D-D0B18028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A00-DEC4-4CA6-986C-8A2203F5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E16-9A3D-45B3-8CEE-3038C74F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6D9A-C407-425E-9007-59AFF45C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4FE1-925D-4009-B3C9-F6DA8B76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F5DC-1B36-4D24-AE1C-EB0EAC96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DDC-0459-4511-95B0-97129038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19D3-9119-4063-89A3-0EECAC05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6ECE-AFC1-4BF8-83A2-6532EB98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2002-4564-4A8B-8154-2DC119D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0EB-E9FE-4155-B0FF-524FC10B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6640-0D72-4A08-9F5B-913B55FE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B871-0B4B-44DC-B41C-254C4B0A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1D86-DF2F-450F-AB84-0CD0CBC8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4FAA-E6F4-4AE5-8F4C-7F4ABF9D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477F-3890-4094-816C-B53F67C8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00A-6410-4538-A64A-932D3228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BBD-F7BB-445A-8034-F79D0DCD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A8C-0E43-4FAE-AD19-DE326F9F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438-37FD-4690-9E9E-C8891CEA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F7C-F072-4B8B-AD47-3C256353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024-AFDF-4F94-BCFE-6CB71448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06A-1902-4C3C-9404-24F25544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0E32-F571-4FF3-89F4-9D1F0759DE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7836-0D5B-4B36-B9EB-6D269014B4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870280" cy="3370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568680" y="1773360"/>
            <a:ext cx="2298600" cy="292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02520" y="2205000"/>
            <a:ext cx="1798560" cy="33148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4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                      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What is the story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                         abo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Let’s predic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story 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611000" cy="1598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2438280" cy="1630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1935000" cy="1900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2367000" cy="1609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1898640" cy="1652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508720" y="2491920"/>
            <a:ext cx="36352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dff"/>
                </a:solidFill>
                <a:latin typeface="Comic Sans MS"/>
              </a:rPr>
              <a:t>The Penguin is … the doo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dff"/>
                </a:solidFill>
                <a:latin typeface="Comic Sans MS"/>
              </a:rPr>
              <a:t>The weight is … 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dff"/>
                </a:solidFill>
                <a:latin typeface="Comic Sans MS"/>
              </a:rPr>
              <a:t>The trap door is … 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dff"/>
                </a:solidFill>
                <a:latin typeface="Comic Sans MS"/>
              </a:rPr>
              <a:t>The robot is … Gromi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dff"/>
                </a:solidFill>
                <a:latin typeface="Comic Sans MS"/>
              </a:rPr>
              <a:t>Gromit is … through the whole and into the trouser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CLOSING,  COMING DOWN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FALLING,  DRE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OPEN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ok  at  the  chart.  Make the sente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2090880"/>
            <a:ext cx="4824720" cy="3295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8557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Do you remember the prepositio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32608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hat things are inside the museu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56000" y="4365720"/>
            <a:ext cx="1106640" cy="2095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24360" y="4724280"/>
            <a:ext cx="312840" cy="1752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1863720" cy="1490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24000" y="2133720"/>
            <a:ext cx="21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411280" y="3500280"/>
            <a:ext cx="1322640" cy="1468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700360" y="1700280"/>
            <a:ext cx="1322280" cy="1749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5796000" y="1916280"/>
            <a:ext cx="819000" cy="1101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2340000" y="5084640"/>
            <a:ext cx="1251000" cy="159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4427640" y="2133720"/>
            <a:ext cx="863640" cy="1752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5580000" y="3284640"/>
            <a:ext cx="1106640" cy="2484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6877080" y="3645000"/>
            <a:ext cx="1503360" cy="2441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877080" y="1341360"/>
            <a:ext cx="1251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ork with the partner and number the sent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Air vent, Long Room, Diamond Room. Stop here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He is over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It’s a Blue Diamond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A loose t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Forward! Try agai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Through the air vent and into the museu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Mind the laser bea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Got it! Slowly… .Oh, y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Forward. Across the ceiling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There is a burglar alarm, with the laser beam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Pincers. No. Back. …. down … missed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That was luck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646280" cy="2711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2582640" cy="2936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020000" y="692280"/>
            <a:ext cx="998640" cy="3887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284720" y="3645000"/>
            <a:ext cx="2367000" cy="2408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556000" y="3357720"/>
            <a:ext cx="963360" cy="3174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324000" y="2276640"/>
            <a:ext cx="1654200" cy="2665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b                              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373392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                 f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here is the diamond at the end of the stor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It’s inside the crash helme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It’s still in the museu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The penguin's holding i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20:27:14Z</dcterms:created>
  <dc:creator>Дмитрий Власов</dc:creator>
  <dc:description/>
  <dc:language>en-US</dc:language>
  <cp:lastModifiedBy>Мама</cp:lastModifiedBy>
  <dcterms:modified xsi:type="dcterms:W3CDTF">2016-12-14T07:09:33Z</dcterms:modified>
  <cp:revision>5</cp:revision>
  <dc:subject/>
  <dc:title>Слайд 1</dc:title>
</cp:coreProperties>
</file>