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21.wmf" ContentType="image/x-wmf"/>
  <Override PartName="/ppt/media/image5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wmf" ContentType="image/x-wmf"/>
  <Override PartName="/ppt/media/image1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37A-9058-445B-8206-B21B8450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FBA-5381-40C4-8876-BBA8DF44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A40-7781-4CB6-8019-80D68AB0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850-F490-4A3D-9B15-9F226485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1CFF-D9F6-4557-B655-618F4EB7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FFD-3054-4B2F-93B5-824DA0A9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84F9-BD22-4BFB-A87B-54B89210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680E-0FE1-4F33-82D8-406A320F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834C-8B77-49C4-96C4-192DC787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814B-905E-4FDF-AF5A-C441B40E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C27C-6C2A-4F4B-AB7E-6EEADBA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1BC-EA73-4ECC-8F48-1C1572E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6048-E74D-46F9-91F5-AA00CAC0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4F49-3DF7-434F-9570-E80532A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0F7C-FBDE-46CA-BBB9-CFD589FD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EB25-541F-4065-8F83-A83A29A7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6D82-930C-4927-9FC9-CF3F53C7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607-CB52-4D1B-B475-C1816D55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90B-E3A7-4649-8C68-6B7D2A31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647-DF00-4DAF-8530-735219BB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EAB-BD49-4A51-9BAD-28B34F3B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5F3-2A58-4AE6-AA2F-6C7C2C19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39E-0EB8-4531-9EF1-AA35DBD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BEF-82FD-4235-B86D-AACBC92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-22336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-22336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-22336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136D-DB9F-4D36-A206-18A1C88E92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-22336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-22336"/>
                  </a:move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-22336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200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ED68-9E6A-44E4-A4C3-60AA9C384AD1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ff"/>
                </a:solidFill>
                <a:latin typeface="Times New Roman"/>
              </a:rPr>
              <a:t>Вимоги до створення презентацій</a:t>
            </a:r>
            <a:br>
              <a:rPr sz="3200"/>
            </a:br>
            <a:r>
              <a:rPr b="1" lang="uk-UA" sz="2800" spc="-1" strike="noStrike">
                <a:solidFill>
                  <a:srgbClr val="0066ff"/>
                </a:solidFill>
                <a:latin typeface="Times New Roman"/>
              </a:rPr>
              <a:t>Підготувала:</a:t>
            </a:r>
            <a:br>
              <a:rPr sz="2800"/>
            </a:br>
            <a:r>
              <a:rPr b="1" lang="uk-UA" sz="2800" spc="-1" strike="noStrike">
                <a:solidFill>
                  <a:srgbClr val="0066ff"/>
                </a:solidFill>
                <a:latin typeface="Times New Roman"/>
              </a:rPr>
              <a:t>вчитель початкових класів</a:t>
            </a:r>
            <a:br>
              <a:rPr sz="2800"/>
            </a:br>
            <a:r>
              <a:rPr b="1" lang="uk-UA" sz="2800" spc="-1" strike="noStrike">
                <a:solidFill>
                  <a:srgbClr val="0066ff"/>
                </a:solidFill>
                <a:latin typeface="Times New Roman"/>
              </a:rPr>
              <a:t>Красноградського багатопрофільного ліцею</a:t>
            </a:r>
            <a:br>
              <a:rPr sz="2800"/>
            </a:br>
            <a:r>
              <a:rPr b="1" lang="uk-UA" sz="2800" spc="-1" strike="noStrike">
                <a:solidFill>
                  <a:srgbClr val="0066ff"/>
                </a:solidFill>
                <a:latin typeface="Times New Roman"/>
              </a:rPr>
              <a:t>Куліченко Інна Вікторівна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3" name="Picture 5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OrhidejaSlaidPrew"/>
          <p:cNvPicPr/>
          <p:nvPr/>
        </p:nvPicPr>
        <p:blipFill>
          <a:blip r:embed="rId1"/>
          <a:stretch/>
        </p:blipFill>
        <p:spPr>
          <a:xfrm>
            <a:off x="4572000" y="260280"/>
            <a:ext cx="3887640" cy="29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Picture 7" descr="0_6ce64_2c66b1c4_L"/>
          <p:cNvPicPr/>
          <p:nvPr/>
        </p:nvPicPr>
        <p:blipFill>
          <a:blip r:embed="rId2"/>
          <a:stretch/>
        </p:blipFill>
        <p:spPr>
          <a:xfrm>
            <a:off x="179280" y="3573360"/>
            <a:ext cx="4110120" cy="286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9" descr="power-point-presentation-templates"/>
          <p:cNvPicPr/>
          <p:nvPr/>
        </p:nvPicPr>
        <p:blipFill>
          <a:blip r:embed="rId3"/>
          <a:stretch/>
        </p:blipFill>
        <p:spPr>
          <a:xfrm>
            <a:off x="250920" y="260280"/>
            <a:ext cx="3887640" cy="287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powerpoint-presentation-templates1-600x480"/>
          <p:cNvPicPr/>
          <p:nvPr/>
        </p:nvPicPr>
        <p:blipFill>
          <a:blip r:embed="rId4"/>
          <a:stretch/>
        </p:blipFill>
        <p:spPr>
          <a:xfrm>
            <a:off x="4643280" y="3573360"/>
            <a:ext cx="3816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УЗГОДЖЕННЯ КОЛЬОРІВ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240" y="1412640"/>
            <a:ext cx="7304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9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воний колір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ється вживати для заголовків, назв розділів та титулів.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9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орний та </a:t>
            </a: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ній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кстів й ілюстраці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9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Синій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 сприймається при обрамленні.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9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Зелений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а використовувати для виділення в текстах та на ілюстраціях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ЗОНА КОМФОРТУ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42920" y="1700280"/>
          <a:ext cx="7632720" cy="4680000"/>
        </p:xfrm>
        <a:graphic>
          <a:graphicData uri="http://schemas.openxmlformats.org/drawingml/2006/table">
            <a:tbl>
              <a:tblPr/>
              <a:tblGrid>
                <a:gridCol w="3600360"/>
                <a:gridCol w="4032360"/>
              </a:tblGrid>
              <a:tr h="1170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ій по біл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uk-UA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рас  Шевченко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рний по жовт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ла Гоголь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ий по біл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635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uk-UA" sz="3200" spc="-1" strike="noStrike">
                          <a:solidFill>
                            <a:srgbClr val="007635"/>
                          </a:solidFill>
                          <a:latin typeface="Times New Roman"/>
                          <a:ea typeface="Times New Roman"/>
                        </a:rPr>
                        <a:t>Павло   Загребельний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70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рний по біл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    Стельмах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НЕЙТРАЛЬНЕ СПРИЙНЯТТЯ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700280"/>
          <a:ext cx="8229600" cy="46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лий по синь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игорій Сковорода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  <a:tr h="117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ій по жовт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асиль Стус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овтогарячий по біл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95207"/>
                          </a:solidFill>
                          <a:latin typeface="Times New Roman"/>
                          <a:ea typeface="Times New Roman"/>
                        </a:rPr>
                        <a:t>Ліна Костенко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70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лий по зелен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одимир Сосюра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ЗОНА ДИСКОМФОРТУ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268280"/>
          <a:ext cx="822960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7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ервоний по зелен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аїса Харитонова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ілий по коричнев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Іван Багряний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ичневий по жовт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406f8d"/>
                          </a:solidFill>
                          <a:latin typeface="Arial"/>
                          <a:ea typeface="Arial"/>
                        </a:rPr>
                        <a:t>Василь Андрушко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067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ілий по червон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Юрій Бедрик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овтий по червоному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Остап Грицай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47320"/>
            <a:ext cx="7772400" cy="39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ff"/>
                </a:solidFill>
                <a:latin typeface="Times New Roman"/>
              </a:rPr>
              <a:t>Представлення інформації</a:t>
            </a:r>
            <a:endParaRPr b="0" lang="en-US" sz="6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6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Зміст інформації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Використовуйте короткі слова і речення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Зведіть до мінімуму кількість прийменників, прикметників, прислівників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Заголовки повинні привертати увагу аудиторії.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9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Розміщення інформації </a:t>
            </a:r>
            <a:br>
              <a:rPr sz="4400"/>
            </a:b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на слайді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Краще обирати горизонтальне розміщення інформації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Найбільш важлива інформація розміщується в центрі слайд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Якщо на слайді розміщено зображення, то надпис розміщується під ним. 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ЗАГОЛОВК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1. Всі заголовки виконуються  у єдиному стилі (колір, шрифт, розмір, графіка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2. У кінці крапка НІКОЛИ не ставитьс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3. Анімація, як правило, не застосовується, або застосовується в межах теми, що розкриваєтьс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5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ТЕКСТ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1. Форматується по ширині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2. Розмір і колір шрифту підбираються так, щоб  було добре видно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3. Підкреслювання  НЕ використовується, так як  воно у документі вказує на гіперпосиланн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4. Елементи списку відокремлюються крапкою з комою. У кінці обов’язково  ставиться крап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8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Що таке електронна ПРЕЗЕНТАЦІЯ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67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  </a:t>
            </a: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Електронна презентація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 (від англ. Р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sentation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представлення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   –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набір слайдів  певної тематики,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що зберігається у спеціальному файлі.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908000" y="476280"/>
          <a:ext cx="6480360" cy="41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>
                    <a:alphaModFix amt="46000"/>
                  </a:blip>
                  <a:stretch/>
                </p:blipFill>
                <p:spPr>
                  <a:xfrm>
                    <a:off x="1908000" y="476280"/>
                    <a:ext cx="6480360" cy="4130640"/>
                  </a:xfrm>
                  <a:prstGeom prst="rect">
                    <a:avLst/>
                  </a:prstGeom>
                  <a:ln w="936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2" name="Rectangle 4"/>
          <p:cNvSpPr/>
          <p:nvPr/>
        </p:nvSpPr>
        <p:spPr>
          <a:xfrm>
            <a:off x="1042920" y="478368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928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6699"/>
                </a:solidFill>
                <a:latin typeface="Times New Roman"/>
              </a:rPr>
              <a:t>Зверніть увагу, що після двокрапки  всі елементи списку пишуться з маленької букви!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6699"/>
                </a:solidFill>
                <a:latin typeface="Times New Roman"/>
              </a:rPr>
              <a:t>Якщо список починається зразу, то перший елемент записується з великої  букви, далі – маленькими.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ТЕКСТ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5. На схемах текст краще  форматувати  по центру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6. У таблицях – на  розсуд  автор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7. Звичайний текст пишеться без використання маркерів списку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8. Виділяйте головне у тексті іншим  кольором (бажано в єдиному стилі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ПРИКЛАДИ ШРИФТІВ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628640"/>
          <a:ext cx="8207280" cy="48261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120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е читаються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ручні для читання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Arial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Forte"/>
                          <a:ea typeface="Arial"/>
                        </a:rPr>
                        <a:t>Forte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Times New Roman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Bernard MT Condensed"/>
                          <a:ea typeface="Arial"/>
                        </a:rPr>
                        <a:t>Bernhard MT Condensed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Arial"/>
                          <a:ea typeface="Arial"/>
                        </a:rPr>
                        <a:t>Georgia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99"/>
                          </a:solidFill>
                          <a:latin typeface="Comic Sans MS"/>
                          <a:ea typeface="Arial"/>
                        </a:rPr>
                        <a:t>Comic Sans MS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РОЗМІРИ ШРИФТУ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628640"/>
          <a:ext cx="8207280" cy="4894560"/>
        </p:xfrm>
        <a:graphic>
          <a:graphicData uri="http://schemas.openxmlformats.org/drawingml/2006/table">
            <a:tbl>
              <a:tblPr/>
              <a:tblGrid>
                <a:gridCol w="3598920"/>
                <a:gridCol w="4608360"/>
              </a:tblGrid>
              <a:tr h="61308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ний розмір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гано читається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шрифту 14</a:t>
                      </a:r>
                      <a:endParaRPr b="0" lang="en-US" sz="1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шрифту 16</a:t>
                      </a: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4440"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ьний розмір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бре читається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шрифту 18</a:t>
                      </a:r>
                      <a:endParaRPr b="0" lang="en-US" sz="20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шрифту 20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шрифту 24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1272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для заголовків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 титулів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шрифту 28 (ж)</a:t>
                      </a:r>
                      <a:endParaRPr b="0" lang="en-US" sz="32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6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ір шрифту 32 (ж)</a:t>
                      </a:r>
                      <a:endParaRPr b="0" lang="en-US" sz="36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РОЗМІРИ ШРИФТІВ </a:t>
            </a:r>
            <a:br>
              <a:rPr sz="4400"/>
            </a:br>
            <a:r>
              <a:rPr b="1" lang="uk-UA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НА ВІДСТАНІ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341360"/>
          <a:ext cx="8207280" cy="546120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944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ємість на відстані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ований розмір шрифту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м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м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м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м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м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4640">
                <a:tc grid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озмір шрифту визначається дослідним шляхом, в залежності від розміру зображення на екрані.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Способи виділення інформації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Слід використовувати: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рамки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стрілки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рисунки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діаграми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схеми для ілюстрування найбільш важливих фактів.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ff"/>
                </a:solidFill>
                <a:latin typeface="Times New Roman"/>
              </a:rPr>
              <a:t>Об’єм інформації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Не варто перевантажувати слайд інформацією (одночасно запам’ятовується не більше 3-х фактів, висновків, визначень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Найбільша ефективність досягається тоді, коли ключові пункти відтворюються по одному на кожному окремому слайді.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Види слайдів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Щоб урізноманітнити способи подачі інформації, необхідно використовувати різні види слайдів: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з текстом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з таблицями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з діаграмами.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7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0" y="2322360"/>
          <a:ext cx="4643280" cy="2548080"/>
        </p:xfrm>
        <a:graphic>
          <a:graphicData uri="http://schemas.openxmlformats.org/drawingml/2006/table">
            <a:tbl>
              <a:tblPr/>
              <a:tblGrid>
                <a:gridCol w="625320"/>
                <a:gridCol w="1212840"/>
                <a:gridCol w="223920"/>
                <a:gridCol w="1228680"/>
                <a:gridCol w="214560"/>
                <a:gridCol w="1137960"/>
              </a:tblGrid>
              <a:tr h="38268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d Your 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d Your 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d Your 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3200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99ffcc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60000"/>
                      </a:srgbClr>
                    </a:solidFill>
                  </a:tcPr>
                </a:tc>
              </a:tr>
              <a:tr h="43308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73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99ffcc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0000"/>
                      </a:srgbClr>
                    </a:solidFill>
                  </a:tcPr>
                </a:tc>
              </a:tr>
              <a:tr h="43344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99ffcc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60000"/>
                      </a:srgbClr>
                    </a:solidFill>
                  </a:tcPr>
                </a:tc>
              </a:tr>
              <a:tr h="43344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>
                        <a:alpha val="8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99ffcc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0000"/>
                      </a:srgbClr>
                    </a:solidFill>
                  </a:tcPr>
                </a:tc>
              </a:tr>
              <a:tr h="43344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99ffcc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 text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Click to add</a:t>
                      </a:r>
                      <a:endParaRPr b="0" lang="en-US" sz="7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318280" y="1197000"/>
          <a:ext cx="3825720" cy="2484360"/>
        </p:xfrm>
        <a:graphic>
          <a:graphicData uri="http://schemas.openxmlformats.org/drawingml/2006/table">
            <a:tbl>
              <a:tblPr/>
              <a:tblGrid>
                <a:gridCol w="672840"/>
                <a:gridCol w="746280"/>
                <a:gridCol w="631800"/>
                <a:gridCol w="631800"/>
                <a:gridCol w="633240"/>
                <a:gridCol w="509760"/>
              </a:tblGrid>
              <a:tr h="2523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3729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  A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5e76"/>
                        </a:gs>
                        <a:gs pos="50000">
                          <a:srgbClr val="66ccff"/>
                        </a:gs>
                        <a:gs pos="100000">
                          <a:srgbClr val="2f5e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38592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  B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5e76"/>
                        </a:gs>
                        <a:gs pos="50000">
                          <a:srgbClr val="66ccff"/>
                        </a:gs>
                        <a:gs pos="100000">
                          <a:srgbClr val="2f5e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3729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  C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5e76"/>
                        </a:gs>
                        <a:gs pos="50000">
                          <a:srgbClr val="66ccff"/>
                        </a:gs>
                        <a:gs pos="100000">
                          <a:srgbClr val="2f5e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35244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  D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5e76"/>
                        </a:gs>
                        <a:gs pos="50000">
                          <a:srgbClr val="66ccff"/>
                        </a:gs>
                        <a:gs pos="100000">
                          <a:srgbClr val="2f5e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3747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  E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5e76"/>
                        </a:gs>
                        <a:gs pos="50000">
                          <a:srgbClr val="66ccff"/>
                        </a:gs>
                        <a:gs pos="100000">
                          <a:srgbClr val="2f5e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3729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itle  F</a:t>
                      </a:r>
                      <a:endParaRPr b="0" lang="en-US" sz="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2f5e76"/>
                        </a:gs>
                        <a:gs pos="50000">
                          <a:srgbClr val="66ccff"/>
                        </a:gs>
                        <a:gs pos="100000">
                          <a:srgbClr val="2f5e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788000" y="4437000"/>
          <a:ext cx="4356000" cy="1903320"/>
        </p:xfrm>
        <a:graphic>
          <a:graphicData uri="http://schemas.openxmlformats.org/drawingml/2006/table">
            <a:tbl>
              <a:tblPr/>
              <a:tblGrid>
                <a:gridCol w="981000"/>
                <a:gridCol w="687240"/>
                <a:gridCol w="671760"/>
                <a:gridCol w="671400"/>
                <a:gridCol w="674640"/>
                <a:gridCol w="669960"/>
              </a:tblGrid>
              <a:tr h="22032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>
                      <a:noFill/>
                    </a:lnL>
                    <a:lnR w="5760">
                      <a:solidFill>
                        <a:srgbClr val="336699"/>
                      </a:solidFill>
                    </a:lnR>
                    <a:lnT>
                      <a:noFill/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811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2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2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</a:tr>
              <a:tr h="2811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48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48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48000"/>
                      </a:srgbClr>
                    </a:solidFill>
                  </a:tcPr>
                </a:tc>
              </a:tr>
              <a:tr h="2811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2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2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</a:tr>
              <a:tr h="2811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48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48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48000"/>
                      </a:srgbClr>
                    </a:solidFill>
                  </a:tcPr>
                </a:tc>
              </a:tr>
              <a:tr h="2811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2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82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80000"/>
                      </a:srgbClr>
                    </a:solidFill>
                  </a:tcPr>
                </a:tc>
              </a:tr>
              <a:tr h="28116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185"/>
          <p:cNvSpPr/>
          <p:nvPr/>
        </p:nvSpPr>
        <p:spPr>
          <a:xfrm>
            <a:off x="225360" y="1216080"/>
            <a:ext cx="6516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uk-UA" sz="5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ТАБЛИЦІ:</a:t>
            </a:r>
            <a:endParaRPr b="0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5157720"/>
          <a:ext cx="3924360" cy="1366920"/>
        </p:xfrm>
        <a:graphic>
          <a:graphicData uri="http://schemas.openxmlformats.org/drawingml/2006/table">
            <a:tbl>
              <a:tblPr/>
              <a:tblGrid>
                <a:gridCol w="979560"/>
                <a:gridCol w="982440"/>
                <a:gridCol w="982800"/>
                <a:gridCol w="979560"/>
              </a:tblGrid>
              <a:tr h="295200">
                <a:tc rowSpan="2"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66ff"/>
                    </a:solidFill>
                  </a:tcPr>
                </a:tc>
                <a:tc gridSpan="2"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8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d 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66ff">
                        <a:alpha val="33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37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37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d 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66ff">
                        <a:alpha val="33000"/>
                      </a:srgbClr>
                    </a:solidFill>
                  </a:tcPr>
                </a:tc>
              </a:tr>
              <a:tr h="29520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d 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66ff">
                        <a:alpha val="33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37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66ccff">
                        <a:alpha val="37000"/>
                      </a:srgbClr>
                    </a:solidFill>
                  </a:tcPr>
                </a:tc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dd Text</a:t>
                      </a:r>
                      <a:endParaRPr b="0" lang="en-US" sz="9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66ff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500" spc="-1" strike="noStrike">
                <a:solidFill>
                  <a:srgbClr val="333399"/>
                </a:solidFill>
                <a:latin typeface="Arial"/>
              </a:rPr>
              <a:t>ДІАГРАМИ:</a:t>
            </a:r>
            <a:endParaRPr b="1" lang="en-US" sz="55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5796720" y="599760"/>
            <a:ext cx="3407760" cy="2729880"/>
            <a:chOff x="5796720" y="599760"/>
            <a:chExt cx="3407760" cy="2729880"/>
          </a:xfrm>
        </p:grpSpPr>
        <p:sp>
          <p:nvSpPr>
            <p:cNvPr id="165" name="Oval 5"/>
            <p:cNvSpPr/>
            <p:nvPr/>
          </p:nvSpPr>
          <p:spPr>
            <a:xfrm>
              <a:off x="6369840" y="2390040"/>
              <a:ext cx="2773800" cy="83376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6" name="Oval 6"/>
            <p:cNvSpPr/>
            <p:nvPr/>
          </p:nvSpPr>
          <p:spPr>
            <a:xfrm rot="20601600">
              <a:off x="6008040" y="1059840"/>
              <a:ext cx="2873520" cy="189792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7" name="Oval 7"/>
            <p:cNvSpPr/>
            <p:nvPr/>
          </p:nvSpPr>
          <p:spPr>
            <a:xfrm rot="20601600">
              <a:off x="6036480" y="957960"/>
              <a:ext cx="2773800" cy="18388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8" name="Arc 8"/>
            <p:cNvSpPr/>
            <p:nvPr/>
          </p:nvSpPr>
          <p:spPr>
            <a:xfrm rot="20601600">
              <a:off x="7357320" y="1007280"/>
              <a:ext cx="1421640" cy="96804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9" name="Arc 9"/>
            <p:cNvSpPr/>
            <p:nvPr/>
          </p:nvSpPr>
          <p:spPr>
            <a:xfrm flipH="1" rot="20602200">
              <a:off x="6063480" y="1833120"/>
              <a:ext cx="1434240" cy="10256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0" name="Arc 10"/>
            <p:cNvSpPr/>
            <p:nvPr/>
          </p:nvSpPr>
          <p:spPr>
            <a:xfrm rot="20601600">
              <a:off x="6980400" y="836640"/>
              <a:ext cx="1402560" cy="8920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1" name="Arc 11"/>
            <p:cNvSpPr/>
            <p:nvPr/>
          </p:nvSpPr>
          <p:spPr>
            <a:xfrm flipH="1" rot="20602200">
              <a:off x="5963040" y="1247040"/>
              <a:ext cx="1377360" cy="86868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2" name="Oval 12"/>
            <p:cNvSpPr/>
            <p:nvPr/>
          </p:nvSpPr>
          <p:spPr>
            <a:xfrm rot="20601600">
              <a:off x="6765120" y="1407960"/>
              <a:ext cx="1344240" cy="843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6270840" y="1547640"/>
              <a:ext cx="688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7221600" y="973440"/>
              <a:ext cx="688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8056800" y="1260000"/>
              <a:ext cx="688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8421840" y="1595880"/>
              <a:ext cx="645840" cy="107676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7" name="Arc 17"/>
            <p:cNvSpPr/>
            <p:nvPr/>
          </p:nvSpPr>
          <p:spPr>
            <a:xfrm rot="20539200">
              <a:off x="7622640" y="1599120"/>
              <a:ext cx="1488240" cy="84708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7574040" y="1898280"/>
              <a:ext cx="876960" cy="77796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8056800" y="1882440"/>
              <a:ext cx="688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7183800" y="2364120"/>
              <a:ext cx="688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1" name="Text Box 21"/>
            <p:cNvSpPr/>
            <p:nvPr/>
          </p:nvSpPr>
          <p:spPr>
            <a:xfrm>
              <a:off x="6234120" y="2266920"/>
              <a:ext cx="68832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Oval 22"/>
            <p:cNvSpPr/>
            <p:nvPr/>
          </p:nvSpPr>
          <p:spPr>
            <a:xfrm rot="20601600">
              <a:off x="6816600" y="1566360"/>
              <a:ext cx="1288440" cy="685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7661880" y="2147040"/>
              <a:ext cx="639360" cy="6469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290520" y="2736720"/>
            <a:ext cx="6108840" cy="3620880"/>
            <a:chOff x="290520" y="2736720"/>
            <a:chExt cx="6108840" cy="3620880"/>
          </a:xfrm>
        </p:grpSpPr>
        <p:sp>
          <p:nvSpPr>
            <p:cNvPr id="185" name="AutoShape 25"/>
            <p:cNvSpPr/>
            <p:nvPr/>
          </p:nvSpPr>
          <p:spPr>
            <a:xfrm>
              <a:off x="290520" y="2903760"/>
              <a:ext cx="2998800" cy="3453840"/>
            </a:xfrm>
            <a:custGeom>
              <a:avLst/>
              <a:gdLst>
                <a:gd name="textAreaLeft" fmla="*/ 79920 w 2998800"/>
                <a:gd name="textAreaRight" fmla="*/ 2918880 w 2998800"/>
                <a:gd name="textAreaTop" fmla="*/ 79920 h 3453840"/>
                <a:gd name="textAreaBottom" fmla="*/ 3373920 h 3453840"/>
              </a:gdLst>
              <a:ahLst/>
              <a:rect l="textAreaLeft" t="textAreaTop" r="textAreaRight" b="textAreaBottom"/>
              <a:pathLst>
                <a:path w="21600" h="24877">
                  <a:moveTo>
                    <a:pt x="1967" y="0"/>
                  </a:moveTo>
                  <a:arcTo wR="1967" hR="1967" stAng="16200000" swAng="-5400000"/>
                  <a:lnTo>
                    <a:pt x="0" y="22910"/>
                  </a:lnTo>
                  <a:arcTo wR="1967" hR="1967" stAng="10800000" swAng="-5400000"/>
                  <a:lnTo>
                    <a:pt x="19633" y="2487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3ff"/>
                </a:gs>
              </a:gsLst>
              <a:lin ang="5400000"/>
            </a:gra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aphicFrame>
          <p:nvGraphicFramePr>
            <p:cNvPr id="186" name="Object 26"/>
            <p:cNvGraphicFramePr/>
            <p:nvPr/>
          </p:nvGraphicFramePr>
          <p:xfrm>
            <a:off x="456840" y="3293640"/>
            <a:ext cx="2638080" cy="296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6840" y="3293640"/>
                      <a:ext cx="2638080" cy="29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AutoShape 27"/>
            <p:cNvSpPr/>
            <p:nvPr/>
          </p:nvSpPr>
          <p:spPr>
            <a:xfrm>
              <a:off x="568080" y="2736720"/>
              <a:ext cx="2443320" cy="335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4776"/>
                </a:gs>
                <a:gs pos="50000">
                  <a:srgbClr val="ff99ff"/>
                </a:gs>
                <a:gs pos="100000">
                  <a:srgbClr val="76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AutoShape 28"/>
            <p:cNvSpPr/>
            <p:nvPr/>
          </p:nvSpPr>
          <p:spPr>
            <a:xfrm>
              <a:off x="679320" y="2847960"/>
              <a:ext cx="110880" cy="1116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AutoShape 29"/>
            <p:cNvSpPr/>
            <p:nvPr/>
          </p:nvSpPr>
          <p:spPr>
            <a:xfrm>
              <a:off x="2789280" y="2847960"/>
              <a:ext cx="111240" cy="1116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AutoShape 30"/>
            <p:cNvSpPr/>
            <p:nvPr/>
          </p:nvSpPr>
          <p:spPr>
            <a:xfrm>
              <a:off x="3400560" y="2903760"/>
              <a:ext cx="2998800" cy="3453840"/>
            </a:xfrm>
            <a:custGeom>
              <a:avLst/>
              <a:gdLst>
                <a:gd name="textAreaLeft" fmla="*/ 79920 w 2998800"/>
                <a:gd name="textAreaRight" fmla="*/ 2918880 w 2998800"/>
                <a:gd name="textAreaTop" fmla="*/ 79920 h 3453840"/>
                <a:gd name="textAreaBottom" fmla="*/ 3373920 h 3453840"/>
              </a:gdLst>
              <a:ahLst/>
              <a:rect l="textAreaLeft" t="textAreaTop" r="textAreaRight" b="textAreaBottom"/>
              <a:pathLst>
                <a:path w="21600" h="24877">
                  <a:moveTo>
                    <a:pt x="1967" y="0"/>
                  </a:moveTo>
                  <a:arcTo wR="1967" hR="1967" stAng="16200000" swAng="-5400000"/>
                  <a:lnTo>
                    <a:pt x="0" y="22910"/>
                  </a:lnTo>
                  <a:arcTo wR="1967" hR="1967" stAng="10800000" swAng="-5400000"/>
                  <a:lnTo>
                    <a:pt x="19633" y="2487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d5f1ff"/>
                </a:gs>
              </a:gsLst>
              <a:lin ang="5400000"/>
            </a:gradFill>
            <a:ln w="255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aphicFrame>
          <p:nvGraphicFramePr>
            <p:cNvPr id="192" name="Object 31"/>
            <p:cNvGraphicFramePr/>
            <p:nvPr/>
          </p:nvGraphicFramePr>
          <p:xfrm>
            <a:off x="3566880" y="3293640"/>
            <a:ext cx="2637720" cy="296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" name="Object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6880" y="3293640"/>
                      <a:ext cx="2637720" cy="29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AutoShape 32"/>
            <p:cNvSpPr/>
            <p:nvPr/>
          </p:nvSpPr>
          <p:spPr>
            <a:xfrm>
              <a:off x="3678120" y="2736720"/>
              <a:ext cx="2443320" cy="335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5e76"/>
                </a:gs>
                <a:gs pos="50000">
                  <a:srgbClr val="66ccff"/>
                </a:gs>
                <a:gs pos="100000">
                  <a:srgbClr val="2f5e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5" name="AutoShape 33"/>
            <p:cNvSpPr/>
            <p:nvPr/>
          </p:nvSpPr>
          <p:spPr>
            <a:xfrm>
              <a:off x="3789000" y="2847960"/>
              <a:ext cx="111240" cy="1116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AutoShape 34"/>
            <p:cNvSpPr/>
            <p:nvPr/>
          </p:nvSpPr>
          <p:spPr>
            <a:xfrm>
              <a:off x="5899320" y="2847960"/>
              <a:ext cx="110880" cy="1116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197" name="Group 35"/>
          <p:cNvGrpSpPr/>
          <p:nvPr/>
        </p:nvGrpSpPr>
        <p:grpSpPr>
          <a:xfrm>
            <a:off x="7881840" y="3754440"/>
            <a:ext cx="582840" cy="388800"/>
            <a:chOff x="7881840" y="3754440"/>
            <a:chExt cx="582840" cy="388800"/>
          </a:xfrm>
        </p:grpSpPr>
        <p:sp>
          <p:nvSpPr>
            <p:cNvPr id="198" name="Freeform 36"/>
            <p:cNvSpPr/>
            <p:nvPr/>
          </p:nvSpPr>
          <p:spPr>
            <a:xfrm>
              <a:off x="8142480" y="3754440"/>
              <a:ext cx="322200" cy="38880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9" name="Freeform 37"/>
            <p:cNvSpPr/>
            <p:nvPr/>
          </p:nvSpPr>
          <p:spPr>
            <a:xfrm>
              <a:off x="7881840" y="3754440"/>
              <a:ext cx="522000" cy="38880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00" name="Group 38"/>
          <p:cNvGrpSpPr/>
          <p:nvPr/>
        </p:nvGrpSpPr>
        <p:grpSpPr>
          <a:xfrm>
            <a:off x="7621560" y="4143240"/>
            <a:ext cx="1038240" cy="520920"/>
            <a:chOff x="7621560" y="4143240"/>
            <a:chExt cx="1038240" cy="520920"/>
          </a:xfrm>
        </p:grpSpPr>
        <p:sp>
          <p:nvSpPr>
            <p:cNvPr id="201" name="Freeform 39"/>
            <p:cNvSpPr/>
            <p:nvPr/>
          </p:nvSpPr>
          <p:spPr>
            <a:xfrm>
              <a:off x="8342280" y="4143240"/>
              <a:ext cx="317520" cy="52092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2" name="Freeform 40"/>
            <p:cNvSpPr/>
            <p:nvPr/>
          </p:nvSpPr>
          <p:spPr>
            <a:xfrm>
              <a:off x="7840080" y="4143240"/>
              <a:ext cx="555840" cy="781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3" name="Freeform 41"/>
            <p:cNvSpPr/>
            <p:nvPr/>
          </p:nvSpPr>
          <p:spPr>
            <a:xfrm>
              <a:off x="7621560" y="4220280"/>
              <a:ext cx="938880" cy="44352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04" name="Group 42"/>
          <p:cNvGrpSpPr/>
          <p:nvPr/>
        </p:nvGrpSpPr>
        <p:grpSpPr>
          <a:xfrm>
            <a:off x="7102440" y="5121360"/>
            <a:ext cx="1945800" cy="716040"/>
            <a:chOff x="7102440" y="5121360"/>
            <a:chExt cx="1945800" cy="716040"/>
          </a:xfrm>
        </p:grpSpPr>
        <p:sp>
          <p:nvSpPr>
            <p:cNvPr id="205" name="Freeform 43"/>
            <p:cNvSpPr/>
            <p:nvPr/>
          </p:nvSpPr>
          <p:spPr>
            <a:xfrm>
              <a:off x="8705160" y="5121360"/>
              <a:ext cx="343080" cy="7149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6" name="Freeform 44"/>
            <p:cNvSpPr/>
            <p:nvPr/>
          </p:nvSpPr>
          <p:spPr>
            <a:xfrm>
              <a:off x="7257960" y="5121360"/>
              <a:ext cx="1599480" cy="304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7" name="Freeform 45"/>
            <p:cNvSpPr/>
            <p:nvPr/>
          </p:nvSpPr>
          <p:spPr>
            <a:xfrm>
              <a:off x="7102440" y="5424480"/>
              <a:ext cx="1765440" cy="41292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208" name="Group 46"/>
          <p:cNvGrpSpPr/>
          <p:nvPr/>
        </p:nvGrpSpPr>
        <p:grpSpPr>
          <a:xfrm>
            <a:off x="7362720" y="4638600"/>
            <a:ext cx="1490400" cy="546120"/>
            <a:chOff x="7362720" y="4638600"/>
            <a:chExt cx="1490400" cy="546120"/>
          </a:xfrm>
        </p:grpSpPr>
        <p:sp>
          <p:nvSpPr>
            <p:cNvPr id="209" name="Freeform 47"/>
            <p:cNvSpPr/>
            <p:nvPr/>
          </p:nvSpPr>
          <p:spPr>
            <a:xfrm>
              <a:off x="8560080" y="4638600"/>
              <a:ext cx="293040" cy="54612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0" name="Freeform 48"/>
            <p:cNvSpPr/>
            <p:nvPr/>
          </p:nvSpPr>
          <p:spPr>
            <a:xfrm>
              <a:off x="7509600" y="4638600"/>
              <a:ext cx="1161720" cy="1922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1" name="Freeform 49"/>
            <p:cNvSpPr/>
            <p:nvPr/>
          </p:nvSpPr>
          <p:spPr>
            <a:xfrm>
              <a:off x="7362720" y="4830120"/>
              <a:ext cx="1348920" cy="3546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12" name="Rectangle 50"/>
          <p:cNvSpPr/>
          <p:nvPr/>
        </p:nvSpPr>
        <p:spPr>
          <a:xfrm>
            <a:off x="7533360" y="5357880"/>
            <a:ext cx="7401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Rectangle 51"/>
          <p:cNvSpPr/>
          <p:nvPr/>
        </p:nvSpPr>
        <p:spPr>
          <a:xfrm>
            <a:off x="7690680" y="4795920"/>
            <a:ext cx="531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4" name="Rectangle 52"/>
          <p:cNvSpPr/>
          <p:nvPr/>
        </p:nvSpPr>
        <p:spPr>
          <a:xfrm>
            <a:off x="7835760" y="4299120"/>
            <a:ext cx="504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300" spc="-1" strike="noStrike">
                <a:solidFill>
                  <a:srgbClr val="336699"/>
                </a:solidFill>
                <a:latin typeface="Arial"/>
              </a:rPr>
              <a:t>Text</a:t>
            </a:r>
            <a:endParaRPr b="0" lang="en-US" sz="1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Rectangle 53"/>
          <p:cNvSpPr/>
          <p:nvPr/>
        </p:nvSpPr>
        <p:spPr>
          <a:xfrm>
            <a:off x="7877520" y="3830760"/>
            <a:ext cx="4536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Text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16" name="Group 54"/>
          <p:cNvGrpSpPr/>
          <p:nvPr/>
        </p:nvGrpSpPr>
        <p:grpSpPr>
          <a:xfrm>
            <a:off x="2340000" y="91080"/>
            <a:ext cx="2972520" cy="1773360"/>
            <a:chOff x="2340000" y="91080"/>
            <a:chExt cx="2972520" cy="1773360"/>
          </a:xfrm>
        </p:grpSpPr>
        <p:sp>
          <p:nvSpPr>
            <p:cNvPr id="217" name="Freeform 55"/>
            <p:cNvSpPr/>
            <p:nvPr/>
          </p:nvSpPr>
          <p:spPr>
            <a:xfrm rot="20241600">
              <a:off x="2595600" y="533160"/>
              <a:ext cx="2475360" cy="8888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7e9f1">
                    <a:alpha val="36078"/>
                  </a:srgbClr>
                </a:gs>
                <a:gs pos="100000">
                  <a:srgbClr val="afb5d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8" name="Oval 56"/>
            <p:cNvSpPr/>
            <p:nvPr/>
          </p:nvSpPr>
          <p:spPr>
            <a:xfrm rot="20056200">
              <a:off x="3793680" y="511560"/>
              <a:ext cx="433080" cy="1116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9" name="Oval 57"/>
            <p:cNvSpPr/>
            <p:nvPr/>
          </p:nvSpPr>
          <p:spPr>
            <a:xfrm rot="20056200">
              <a:off x="4876560" y="567360"/>
              <a:ext cx="433080" cy="1116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0" name="Oval 58"/>
            <p:cNvSpPr/>
            <p:nvPr/>
          </p:nvSpPr>
          <p:spPr>
            <a:xfrm rot="20056200">
              <a:off x="3205800" y="1518120"/>
              <a:ext cx="433080" cy="1116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1" name="Oval 59"/>
            <p:cNvSpPr/>
            <p:nvPr/>
          </p:nvSpPr>
          <p:spPr>
            <a:xfrm rot="20056200">
              <a:off x="4258080" y="1294560"/>
              <a:ext cx="433080" cy="1116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2" name="Oval 60"/>
            <p:cNvSpPr/>
            <p:nvPr/>
          </p:nvSpPr>
          <p:spPr>
            <a:xfrm rot="20056200">
              <a:off x="2896560" y="986760"/>
              <a:ext cx="433080" cy="1116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3" name="Oval 61"/>
            <p:cNvSpPr/>
            <p:nvPr/>
          </p:nvSpPr>
          <p:spPr>
            <a:xfrm>
              <a:off x="3581280" y="260280"/>
              <a:ext cx="465120" cy="40464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58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4" name="Oval 62"/>
            <p:cNvSpPr/>
            <p:nvPr/>
          </p:nvSpPr>
          <p:spPr>
            <a:xfrm>
              <a:off x="2675160" y="744120"/>
              <a:ext cx="463320" cy="4032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04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5" name="Oval 63"/>
            <p:cNvSpPr/>
            <p:nvPr/>
          </p:nvSpPr>
          <p:spPr>
            <a:xfrm>
              <a:off x="2991960" y="1282680"/>
              <a:ext cx="463320" cy="40320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375b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6" name="Oval 64"/>
            <p:cNvSpPr/>
            <p:nvPr/>
          </p:nvSpPr>
          <p:spPr>
            <a:xfrm>
              <a:off x="3996000" y="1082880"/>
              <a:ext cx="463320" cy="402840"/>
            </a:xfrm>
            <a:prstGeom prst="ellips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3e4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7" name="Oval 65"/>
            <p:cNvSpPr/>
            <p:nvPr/>
          </p:nvSpPr>
          <p:spPr>
            <a:xfrm>
              <a:off x="4654800" y="333000"/>
              <a:ext cx="439560" cy="4046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4646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8" name="Text Box 66"/>
            <p:cNvSpPr/>
            <p:nvPr/>
          </p:nvSpPr>
          <p:spPr>
            <a:xfrm>
              <a:off x="2776680" y="956880"/>
              <a:ext cx="470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1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9" name="Text Box 67"/>
            <p:cNvSpPr/>
            <p:nvPr/>
          </p:nvSpPr>
          <p:spPr>
            <a:xfrm>
              <a:off x="3711600" y="474480"/>
              <a:ext cx="470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1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0" name="Text Box 68"/>
            <p:cNvSpPr/>
            <p:nvPr/>
          </p:nvSpPr>
          <p:spPr>
            <a:xfrm>
              <a:off x="4772520" y="561960"/>
              <a:ext cx="470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1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1" name="Text Box 69"/>
            <p:cNvSpPr/>
            <p:nvPr/>
          </p:nvSpPr>
          <p:spPr>
            <a:xfrm>
              <a:off x="4106160" y="1226160"/>
              <a:ext cx="674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1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2" name="Text Box 70"/>
            <p:cNvSpPr/>
            <p:nvPr/>
          </p:nvSpPr>
          <p:spPr>
            <a:xfrm>
              <a:off x="3105360" y="1494000"/>
              <a:ext cx="470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100" spc="-1" strike="noStrike">
                  <a:solidFill>
                    <a:srgbClr val="ccccff"/>
                  </a:solidFill>
                  <a:latin typeface="Verdana"/>
                </a:rPr>
                <a:t>Text</a:t>
              </a:r>
              <a:endParaRPr b="0" lang="en-US" sz="11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3" name="Text Box 71"/>
            <p:cNvSpPr/>
            <p:nvPr/>
          </p:nvSpPr>
          <p:spPr>
            <a:xfrm>
              <a:off x="3422880" y="847440"/>
              <a:ext cx="9363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4" name="Line 72"/>
            <p:cNvSpPr/>
            <p:nvPr/>
          </p:nvSpPr>
          <p:spPr>
            <a:xfrm>
              <a:off x="3087000" y="405000"/>
              <a:ext cx="660600" cy="4590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cxnSp>
          <p:nvCxnSpPr>
            <p:cNvPr id="235" name="AutoShape 73"/>
            <p:cNvCxnSpPr/>
            <p:nvPr/>
          </p:nvCxnSpPr>
          <p:spPr>
            <a:xfrm flipH="1">
              <a:off x="2390400" y="404640"/>
              <a:ext cx="701280" cy="1080"/>
            </a:xfrm>
            <a:prstGeom prst="straightConnector1">
              <a:avLst/>
            </a:prstGeom>
            <a:ln w="9360">
              <a:solidFill>
                <a:srgbClr val="336699"/>
              </a:solidFill>
              <a:miter/>
            </a:ln>
          </p:spPr>
        </p:cxnSp>
        <p:sp>
          <p:nvSpPr>
            <p:cNvPr id="236" name="Text Box 74"/>
            <p:cNvSpPr/>
            <p:nvPr/>
          </p:nvSpPr>
          <p:spPr>
            <a:xfrm>
              <a:off x="2340000" y="260280"/>
              <a:ext cx="834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Навіщо створюють презентації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67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333399"/>
                </a:solidFill>
                <a:latin typeface="Arial"/>
              </a:rPr>
              <a:t>ПРЕЗЕНТАЦІЯ допомагає вчителю унаочнити викладання нового матеріалу, систематизувати вивчене та оптимізувати процес визначення рівня навчальних досягнень учнів. </a:t>
            </a:r>
            <a:endParaRPr b="1" lang="en-US" sz="29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333399"/>
                </a:solidFill>
                <a:latin typeface="Arial"/>
              </a:rPr>
              <a:t>Застосування мультимедійних презентацій учителем урізноманітнює навчальний процес, підвищує продуктивність навчальної роботи, дає можливість ураховувати особливості конкретного класу й кожного окремого учня. </a:t>
            </a:r>
            <a:endParaRPr b="1" lang="en-US" sz="29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333399"/>
                </a:solidFill>
                <a:latin typeface="Arial"/>
              </a:rPr>
              <a:t>Школярі  створюють презентації для захисту досліджень МАН, звіту про виконання навчальних проектів тощо.</a:t>
            </a:r>
            <a:endParaRPr b="1" lang="en-US" sz="29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371600" y="90792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500" spc="-1" strike="noStrike">
                <a:solidFill>
                  <a:srgbClr val="333399"/>
                </a:solidFill>
                <a:latin typeface="Arial"/>
              </a:rPr>
              <a:t>МАЛЮНКИ:</a:t>
            </a:r>
            <a:endParaRPr b="1" lang="en-US" sz="5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711360" y="3476520"/>
            <a:ext cx="8432640" cy="338148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39" name="Picture 5" descr="weatherwoman_with_backdrop"/>
          <p:cNvPicPr/>
          <p:nvPr/>
        </p:nvPicPr>
        <p:blipFill>
          <a:blip r:embed="rId1"/>
          <a:stretch/>
        </p:blipFill>
        <p:spPr>
          <a:xfrm>
            <a:off x="468360" y="1844640"/>
            <a:ext cx="4800600" cy="426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an"/>
          <p:cNvPicPr/>
          <p:nvPr/>
        </p:nvPicPr>
        <p:blipFill>
          <a:blip r:embed="rId2"/>
          <a:stretch/>
        </p:blipFill>
        <p:spPr>
          <a:xfrm>
            <a:off x="5364000" y="260280"/>
            <a:ext cx="1751040" cy="227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woman"/>
          <p:cNvPicPr/>
          <p:nvPr/>
        </p:nvPicPr>
        <p:blipFill>
          <a:blip r:embed="rId3"/>
          <a:stretch/>
        </p:blipFill>
        <p:spPr>
          <a:xfrm>
            <a:off x="7164360" y="260280"/>
            <a:ext cx="14065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00000" y="167652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333399"/>
                </a:solidFill>
                <a:latin typeface="Arial"/>
              </a:rPr>
              <a:t>ФОТОГРАФІЇ:</a:t>
            </a:r>
            <a:endParaRPr b="1" lang="en-US" sz="5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3" name="Picture 6" descr="DSCN1198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887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DSCN1206"/>
          <p:cNvPicPr/>
          <p:nvPr/>
        </p:nvPicPr>
        <p:blipFill>
          <a:blip r:embed="rId2"/>
          <a:stretch/>
        </p:blipFill>
        <p:spPr>
          <a:xfrm>
            <a:off x="3635280" y="2421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DSCN1167"/>
          <p:cNvPicPr/>
          <p:nvPr/>
        </p:nvPicPr>
        <p:blipFill>
          <a:blip r:embed="rId3"/>
          <a:stretch/>
        </p:blipFill>
        <p:spPr>
          <a:xfrm>
            <a:off x="468360" y="394164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1087560"/>
            <a:ext cx="885672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500" spc="-1" strike="noStrike">
                <a:solidFill>
                  <a:srgbClr val="000066"/>
                </a:solidFill>
                <a:latin typeface="Arial"/>
              </a:rPr>
              <a:t>ЕЛЕМЕНТИ АНІМАЦІЇ:</a:t>
            </a:r>
            <a:endParaRPr b="1" lang="en-US" sz="5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20840" y="2322360"/>
            <a:ext cx="7978680" cy="35132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48" name="Picture 5" descr="business_man_dropped_papers_hg_clr"/>
          <p:cNvPicPr/>
          <p:nvPr/>
        </p:nvPicPr>
        <p:blipFill>
          <a:blip r:embed="rId1"/>
          <a:stretch/>
        </p:blipFill>
        <p:spPr>
          <a:xfrm>
            <a:off x="1978200" y="2452680"/>
            <a:ext cx="2950920" cy="3643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business_man_running_waving_paper_hg_clr"/>
          <p:cNvPicPr/>
          <p:nvPr/>
        </p:nvPicPr>
        <p:blipFill>
          <a:blip r:embed="rId2"/>
          <a:stretch/>
        </p:blipFill>
        <p:spPr>
          <a:xfrm>
            <a:off x="4830840" y="2387520"/>
            <a:ext cx="1006560" cy="1544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business_man_running_papers_hg_clr"/>
          <p:cNvPicPr/>
          <p:nvPr/>
        </p:nvPicPr>
        <p:blipFill>
          <a:blip r:embed="rId3"/>
          <a:stretch/>
        </p:blipFill>
        <p:spPr>
          <a:xfrm>
            <a:off x="550800" y="4470480"/>
            <a:ext cx="897120" cy="1542960"/>
          </a:xfrm>
          <a:prstGeom prst="rect">
            <a:avLst/>
          </a:prstGeom>
          <a:ln w="0">
            <a:noFill/>
          </a:ln>
        </p:spPr>
      </p:pic>
      <p:sp>
        <p:nvSpPr>
          <p:cNvPr id="251" name="Oval 8"/>
          <p:cNvSpPr/>
          <p:nvPr/>
        </p:nvSpPr>
        <p:spPr>
          <a:xfrm>
            <a:off x="6713640" y="1998720"/>
            <a:ext cx="1881000" cy="1886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Список літератури формується у наступному порядку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0160" y="2205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1. Спочатку вказуються прізвища (в алфавітному порядку) та ініціали або назва збірки чи підручни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2. Вказується назва джерела (без лапок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3. Ставиться тире та вказується місце виданн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4. Через двокрапку вказується видавництво (без лапок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5. Після коми  ставиться рік виданн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6600"/>
                </a:solidFill>
                <a:latin typeface="Times New Roman"/>
              </a:rPr>
              <a:t>Ворожейкіна О.М.  100 цікавих ідей для проведення уроку. – Х.: ВГ “Основа”, 2011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Інтернет-ресурси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Вказується повна адреса у вигляді гиперпосилання, наприклад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258" name="Object 5"/>
          <p:cNvGraphicFramePr/>
          <p:nvPr/>
        </p:nvGraphicFramePr>
        <p:xfrm>
          <a:off x="2484360" y="2852640"/>
          <a:ext cx="45720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85264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Times New Roman"/>
              </a:rPr>
              <a:t>ДОДАТКОВІ ВИМОГИ ДО ЗМІСТУ ПРЕЗЕНТАЦІЇ</a:t>
            </a:r>
            <a:br>
              <a:rPr sz="3200"/>
            </a:br>
            <a:r>
              <a:rPr b="1" lang="uk-UA" sz="3200" spc="-1" strike="noStrike">
                <a:solidFill>
                  <a:srgbClr val="0066ff"/>
                </a:solidFill>
                <a:latin typeface="Times New Roman"/>
              </a:rPr>
              <a:t>(ЗА Д.ЛЬЮЇСОМ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Кожен слайд має відображати одну думк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Текст має складатися з коротких слів та простих речен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Рядок має містити 6—8 слі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Всього на слайді має бути 6—8 рядкі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Загальна кількість слів не повинна перевищувати 50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Дієслова мають бути в одній часовій формі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5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Times New Roman"/>
              </a:rPr>
              <a:t>ДОДАТКОВІ ВИМОГИ ДО ЗМІСТУ ПРЕЗЕНТАЦІЇ</a:t>
            </a:r>
            <a:br>
              <a:rPr sz="3200"/>
            </a:br>
            <a:r>
              <a:rPr b="1" lang="uk-UA" sz="3200" spc="-1" strike="noStrike">
                <a:solidFill>
                  <a:srgbClr val="0066ff"/>
                </a:solidFill>
                <a:latin typeface="Times New Roman"/>
              </a:rPr>
              <a:t>(ЗА Д.ЛЬЮЇСОМ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Заголовки мають привертати увагу аудиторії та узагальнювати основні положення слайд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У заголовках мають бути і великі, і малі літер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Слайди мають бути не надто яскравими – зайві прикраси лише створюють бар'єр на шляху ефективної передачі інформації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5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ff"/>
                </a:solidFill>
                <a:latin typeface="Times New Roman"/>
              </a:rPr>
              <a:t>ДОДАТКОВІ ВИМОГИ ДО ЗМІСТУ ПРЕЗЕНТАЦІЇ</a:t>
            </a:r>
            <a:br>
              <a:rPr sz="3200"/>
            </a:br>
            <a:r>
              <a:rPr b="1" lang="uk-UA" sz="3200" spc="-1" strike="noStrike">
                <a:solidFill>
                  <a:srgbClr val="0066ff"/>
                </a:solidFill>
                <a:latin typeface="Times New Roman"/>
              </a:rPr>
              <a:t>(ЗА Д.ЛЬЮЇСОМ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Кількість блоків інформації під час відображення статистичних даних на одному слайді має бути не більше чотирьох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Підписи до ілюстрації розміщуються під нею, а не над нею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Arial"/>
              </a:rPr>
              <a:t>Усі слайди презентації мають бути витримані в одному стилі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550800" y="2127240"/>
            <a:ext cx="8042400" cy="18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76074"/>
                    </a:gs>
                    <a:gs pos="50000">
                      <a:srgbClr val="bbd0fb"/>
                    </a:gs>
                    <a:gs pos="100000">
                      <a:srgbClr val="576074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36699"/>
                  </a:outerShdw>
                </a:effectLst>
                <a:latin typeface="Impact"/>
              </a:rPr>
              <a:t>ГАРНИХ ВАМ ПРЕЗЕНТАЦІЙ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76074"/>
                  </a:gs>
                  <a:gs pos="50000">
                    <a:srgbClr val="bbd0fb"/>
                  </a:gs>
                  <a:gs pos="100000">
                    <a:srgbClr val="576074"/>
                  </a:gs>
                </a:gsLst>
                <a:lin ang="5400000"/>
              </a:gradFill>
              <a:effectLst>
                <a:outerShdw dist="17819" dir="2700000" blurRad="0" rotWithShape="0">
                  <a:srgbClr val="3366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7" name="Picture 3" descr="mouse_pad_moving_mouse_hg_clr"/>
          <p:cNvPicPr/>
          <p:nvPr/>
        </p:nvPicPr>
        <p:blipFill>
          <a:blip r:embed="rId1"/>
          <a:stretch/>
        </p:blipFill>
        <p:spPr>
          <a:xfrm>
            <a:off x="3728880" y="4416480"/>
            <a:ext cx="192096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04280"/>
            <a:ext cx="8362800" cy="616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Дослідження свідчать про те, що при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усному викладенні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 матеріалу через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три години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в пам‘яті слухачів зберігається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70%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інформації, а через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три дні 10%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;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при візуальному викладенні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ого ж матеріалу зберігається відповідно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72%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і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20%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, а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при аудіовізуальному 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–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85%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і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50%</a:t>
            </a:r>
            <a:r>
              <a:rPr b="1" lang="uk-UA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. Обсяг усвідомленої інформації також істотно залежить від її наочності та комплексної подачі. Доречно відоме прислів‘я </a:t>
            </a:r>
            <a:r>
              <a:rPr b="1" lang="uk-UA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“Краще один раз побачити, ніж сто разів почути”</a:t>
            </a:r>
            <a:r>
              <a:rPr b="1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Етапи створення презентації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6699"/>
                </a:solidFill>
                <a:latin typeface="Arial Narrow"/>
              </a:rPr>
              <a:t>I.</a:t>
            </a:r>
            <a:r>
              <a:rPr b="1" lang="uk-UA" sz="2800" spc="-1" strike="noStrike">
                <a:solidFill>
                  <a:srgbClr val="336699"/>
                </a:solidFill>
                <a:latin typeface="Arial Narrow"/>
              </a:rPr>
              <a:t> </a:t>
            </a:r>
            <a:r>
              <a:rPr b="1" i="1" lang="uk-UA" sz="2800" spc="-1" strike="noStrike">
                <a:solidFill>
                  <a:srgbClr val="336699"/>
                </a:solidFill>
                <a:latin typeface="Arial Narrow"/>
              </a:rPr>
              <a:t>Планування презентації –</a:t>
            </a:r>
            <a:r>
              <a:rPr b="1" lang="uk-UA" sz="2800" spc="-1" strike="noStrike">
                <a:solidFill>
                  <a:srgbClr val="336699"/>
                </a:solidFill>
                <a:latin typeface="Arial Narrow"/>
              </a:rPr>
              <a:t> це процедура, яка включає в себе визначення цілей, формування структури і логіки подачі матеріалів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6699"/>
                </a:solidFill>
                <a:latin typeface="Arial Narrow"/>
              </a:rPr>
              <a:t>II. Розробка презентації – </a:t>
            </a:r>
            <a:r>
              <a:rPr b="1" lang="uk-UA" sz="2800" spc="-1" strike="noStrike">
                <a:solidFill>
                  <a:srgbClr val="336699"/>
                </a:solidFill>
                <a:latin typeface="Arial Narrow"/>
              </a:rPr>
              <a:t>методологічні особливості підготовки слайдів презентації, включаючи вертикальну і горизонтальну логіку, зміст і відповідність текстової та графічної інформації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6699"/>
                </a:solidFill>
                <a:latin typeface="Arial Narrow"/>
              </a:rPr>
              <a:t>III. Репетиція презентації –</a:t>
            </a:r>
            <a:r>
              <a:rPr b="1" lang="uk-UA" sz="2800" spc="-1" strike="noStrike">
                <a:solidFill>
                  <a:srgbClr val="336699"/>
                </a:solidFill>
                <a:latin typeface="Arial Narrow"/>
              </a:rPr>
              <a:t> це перевірка та редагування створеної презентації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Загальні вимоги до презентації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- У презентації не повинно бути менше, ніж 10 слайдів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- Перший слайд – це титульний лист, на якому слід представити: назву презентації, прізвище, ім’я, по-батькові доповідача, його посад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- На наступному слайді розміщується зміст презентації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2268360" y="1052640"/>
          <a:ext cx="6191280" cy="4630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052640"/>
                    <a:ext cx="619128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47320"/>
            <a:ext cx="7772400" cy="41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66ff"/>
                </a:solidFill>
                <a:latin typeface="Times New Roman"/>
              </a:rPr>
              <a:t>Оформлення слайдів</a:t>
            </a:r>
            <a:endParaRPr b="0" lang="en-US" sz="6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9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Times New Roman"/>
              </a:rPr>
              <a:t>Стиль</a:t>
            </a: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Times New Roman"/>
              </a:rPr>
              <a:t>Дотримання єдиного стилю оформлення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6699"/>
                </a:solidFill>
                <a:latin typeface="Times New Roman"/>
              </a:rPr>
              <a:t>   </a:t>
            </a:r>
            <a:r>
              <a:rPr b="1" lang="uk-UA" sz="3200" spc="-1" strike="noStrike">
                <a:solidFill>
                  <a:srgbClr val="336699"/>
                </a:solidFill>
                <a:latin typeface="Times New Roman"/>
              </a:rPr>
              <a:t>Уникати стилів, які можуть відволікати увагу від самої презентації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Picture 4" descr="image00535"/>
          <p:cNvPicPr/>
          <p:nvPr/>
        </p:nvPicPr>
        <p:blipFill>
          <a:blip r:embed="rId1"/>
          <a:stretch/>
        </p:blipFill>
        <p:spPr>
          <a:xfrm rot="600000">
            <a:off x="6588000" y="465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2:55:36Z</dcterms:created>
  <dc:creator>User</dc:creator>
  <dc:description/>
  <dc:language>en-US</dc:language>
  <cp:lastModifiedBy>Host</cp:lastModifiedBy>
  <dcterms:modified xsi:type="dcterms:W3CDTF">2017-08-18T11:01:45Z</dcterms:modified>
  <cp:revision>22</cp:revision>
  <dc:subject/>
  <dc:title>Загальні правила створення презентацій</dc:title>
</cp:coreProperties>
</file>