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FEB-9AF9-4B04-A8E7-75669818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BEB-3CD5-4133-A178-2AF37A9B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B075C-A2C1-473B-8CDA-1C2DE56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04857-D83A-4705-A7E7-FE254DA9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29057-596D-4793-B3EB-355B65B7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8B59-A0BA-4694-9D17-A0C064D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B2608-F8C8-4130-801D-81E51B5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C2E46-FEB6-41DA-AF6B-C1827F6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42523-F0E2-4965-A357-970BA5C1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26079-0364-476F-928D-FB5A74E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BEFB1-D350-4E96-8A3B-2638AFA8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CA7-666C-4023-873C-7E6BEA78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EB6-5BE5-4A4D-94E7-04B1EE0C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CD7-3608-4A20-A94A-BC8B1294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C40-B1F3-44DC-B186-706DDB9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7A5-77C4-4EF1-B318-329F6F82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6CC8-B528-40FC-A16A-488486D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661-D73D-4266-B31E-3153EABF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BDAB-4F28-4D98-93B7-08517338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DDD2-D384-4F56-8227-84F6F2A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A57-4866-41D5-B50A-70EBC6D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41FF-D9E7-4862-A1FD-FEDE0397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B933-C33A-4251-9CF2-8EE1130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6BA-09BF-44A5-A141-57253305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FD5F-B2DD-4DF3-9DB2-E96791FB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487-3F7C-45CA-9E79-248665AF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775C3-3F7F-40AD-9AB9-8BA81410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A4E4A-1C02-4BA4-BFC2-9EC9467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85F18-52F9-4462-A0F6-268B3B7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02D7C-0C0A-4579-812B-A182182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7A44F-B6F9-460E-B683-0FC3400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175-1AE8-4E46-B360-2267328C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E676B-C57E-419C-961D-1141E2E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E3D4A-3D1E-4055-8C97-3E72D472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A5656-356D-4EA1-BFFD-9DB31FE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3A65E-2AD7-4555-9BB6-3450A5C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3E434-05D1-4679-90F5-AA55EA2E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E8026-CBCB-4B31-B0C1-E254FF03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4EBA0-CBF1-4D70-A0FE-47F34C06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6D190-55B8-4F6E-8D68-F46FF1C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A8239-0DBB-49E0-95D2-0321A17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3FCDA-9848-4F59-B788-D883D7C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555-A59F-4C20-A4E7-2545A33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C935C-5197-4C95-9B28-938C18FF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BF488-CBF6-428C-8F7D-5CA38279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28F4D-CE44-4408-87DF-77ED2D58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40712-AC85-4256-A7E9-9D67494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4A4B3-75CE-4420-8AF8-54B5304B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6ECAB-6EB5-4FB9-8028-1A85903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83CFD-E847-4101-83D0-CC48A3F7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C40EF-9D4F-4C46-A06F-A81DE263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577C3-E904-4A53-A93F-E4A52C15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79880-59CB-44C4-B8E2-308F60E0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591-A89D-4564-9A7D-2A0EDAD7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23C71-7CC5-4412-BEA8-53CE3649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9598D-DEB7-4D99-9364-59C2DA1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EDB41-D010-4B1C-A362-6F12306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5C59E-3DA7-4984-97B9-EE6A2546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A86A3-9BA6-4DB4-B9D2-B58068C8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3AB63-504B-4A65-A327-550C01A4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E4EF3-9F79-41E3-9DE5-F933BD3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C9D00-BF30-42F8-B1B8-009C1B7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ABE81-BDE3-4D06-A67F-A937AAFD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5CCB4-29A2-4307-9C20-D4F7BE10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1D7-1C4D-41A0-BA6D-AB8244B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49165-5182-4A39-8A65-945737EB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E128-0E2A-479C-BC67-E57DB6A3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5A3C5-BF5E-4F2A-B4F0-43E71DCE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B994-77B8-451E-83DD-1FF080B2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81B4-2C1A-4A67-874E-B89FB6C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BA130-65D9-4539-96EC-9111439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D0051-D379-4DBE-9952-54E554F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DC32-B52D-460F-90AB-1D46A39C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9864-227C-47C7-81F4-27508586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F90F-91AC-49C3-8B7F-FA7F705A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777-E3E9-492B-8D4C-DE0BBB3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B2106-2B28-4D3F-B7CD-6F05318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FD1F-A005-4654-B14F-A1D76B3E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E01B-07AE-462F-90AF-AC74943D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FF0C2-9C05-4A02-9668-2071FE98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20B6C-B21B-42BE-8927-B22929A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2ECB7-57E1-4414-81D2-EB44540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FC0DB-99D0-469E-B8C1-C7D8D7C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2A9A0-13BE-4EF2-85F6-6F247C56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920C3-8A8B-4862-B02D-93BF2177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49F6F-83AA-45D2-A1E4-E8B138E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EE1-CB33-4B33-BD80-30EFCD5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1A644-B369-4F5A-857B-B23FF86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4EFC5-8002-4EB1-BBED-D63F0D14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33359-5651-46D2-87B3-7B08ED27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9C5C0-4485-42FF-9D18-50ED6574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EB14E-8F4A-46A3-BE4E-5B0D4E72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880B2-2E45-444F-9FE5-9B420DBB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76E1-31B2-450B-99AE-8C65536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CDB3A-8C1E-493D-9CA2-BBF76A07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EE1F-73AD-4851-8A31-69F2D6AF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31C86-8788-4927-B43E-DE3F8641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802-B4BC-4786-821D-FBD0C5C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BD0E-D405-4DDD-B238-4E504C9D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A014F-B9EB-4139-BB23-B3C4231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85502-9845-42D6-A332-2F03CD9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CD33-8D4D-438A-B3B1-B0D763A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BD782-A19C-4D1F-B10E-3C17476C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A6EB-E794-445F-BFE0-F988037C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7DA97-74AE-4E59-81D6-5733B08D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8C45B-A90E-4046-9F68-71872619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BC47E-AB91-4994-9540-03A390BD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2F210-27D9-4570-9455-C443A64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C45-FFB7-4509-B0B4-65D7F3477C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3D8676D-E272-4D8B-B7B5-5879E332A974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1D1F-95C1-4E7A-9467-B72531447BB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13DF-F206-4C4F-9F88-4BED07A4750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410F9F9-58BA-4575-893A-B9B3EB3E716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1E2-26DD-40F9-8DAC-6844603A73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CB26820-BCBE-4C94-92EA-49E8D4E3EF6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23E-0CA4-4F54-9116-1344EDBFFF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B179-D67E-48D3-A7AA-59BD9BEEA11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3BF-A8F4-4194-B10E-74435CB58FD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B39-F2B0-4A0B-87EA-E0757187A2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E706E9-EEAE-460B-86D5-FA9655CA969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C10-AE98-4BAA-8562-7B9487C0FC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643120" y="151524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лан уро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еографічне положення та природа Давньо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ї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Гр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. Основні заняття насе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. Мінойська палацова цивіліз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1143000" y="2142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ція в І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першій половині І тис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928960" y="6429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й населення Давньої Гре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71280" y="357120"/>
          <a:ext cx="8858520" cy="9288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пуст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1280" y="1357200"/>
          <a:ext cx="8858520" cy="357192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357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е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день Європи, Балканський пів-ов.Омивається морями: Егейським, Іонічним, Критським, Середземним. Велика кількість остров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регова смуга створює безліч заток, бухт, про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ічки — бурхливі восени і взимку, а навесні переси-хаю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лканські гор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я - кам’яниста, неродю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ий, посушли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лізо, мідь, срібло та г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71280" y="4929120"/>
          <a:ext cx="8858520" cy="18576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Є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нічний сх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фрики. На півночі омивається Середземним мо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новодна річка — Ніл. Волога, родюча земля після розливу Нілу. Пус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е, сухе  повітря, гарячі вітри, відсутність дощ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мі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Єгипет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Прямоугольник 7"/>
          <p:cNvSpPr/>
          <p:nvPr/>
        </p:nvSpPr>
        <p:spPr>
          <a:xfrm>
            <a:off x="285840" y="4786200"/>
            <a:ext cx="8572320" cy="1357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ка  відмінність вплинула на заняття населення Давньої Греції? Доведіть свою точку з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3143160" y="2000160"/>
            <a:ext cx="28576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мі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2"/>
          <p:cNvSpPr/>
          <p:nvPr/>
        </p:nvSpPr>
        <p:spPr>
          <a:xfrm>
            <a:off x="3143160" y="642960"/>
            <a:ext cx="2857680" cy="485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піль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3"/>
          <p:cNvSpPr/>
          <p:nvPr/>
        </p:nvSpPr>
        <p:spPr>
          <a:xfrm>
            <a:off x="2428920" y="1143000"/>
            <a:ext cx="4286160" cy="84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Жаркий клім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ідко йдуть до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4"/>
          <p:cNvSpPr/>
          <p:nvPr/>
        </p:nvSpPr>
        <p:spPr>
          <a:xfrm>
            <a:off x="1071720" y="2571840"/>
            <a:ext cx="7572240" cy="21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У Греції немає повноводних рі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гі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Земля – кам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яниста, неродю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мо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Має запаси корисних коп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9"/>
          <p:cNvSpPr/>
          <p:nvPr/>
        </p:nvSpPr>
        <p:spPr>
          <a:xfrm>
            <a:off x="1785960" y="214200"/>
            <a:ext cx="5572080" cy="357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родно – кліматичні у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1357200" cy="1701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няття населення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еробство – у долинах річок вирощували зернові й овочі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тарство - на схилах пагорбів та гір влаштовували тераси, де зростав виноград, оливкові дерева, випасали кіз, овець, корі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месло – металургія, ковальство, гончарство, ткацтво, ювелірна спра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боло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ораблебудуванн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пла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ська торгівл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1" descr="Рисунок1"/>
          <p:cNvPicPr/>
          <p:nvPr/>
        </p:nvPicPr>
        <p:blipFill>
          <a:blip r:embed="rId1"/>
          <a:stretch/>
        </p:blipFill>
        <p:spPr>
          <a:xfrm>
            <a:off x="318600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725400" cy="3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3"/>
          <a:stretch/>
        </p:blipFill>
        <p:spPr>
          <a:xfrm>
            <a:off x="4857840" y="4000680"/>
            <a:ext cx="714240" cy="3013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2786040" cy="60166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У давнину греки плавали головним чином вздовж східного берега і не виходили у відкрите море. Як ви це можете пояснити ?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9" name="Picture 6" descr="Рисунок3"/>
          <p:cNvPicPr/>
          <p:nvPr/>
        </p:nvPicPr>
        <p:blipFill>
          <a:blip r:embed="rId4"/>
          <a:stretch/>
        </p:blipFill>
        <p:spPr>
          <a:xfrm>
            <a:off x="285840" y="4143240"/>
            <a:ext cx="1860480" cy="1040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490" name="Picture 7" descr="Рисунок4"/>
          <p:cNvPicPr/>
          <p:nvPr/>
        </p:nvPicPr>
        <p:blipFill>
          <a:blip r:embed="rId5"/>
          <a:stretch/>
        </p:blipFill>
        <p:spPr>
          <a:xfrm>
            <a:off x="285840" y="5286240"/>
            <a:ext cx="1857240" cy="986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491" name="Прямоугольник 8"/>
          <p:cNvSpPr/>
          <p:nvPr/>
        </p:nvSpPr>
        <p:spPr>
          <a:xfrm>
            <a:off x="142920" y="0"/>
            <a:ext cx="2928960" cy="5214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гейське море має хвилясту берегову смугу й густо розкидані ост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стань між ними не більше 50 км і гори видно здал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ецькі кораблі були  невеликими,  легкими, не витримували штормів; великій команді не вистачало запасів їжі та води; у греків не було комп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96296E-006 C 0.00938 -0.00324 0.00574 -0.00532 0.01216 -0.01227 C 0.01806 -0.01852 0.02431 -0.02454 0.03039 -0.03032 C 0.03525 -0.03495 0.04063 -0.0382 0.04549 -0.04259 C 0.04706 -0.04398 0.05001 -0.04653 0.05001 -0.04653 C 0.06372 -0.04583 0.07744 -0.04583 0.09098 -0.04445 C 0.09601 -0.04398 0.10608 -0.04051 0.10608 -0.04051 C 0.11077 -0.03426 0.11338 -0.02639 0.11824 -0.02037 C 0.12015 -0.01296 0.12258 -0.00648 0.1257 2.96296E-006 C 0.12692 0.01134 0.12588 0.02338 0.12883 0.03426 C 0.129 0.03449 0.13768 0.03819 0.13785 0.03819 C 0.14185 0.03958 0.15001 0.04236 0.15001 0.04236 C 0.15504 0.0618 0.14792 0.03241 0.15313 0.08264 C 0.15331 0.08472 0.15417 0.0787 0.15452 0.07662 C 0.15574 0.06805 0.1566 0.05926 0.15765 0.05046 C 0.15643 0.04143 0.15574 0.02546 0.15157 0.01597 C 0.14862 0.00926 0.13785 0.00185 0.13785 0.00185 C 0.13629 -0.02107 0.13699 -0.04421 0.13334 -0.06667 C 0.13265 -0.0706 0.12831 -0.07107 0.1257 -0.07292 C 0.10608 -0.08657 0.09792 -0.09352 0.07883 -0.09907 C 0.07674 -0.10046 0.0731 -0.10023 0.07275 -0.10324 C 0.0724 -0.10648 0.07518 -0.10949 0.07726 -0.11111 C 0.08039 -0.11366 0.08438 -0.11366 0.08785 -0.11528 C 0.0981 -0.11991 0.10713 -0.12546 0.11824 -0.12546 E">
                                      <p:cBhvr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C 0.00503 0.00463 0.00764 0.01042 0.01198 0.0162 C 0.01406 0.02708 0.01545 0.03403 0.02257 0.04051 C 0.02517 0.05023 0.02847 0.05694 0.03472 0.06273 C 0.03715 0.07222 0.03993 0.08148 0.04236 0.09097 C 0.04288 0.10232 0.04201 0.11412 0.04392 0.12523 C 0.04427 0.12732 0.04687 0.12662 0.04844 0.12732 C 0.05087 0.12847 0.05347 0.12963 0.0559 0.13125 C 0.06267 0.13565 0.06823 0.14097 0.07569 0.14352 C 0.07691 0.14792 0.0816 0.17014 0.08333 0.17176 C 0.08628 0.17431 0.09045 0.17315 0.09392 0.17384 C 0.11406 0.17176 0.13455 0.17222 0.15451 0.16759 C 0.15642 0.16713 0.15486 0.16204 0.1559 0.15972 C 0.16007 0.14954 0.16562 0.13843 0.17118 0.1294 C 0.17517 0.11181 0.17292 0.10046 0.17118 0.08287 C 0.16528 0.02384 0.17673 0.0412 0.16198 0.02222 C 0.16094 0.01944 0.1592 0.01713 0.15903 0.01412 C 0.15833 0.00671 0.16493 0.00046 0.1559 0.01204 C 0.15486 0.00995 0.15295 0.00833 0.15295 0.00602 C 0.15295 -0.00185 0.16614 -0.00995 0.16962 -0.01204 C 0.18351 -0.02037 0.17708 -0.02014 0.18333 -0.02014 E">
                                      <p:cBhvr>
                                        <p:cTn id="29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У ІІІ тис. до н.е. на півострові Пелопоннес, островах Егейського моря виникла цивілізація з центром на острові Крит. Жителів Крита називали пелазгами. 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3" name="Picture 8" descr="Рисунок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960800" y="1500120"/>
            <a:ext cx="4183200" cy="514368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sp>
        <p:nvSpPr>
          <p:cNvPr id="494" name=""/>
          <p:cNvSpPr txBox="1"/>
          <p:nvPr/>
        </p:nvSpPr>
        <p:spPr>
          <a:xfrm>
            <a:off x="214200" y="1213920"/>
            <a:ext cx="4500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13" descr="ar41"/>
          <p:cNvPicPr/>
          <p:nvPr/>
        </p:nvPicPr>
        <p:blipFill>
          <a:blip r:embed="rId2"/>
          <a:stretch/>
        </p:blipFill>
        <p:spPr>
          <a:xfrm>
            <a:off x="5143680" y="55720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6"/>
          <p:cNvSpPr/>
          <p:nvPr/>
        </p:nvSpPr>
        <p:spPr>
          <a:xfrm>
            <a:off x="214200" y="3286080"/>
            <a:ext cx="4500720" cy="3214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знайомтеся зі змістом міфа про Тесея та Мінотав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Чи є міф про Тесея та Мінотавра лише легендою, фантастичним оповідання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ясніть, що означає крилатий вис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итка Аріад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0"/>
          <p:cNvSpPr/>
          <p:nvPr/>
        </p:nvSpPr>
        <p:spPr>
          <a:xfrm>
            <a:off x="214200" y="2000160"/>
            <a:ext cx="450072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фи - розповіді про богів, героїв, що відбивають фантастичні уявлення давніх людей про світ, природу і людське житт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428720" y="7858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-60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 про Тесея та Мінотавр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т – острів, який лежить на південь від Греції, в Середземному мор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носс – столиця Крит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син бога Зевса) –цар острова Кри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ріадна – дочка царя Мінос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Лабіринт –палац із чисельними кімнатами та заплутаною системою переході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нотавр – чудовисько, напівлюдина – напівбик, яке Мінос поселив у Лабіринт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фіни – місто  в Аттиці (область Середньої Греції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Егей – правитель Афін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есей – син Еге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1957320" cy="271476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4"/>
          <p:cNvSpPr/>
          <p:nvPr/>
        </p:nvSpPr>
        <p:spPr>
          <a:xfrm>
            <a:off x="2357280" y="1143000"/>
            <a:ext cx="2000520" cy="257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3"/>
          <a:stretch/>
        </p:blipFill>
        <p:spPr>
          <a:xfrm>
            <a:off x="1357200" y="4000680"/>
            <a:ext cx="1928880" cy="251748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6"/>
          <p:cNvSpPr/>
          <p:nvPr/>
        </p:nvSpPr>
        <p:spPr>
          <a:xfrm>
            <a:off x="4714920" y="5072040"/>
            <a:ext cx="4214880" cy="12715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міфі про Тесея та Мінотавра описуються історичні п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4714920" y="5072040"/>
            <a:ext cx="4214880" cy="13431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огутнє Критське царство підкорило сусідні острови і деякі області Балканського півострова. Підкорені народи сплачували Криту дан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285800" y="285840"/>
            <a:ext cx="4357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́ртур Е́ванс —      британський археолог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еріод 1899—1930 рр. (з перервами) вів розкопки на острові 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  <a:ea typeface="Times New Roman"/>
              </a:rPr>
              <a:t>Крит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 відкрив залишки палацу в Кноссі (Лаб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нту) і детально вивчив культуру епохи бронзи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відому до того культуру назвав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2" descr="C:\Documents and Settings\User\Рабочий стол\Греція\загруженное.jpg"/>
          <p:cNvPicPr/>
          <p:nvPr/>
        </p:nvPicPr>
        <p:blipFill>
          <a:blip r:embed="rId1"/>
          <a:stretch/>
        </p:blipFill>
        <p:spPr>
          <a:xfrm>
            <a:off x="0" y="357120"/>
            <a:ext cx="4000680" cy="521496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3"/>
          <p:cNvSpPr/>
          <p:nvPr/>
        </p:nvSpPr>
        <p:spPr>
          <a:xfrm>
            <a:off x="5429160" y="5286240"/>
            <a:ext cx="342900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інойською палацо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цивілізац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6522 L 0.00625 -0.23312 E">
                                      <p:cBhvr>
                                        <p:cTn id="340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609120" y="4214880"/>
            <a:ext cx="331956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9" name="Содержимое 7" descr="12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4039920" cy="1500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Міста: Кносс, Фест, Малія, Закро.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Розвинені архітектура (палаци), живопис (мозаїка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50048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Розвинена систе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емності – письмо “А”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ьмо “Б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2" name="Picture 4" descr="дворец миноса 1"/>
          <p:cNvPicPr/>
          <p:nvPr/>
        </p:nvPicPr>
        <p:blipFill>
          <a:blip r:embed="rId2"/>
          <a:stretch/>
        </p:blipFill>
        <p:spPr>
          <a:xfrm>
            <a:off x="285840" y="1928880"/>
            <a:ext cx="3500280" cy="4643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Крит 024"/>
          <p:cNvPicPr/>
          <p:nvPr/>
        </p:nvPicPr>
        <p:blipFill>
          <a:blip r:embed="rId3"/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knossos[1]"/>
          <p:cNvPicPr/>
          <p:nvPr/>
        </p:nvPicPr>
        <p:blipFill>
          <a:blip r:embed="rId4"/>
          <a:stretch/>
        </p:blipFill>
        <p:spPr>
          <a:xfrm>
            <a:off x="285840" y="1928880"/>
            <a:ext cx="3714840" cy="4714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1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fr_pro[1]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1f18e921f2f1[1]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еякі  дослідники  історії Давньої  Греції вважають, що «Море цивілізувало греків». Чи згодні ви з цим твердженням? Свою відповідь поясніть, спираючись на історичні факти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928520"/>
            <a:ext cx="81532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дючої землі у Греції мало, повноводних річок немає, тому створити іригаційну систему, як у країнах Сходу, було неможлив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агатством Греції були моря: зручні бухти, чисельні острови, що розташовувалися недалеко один від одного, створювали умови для розвитку мореплавств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авши мореплавцями, греки створили розвинені цивілізації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кладом є найдавніша  цивілізація  в  Європі, що виникла на острові Кри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536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0"/>
          <a:ext cx="5000760" cy="684216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ція розташована н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вострів омивається морям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и поділяють країну на частин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вища гор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і греки називали свою країн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виникла н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 була відкрит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 розквіту найдавнішої цивілізації  в Європі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521" name="Прямоугольник 2"/>
          <p:cNvSpPr/>
          <p:nvPr/>
        </p:nvSpPr>
        <p:spPr>
          <a:xfrm>
            <a:off x="5643720" y="285840"/>
            <a:ext cx="3500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Балканському півост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3"/>
          <p:cNvSpPr/>
          <p:nvPr/>
        </p:nvSpPr>
        <p:spPr>
          <a:xfrm>
            <a:off x="5214960" y="928800"/>
            <a:ext cx="378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гейським, Іонічним, Критським, Середзем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5"/>
          <p:cNvSpPr/>
          <p:nvPr/>
        </p:nvSpPr>
        <p:spPr>
          <a:xfrm>
            <a:off x="5214960" y="1857240"/>
            <a:ext cx="3929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Північну, Середню, Пелопон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6"/>
          <p:cNvSpPr/>
          <p:nvPr/>
        </p:nvSpPr>
        <p:spPr>
          <a:xfrm>
            <a:off x="5214960" y="2786040"/>
            <a:ext cx="378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Олі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7"/>
          <p:cNvSpPr/>
          <p:nvPr/>
        </p:nvSpPr>
        <p:spPr>
          <a:xfrm>
            <a:off x="5214960" y="342900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л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8"/>
          <p:cNvSpPr/>
          <p:nvPr/>
        </p:nvSpPr>
        <p:spPr>
          <a:xfrm>
            <a:off x="5357880" y="4643280"/>
            <a:ext cx="3500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Кри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5357880" y="5286240"/>
            <a:ext cx="350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Артуром Еван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0"/>
          <p:cNvSpPr/>
          <p:nvPr/>
        </p:nvSpPr>
        <p:spPr>
          <a:xfrm>
            <a:off x="5286240" y="6286680"/>
            <a:ext cx="371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VI – XV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ст. до н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208 L -0.21407 0.00416 E">
                                      <p:cBhvr>
                                        <p:cTn id="446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277 L -0.1592 0.00277 E">
                                      <p:cBhvr>
                                        <p:cTn id="456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52 -0.00162 L -0.07587 -0.00162 E">
                                      <p:cBhvr>
                                        <p:cTn id="466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579 L -0.35608 -0.00579 E">
                                      <p:cBhvr>
                                        <p:cTn id="47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6 0.00023 L -0.23004 0.00023 E">
                                      <p:cBhvr>
                                        <p:cTn id="486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-0.00902 L -0.37969 -0.00902 E">
                                      <p:cBhvr>
                                        <p:cTn id="496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7 0.00231 L -0.31667 0.00231 E">
                                      <p:cBhvr>
                                        <p:cTn id="506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6 0.00347 L -0.32066 0.00347 E">
                                      <p:cBhvr>
                                        <p:cTn id="516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2843280" y="12445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3071880" y="642960"/>
            <a:ext cx="58579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в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і територію Давньої Гре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плив географічного положення та природних умов на життя людей на Балканському півострові та островах Егейсько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вати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 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кладах поняття і терміни: “античність”, “елліни”, “грецькі міфи”, “цивілізація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и приклад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их досягнень на Кри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ідомі крилаті висл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и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ння працювати з підручником, аналізувати та порівнювати, історичні факти, висловлювати власну думку, критично мислити.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857680" y="1429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Після  цього  уроку ви зможе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3"/>
          <p:cNvSpPr/>
          <p:nvPr/>
        </p:nvSpPr>
        <p:spPr>
          <a:xfrm>
            <a:off x="2643120" y="114300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родовжіть реч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ьогодні на уроці я дізна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не вмів, тепер я вмі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навчити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повторит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5"/>
          <p:cNvSpPr/>
          <p:nvPr/>
        </p:nvSpPr>
        <p:spPr>
          <a:xfrm>
            <a:off x="2643120" y="1576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є завдання: прочита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конати завдання контурної ка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* виконати завдання 1 , с.1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7120" y="155520"/>
            <a:ext cx="83296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Що таке цивілізація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Де виникли перші цивілізації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Які природні умови цьому сприяли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Назвіть основні заняття людей у давнину.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5000760" y="1928880"/>
            <a:ext cx="4143240" cy="28573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ивілізація – рівень розвитку суспільства, на якому  утворюють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ержа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никають міста, писемні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двуречье в 4-3 тысячелетии до н э"/>
          <p:cNvPicPr/>
          <p:nvPr/>
        </p:nvPicPr>
        <p:blipFill>
          <a:blip r:embed="rId2"/>
          <a:stretch/>
        </p:blipFill>
        <p:spPr>
          <a:xfrm>
            <a:off x="0" y="1722600"/>
            <a:ext cx="4857840" cy="5135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17" name="Picture 1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0" y="1785960"/>
            <a:ext cx="48578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3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0" y="1714680"/>
            <a:ext cx="4857840" cy="51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2286000" y="189360"/>
            <a:ext cx="685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лемні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які  дослідники історії Давньої Греції вважають, що «Море цивілізувало греків». Чи згодні ви з цим твердженням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відповідь поясніть, спираючись на історичні фа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ія – країна гір та морі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Рисунок 2" descr="23385908_gora.jpg"/>
          <p:cNvPicPr/>
          <p:nvPr/>
        </p:nvPicPr>
        <p:blipFill>
          <a:blip r:embed="rId1"/>
          <a:stretch/>
        </p:blipFill>
        <p:spPr>
          <a:xfrm>
            <a:off x="4643280" y="857160"/>
            <a:ext cx="4286520" cy="2500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repphoto_644_3651[1]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1420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" descr="1238764715_837039.jpg"/>
          <p:cNvPicPr/>
          <p:nvPr/>
        </p:nvPicPr>
        <p:blipFill>
          <a:blip r:embed="rId4"/>
          <a:stretch/>
        </p:blipFill>
        <p:spPr>
          <a:xfrm>
            <a:off x="214200" y="85716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71280" y="1643040"/>
          <a:ext cx="8786880" cy="1000080"/>
        </p:xfrm>
        <a:graphic>
          <a:graphicData uri="http://schemas.openxmlformats.org/drawingml/2006/table">
            <a:tbl>
              <a:tblPr/>
              <a:tblGrid>
                <a:gridCol w="1357560"/>
                <a:gridCol w="2201760"/>
                <a:gridCol w="2155680"/>
                <a:gridCol w="1571760"/>
                <a:gridCol w="1500120"/>
              </a:tblGrid>
              <a:tr h="100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сте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155160"/>
            <a:ext cx="8715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5, п.1 </a:t>
            </a:r>
            <a:br>
              <a:rPr sz="32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Визначте географічне положення Греції та Єгипту. 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орівняйте  природно – кліматичні умови Греції та Єгипту.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пишіть висновки у таблицю. 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1280" y="2500200"/>
          <a:ext cx="8786880" cy="1554120"/>
        </p:xfrm>
        <a:graphic>
          <a:graphicData uri="http://schemas.openxmlformats.org/drawingml/2006/table">
            <a:tbl>
              <a:tblPr/>
              <a:tblGrid>
                <a:gridCol w="1357560"/>
                <a:gridCol w="2214360"/>
                <a:gridCol w="2143080"/>
                <a:gridCol w="1571760"/>
                <a:gridCol w="150012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71280" y="4071960"/>
          <a:ext cx="8786880" cy="1714320"/>
        </p:xfrm>
        <a:graphic>
          <a:graphicData uri="http://schemas.openxmlformats.org/drawingml/2006/table">
            <a:tbl>
              <a:tblPr/>
              <a:tblGrid>
                <a:gridCol w="1357560"/>
                <a:gridCol w="2243160"/>
                <a:gridCol w="2114280"/>
                <a:gridCol w="1571760"/>
                <a:gridCol w="1500120"/>
              </a:tblGrid>
              <a:tr h="1714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гип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32" name="Прямоугольник 7"/>
          <p:cNvSpPr/>
          <p:nvPr/>
        </p:nvSpPr>
        <p:spPr>
          <a:xfrm>
            <a:off x="0" y="5643720"/>
            <a:ext cx="8858160" cy="12142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643040" y="407196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7" descr="Drevnyaya_Gretciya_7_v_do_n_e.jpg"/>
          <p:cNvPicPr/>
          <p:nvPr/>
        </p:nvPicPr>
        <p:blipFill>
          <a:blip r:embed="rId2"/>
          <a:stretch/>
        </p:blipFill>
        <p:spPr>
          <a:xfrm>
            <a:off x="1643040" y="25718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86240" y="213840"/>
            <a:ext cx="38577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Південь Європи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Балканський півострів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Іоніч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Егей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Крит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Середзем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 Балканські гори (найвища – гора Олімп)</a:t>
            </a:r>
            <a:br>
              <a:rPr sz="18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cxnSp>
        <p:nvCxnSpPr>
          <p:cNvPr id="437" name="Прямая со стрелкой 10"/>
          <p:cNvCxnSpPr/>
          <p:nvPr/>
        </p:nvCxnSpPr>
        <p:spPr>
          <a:xfrm flipH="1">
            <a:off x="1071360" y="928800"/>
            <a:ext cx="4143600" cy="1715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Прямая со стрелкой 12"/>
          <p:cNvCxnSpPr/>
          <p:nvPr/>
        </p:nvCxnSpPr>
        <p:spPr>
          <a:xfrm flipH="1">
            <a:off x="356760" y="1213200"/>
            <a:ext cx="4858560" cy="3001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Прямая со стрелкой 14"/>
          <p:cNvCxnSpPr/>
          <p:nvPr/>
        </p:nvCxnSpPr>
        <p:spPr>
          <a:xfrm flipH="1">
            <a:off x="3071160" y="1570680"/>
            <a:ext cx="2143800" cy="17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Прямая со стрелкой 21"/>
          <p:cNvCxnSpPr/>
          <p:nvPr/>
        </p:nvCxnSpPr>
        <p:spPr>
          <a:xfrm flipH="1">
            <a:off x="2714040" y="2000160"/>
            <a:ext cx="2500920" cy="3572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Прямая со стрелкой 23"/>
          <p:cNvCxnSpPr/>
          <p:nvPr/>
        </p:nvCxnSpPr>
        <p:spPr>
          <a:xfrm flipH="1">
            <a:off x="2499480" y="2286000"/>
            <a:ext cx="2786760" cy="4215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2" name="Прямая со стрелкой 25"/>
          <p:cNvCxnSpPr/>
          <p:nvPr/>
        </p:nvCxnSpPr>
        <p:spPr>
          <a:xfrm flipH="1" flipV="1">
            <a:off x="1713960" y="2642400"/>
            <a:ext cx="3429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43" name="Picture 4" descr="j0213508"/>
          <p:cNvPicPr/>
          <p:nvPr/>
        </p:nvPicPr>
        <p:blipFill>
          <a:blip r:embed="rId2"/>
          <a:stretch/>
        </p:blipFill>
        <p:spPr>
          <a:xfrm>
            <a:off x="8215200" y="214200"/>
            <a:ext cx="928800" cy="866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5715000" y="407196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едня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457200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5"/>
          <p:cNvSpPr/>
          <p:nvPr/>
        </p:nvSpPr>
        <p:spPr>
          <a:xfrm>
            <a:off x="5715000" y="3571920"/>
            <a:ext cx="214308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ніч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6"/>
          <p:cNvSpPr/>
          <p:nvPr/>
        </p:nvSpPr>
        <p:spPr>
          <a:xfrm>
            <a:off x="5715000" y="5072040"/>
            <a:ext cx="2214720" cy="42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Острів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7"/>
          <p:cNvSpPr/>
          <p:nvPr/>
        </p:nvSpPr>
        <p:spPr>
          <a:xfrm>
            <a:off x="5715000" y="5643720"/>
            <a:ext cx="2214720" cy="42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Іонійськ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713 L -0.63594 -0.2243 E">
                                      <p:cBhvr>
                                        <p:cTn id="118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648 L -0.62813 -0.1301 E">
                                      <p:cBhvr>
                                        <p:cTn id="122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32 -0.0037 L -0.57292 -0.03518 E">
                                      <p:cBhvr>
                                        <p:cTn id="126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5000760" y="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и захищають і розділяють, а море поєднує».  Що це означа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429160" y="785880"/>
            <a:ext cx="3286080" cy="285732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2" name="Прямоугольник 5"/>
          <p:cNvSpPr/>
          <p:nvPr/>
        </p:nvSpPr>
        <p:spPr>
          <a:xfrm>
            <a:off x="5429160" y="785880"/>
            <a:ext cx="328608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Балканські гори захищ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раїну від холодних  ві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діляють Грецію  на  3 частини  (Північну, Середн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денну – півост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500280" cy="28116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Іонічне, Егей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ередзе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Берегова см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остр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творює безлі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аток,бухт,про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ручних для сто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кораблів. Це допомог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грекам навчи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ореплав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5429160" y="785880"/>
            <a:ext cx="335772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нічна та Середня Гр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і єдиною дорог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рокладе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Фермопільською ущели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ередня Гре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а з Південною Коринфським переший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4"/>
          <p:cNvSpPr/>
          <p:nvPr/>
        </p:nvSpPr>
        <p:spPr>
          <a:xfrm>
            <a:off x="1500120" y="3429000"/>
            <a:ext cx="285840" cy="142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6"/>
          <p:cNvCxnSpPr/>
          <p:nvPr/>
        </p:nvCxnSpPr>
        <p:spPr>
          <a:xfrm flipV="1">
            <a:off x="1785960" y="2071080"/>
            <a:ext cx="4215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H="1">
            <a:off x="1999800" y="3356640"/>
            <a:ext cx="350136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Равнобедренный треугольник 21"/>
          <p:cNvSpPr/>
          <p:nvPr/>
        </p:nvSpPr>
        <p:spPr>
          <a:xfrm>
            <a:off x="1785960" y="4214880"/>
            <a:ext cx="285840" cy="128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Морський шлях сполучає Балканський півострів з островами Середземномор'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999880" y="2643120"/>
            <a:ext cx="3000600" cy="25005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родно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іматичні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ов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278604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92896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2928960" y="142920"/>
            <a:ext cx="307188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0" y="2714760"/>
            <a:ext cx="2928960" cy="245736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7" name="Picture 4" descr="nature_127"/>
          <p:cNvPicPr/>
          <p:nvPr/>
        </p:nvPicPr>
        <p:blipFill>
          <a:blip r:embed="rId5"/>
          <a:stretch/>
        </p:blipFill>
        <p:spPr>
          <a:xfrm>
            <a:off x="6072120" y="2643120"/>
            <a:ext cx="3071880" cy="25005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90000" tIns="91440" bIns="46800" anchor="ctr">
            <a:noAutofit/>
          </a:bodyPr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імат спекотний, посушли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хили гір вкриті кущами та низькорослими дере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я кам’яниста, неродю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гата на корисні копалин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залізо , мідь, срібло,гл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 поділили країну на долини, якими течуть річ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хливі восени і взимку, навесні пересихаю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c400</cp:lastModifiedBy>
  <dcterms:modified xsi:type="dcterms:W3CDTF">2017-12-06T16:17:52Z</dcterms:modified>
  <cp:revision>275</cp:revision>
  <dc:subject/>
  <dc:title>Blue Water 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7000000000001024140</vt:lpwstr>
  </property>
</Properties>
</file>