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6.gif" ContentType="image/gif"/>
  <Override PartName="/ppt/media/image36.gif" ContentType="image/gif"/>
  <Override PartName="/ppt/media/image28.gif" ContentType="image/gif"/>
  <Override PartName="/ppt/media/image23.jpeg" ContentType="image/jpeg"/>
  <Override PartName="/ppt/media/image20.jpeg" ContentType="image/jpeg"/>
  <Override PartName="/ppt/media/image18.gif" ContentType="image/gif"/>
  <Override PartName="/ppt/media/image17.gif" ContentType="image/gif"/>
  <Override PartName="/ppt/media/image12.gif" ContentType="image/gif"/>
  <Override PartName="/ppt/media/image24.jpeg" ContentType="image/jpeg"/>
  <Override PartName="/ppt/media/image15.png" ContentType="image/png"/>
  <Override PartName="/ppt/media/image30.gif" ContentType="image/gif"/>
  <Override PartName="/ppt/media/image11.png" ContentType="image/png"/>
  <Override PartName="/ppt/media/image31.gif" ContentType="image/gif"/>
  <Override PartName="/ppt/media/image32.gif" ContentType="image/gif"/>
  <Override PartName="/ppt/media/image35.gif" ContentType="image/gif"/>
  <Override PartName="/ppt/media/image38.gif" ContentType="image/gif"/>
  <Override PartName="/ppt/media/image34.wmf" ContentType="image/x-wmf"/>
  <Override PartName="/ppt/media/image8.gif" ContentType="image/gif"/>
  <Override PartName="/ppt/media/image13.gif" ContentType="image/gif"/>
  <Override PartName="/ppt/media/image37.gif" ContentType="image/gif"/>
  <Override PartName="/ppt/media/image7.png" ContentType="image/png"/>
  <Override PartName="/ppt/media/image9.png" ContentType="image/png"/>
  <Override PartName="/ppt/media/image22.jpeg" ContentType="image/jpeg"/>
  <Override PartName="/ppt/media/image27.gif" ContentType="image/gif"/>
  <Override PartName="/ppt/media/image10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9.gif" ContentType="image/gif"/>
  <Override PartName="/ppt/media/image14.gif" ContentType="image/gif"/>
  <Override PartName="/ppt/media/image1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4349-0978-4468-91EF-D0F21E90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EB25-59B3-44CD-9328-B492768A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11ECA-50C2-46C6-A9CD-791E3DD9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F2181-C511-4AE3-AC11-3A5BDB86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91F73-AB4B-4C5A-BEE1-33AEE887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B4BAD-6B5E-41DF-8EBE-9F58EE2E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22600-FA8E-464B-969A-85DCBEB1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36F0E-FBE0-4831-AB9C-409244CB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47F5C-1B80-483F-8C26-B80CFE6A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588DE-DB62-483E-BEBC-541C5827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14C7B-12DE-430C-B044-101124DE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F7D4B-E63B-4768-9620-48228E35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E33-E301-4F8E-971E-4A91264C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5BD5E-E38E-422F-8114-95A151B7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54482-C143-41AA-8393-10A50D13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64AB3-8E50-4D56-968F-4E14C8D1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2D343-E105-424F-A7F9-01311A07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3C4FD-2948-4B30-956E-11272997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0ADA1-9220-442E-83ED-16E69399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BB8FB-8F54-4E52-8C4C-BA79DD97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24138-715C-4902-B2DD-54716C44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BAC17-9DD7-4DE9-992B-ECF2E3C6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D8A57-3501-466F-B52E-CF99535E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C08-2FF7-4D22-94E7-D935CF0C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124BB-21D1-41C1-AA24-1D59A297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EE861-1AA1-439B-B4BA-1368DBEF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88388-AFCA-41CE-AAEF-0DDF3EDB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B3021-BC47-432D-B0F6-D0848901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F62C1-37EA-43FF-939C-85E80A0F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4FF18-FE18-4029-A67C-7E703828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FFC31-331B-4889-8F81-2DE42737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CC84F-1E24-467C-B848-F15487C3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D9220-65AC-4C1C-9934-14928F57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D2575-ECA9-44CD-8B7E-9B228299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2846-5837-4D36-A018-96EA7A7F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AF24B-1B5B-40D6-9C39-7742ECBB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3814F-6578-4762-9893-528BFBB3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BC663-9E20-4D2D-8E20-4F14AC69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66FB4-D0B8-45F6-A7CE-C60E3A5C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43E8A-5274-472C-975C-BBB9A458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8FB09-338C-42B5-89A7-56F27AFF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51800-A72E-48F8-973B-3C4EAFF6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EF65A-E915-4760-AFCE-531FF703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7C64F-6449-40D4-B9E2-E5C4CF4A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EC762-E6D8-4900-A8CA-03309227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6654-5D21-4C29-B407-37793AFE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6A2CB-0FB0-49A1-8245-665F4992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D8FD2-EAE1-4F4E-A641-805D39D2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54E96-0367-46D1-A241-010808ED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EA78B-6621-41DB-941D-4915904D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44134-3C3C-48E6-BF53-008E8BFC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A61DD-CD11-42E7-B295-E6763293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13C17-555E-4BA0-A586-0A1225E0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529D2-3F7F-4916-800B-D946C317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59502-02F3-42C3-AA55-543DF414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0E317-A71F-43C8-B1F9-1C4ECAD0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A77D-12C1-4412-9088-F34BA8F2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70F00F-BEA3-4834-AE06-B43F12C8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2DF52-E3BA-403B-B58B-2EDB0DD9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DC7BB-808C-49B7-84FD-672624E7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2F6D2-BFE3-4B5B-A1F9-22AA5793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F90227-91A5-4307-BD7D-719DDB43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2C6AE-B6E9-4735-B29F-6EC8BB72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1AB62-DB5F-4956-9684-845BB947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D6B5C-A349-44FA-B766-EF770931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B6EC3A-9CED-42A5-A8B2-565E279A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141AD-E71A-419C-AAFD-7524CC78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7F3E-E454-44CA-B4B9-118AFB8E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B2DE41-0755-486C-9EA3-A1D510F9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5BFD6B-7CF0-446A-BAFB-D07E2A7B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2F056-AE1C-4332-BD9F-D5C1F940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4B5CDB-B833-46E6-8C93-580DF734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F5446-C47F-4CF2-BF55-D6FAB54D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9328C-A51B-4D71-9993-5A5E4B5B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155A01-DF50-4DE6-9C59-61EAF573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4D03C4-6A3C-4DD2-A8CC-830C3D99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AA6065-8470-4585-8F10-578B09A0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F01C32-9AC0-4D2F-9E25-046E07B9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0B2F-01CB-42BB-92FD-7ECEDCA9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E4562C-1A4F-4859-8ECA-CE2F9AC9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FC3983-CFA4-47D6-899E-8D1E1903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660E17-C190-48D1-9380-EB728D70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75A2D-E2C8-42A9-8742-233FAD66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41A9CC-D80E-4F6A-84AD-9F99EEDB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9EBC79-E5CE-477A-B696-45F80BDD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A667B1-C8ED-4714-892B-73353205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938F0F-F51E-414D-ABC8-CBE5D904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F25630-BAD5-43EC-81C1-5BA6ABFE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65990D-D3AF-429D-B3AA-95C42AF1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13EE-DBCA-4A64-A3FB-E9CB7AB8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5A785E-9ED7-4EB6-8506-B2715F95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249C8B-BA04-4CFD-A60A-99A5366F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CDAC4D-BC6E-4018-BFC2-2230CE1B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078987-926C-4499-976D-6ED05964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D7E7D1-D61A-436E-8FEA-9CBB303E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05E364-7FF9-4276-A294-B61AACFD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5FF828-A905-45A7-AB0A-841575E1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F33E22-6D58-4460-95B8-CD3C7043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252AE3-F79E-46A5-A88D-E8D0D7F1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EE277C-C90E-4374-80CA-A8338007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0DEC-8038-45DD-AD4C-571D1468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1154FB-1460-4847-BA84-021BEB0A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B8DE2C-8A56-42EF-98E9-F5E2A43F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0564F7-82F8-4C7C-A83D-8B207185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2721C8-CD78-42D4-83C7-D9A541D5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9F4E7A-40E4-4C09-B31D-2BA476AF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809CB-2AF7-4298-9574-71F1E605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F5C28C-C82E-4B3E-BCD7-B5A12835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0E72C5-86DB-4396-B1B3-4E35C047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0D6A8-828D-4A01-8DEC-485D4ED5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C87227-9194-4423-B0E8-BF0CBEF6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3A2-6903-466E-BA3A-E4C9FF88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E7CB-FB6A-4B2B-8FB0-9A01614E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2B0993-DA44-41A1-905A-6C4DB92F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15221-37FB-4657-82E4-EB96DE33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F64F9F-459D-4198-9689-D4BE62B0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D74847-3F53-4378-A954-B33E0AC6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16DCB1-DF99-40A0-AF36-C18B887C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C38B2B-79A1-49CB-9CD7-C715DB0B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7041EF-C5BD-4599-A37F-2E4B26A2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7036D0-BD39-4354-B34A-D1E17B25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2C2FCB-A4FA-4548-82F3-430E3AC4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1D1124-0275-4B15-8C02-F9B6183E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643D-A5A1-433F-BBE9-F86BA573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D88722-A1EB-4C75-8F30-63735F82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2A6AD4-F521-4FA5-83EB-FE37CA48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5A0E38-3324-4994-999B-04EF2FF1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13CE25-1FDE-4396-9D44-07310AA7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EE6B3E-31E6-43F4-A497-7A4FA577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A1FC66-77E2-4EC1-97A1-89885B06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C4883B-7A9E-4FE1-90CA-3B4665E0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034DB5-FD64-4CEE-8D4C-668308BA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564715-24F4-4895-AD23-4129FC7F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D8A7C5-970A-46CA-BF19-98F1CB75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DC8E-E7F0-4A95-AEB5-A40025A6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EEAB1A-0664-4262-805E-F2C3666C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759CEA-F899-474D-B5F2-E82E9D65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538186-8DBA-4A14-9149-5BD5A302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C5FEC4-A986-4921-8F42-722489FE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61DA67-44EF-457E-98C9-75367A19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C5EE48-E925-4E5B-96B5-AB3D1001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4111C7-5EB8-4663-9E8D-F5C5FFE1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82F4F3-60A3-4B99-B6C1-410828F4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A937B2-FB5B-4FA4-9007-950E99D8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5004C5-427E-4040-8927-3EF44439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2F8C-6964-457B-9C3C-EE142230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88FF04-9B3F-4224-9A91-E6F84960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858A89-8A19-439F-97FD-BD37DC5A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A74F41-6B25-4581-A87B-E8193E71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D33DCD-FDC1-4FA8-8E8D-69785CBB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594748-0E03-4429-974B-5BDA576E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0CA77D-C383-48AA-ADA0-4C03546B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6CDBB7-E1F4-49FF-9919-7BE4358E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C19A96-918E-4CB8-AA37-54D6CAEE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0F6957-156C-4256-BA49-594EE938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6CE81A-A34C-44AF-BED1-B4D6F369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2597-6AF6-41A7-93F0-17E0A328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610BC4-029C-4C73-994C-90895B07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F55CD9-3EC2-4C3A-9C89-5B1EFBB8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8EC052-7282-4C92-9BFF-BFBB1485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36C574-9664-4A8C-8D13-B71FF6D0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8BAFA4-8E39-4B52-9F0A-9AB3FDE1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A5E290-3299-457B-BC7F-2D9A90AE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35DFBC-0AD8-461A-AFD4-28AE00C0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2ACC0D-CDB9-4F96-B794-D1E8CE50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7C6DE2-9AA6-4CBB-8C61-E21CFF6D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994163-7B16-409E-A7B9-B2700E41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45914-67C8-4770-A17C-D1412F43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25AA8F-ABB7-4953-9AAE-918D5B75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60DA0B-389C-4EE3-9FBF-A8FA795F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9054D4-78F3-49ED-AF9C-635275B7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63AC10-E2DB-4870-A120-6597ABA4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D6494E-A19E-40B4-9092-8506772C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164607-764F-4D49-8E50-5C1A5B13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84B6A2-EC97-49C8-A515-36D07F6B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CB9277-273E-4650-8DB1-1F3388CA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B39F69-DE29-4E05-8CE0-2886B213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B9CCC6-FA12-49A4-AE11-337C64D1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2EF43-2947-45CA-89D8-3094AE18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3804EA-5C7D-46A7-9FDC-5179B00F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2C59AC-D5FA-4354-AC51-C2216631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9A4F99-35F5-43A8-832E-2F16FE76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EB7A41-1858-4EE9-9138-6385D465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7F25FA-DAEB-4801-9A6C-7BE432BF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4A8CF9-7F47-4822-B1B4-0F71E952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F320FB-83DF-4249-AE91-1D5EB0F0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A69FFB-31C7-4193-9181-49036306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12A1DE-5D6E-4FF4-B030-F5948F42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434672-D6B2-4B85-B9CF-BF5123BC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599A0-74EE-4B15-8C93-3D32AA97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4CDD1F-0A00-4B76-BD52-A9967AEA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9C6893-C1C2-4E0C-88CC-9FB3BDB8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9BAB81-444A-411C-8F38-5F658223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F71719-18DF-4027-B569-9A9F53E8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B2EA86-246F-4525-9445-1D002181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BD544B-89EA-411B-9793-18B5F5F0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A512D6-6BCB-4B2E-AB05-32635ED9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525449-6DE6-4131-A6C9-E66EA0EB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56FD39-8D74-47B7-89EE-F741B2CA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9CCBA4-6756-45AA-B310-3B55D65B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91276-855A-4107-A6EF-E018C7B8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2E799F-9A6A-4DD2-BA6E-2F71219D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6D43A5-BC10-4B37-B22D-4030B8E6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47D90D-76F6-48B8-9334-48C59595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155D8A-9256-42ED-AACD-234081A2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A3F3DE-9D40-4543-85AC-45E65769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46C348-9255-42EE-BDF7-999E2EE6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5E2CB8-7C44-46B0-A043-0058B9AA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91F6A3-4C01-459B-A677-C1F7F046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FD3DAA-6368-421A-A2D2-916AC7F3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F4E0A5-36AC-4DF0-B598-022C4ABA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81841-0191-4B38-8D89-9075A374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57E752-A166-46BC-97DC-5B0D389D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85BB9E-165A-4789-9F89-99ECB673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2C460D-E5B0-4AC5-8C21-068B4628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7C6BA9-3335-4848-A2F9-53165360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84AF03-7F39-44B7-BF55-B10DD5DF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CD181F-888E-4B77-B066-703D99EE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AFD6F5-8E90-407D-AB09-067FF2D2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58CDA7-FD16-41BA-8033-A70F846F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A7D217-E66C-4164-8431-8E366441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0F6B1E-A001-4665-8E27-9ADC1ECF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B56E-AF8E-4B6E-B4CC-D098E79C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8D674-B7F0-4671-92DF-5F197F19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1DF680-E9BF-4A96-9784-7FBC4093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6909-98B8-40FF-9BB9-0DD1CC70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F39EB-41DE-4190-AE92-B28C53D7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E1239-FCA3-4F28-9611-89F5488D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48CA-4D97-4D1B-8D1F-197AFD7C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79548-BFBE-4A60-BC7C-301BF46F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01FE5-B891-4D6A-AD41-5245CD38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26E65-56B1-4373-8C5E-3CD7AFF4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6F37A-2200-4F4C-A854-1FF7E0D4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BB185-D7D2-42CA-959A-19C99E49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B20-AC11-4381-9667-39906AAF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8E0DB-622C-4C22-A84B-6B08B13B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BEF1C-81FE-4C4B-AFC5-741D3BDC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CA784-3355-456F-B15D-7EA3CA56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E8C9D-3042-4D47-9245-DF7CE834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0DFFB-09A7-47EE-9797-92061535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FE6B4-560F-43DD-9BFF-AEB81CE0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5E211-692D-4ABA-87F5-EBD2E15A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A7958-F662-4800-8354-26F07D0E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88A77-906D-4B95-B2D4-96E9B975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693EE-68ED-4D34-A12A-FF6B3EA9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B18-A035-4E7C-9967-992D146E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4CEA0-40A3-42DB-BC70-4DA3F9DC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A3A14-0EE5-4A45-82FA-B33EE318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55D46-A98E-417C-B4F0-BAE8229D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AD31A-5C21-45A4-BBCB-65458508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7B031-0AB1-4821-9377-95AEB3F5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2ED9B-98DF-41FA-9E51-22FB8B29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613B0-CDD3-4170-B956-D9A2B307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45057-1FA5-4CB1-A484-AB5F8348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20063-E489-4DF5-9EFC-B1BF317E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90191-0043-4B25-8C9D-90063967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237-A957-484B-A21A-F8028DDE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4D909-4956-4481-BDBB-15B19471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7F610-88E6-4299-986D-B5468726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BF3E8-A080-4B7A-864A-5DF033E1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D17B9-1EB1-48DB-9CC3-4A856F22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D2189-145A-4BE6-92FC-348D703D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2F954-A975-4DC1-85E3-CB981176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C99A9-9CB8-408A-8960-694B011C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5F1F8-2CD3-4285-B6EE-101BB92E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D51A3-F12E-4F9C-83EE-1AE97B5A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6F972-B159-4A73-8CB7-8AFBC6E2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EEA-7A3F-4BC9-AC35-8002F907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E2ED7-A696-41CE-8647-57D11B48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167F2-D812-443D-B4AC-1A16C510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131B8-8FFA-4C50-84B5-44E3FA9A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79186-FF4F-410D-9B3A-0E1312D7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260B2-7221-48AC-A26C-D87B8F68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2CA76-0CE2-425C-B2D7-22F7C150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91892-C253-4FF0-9AA1-86DF77D0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2B844-AFB1-4450-8BD4-6E7C6E03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E5AEA-6B3E-4ADB-9520-2D3B4116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07C18-4306-4CD0-986D-C0DDAD30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648-5AC1-4418-AD36-84F1D23E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BAAF7-2B3E-4C47-BC0C-BFCBB995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12FBB-4263-459C-97EB-873FAEF5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A7C12-8E25-4A3C-A67B-3F1385B9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9A832-F70C-46E9-866F-4B7A1864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8A274-D0FC-44F7-B375-6DAC52FF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70C83-5801-4F4E-8064-DD241B5F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2E926-64D1-4DE8-8179-C80BC058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5F8C0-D17F-4764-AD0B-CB4BF2BA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66254-DCD0-47ED-88F0-BF721237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CE979-E125-4180-A7B3-4FFDF5E9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152-36AF-4129-B322-37E3616A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58308-A54D-40D5-B407-FA0C2B84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A859A-3257-45F4-A4FA-56AD425E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E948C-2EED-426B-AA02-357686E3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01C31-DA21-497D-AA39-EF0E01CC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23148-C0C1-4061-9EBA-836B89C0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30C0B-A608-4ED1-9837-B5F2F757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0C122-B1BD-415D-8ADB-5393DD07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9F45B-908D-40EB-A317-90B5B272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6EFDB-4190-4BA8-AE2A-4350C32F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9AB5B-8222-462B-BA63-DEA5FAFD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69.xml"/><Relationship Id="rId12" Type="http://schemas.openxmlformats.org/officeDocument/2006/relationships/slideLayout" Target="../slideLayouts/slideLayout170.xml"/><Relationship Id="rId13" Type="http://schemas.openxmlformats.org/officeDocument/2006/relationships/slideLayout" Target="../slideLayouts/slideLayout171.xml"/><Relationship Id="rId14" Type="http://schemas.openxmlformats.org/officeDocument/2006/relationships/slideLayout" Target="../slideLayouts/slideLayout172.xml"/><Relationship Id="rId15" Type="http://schemas.openxmlformats.org/officeDocument/2006/relationships/slideLayout" Target="../slideLayouts/slideLayout173.xml"/><Relationship Id="rId16" Type="http://schemas.openxmlformats.org/officeDocument/2006/relationships/slideLayout" Target="../slideLayouts/slideLayout174.xml"/><Relationship Id="rId17" Type="http://schemas.openxmlformats.org/officeDocument/2006/relationships/slideLayout" Target="../slideLayouts/slideLayout175.xml"/><Relationship Id="rId18" Type="http://schemas.openxmlformats.org/officeDocument/2006/relationships/slideLayout" Target="../slideLayouts/slideLayout176.xml"/><Relationship Id="rId19" Type="http://schemas.openxmlformats.org/officeDocument/2006/relationships/slideLayout" Target="../slideLayouts/slideLayout177.xml"/><Relationship Id="rId20" Type="http://schemas.openxmlformats.org/officeDocument/2006/relationships/slideLayout" Target="../slideLayouts/slideLayout178.xml"/><Relationship Id="rId21" Type="http://schemas.openxmlformats.org/officeDocument/2006/relationships/slideLayout" Target="../slideLayouts/slideLayout179.xml"/><Relationship Id="rId22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DB51-E650-407F-A20B-30443BB04D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17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418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7B1E-0FBE-4CDA-A1AE-7B6A80A0B5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3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464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70D6-B48F-4AB0-8692-6605DE1C26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09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510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1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C298-861D-4714-B293-1D9B599ED9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55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556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9E2E-2902-4AB1-9F6D-81E810CAEA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01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602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0726-31C7-42C3-A29F-E1C1BF2A77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647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9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50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55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90A8-25F5-4AA8-B116-ED2F6CCFCE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1"/>
    <p:sldLayoutId id="2147483832" r:id="rId12"/>
    <p:sldLayoutId id="2147483833" r:id="rId13"/>
    <p:sldLayoutId id="2147483834" r:id="rId14"/>
    <p:sldLayoutId id="2147483835" r:id="rId15"/>
    <p:sldLayoutId id="2147483836" r:id="rId16"/>
    <p:sldLayoutId id="2147483837" r:id="rId17"/>
    <p:sldLayoutId id="2147483838" r:id="rId18"/>
    <p:sldLayoutId id="2147483839" r:id="rId19"/>
    <p:sldLayoutId id="2147483840" r:id="rId20"/>
    <p:sldLayoutId id="2147483841" r:id="rId21"/>
    <p:sldLayoutId id="2147483842" r:id="rId22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99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700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8C1C-1CC8-428A-B018-C790CA6B8E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45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746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EDEB-30BD-411D-9195-DBF46F73E3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91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792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2C89-7651-4E51-A7E0-D3E94F0076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37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838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9A8C-0168-4007-9DE5-4563BD747A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3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1863-ACF1-49A1-A387-FBA55773B1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83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884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8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5C96-8129-4EFE-B6F4-7C7733848D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29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930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0E0A-2604-4DDD-A265-6DEC5BE4FA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75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976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E636-9F58-4B8A-8341-5BDEBEAD19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21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1022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2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7571-826D-46ED-9DF6-CCD53E5FFC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7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1068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5579-5430-43A8-9EEB-0068771DE7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13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1114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1344-9917-4300-B88E-AAAE29CFDA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9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AE06-835C-4FD2-A945-C4C31E082E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135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8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3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F634-9A6B-470C-9797-0E8E26DBB8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7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188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BC30-5CE9-4BAB-9D6E-6AEB9C61CB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3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234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36F9-CB90-41F9-875F-9170E7178A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9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59DC-92A6-4EF7-A0C8-CBD4D168E4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25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26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3C0D-242E-48D3-986A-FDAE03D428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71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72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7E47-1AF1-493B-A91F-5B5881EEE5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13.gif"/><Relationship Id="rId4" Type="http://schemas.openxmlformats.org/officeDocument/2006/relationships/image" Target="../media/image28.gif"/><Relationship Id="rId5" Type="http://schemas.openxmlformats.org/officeDocument/2006/relationships/image" Target="../media/image27.gif"/><Relationship Id="rId6" Type="http://schemas.openxmlformats.org/officeDocument/2006/relationships/image" Target="../media/image17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3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3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14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Прямоугольник 1" descr=""/>
          <p:cNvPicPr/>
          <p:nvPr/>
        </p:nvPicPr>
        <p:blipFill>
          <a:blip r:embed="rId1"/>
          <a:stretch/>
        </p:blipFill>
        <p:spPr>
          <a:xfrm>
            <a:off x="1170000" y="103320"/>
            <a:ext cx="8248680" cy="1152360"/>
          </a:xfrm>
          <a:prstGeom prst="rect">
            <a:avLst/>
          </a:prstGeom>
          <a:ln w="0">
            <a:noFill/>
          </a:ln>
        </p:spPr>
      </p:pic>
      <p:sp>
        <p:nvSpPr>
          <p:cNvPr id="1158" name="Прямоугольник 2"/>
          <p:cNvSpPr/>
          <p:nvPr/>
        </p:nvSpPr>
        <p:spPr>
          <a:xfrm>
            <a:off x="-108000" y="1341360"/>
            <a:ext cx="9144000" cy="52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Monotype Corsiva"/>
              </a:rPr>
              <a:t>Пролунав для всіх дзві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Monotype Corsiva"/>
              </a:rPr>
              <a:t>Розпочати час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Monotype Corsiva"/>
              </a:rPr>
              <a:t>Стали всі рівненько,вийшли із-за п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Monotype Corsiva"/>
              </a:rPr>
              <a:t>Урок  біології будем почи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Monotype Corsiva"/>
              </a:rPr>
              <a:t>Всі за парти ми сідає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Monotype Corsiva"/>
              </a:rPr>
              <a:t>До роботи приступ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Monotype Corsiva"/>
              </a:rPr>
              <a:t>Подивилися на мене,усміхнулися у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Monotype Corsiva"/>
              </a:rPr>
              <a:t>Чи готові до уро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Monotype Corsiva"/>
              </a:rPr>
              <a:t>Молодц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9" name="Picture 5" descr="C:\Users\1\Desktop\1268598024_krokod.gif"/>
          <p:cNvPicPr/>
          <p:nvPr/>
        </p:nvPicPr>
        <p:blipFill>
          <a:blip r:embed="rId2"/>
          <a:stretch/>
        </p:blipFill>
        <p:spPr>
          <a:xfrm>
            <a:off x="7524720" y="5157720"/>
            <a:ext cx="1619280" cy="145584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6" descr="C:\Users\1\Desktop\138.gif"/>
          <p:cNvPicPr/>
          <p:nvPr/>
        </p:nvPicPr>
        <p:blipFill>
          <a:blip r:embed="rId3"/>
          <a:stretch/>
        </p:blipFill>
        <p:spPr>
          <a:xfrm>
            <a:off x="0" y="260280"/>
            <a:ext cx="1835280" cy="1182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uk-UA" sz="2800" spc="-1" strike="noStrike" u="sng">
                <a:solidFill>
                  <a:srgbClr val="ffff00"/>
                </a:solidFill>
                <a:uFillTx/>
                <a:latin typeface="Arial"/>
              </a:rPr>
              <a:t>ЗАВДАННЯ.</a:t>
            </a:r>
            <a:br>
              <a:rPr sz="3600"/>
            </a:br>
            <a:r>
              <a:rPr b="1" lang="uk-UA" sz="2000" spc="-1" strike="noStrike" u="sng">
                <a:solidFill>
                  <a:srgbClr val="0000ff"/>
                </a:solidFill>
                <a:uFillTx/>
                <a:latin typeface="Arial"/>
              </a:rPr>
              <a:t>І ГРУПА.-</a:t>
            </a: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1;4;7;10  .</a:t>
            </a:r>
            <a:r>
              <a:rPr b="1" lang="uk-UA" sz="2000" spc="-1" strike="noStrike" u="sng">
                <a:solidFill>
                  <a:srgbClr val="0000ff"/>
                </a:solidFill>
                <a:uFillTx/>
                <a:latin typeface="Arial"/>
              </a:rPr>
              <a:t>ІІ  ГРУПА.-</a:t>
            </a: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2;5;8;11.  </a:t>
            </a:r>
            <a:r>
              <a:rPr b="1" lang="uk-UA" sz="2000" spc="-1" strike="noStrike" u="sng">
                <a:solidFill>
                  <a:srgbClr val="0000ff"/>
                </a:solidFill>
                <a:uFillTx/>
                <a:latin typeface="Arial"/>
              </a:rPr>
              <a:t>ІІІ ГРУПА.- </a:t>
            </a: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3;6;9;12.</a:t>
            </a:r>
            <a:br>
              <a:rPr sz="20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.ЖИР КРОКОДИЛА ЗЕЛЕНКУВАТИЙ…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. БОЛОТЯНА ЧЕРЕПАХА ВІДКЛАДАЄ ЯЙЦЯ  У СУХЕ МІСЦЕ, В ЯМКУ, 9-16 ЯЄЦЬ…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.ПОШИРЕНА НЕОТРУЙНА ЗМІЯ З ЖОВТИМИ ПЛЯМАМИ НА ГОЛОВІ-ЦЕ ВУЖ…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.ПЛАЗУН ,ЩО ЗМІНЮЄ СВОЄ ЗАБАРВЛЕННЯ – ВЕРЕТІЛЬНИЦЯ…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.НЕВЕЛИКИЙ ПЛАЗУН, ЯКИЙ МАЄ КІНЦІВКИ ТА ХВІСТ ЛАМКИЙ,ЦЕ- ЕФА…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6.ПЛАЗУН, ТІЛО ЯКОГО ВКРИТЕ ПАНЦЕРОМ –ЦЕ  ГАВІАЛ….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7.ПОШИРЕНА НЕОТРУЙНА ЗМІЯ –ГЮРЗА…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8.ВЕЛИКА ЯЩІРКА. ЖИВИТЬСЯ ЯЩІРКАМИ, ЗМІЯМИ.ЖИВЕ В СЕРЕДНІЙ АЗІЇ –ВАРАН…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9. ФУНКЦІЯ,ЯКУ ВИКОНУЄ ЯЗИК ГАДЮКИ? ДОТИК, ЖИВЛЕННЯ,СПРИЙНЯТЯ ЗВУКОВИХ КОЛИВАНЬ…..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.ВЕЛИКА ОТРУЙНА ЗМІЯ,ЯКА ПІД ЧАС НЕБЕЗПЕКИ РОЗШИРЮЄ ШИЮ – СТЕПОВА ГАДЮКА…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1. РЕПТИЛІЇ, ЩО ВИЛАЗЯТЬ ЗІ ШКІРИ – ХАМЕЛЕОНИ…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2. ОТРУЙНІ  ЗМІЇ НА ТЕРИТОРІЇ УКРАЇНИ - ГАДЮКА СТЕПОВА…</a:t>
            </a:r>
            <a:br>
              <a:rPr sz="1800"/>
            </a:br>
            <a:br>
              <a:rPr sz="2000"/>
            </a:br>
            <a:br>
              <a:rPr sz="2000"/>
            </a:br>
            <a:br>
              <a:rPr sz="1600"/>
            </a:br>
            <a:br>
              <a:rPr sz="3600"/>
            </a:b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476360" y="43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Impact"/>
              </a:rPr>
              <a:t>     </a:t>
            </a:r>
            <a:r>
              <a:rPr b="0" lang="uk-UA" sz="4800" spc="-1" strike="noStrike" u="sng">
                <a:solidFill>
                  <a:srgbClr val="ff0000"/>
                </a:solidFill>
                <a:uFillTx/>
                <a:latin typeface="Impact"/>
              </a:rPr>
              <a:t> </a:t>
            </a:r>
            <a:r>
              <a:rPr b="0" lang="uk-UA" sz="4800" spc="-1" strike="noStrike" u="sng">
                <a:solidFill>
                  <a:srgbClr val="ff0000"/>
                </a:solidFill>
                <a:uFillTx/>
                <a:latin typeface="Impact"/>
              </a:rPr>
              <a:t>Прийом «Вірю – не вірю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2" name="Picture 14" descr="C:\Users\1\Desktop\138.gif"/>
          <p:cNvPicPr/>
          <p:nvPr/>
        </p:nvPicPr>
        <p:blipFill>
          <a:blip r:embed="rId1"/>
          <a:stretch/>
        </p:blipFill>
        <p:spPr>
          <a:xfrm>
            <a:off x="-541440" y="-243000"/>
            <a:ext cx="251964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V</a:t>
            </a:r>
            <a:r>
              <a:rPr b="1" lang="uk-UA" sz="3200" spc="-1" strike="noStrike">
                <a:solidFill>
                  <a:srgbClr val="ff0000"/>
                </a:solidFill>
                <a:latin typeface="Impact"/>
              </a:rPr>
              <a:t>І.Узагальнення та систематизація знань</a:t>
            </a:r>
            <a:br>
              <a:rPr sz="3200"/>
            </a:br>
            <a:r>
              <a:rPr b="1" lang="uk-UA" sz="3200" spc="-1" strike="noStrike" u="sng">
                <a:solidFill>
                  <a:srgbClr val="ffff00"/>
                </a:solidFill>
                <a:uFillTx/>
                <a:latin typeface="Impact"/>
              </a:rPr>
              <a:t>ВПРАВА «Експрес-тест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 u="sng">
                <a:solidFill>
                  <a:srgbClr val="ff0000"/>
                </a:solidFill>
                <a:uFillTx/>
                <a:latin typeface="Arial"/>
              </a:rPr>
              <a:t>ЗАВДАННЯ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 Укажіть, які плазуни мають чотирикамерне  серце: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A) ящірки;  Б) черепахи;B) змії; Г) крокоди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 Визначте вид плазунів, який занесено до Червоної книги України: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A)Гадюка звичайна;    Б) Вуж звичайний;B) Черепаха болотна;   Г) Гекон кримсь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 Визначте, яка тварина відкладає яйця: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A) ропуха сіра;  Б) піпа;B) черепаха зелена;   Г) севрю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 Визначте вид плазунів, який занесено до Червоної книги України: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A) Жаба озерна;    Б) Гадюка степова;B) Ящірка прудка;  Г) Ропуха сі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Зміна рогового покриву плазунів, називається: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) Анабіоз; Б) Симбіоз ;В) Линяння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Деякі плазуни здатні змінювати забарвлення свого тіла завдяки спеціальним клітинам, що називаються: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) Каротиноїди ;Б) Меланіни; В) Хроматофори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До плазунів, які мають здатність міняти колір шкіри, відноситься: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) Ящірка; В) Хамелеон ; В) Крокод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Скількох камерне серце плазунів? А) 1; Б) 2;  В)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У якого представника плазунів, серце чотирикамерне?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) Вуж ; Б) Хамелеон; В) Крокодил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Який тип запліднення переважає у плазунів?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) Внутрішнє ;Б) Зовнішнє; В) Зовнішньо-внутрішн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Розмноження і розвиток плазунів відбувається: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) У воді ;Б) На суші ; В) У воді і на суш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Скільки кіл кровообігу мають земноводні і плазуни: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) Одне ; Б) Два;  В) Тр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5" name="Picture 5" descr="C:\Users\1\Desktop\212.gif"/>
          <p:cNvPicPr/>
          <p:nvPr/>
        </p:nvPicPr>
        <p:blipFill>
          <a:blip r:embed="rId1"/>
          <a:stretch/>
        </p:blipFill>
        <p:spPr>
          <a:xfrm>
            <a:off x="6156360" y="4005360"/>
            <a:ext cx="259236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Прямоугольник 1"/>
          <p:cNvSpPr/>
          <p:nvPr/>
        </p:nvSpPr>
        <p:spPr>
          <a:xfrm>
            <a:off x="1979640" y="40464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Impact"/>
              </a:rPr>
              <a:t>ВПРАВА «МІСТКИЙ КОШИ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Picture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121440" cy="446400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5" descr=""/>
          <p:cNvPicPr/>
          <p:nvPr/>
        </p:nvPicPr>
        <p:blipFill>
          <a:blip r:embed="rId2"/>
          <a:stretch/>
        </p:blipFill>
        <p:spPr>
          <a:xfrm>
            <a:off x="5186520" y="3699000"/>
            <a:ext cx="771480" cy="1028520"/>
          </a:xfrm>
          <a:prstGeom prst="rect">
            <a:avLst/>
          </a:prstGeom>
          <a:ln w="0">
            <a:noFill/>
          </a:ln>
        </p:spPr>
      </p:pic>
      <p:sp>
        <p:nvSpPr>
          <p:cNvPr id="1219" name="Прямоугольник 1"/>
          <p:cNvSpPr/>
          <p:nvPr/>
        </p:nvSpPr>
        <p:spPr>
          <a:xfrm>
            <a:off x="3059280" y="2492280"/>
            <a:ext cx="9428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Arial"/>
              </a:rPr>
              <a:t>?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Прямоугольник 2"/>
          <p:cNvSpPr/>
          <p:nvPr/>
        </p:nvSpPr>
        <p:spPr>
          <a:xfrm>
            <a:off x="3788640" y="3284640"/>
            <a:ext cx="143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Arial"/>
              </a:rPr>
              <a:t>?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Прямоугольник 3"/>
          <p:cNvSpPr/>
          <p:nvPr/>
        </p:nvSpPr>
        <p:spPr>
          <a:xfrm>
            <a:off x="6012000" y="3141720"/>
            <a:ext cx="59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Прямоугольник 4"/>
          <p:cNvSpPr/>
          <p:nvPr/>
        </p:nvSpPr>
        <p:spPr>
          <a:xfrm>
            <a:off x="5364000" y="3284640"/>
            <a:ext cx="52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Прямоугольник 5"/>
          <p:cNvSpPr/>
          <p:nvPr/>
        </p:nvSpPr>
        <p:spPr>
          <a:xfrm>
            <a:off x="5008320" y="256536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4" name="Picture 14" descr="C:\Users\1\Desktop\138.gif"/>
          <p:cNvPicPr/>
          <p:nvPr/>
        </p:nvPicPr>
        <p:blipFill>
          <a:blip r:embed="rId3"/>
          <a:stretch/>
        </p:blipFill>
        <p:spPr>
          <a:xfrm>
            <a:off x="-324000" y="0"/>
            <a:ext cx="2338560" cy="1844640"/>
          </a:xfrm>
          <a:prstGeom prst="rect">
            <a:avLst/>
          </a:prstGeom>
          <a:ln w="0">
            <a:noFill/>
          </a:ln>
        </p:spPr>
      </p:pic>
      <p:sp>
        <p:nvSpPr>
          <p:cNvPr id="1225" name="Прямоугольник 16"/>
          <p:cNvSpPr/>
          <p:nvPr/>
        </p:nvSpPr>
        <p:spPr>
          <a:xfrm>
            <a:off x="2273040" y="299736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Прямоугольник 17"/>
          <p:cNvSpPr/>
          <p:nvPr/>
        </p:nvSpPr>
        <p:spPr>
          <a:xfrm>
            <a:off x="3856320" y="26370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7" name="Picture 15" descr="C:\Users\1\Desktop\594.gif"/>
          <p:cNvPicPr/>
          <p:nvPr/>
        </p:nvPicPr>
        <p:blipFill>
          <a:blip r:embed="rId4"/>
          <a:stretch/>
        </p:blipFill>
        <p:spPr>
          <a:xfrm>
            <a:off x="6875640" y="4437000"/>
            <a:ext cx="2268360" cy="176220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16" descr="C:\Users\1\Desktop\756.gif"/>
          <p:cNvPicPr/>
          <p:nvPr/>
        </p:nvPicPr>
        <p:blipFill>
          <a:blip r:embed="rId5"/>
          <a:stretch/>
        </p:blipFill>
        <p:spPr>
          <a:xfrm>
            <a:off x="0" y="3429000"/>
            <a:ext cx="2050920" cy="290196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17" descr="C:\Users\1\Desktop\110.gif"/>
          <p:cNvPicPr/>
          <p:nvPr/>
        </p:nvPicPr>
        <p:blipFill>
          <a:blip r:embed="rId6"/>
          <a:stretch/>
        </p:blipFill>
        <p:spPr>
          <a:xfrm>
            <a:off x="5867280" y="1268280"/>
            <a:ext cx="2916360" cy="1729080"/>
          </a:xfrm>
          <a:prstGeom prst="rect">
            <a:avLst/>
          </a:prstGeom>
          <a:ln w="0">
            <a:noFill/>
          </a:ln>
        </p:spPr>
      </p:pic>
      <p:pic>
        <p:nvPicPr>
          <p:cNvPr id="1230" name="Picture 14" descr="C:\Users\1\Desktop\138.gif"/>
          <p:cNvPicPr/>
          <p:nvPr/>
        </p:nvPicPr>
        <p:blipFill>
          <a:blip r:embed="rId7"/>
          <a:stretch/>
        </p:blipFill>
        <p:spPr>
          <a:xfrm>
            <a:off x="-324000" y="0"/>
            <a:ext cx="233856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V</a:t>
            </a:r>
            <a:r>
              <a:rPr b="0" lang="uk-UA" sz="3600" spc="-1" strike="noStrike">
                <a:solidFill>
                  <a:srgbClr val="ff0000"/>
                </a:solidFill>
                <a:latin typeface="Impact"/>
              </a:rPr>
              <a:t>ІІ. Підбиття підсумків уроку. Рефлексія.</a:t>
            </a:r>
            <a:br>
              <a:rPr sz="3600"/>
            </a:br>
            <a:r>
              <a:rPr b="1" lang="uk-UA" sz="3600" spc="-1" strike="noStrike" u="sng">
                <a:solidFill>
                  <a:srgbClr val="ffff00"/>
                </a:solidFill>
                <a:uFillTx/>
                <a:latin typeface="Arial"/>
              </a:rPr>
              <a:t>Прийом «Незакінчене речення»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Прямокутник 1"/>
          <p:cNvSpPr/>
          <p:nvPr/>
        </p:nvSpPr>
        <p:spPr>
          <a:xfrm>
            <a:off x="0" y="1125360"/>
            <a:ext cx="91440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уроці 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ізнав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розумі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вчив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йбільший мій успіх – ц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йбільші труднощі я відчу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я не вмів, а тепер умі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я змінив своє ставлення д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 наступному уроці я хоч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цінення учні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3" name="Picture 7" descr="C:\Users\1\Desktop\254.gif"/>
          <p:cNvPicPr/>
          <p:nvPr/>
        </p:nvPicPr>
        <p:blipFill>
          <a:blip r:embed="rId1"/>
          <a:stretch/>
        </p:blipFill>
        <p:spPr>
          <a:xfrm>
            <a:off x="5940360" y="1700280"/>
            <a:ext cx="3203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Impact"/>
              </a:rPr>
              <a:t>                            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Impact"/>
              </a:rPr>
              <a:t>V</a:t>
            </a:r>
            <a:r>
              <a:rPr b="0" lang="uk-UA" sz="4000" spc="-1" strike="noStrike" u="sng">
                <a:solidFill>
                  <a:srgbClr val="ff0000"/>
                </a:solidFill>
                <a:uFillTx/>
                <a:latin typeface="Impact"/>
              </a:rPr>
              <a:t>ІІІ. Домашнє завдання</a:t>
            </a:r>
            <a:br>
              <a:rPr sz="40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uk-UA" sz="2800" spc="-1" strike="noStrike" u="sng">
                <a:solidFill>
                  <a:srgbClr val="0000ff"/>
                </a:solidFill>
                <a:uFillTx/>
                <a:latin typeface="Arial"/>
              </a:rPr>
              <a:t>ВПРАВА « БЕЗПРОГРАШНА  ЛОТЕРЕЯ»</a:t>
            </a:r>
            <a:br>
              <a:rPr sz="2800"/>
            </a:br>
            <a:r>
              <a:rPr b="1" lang="uk-UA" sz="2400" spc="-1" strike="noStrike" u="sng">
                <a:solidFill>
                  <a:srgbClr val="ffff00"/>
                </a:solidFill>
                <a:uFillTx/>
                <a:latin typeface="Arial"/>
              </a:rPr>
              <a:t>Учні отримують  конвертики із домашнім завданням.</a:t>
            </a:r>
            <a:br>
              <a:rPr sz="24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1.Опрацювати параграф 19 с.79-83 у підручнику. Скласти опорні схеми.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2.Опрацювати параграф  19 с.79-83 у підручнику, підготувати цікаве завдання ( кросворд, головоломку)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3.Опрацювати параграф 19 с.79-83  у підручника, скласти питання за типом « закінчіть речення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Picture 3" descr="D:\КАРТІНКИ ДО ШКОЛИ\105727142_60809848_1277542567_48823854_1820556n6ld.gif"/>
          <p:cNvPicPr/>
          <p:nvPr/>
        </p:nvPicPr>
        <p:blipFill>
          <a:blip r:embed="rId1"/>
          <a:stretch/>
        </p:blipFill>
        <p:spPr>
          <a:xfrm>
            <a:off x="1332000" y="5657760"/>
            <a:ext cx="6264360" cy="120024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4" descr="C:\Users\1\Desktop\138.gif"/>
          <p:cNvPicPr/>
          <p:nvPr/>
        </p:nvPicPr>
        <p:blipFill>
          <a:blip r:embed="rId2"/>
          <a:stretch/>
        </p:blipFill>
        <p:spPr>
          <a:xfrm>
            <a:off x="-396720" y="0"/>
            <a:ext cx="2340000" cy="1514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Прямоугольник 1"/>
          <p:cNvSpPr/>
          <p:nvPr/>
        </p:nvSpPr>
        <p:spPr>
          <a:xfrm>
            <a:off x="395280" y="476280"/>
            <a:ext cx="860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Impact"/>
              </a:rPr>
              <a:t>Ось і дзвоник пролуна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Impact"/>
              </a:rPr>
              <a:t>Час перерви вже наста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Impact"/>
              </a:rPr>
              <a:t>За роботу по заслуз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Impact"/>
              </a:rPr>
              <a:t>Щиро дякую Вам друзі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Picture 3" descr="D:\КАРТІНКИ ДО ШКОЛИ\image.gif"/>
          <p:cNvPicPr/>
          <p:nvPr/>
        </p:nvPicPr>
        <p:blipFill>
          <a:blip r:embed="rId1"/>
          <a:stretch/>
        </p:blipFill>
        <p:spPr>
          <a:xfrm>
            <a:off x="1692360" y="3284640"/>
            <a:ext cx="4967280" cy="2933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Прямоугольник 1"/>
          <p:cNvSpPr/>
          <p:nvPr/>
        </p:nvSpPr>
        <p:spPr>
          <a:xfrm>
            <a:off x="324000" y="4437000"/>
            <a:ext cx="8178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Monotype Corsiva"/>
              </a:rPr>
              <a:t>        </a:t>
            </a:r>
            <a:r>
              <a:rPr b="1" lang="uk-UA" sz="8000" spc="-1" strike="noStrike">
                <a:solidFill>
                  <a:srgbClr val="ff0000"/>
                </a:solidFill>
                <a:latin typeface="Monotype Corsiva"/>
              </a:rPr>
              <a:t>Допобачення.         Дякую за увагу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7" descr="_1_~1"/>
          <p:cNvPicPr/>
          <p:nvPr/>
        </p:nvPicPr>
        <p:blipFill>
          <a:blip r:embed="rId2"/>
          <a:stretch/>
        </p:blipFill>
        <p:spPr>
          <a:xfrm rot="7132200">
            <a:off x="391680" y="2985840"/>
            <a:ext cx="3178440" cy="236196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7" descr="_1_~1"/>
          <p:cNvPicPr/>
          <p:nvPr/>
        </p:nvPicPr>
        <p:blipFill>
          <a:blip r:embed="rId3"/>
          <a:stretch/>
        </p:blipFill>
        <p:spPr>
          <a:xfrm rot="12552600">
            <a:off x="5881680" y="2614320"/>
            <a:ext cx="3178080" cy="236196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7" descr="_1_~1"/>
          <p:cNvPicPr/>
          <p:nvPr/>
        </p:nvPicPr>
        <p:blipFill>
          <a:blip r:embed="rId4"/>
          <a:stretch/>
        </p:blipFill>
        <p:spPr>
          <a:xfrm rot="8867400">
            <a:off x="2840040" y="205920"/>
            <a:ext cx="317808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Прямоугольник 1"/>
          <p:cNvSpPr/>
          <p:nvPr/>
        </p:nvSpPr>
        <p:spPr>
          <a:xfrm>
            <a:off x="762120" y="762120"/>
            <a:ext cx="761976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539280" y="247680"/>
            <a:ext cx="799308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Impact"/>
              </a:rPr>
              <a:t>А тепер девіз згадай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Impact"/>
              </a:rPr>
              <a:t>І урок наш починайм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Прямоугольник 2"/>
          <p:cNvSpPr/>
          <p:nvPr/>
        </p:nvSpPr>
        <p:spPr>
          <a:xfrm>
            <a:off x="2286000" y="2828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Прямоугольник 3"/>
          <p:cNvSpPr/>
          <p:nvPr/>
        </p:nvSpPr>
        <p:spPr>
          <a:xfrm>
            <a:off x="250920" y="1382760"/>
            <a:ext cx="878508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девіз нашого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умати    –   колекти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іяти      –  операти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перечатись  –   доказо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е для нас обов’язко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5" name="Picture 8" descr="C:\Users\1\Desktop\212.gif"/>
          <p:cNvPicPr/>
          <p:nvPr/>
        </p:nvPicPr>
        <p:blipFill>
          <a:blip r:embed="rId1"/>
          <a:stretch/>
        </p:blipFill>
        <p:spPr>
          <a:xfrm>
            <a:off x="5796000" y="1989000"/>
            <a:ext cx="2952720" cy="3972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Прямоугольник 1"/>
          <p:cNvSpPr/>
          <p:nvPr/>
        </p:nvSpPr>
        <p:spPr>
          <a:xfrm>
            <a:off x="0" y="1557360"/>
            <a:ext cx="914400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49"/>
              </a:spcBef>
              <a:buSzPct val="10288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cc"/>
                </a:solidFill>
                <a:latin typeface="Arial"/>
              </a:rPr>
              <a:t>У</a:t>
            </a: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uk-UA" sz="5400" spc="-1" strike="noStrike">
                <a:solidFill>
                  <a:srgbClr val="00b0f0"/>
                </a:solidFill>
                <a:latin typeface="Arial"/>
              </a:rPr>
              <a:t>урожайний(на нові знання)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28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cc"/>
                </a:solidFill>
                <a:latin typeface="Arial"/>
              </a:rPr>
              <a:t>Р</a:t>
            </a: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uk-UA" sz="5400" spc="-1" strike="noStrike">
                <a:solidFill>
                  <a:srgbClr val="ff0000"/>
                </a:solidFill>
                <a:latin typeface="Arial"/>
              </a:rPr>
              <a:t>розвивальний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288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cc"/>
                </a:solidFill>
                <a:latin typeface="Arial"/>
              </a:rPr>
              <a:t>О</a:t>
            </a: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uk-UA" sz="5400" spc="-1" strike="noStrike">
                <a:solidFill>
                  <a:srgbClr val="00b050"/>
                </a:solidFill>
                <a:latin typeface="Arial"/>
              </a:rPr>
              <a:t>організований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288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cc"/>
                </a:solidFill>
                <a:latin typeface="Arial"/>
              </a:rPr>
              <a:t>К</a:t>
            </a: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uk-UA" sz="5400" spc="-1" strike="noStrike">
                <a:solidFill>
                  <a:srgbClr val="0000ff"/>
                </a:solidFill>
                <a:latin typeface="Arial"/>
              </a:rPr>
              <a:t>корисний</a:t>
            </a:r>
            <a:r>
              <a:rPr b="0" lang="uk-UA" sz="5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Прямоугольник 2"/>
          <p:cNvSpPr/>
          <p:nvPr/>
        </p:nvSpPr>
        <p:spPr>
          <a:xfrm>
            <a:off x="1979640" y="357120"/>
            <a:ext cx="68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00000"/>
                </a:solidFill>
                <a:latin typeface="Impact"/>
              </a:rPr>
              <a:t>Наш  урок  повинен  бут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4" descr="C:\Users\1\Desktop\138.gif"/>
          <p:cNvPicPr/>
          <p:nvPr/>
        </p:nvPicPr>
        <p:blipFill>
          <a:blip r:embed="rId5"/>
          <a:stretch/>
        </p:blipFill>
        <p:spPr>
          <a:xfrm>
            <a:off x="-324000" y="0"/>
            <a:ext cx="1979640" cy="13413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5" descr="C:\Users\1\Desktop\117.gif"/>
          <p:cNvPicPr/>
          <p:nvPr/>
        </p:nvPicPr>
        <p:blipFill>
          <a:blip r:embed="rId6"/>
          <a:stretch/>
        </p:blipFill>
        <p:spPr>
          <a:xfrm>
            <a:off x="6732720" y="2349360"/>
            <a:ext cx="241128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70" name="Прямая со стрелкой 32"/>
          <p:cNvCxnSpPr/>
          <p:nvPr/>
        </p:nvCxnSpPr>
        <p:spPr>
          <a:xfrm>
            <a:off x="3419640" y="4868640"/>
            <a:ext cx="28944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71" name="Прямая со стрелкой 42"/>
          <p:cNvCxnSpPr/>
          <p:nvPr/>
        </p:nvCxnSpPr>
        <p:spPr>
          <a:xfrm>
            <a:off x="2771640" y="5013000"/>
            <a:ext cx="2167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172" name="Прямоугольник 2"/>
          <p:cNvSpPr/>
          <p:nvPr/>
        </p:nvSpPr>
        <p:spPr>
          <a:xfrm>
            <a:off x="28440" y="22320"/>
            <a:ext cx="9336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c00000"/>
                </a:solidFill>
                <a:latin typeface="Impact"/>
              </a:rPr>
              <a:t>         </a:t>
            </a:r>
            <a:r>
              <a:rPr b="0" lang="uk-UA" sz="4800" spc="-1" strike="noStrike">
                <a:solidFill>
                  <a:srgbClr val="c00000"/>
                </a:solidFill>
                <a:latin typeface="Impact"/>
              </a:rPr>
              <a:t>ІІ.Актуалізація опорних знан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00000"/>
                </a:solidFill>
                <a:latin typeface="Impact"/>
              </a:rPr>
              <a:t>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ff"/>
                </a:solidFill>
                <a:latin typeface="Impact"/>
              </a:rPr>
              <a:t>      </a:t>
            </a:r>
            <a:r>
              <a:rPr b="1" lang="uk-UA" sz="4800" spc="-1" strike="noStrike">
                <a:solidFill>
                  <a:srgbClr val="0000ff"/>
                </a:solidFill>
                <a:latin typeface="Impact"/>
              </a:rPr>
              <a:t>1. Вправа «ПАСПОР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ff"/>
                </a:solidFill>
                <a:latin typeface="Impact"/>
              </a:rPr>
              <a:t>      </a:t>
            </a:r>
            <a:r>
              <a:rPr b="1" lang="uk-UA" sz="4800" spc="-1" strike="noStrike">
                <a:solidFill>
                  <a:srgbClr val="0000ff"/>
                </a:solidFill>
                <a:latin typeface="Impact"/>
              </a:rPr>
              <a:t>2.Прийом «Хто зайвий?Чому?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ff"/>
                </a:solidFill>
                <a:latin typeface="Impact"/>
              </a:rPr>
              <a:t>      </a:t>
            </a:r>
            <a:r>
              <a:rPr b="1" lang="uk-UA" sz="4800" spc="-1" strike="noStrike">
                <a:solidFill>
                  <a:srgbClr val="0000ff"/>
                </a:solidFill>
                <a:latin typeface="Impact"/>
              </a:rPr>
              <a:t>3.Гра “Відгадай…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Picture 8" descr="C:\Users\1\Desktop\110.gif"/>
          <p:cNvPicPr/>
          <p:nvPr/>
        </p:nvPicPr>
        <p:blipFill>
          <a:blip r:embed="rId1"/>
          <a:stretch/>
        </p:blipFill>
        <p:spPr>
          <a:xfrm>
            <a:off x="2987640" y="4365720"/>
            <a:ext cx="2851200" cy="201600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9" descr="C:\Users\1\Desktop\217.gif"/>
          <p:cNvPicPr/>
          <p:nvPr/>
        </p:nvPicPr>
        <p:blipFill>
          <a:blip r:embed="rId2"/>
          <a:stretch/>
        </p:blipFill>
        <p:spPr>
          <a:xfrm>
            <a:off x="0" y="4149720"/>
            <a:ext cx="2446200" cy="171288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10" descr="C:\Users\1\Desktop\138.gif"/>
          <p:cNvPicPr/>
          <p:nvPr/>
        </p:nvPicPr>
        <p:blipFill>
          <a:blip r:embed="rId3"/>
          <a:stretch/>
        </p:blipFill>
        <p:spPr>
          <a:xfrm>
            <a:off x="179280" y="260280"/>
            <a:ext cx="1224000" cy="103824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9" descr="C:\Users\1\Desktop\118.gif"/>
          <p:cNvPicPr/>
          <p:nvPr/>
        </p:nvPicPr>
        <p:blipFill>
          <a:blip r:embed="rId4"/>
          <a:stretch/>
        </p:blipFill>
        <p:spPr>
          <a:xfrm>
            <a:off x="6516720" y="3716280"/>
            <a:ext cx="230328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4360" y="-6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00000"/>
                </a:solidFill>
                <a:latin typeface="Impact"/>
              </a:rPr>
              <a:t>ІІІ.Картинна галере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9" name="Picture 11" descr="C:\Users\1\Desktop\images (1).jpg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314172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12" descr="C:\Users\1\Desktop\1264966336_11.jpg"/>
          <p:cNvPicPr/>
          <p:nvPr/>
        </p:nvPicPr>
        <p:blipFill>
          <a:blip r:embed="rId2"/>
          <a:stretch/>
        </p:blipFill>
        <p:spPr>
          <a:xfrm>
            <a:off x="5796000" y="1268280"/>
            <a:ext cx="33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14" descr="C:\Users\1\Desktop\1264966667_1.jpg"/>
          <p:cNvPicPr/>
          <p:nvPr/>
        </p:nvPicPr>
        <p:blipFill>
          <a:blip r:embed="rId3"/>
          <a:stretch/>
        </p:blipFill>
        <p:spPr>
          <a:xfrm>
            <a:off x="0" y="1341360"/>
            <a:ext cx="2916360" cy="237492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15" descr="C:\Users\1\Desktop\1264966189_gremuchnik.jpg"/>
          <p:cNvPicPr/>
          <p:nvPr/>
        </p:nvPicPr>
        <p:blipFill>
          <a:blip r:embed="rId4"/>
          <a:stretch/>
        </p:blipFill>
        <p:spPr>
          <a:xfrm>
            <a:off x="2843280" y="126828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16" descr="C:\Users\1\Desktop\images (4).jpg"/>
          <p:cNvPicPr/>
          <p:nvPr/>
        </p:nvPicPr>
        <p:blipFill>
          <a:blip r:embed="rId5"/>
          <a:stretch/>
        </p:blipFill>
        <p:spPr>
          <a:xfrm>
            <a:off x="0" y="3645000"/>
            <a:ext cx="2771640" cy="321300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17" descr="C:\Users\1\Desktop\Без названия (1).jpg"/>
          <p:cNvPicPr/>
          <p:nvPr/>
        </p:nvPicPr>
        <p:blipFill>
          <a:blip r:embed="rId6"/>
          <a:stretch/>
        </p:blipFill>
        <p:spPr>
          <a:xfrm>
            <a:off x="2712960" y="3645000"/>
            <a:ext cx="358776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4111200" y="4214520"/>
            <a:ext cx="5032440" cy="21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жик Параскева Анатолії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читель біолог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З «Будимлянський НВ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WordArt 7" descr=""/>
          <p:cNvPicPr/>
          <p:nvPr/>
        </p:nvPicPr>
        <p:blipFill>
          <a:blip r:embed="rId1"/>
          <a:stretch/>
        </p:blipFill>
        <p:spPr>
          <a:xfrm>
            <a:off x="49320" y="1030320"/>
            <a:ext cx="9240840" cy="33336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11" descr="C:\Users\1\Desktop\756.gif"/>
          <p:cNvPicPr/>
          <p:nvPr/>
        </p:nvPicPr>
        <p:blipFill>
          <a:blip r:embed="rId2"/>
          <a:stretch/>
        </p:blipFill>
        <p:spPr>
          <a:xfrm>
            <a:off x="684360" y="4437000"/>
            <a:ext cx="2447640" cy="194472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13" descr="C:\Users\1\Desktop\212.gif"/>
          <p:cNvPicPr/>
          <p:nvPr/>
        </p:nvPicPr>
        <p:blipFill>
          <a:blip r:embed="rId3"/>
          <a:stretch/>
        </p:blipFill>
        <p:spPr>
          <a:xfrm>
            <a:off x="6948360" y="404640"/>
            <a:ext cx="1656000" cy="208764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14" descr="C:\Users\1\Desktop\594.gif"/>
          <p:cNvPicPr/>
          <p:nvPr/>
        </p:nvPicPr>
        <p:blipFill>
          <a:blip r:embed="rId4"/>
          <a:stretch/>
        </p:blipFill>
        <p:spPr>
          <a:xfrm>
            <a:off x="468360" y="404640"/>
            <a:ext cx="20876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Прямоугольник 1"/>
          <p:cNvSpPr/>
          <p:nvPr/>
        </p:nvSpPr>
        <p:spPr>
          <a:xfrm>
            <a:off x="0" y="633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Impact"/>
                <a:ea typeface="Times New Roman"/>
              </a:rPr>
              <a:t>                  </a:t>
            </a:r>
            <a:r>
              <a:rPr b="0" lang="ru-RU" sz="5400" spc="-1" strike="noStrike">
                <a:solidFill>
                  <a:srgbClr val="c00000"/>
                </a:solidFill>
                <a:latin typeface="Impact"/>
                <a:ea typeface="Times New Roman"/>
              </a:rPr>
              <a:t>І</a:t>
            </a:r>
            <a:r>
              <a:rPr b="0" lang="en-US" sz="5400" spc="-1" strike="noStrike">
                <a:solidFill>
                  <a:srgbClr val="c00000"/>
                </a:solidFill>
                <a:latin typeface="Impact"/>
                <a:ea typeface="Times New Roman"/>
              </a:rPr>
              <a:t>V </a:t>
            </a:r>
            <a:r>
              <a:rPr b="0" lang="uk-UA" sz="5400" spc="-1" strike="noStrike">
                <a:solidFill>
                  <a:srgbClr val="c00000"/>
                </a:solidFill>
                <a:latin typeface="Impact"/>
                <a:ea typeface="Times New Roman"/>
              </a:rPr>
              <a:t>. </a:t>
            </a:r>
            <a:r>
              <a:rPr b="0" lang="ru-RU" sz="5400" spc="-1" strike="noStrike">
                <a:solidFill>
                  <a:srgbClr val="c00000"/>
                </a:solidFill>
                <a:latin typeface="Impact"/>
                <a:ea typeface="Times New Roman"/>
              </a:rPr>
              <a:t>Дерево  мети: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Picture 3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2" name="Скругленный прямоугольник 2"/>
          <p:cNvSpPr/>
          <p:nvPr/>
        </p:nvSpPr>
        <p:spPr>
          <a:xfrm>
            <a:off x="539640" y="2276640"/>
            <a:ext cx="2376720" cy="129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вжити формувати знання учнів про плазуні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Скругленный прямоугольник 5"/>
          <p:cNvSpPr/>
          <p:nvPr/>
        </p:nvSpPr>
        <p:spPr>
          <a:xfrm>
            <a:off x="4968720" y="1773360"/>
            <a:ext cx="2827440" cy="1295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йомити із значенням класу Рептилії та розкрити їх особливості в природі та житті люд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Скругленный прямоугольник 7"/>
          <p:cNvSpPr/>
          <p:nvPr/>
        </p:nvSpPr>
        <p:spPr>
          <a:xfrm>
            <a:off x="250920" y="3860640"/>
            <a:ext cx="2808360" cy="1416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ити висновки та узагальнення; розвивати спостережливість, пам’ять, увагу, логічне мисленн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Скругленный прямоугольник 8"/>
          <p:cNvSpPr/>
          <p:nvPr/>
        </p:nvSpPr>
        <p:spPr>
          <a:xfrm>
            <a:off x="4460760" y="3336840"/>
            <a:ext cx="3444840" cy="180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ховувати бережливе ставлення до приоди рідного краю,а саме тварин класу Рептил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6" name="Picture 12" descr="C:\Users\1\Desktop\138.gif"/>
          <p:cNvPicPr/>
          <p:nvPr/>
        </p:nvPicPr>
        <p:blipFill>
          <a:blip r:embed="rId2"/>
          <a:stretch/>
        </p:blipFill>
        <p:spPr>
          <a:xfrm>
            <a:off x="-324000" y="0"/>
            <a:ext cx="1906560" cy="137160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13" descr="C:\Users\1\Desktop\79.gif"/>
          <p:cNvPicPr/>
          <p:nvPr/>
        </p:nvPicPr>
        <p:blipFill>
          <a:blip r:embed="rId3"/>
          <a:stretch/>
        </p:blipFill>
        <p:spPr>
          <a:xfrm>
            <a:off x="4067280" y="5445000"/>
            <a:ext cx="2112840" cy="107820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12" descr="C:\Users\1\Desktop\254.gif"/>
          <p:cNvPicPr/>
          <p:nvPr/>
        </p:nvPicPr>
        <p:blipFill>
          <a:blip r:embed="rId4"/>
          <a:stretch/>
        </p:blipFill>
        <p:spPr>
          <a:xfrm>
            <a:off x="1403280" y="5373720"/>
            <a:ext cx="1419120" cy="110484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5" descr="C:\Users\1\Desktop\1268598024_krokod.gif"/>
          <p:cNvPicPr/>
          <p:nvPr/>
        </p:nvPicPr>
        <p:blipFill>
          <a:blip r:embed="rId5"/>
          <a:stretch/>
        </p:blipFill>
        <p:spPr>
          <a:xfrm>
            <a:off x="7164360" y="5157720"/>
            <a:ext cx="1619280" cy="1455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V</a:t>
            </a:r>
            <a:r>
              <a:rPr b="1" lang="uk-UA" sz="3200" spc="-1" strike="noStrike">
                <a:solidFill>
                  <a:srgbClr val="ff0000"/>
                </a:solidFill>
                <a:latin typeface="Impact"/>
              </a:rPr>
              <a:t>. СПРИЙНЯТТЯ І УСВІДОМЛЕННЯ НОВОГО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Impact"/>
              </a:rPr>
              <a:t>МАТЕРІ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Прямоугольник 2"/>
          <p:cNvSpPr/>
          <p:nvPr/>
        </p:nvSpPr>
        <p:spPr>
          <a:xfrm>
            <a:off x="9360" y="83664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Impact"/>
              </a:rPr>
              <a:t>                                          </a:t>
            </a:r>
            <a:r>
              <a:rPr b="0" lang="uk-UA" sz="3200" spc="-1" strike="noStrike" u="sng">
                <a:solidFill>
                  <a:srgbClr val="ffff00"/>
                </a:solidFill>
                <a:uFillTx/>
                <a:latin typeface="Impact"/>
              </a:rPr>
              <a:t> </a:t>
            </a:r>
            <a:r>
              <a:rPr b="0" lang="uk-UA" sz="3200" spc="-1" strike="noStrike" u="sng">
                <a:solidFill>
                  <a:srgbClr val="ffff00"/>
                </a:solidFill>
                <a:uFillTx/>
                <a:latin typeface="Impact"/>
              </a:rPr>
              <a:t>План робо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2060"/>
                </a:solidFill>
                <a:uFillTx/>
                <a:latin typeface="Impact"/>
              </a:rPr>
              <a:t>1.Значення плазунів в природі та житті людини.(розповідь вчителя з елементами бесід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c00000"/>
                </a:solidFill>
                <a:uFillTx/>
                <a:latin typeface="Impact"/>
              </a:rPr>
              <a:t>2.Перегляд відеофіль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2060"/>
                </a:solidFill>
                <a:uFillTx/>
                <a:latin typeface="Impact"/>
              </a:rPr>
              <a:t>3.Роль плазунів в природі та житті людини(робота з підручником та зошитом с. 3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2060"/>
                </a:solidFill>
                <a:uFillTx/>
                <a:latin typeface="Impact"/>
              </a:rPr>
              <a:t>4.Прийом «Вірю- не вірю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2" name="Picture 5" descr="C:\Users\1\Desktop\254.gif"/>
          <p:cNvPicPr/>
          <p:nvPr/>
        </p:nvPicPr>
        <p:blipFill>
          <a:blip r:embed="rId1"/>
          <a:stretch/>
        </p:blipFill>
        <p:spPr>
          <a:xfrm>
            <a:off x="6084720" y="4869000"/>
            <a:ext cx="3059280" cy="198900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7" descr="C:\Users\1\Desktop\221.gif"/>
          <p:cNvPicPr/>
          <p:nvPr/>
        </p:nvPicPr>
        <p:blipFill>
          <a:blip r:embed="rId2"/>
          <a:stretch/>
        </p:blipFill>
        <p:spPr>
          <a:xfrm>
            <a:off x="2771640" y="4869000"/>
            <a:ext cx="3384720" cy="198900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9" descr="C:\Users\1\Desktop\117.gif"/>
          <p:cNvPicPr/>
          <p:nvPr/>
        </p:nvPicPr>
        <p:blipFill>
          <a:blip r:embed="rId3"/>
          <a:stretch/>
        </p:blipFill>
        <p:spPr>
          <a:xfrm>
            <a:off x="0" y="4869000"/>
            <a:ext cx="277164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Прямокутник 1"/>
          <p:cNvSpPr/>
          <p:nvPr/>
        </p:nvSpPr>
        <p:spPr>
          <a:xfrm>
            <a:off x="-36360" y="549360"/>
            <a:ext cx="918036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  <a:ea typeface="Calibri"/>
              </a:rPr>
              <a:t>                          </a:t>
            </a:r>
            <a:r>
              <a:rPr b="1" lang="uk-UA" sz="4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 </a:t>
            </a:r>
            <a:r>
              <a:rPr b="1" lang="uk-UA" sz="4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Фізкультхвил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  <a:ea typeface="Calibri"/>
              </a:rPr>
              <a:t>    </a:t>
            </a:r>
            <a:r>
              <a:rPr b="1" lang="uk-UA" sz="28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Руки вгору: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рептилії Ряду Луска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  <a:ea typeface="Calibri"/>
              </a:rPr>
              <a:t>    </a:t>
            </a:r>
            <a:r>
              <a:rPr b="1" lang="uk-UA" sz="28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Один всплеск: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рептилії ряду Черепа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 </a:t>
            </a:r>
            <a:r>
              <a:rPr b="1" lang="uk-UA" sz="28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Два всплески: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рептилії ряду Крокоди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Розмах рук: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тварини ,які неналежать до класу Рептилії</a:t>
            </a:r>
            <a:r>
              <a:rPr b="1" lang="uk-UA" sz="28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  <a:ea typeface="Calibri"/>
              </a:rPr>
              <a:t>1.Крокодил,хамелеон,черепаха,караку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  <a:ea typeface="Calibri"/>
              </a:rPr>
              <a:t>2.Веретільниця,черепаха,сом,гаві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  <a:ea typeface="Calibri"/>
              </a:rPr>
              <a:t>3.Саламандра,крокодил,кобра,черепа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6" name="Picture 14" descr="C:\Users\1\Desktop\138.gif"/>
          <p:cNvPicPr/>
          <p:nvPr/>
        </p:nvPicPr>
        <p:blipFill>
          <a:blip r:embed="rId1"/>
          <a:stretch/>
        </p:blipFill>
        <p:spPr>
          <a:xfrm>
            <a:off x="-468360" y="0"/>
            <a:ext cx="2519280" cy="184464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11" descr="C:\Users\1\Desktop\756.gif"/>
          <p:cNvPicPr/>
          <p:nvPr/>
        </p:nvPicPr>
        <p:blipFill>
          <a:blip r:embed="rId2"/>
          <a:stretch/>
        </p:blipFill>
        <p:spPr>
          <a:xfrm>
            <a:off x="324000" y="5300640"/>
            <a:ext cx="2160360" cy="136836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14" descr="C:\Users\1\Desktop\594.gif"/>
          <p:cNvPicPr/>
          <p:nvPr/>
        </p:nvPicPr>
        <p:blipFill>
          <a:blip r:embed="rId3"/>
          <a:stretch/>
        </p:blipFill>
        <p:spPr>
          <a:xfrm>
            <a:off x="2987640" y="5084640"/>
            <a:ext cx="2087640" cy="158436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8" descr="C:\Users\1\Desktop\110.gif"/>
          <p:cNvPicPr/>
          <p:nvPr/>
        </p:nvPicPr>
        <p:blipFill>
          <a:blip r:embed="rId4"/>
          <a:stretch/>
        </p:blipFill>
        <p:spPr>
          <a:xfrm>
            <a:off x="5867280" y="5013360"/>
            <a:ext cx="285120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8:50:50Z</dcterms:created>
  <dc:creator>Долгорукова</dc:creator>
  <dc:description/>
  <dc:language>en-US</dc:language>
  <cp:lastModifiedBy>1</cp:lastModifiedBy>
  <dcterms:modified xsi:type="dcterms:W3CDTF">2017-12-11T22:26:39Z</dcterms:modified>
  <cp:revision>104</cp:revision>
  <dc:subject/>
  <dc:title>Слайд 1</dc:title>
</cp:coreProperties>
</file>