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01C0-FC44-4FA8-B1FE-D6C8D1926F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A119-A677-4B96-B476-39DABC6238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334-17A9-4AEE-9922-AF2FDDC7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BA6-75B9-4A35-8414-40F30E5E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65B-5942-4983-BB08-3AEBF2BB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50C-E4A6-4546-AC25-2572A65A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B16-278E-4BA1-A907-18B03798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FED-00E3-42A2-B35A-AF914F11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381-4B0F-4A74-8FC1-5C5B1B57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1B2-E387-4BBB-9802-834E7D86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4DA-D326-4938-8FDD-CF472E0B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EC2-6444-4302-A26A-5038980C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B88-CF16-46A8-8E57-F82EB2FD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F1D-3679-40B4-9387-BA52F4C4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69DE-A670-4A5F-9126-ADCB6FCEC4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otki.yandex.ru/users/platona1981/view/563348?page=1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hkol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3340080" y="603360"/>
            <a:ext cx="5200560" cy="346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shkola-1"/>
          <p:cNvPicPr/>
          <p:nvPr/>
        </p:nvPicPr>
        <p:blipFill>
          <a:blip r:embed="rId3"/>
          <a:stretch/>
        </p:blipFill>
        <p:spPr>
          <a:xfrm>
            <a:off x="285840" y="7429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home\Downloads\kv.png"/>
          <p:cNvPicPr/>
          <p:nvPr/>
        </p:nvPicPr>
        <p:blipFill>
          <a:blip r:embed="rId1"/>
          <a:stretch/>
        </p:blipFill>
        <p:spPr>
          <a:xfrm>
            <a:off x="1047600" y="714240"/>
            <a:ext cx="7048800" cy="514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home\Downloads\PD104045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home\Downloads\vorob06.png"/>
          <p:cNvPicPr/>
          <p:nvPr/>
        </p:nvPicPr>
        <p:blipFill>
          <a:blip r:embed="rId3"/>
          <a:stretch/>
        </p:blipFill>
        <p:spPr>
          <a:xfrm>
            <a:off x="353880" y="49320"/>
            <a:ext cx="8436240" cy="6759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home\Downloads\yak-zrobiti-snzhinki-z-paperu-svoyimi-rukami_381.jpeg"/>
          <p:cNvPicPr/>
          <p:nvPr/>
        </p:nvPicPr>
        <p:blipFill>
          <a:blip r:embed="rId4"/>
          <a:stretch/>
        </p:blipFill>
        <p:spPr>
          <a:xfrm>
            <a:off x="0" y="-5000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home\Downloads\yak-namalyuvati-zaycya-olvcem_6.jpeg"/>
          <p:cNvPicPr/>
          <p:nvPr/>
        </p:nvPicPr>
        <p:blipFill>
          <a:blip r:embed="rId5"/>
          <a:stretch/>
        </p:blipFill>
        <p:spPr>
          <a:xfrm>
            <a:off x="0" y="-642960"/>
            <a:ext cx="9144000" cy="750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home\Downloads\stock-illustration-19759801-window-and-vase-with-pussy-willow-branch.jpg"/>
          <p:cNvPicPr/>
          <p:nvPr/>
        </p:nvPicPr>
        <p:blipFill>
          <a:blip r:embed="rId6"/>
          <a:stretch/>
        </p:blipFill>
        <p:spPr>
          <a:xfrm>
            <a:off x="-285840" y="-571680"/>
            <a:ext cx="8929800" cy="7072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Users\home\Downloads\images.jpg"/>
          <p:cNvPicPr/>
          <p:nvPr/>
        </p:nvPicPr>
        <p:blipFill>
          <a:blip r:embed="rId7"/>
          <a:stretch/>
        </p:blipFill>
        <p:spPr>
          <a:xfrm>
            <a:off x="-357120" y="-714240"/>
            <a:ext cx="9501120" cy="87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. в.                         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Товариш-                                              Радість-                                         Життя-                                            Ніч  -                                              Учень -                    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428840"/>
            <a:ext cx="40384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.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тежка-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Шапка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ниж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ука 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ібліотека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-1006560" y="158760"/>
            <a:ext cx="10730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оказав (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ругов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обачив (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)горобенятк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имостив (  ) пір"ячк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агодував (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) зерн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Гуляв (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) на двор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Учень саджає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клен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Клен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ростиме в парку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2.   Трактор оре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поле.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Незабаром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поле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зазеленіє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11280" y="1413000"/>
            <a:ext cx="8137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обус и карандаш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fotki.yandex.ru/users/platona1981/view/563348?page=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создан при помощи автофигур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706320" y="444600"/>
            <a:ext cx="845676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Організаційний моме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2"/>
          <a:stretch/>
        </p:blipFill>
        <p:spPr>
          <a:xfrm>
            <a:off x="-365040" y="1152360"/>
            <a:ext cx="9728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Добрісправикрасятьлюдин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2189160" y="231840"/>
            <a:ext cx="3967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01684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Прямоугольник 8" descr=""/>
          <p:cNvPicPr/>
          <p:nvPr/>
        </p:nvPicPr>
        <p:blipFill>
          <a:blip r:embed="rId1"/>
          <a:stretch/>
        </p:blipFill>
        <p:spPr>
          <a:xfrm>
            <a:off x="-23760" y="-219240"/>
            <a:ext cx="874692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Прямоугольник 2" descr=""/>
          <p:cNvPicPr/>
          <p:nvPr/>
        </p:nvPicPr>
        <p:blipFill>
          <a:blip r:embed="rId1"/>
          <a:stretch/>
        </p:blipFill>
        <p:spPr>
          <a:xfrm>
            <a:off x="2200320" y="-1079640"/>
            <a:ext cx="6950160" cy="67550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91960"/>
            <a:ext cx="9064800" cy="79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2520" y="1080"/>
            <a:ext cx="22176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Прямоугольник 4" descr=""/>
          <p:cNvPicPr/>
          <p:nvPr/>
        </p:nvPicPr>
        <p:blipFill>
          <a:blip r:embed="rId1"/>
          <a:stretch/>
        </p:blipFill>
        <p:spPr>
          <a:xfrm>
            <a:off x="281160" y="517680"/>
            <a:ext cx="86137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ome\Downloads\1_1.bmp"/>
          <p:cNvPicPr/>
          <p:nvPr/>
        </p:nvPicPr>
        <p:blipFill>
          <a:blip r:embed="rId2"/>
          <a:stretch/>
        </p:blipFill>
        <p:spPr>
          <a:xfrm>
            <a:off x="2571840" y="1285920"/>
            <a:ext cx="39290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home</cp:lastModifiedBy>
  <dcterms:modified xsi:type="dcterms:W3CDTF">2018-02-11T17:07:38Z</dcterms:modified>
  <cp:revision>45</cp:revision>
  <dc:subject/>
  <dc:title>Слайд 1</dc:title>
</cp:coreProperties>
</file>