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4D8-2F13-481F-AEF7-FC96D025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232-4BB7-475E-8240-4467E0D2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DCF-B8F3-44D1-9E33-B16E2050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33E-6822-430C-8E92-F5A46D05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691-D974-4F99-8FA9-1AB8D618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785-5331-4AC0-8483-A0EB297E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A77-33FA-49C7-934D-AD0BCB3B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F9D-B44B-4F06-AC59-C2D6056E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FB2-4A38-4E88-9E09-5602DB12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959-AC14-475D-B968-AC7DF61C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92F-45C4-4902-8109-C64184B1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AC4-8972-4208-BE86-DCA0D31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5EF3-0C26-42F0-B80A-881A829E06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fotki.yandex.ru/users/platona1981/view/563348?page=1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hkol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2" descr=""/>
          <p:cNvPicPr/>
          <p:nvPr/>
        </p:nvPicPr>
        <p:blipFill>
          <a:blip r:embed="rId2"/>
          <a:stretch/>
        </p:blipFill>
        <p:spPr>
          <a:xfrm>
            <a:off x="3340080" y="268200"/>
            <a:ext cx="5200560" cy="3462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3429000" y="6072120"/>
            <a:ext cx="65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читель початкових класі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онець Юлія Івані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5720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25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7030a0"/>
                </a:solidFill>
                <a:latin typeface="Times New Roman"/>
              </a:rPr>
              <a:t>Житло – дім, будинок, хата, оселя, домівка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825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7030a0"/>
                </a:solidFill>
                <a:latin typeface="Times New Roman"/>
              </a:rPr>
              <a:t>садиба, обійстя, хатина, халупа, особняк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825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7030a0"/>
                </a:solidFill>
                <a:latin typeface="Times New Roman"/>
              </a:rPr>
              <a:t>котедж, хороми, палац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825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7030a0"/>
                </a:solidFill>
                <a:latin typeface="Times New Roman"/>
              </a:rPr>
              <a:t>Майстер – митець, мастак, віртуоз, геній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825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7030a0"/>
                </a:solidFill>
                <a:latin typeface="Times New Roman"/>
              </a:rPr>
              <a:t>професіонал,фахівець, спеціаліст, умілец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825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7030a0"/>
                </a:solidFill>
                <a:latin typeface="Times New Roman"/>
              </a:rPr>
              <a:t>Натхнення – наснага, окрилення, завзяття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7030a0"/>
                </a:solidFill>
                <a:latin typeface="Times New Roman"/>
              </a:rPr>
              <a:t>піднесення, захват,захоплення.</a:t>
            </a:r>
            <a:r>
              <a:rPr b="1" lang="uk-UA" sz="32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Прямоугольник 3" descr=""/>
          <p:cNvPicPr/>
          <p:nvPr/>
        </p:nvPicPr>
        <p:blipFill>
          <a:blip r:embed="rId1"/>
          <a:stretch/>
        </p:blipFill>
        <p:spPr>
          <a:xfrm>
            <a:off x="2335320" y="19080"/>
            <a:ext cx="41511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50720" y="311040"/>
            <a:ext cx="8242560" cy="1663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Times New Roman"/>
              </a:rPr>
              <a:t>Восени люди заготовляють для тварин -  ……. кор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Times New Roman"/>
              </a:rPr>
              <a:t>Комахи під корою дерев знаходять - ….. .пожив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Times New Roman"/>
              </a:rPr>
              <a:t>У дорогу турист узяв із собою - …. .їж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Овальная выноска 3"/>
          <p:cNvSpPr/>
          <p:nvPr/>
        </p:nvSpPr>
        <p:spPr>
          <a:xfrm>
            <a:off x="5715000" y="2643120"/>
            <a:ext cx="1643040" cy="928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5072040" y="4429080"/>
            <a:ext cx="200016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2143080" y="5786280"/>
            <a:ext cx="157176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46160" y="420840"/>
            <a:ext cx="8785080" cy="115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Тепло - 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Літо - 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День - 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Радість -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_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785960"/>
            <a:ext cx="4038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очаток - 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Весна - 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Шум - 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Оптимізм -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.Відгадування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очитайте слово, впорядкувавши  бук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. Тлумачення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птиміз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погляд на життя з позитивної точки зор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.Вимова слова, визначення наголосу, поділ на склад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42960" y="2500200"/>
          <a:ext cx="7072200" cy="1071720"/>
        </p:xfrm>
        <a:graphic>
          <a:graphicData uri="http://schemas.openxmlformats.org/drawingml/2006/table">
            <a:tbl>
              <a:tblPr/>
              <a:tblGrid>
                <a:gridCol w="884160"/>
                <a:gridCol w="884160"/>
                <a:gridCol w="884520"/>
                <a:gridCol w="884160"/>
                <a:gridCol w="882720"/>
                <a:gridCol w="884160"/>
                <a:gridCol w="884160"/>
                <a:gridCol w="88416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428760" y="714240"/>
            <a:ext cx="871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4. Написання сло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5. Порівняння вимови та написання слова. Визначення орфограми.         Перевірка за словни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6. Добирання антонім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7. Відновлення реченн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-133200" y="328680"/>
            <a:ext cx="9410400" cy="109836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2" descr=""/>
          <p:cNvPicPr/>
          <p:nvPr/>
        </p:nvPicPr>
        <p:blipFill>
          <a:blip r:embed="rId2"/>
          <a:stretch/>
        </p:blipFill>
        <p:spPr>
          <a:xfrm>
            <a:off x="165240" y="969840"/>
            <a:ext cx="86547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911232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Зробиш добро – не кайся, вдієш _____ начувайся. Праця людину годує, а ____марнує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Брехні багато, а _____ одна. Щастя має ноги, а ____ - роги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(Біда, лихо, правда, лінь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540640" cy="1158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6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7030a0"/>
                </a:solidFill>
                <a:latin typeface="Times New Roman"/>
              </a:rPr>
              <a:t>1-ша груп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7030a0"/>
                </a:solidFill>
                <a:latin typeface="Times New Roman"/>
              </a:rPr>
              <a:t>- Доберіть антонім до слова </a:t>
            </a:r>
            <a:r>
              <a:rPr b="1" i="1" lang="uk-UA" sz="3800" spc="-1" strike="noStrike">
                <a:solidFill>
                  <a:srgbClr val="ff0000"/>
                </a:solidFill>
                <a:latin typeface="Times New Roman"/>
              </a:rPr>
              <a:t>плюс</a:t>
            </a:r>
            <a:r>
              <a:rPr b="1" i="1" lang="uk-UA" sz="38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7030a0"/>
                </a:solidFill>
                <a:latin typeface="Times New Roman"/>
              </a:rPr>
              <a:t>2-га  груп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7030a0"/>
                </a:solidFill>
                <a:latin typeface="Times New Roman"/>
              </a:rPr>
              <a:t>Доберіть антонім до слова </a:t>
            </a:r>
            <a:r>
              <a:rPr b="1" i="1" lang="uk-UA" sz="3800" spc="-1" strike="noStrike">
                <a:solidFill>
                  <a:srgbClr val="ff0000"/>
                </a:solidFill>
                <a:latin typeface="Times New Roman"/>
              </a:rPr>
              <a:t>порядок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7030a0"/>
                </a:solidFill>
                <a:latin typeface="Times New Roman"/>
              </a:rPr>
              <a:t>3-тя група</a:t>
            </a:r>
            <a:r>
              <a:rPr b="1" lang="uk-UA" sz="3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7030a0"/>
                </a:solidFill>
                <a:latin typeface="Times New Roman"/>
              </a:rPr>
              <a:t>Доберіть антонім до слова </a:t>
            </a:r>
            <a:r>
              <a:rPr b="1" i="1" lang="uk-UA" sz="3800" spc="-1" strike="noStrike">
                <a:solidFill>
                  <a:srgbClr val="ff0000"/>
                </a:solidFill>
                <a:latin typeface="Times New Roman"/>
              </a:rPr>
              <a:t>праця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420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928440"/>
            <a:ext cx="86868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люс – мінус,недолік,  хиба,вад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орядок – безлад, безладдя, хаос, гармидер, розгардіяш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лутанина, анархі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раця  - відпочинок, ледарство, ледарювання, лінощі, байдикування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6840" y="785520"/>
            <a:ext cx="8472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.У якому рядку синоніми до іменника доброта дібрано правиль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) Чуйність, сердечніс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) лагідність, зліс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) лихо, щирі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.У якому рядку записано речення, що містить іменники – антонім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) Умієш брати, умій відда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) На чужому горі щастя не збудуєш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)На маленький гачок велику рибу не спіймаєш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853920" y="658800"/>
            <a:ext cx="82537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11280" y="1413000"/>
            <a:ext cx="8137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обус и карандаш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fotki.yandex.ru/users/platona1981/view/563348?page=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создан при помощи автофигур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2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7712280" cy="1084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770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Закінчилась перерва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 клас покликав всіх дзвіно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Times New Roman"/>
              </a:rPr>
              <a:t>Ходить тиша в коридорі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Times New Roman"/>
              </a:rPr>
              <a:t>Починається уро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96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2268"/>
                </a:solidFill>
                <a:latin typeface="Times New Roman"/>
              </a:rPr>
              <a:t>Які слова називаються синонімам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2268"/>
                </a:solidFill>
                <a:latin typeface="Times New Roman"/>
              </a:rPr>
              <a:t>Які слова називаються антонімам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2268"/>
                </a:solidFill>
                <a:latin typeface="Times New Roman"/>
              </a:rPr>
              <a:t>Яку роль у мовленні відіграю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2268"/>
                </a:solidFill>
                <a:latin typeface="Times New Roman"/>
              </a:rPr>
              <a:t>іменники – синонім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1"/>
          <a:stretch/>
        </p:blipFill>
        <p:spPr>
          <a:xfrm>
            <a:off x="1835280" y="304920"/>
            <a:ext cx="6059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706320" y="208080"/>
            <a:ext cx="8242560" cy="115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3"/>
          <a:stretch/>
        </p:blipFill>
        <p:spPr>
          <a:xfrm>
            <a:off x="-506520" y="1139760"/>
            <a:ext cx="1073016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Times New Roman"/>
              </a:rPr>
              <a:t>Десь у гаї народилас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Times New Roman"/>
              </a:rPr>
              <a:t>В нашій хаті оселилас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Times New Roman"/>
              </a:rPr>
              <a:t>Була німа і нежива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Times New Roman"/>
              </a:rPr>
              <a:t>Тепер говорить і спів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Times New Roman"/>
              </a:rPr>
              <a:t>Сопіл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1785960" y="865080"/>
            <a:ext cx="607860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796600" cy="115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Times New Roman"/>
              </a:rPr>
              <a:t>Я труд поважаю: все літо літаю у поле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Times New Roman"/>
              </a:rPr>
              <a:t>до гаю, збираю медок з різних квіт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Times New Roman"/>
              </a:rPr>
              <a:t>Бджо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Times New Roman"/>
              </a:rPr>
              <a:t>Моя праця без зупинку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Times New Roman"/>
              </a:rPr>
              <a:t>Не спинюсь ні на хвилин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Times New Roman"/>
              </a:rPr>
              <a:t>Землю грію день і ніч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Times New Roman"/>
              </a:rPr>
              <a:t>Не вугілля я й не пі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Times New Roman"/>
              </a:rPr>
              <a:t>Сон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56008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285560"/>
            <a:ext cx="8686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Times New Roman"/>
              </a:rPr>
              <a:t>1-ша гр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Times New Roman"/>
              </a:rPr>
              <a:t>- Оберіть синонім до слова </a:t>
            </a: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житло</a:t>
            </a:r>
            <a:r>
              <a:rPr b="1" i="1" lang="uk-UA" sz="40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Times New Roman"/>
              </a:rPr>
              <a:t>2-га  гр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Times New Roman"/>
              </a:rPr>
              <a:t>Оберіть синонім до слова </a:t>
            </a: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майст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Times New Roman"/>
              </a:rPr>
              <a:t>3-тя група</a:t>
            </a:r>
            <a:r>
              <a:rPr b="1" lang="uk-UA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Times New Roman"/>
              </a:rPr>
              <a:t>Оберіть синонім до слова </a:t>
            </a: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натхнен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home</cp:lastModifiedBy>
  <dcterms:modified xsi:type="dcterms:W3CDTF">2018-02-11T17:33:52Z</dcterms:modified>
  <cp:revision>56</cp:revision>
  <dc:subject/>
  <dc:title>Слайд 1</dc:title>
</cp:coreProperties>
</file>