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4.png" ContentType="image/png"/>
  <Override PartName="/ppt/media/image9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D137-76B3-48DC-B555-2007870F0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0848-F572-4AB9-9272-D10F77A84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BB62-4066-4BD2-8D92-11444322F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B4B3-46D5-40BE-931D-9E3CE9042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238A7-02EB-4001-839A-F3372AF0B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3EC62-C9C4-485B-9544-1A99FE28F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70428-6A4B-4BC0-9C5E-D7F92E7DC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0BAC6-D3BE-4386-9839-E88BA3CBE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2A117-A643-4068-A85F-766BDB54D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C311E-2B32-4E47-975E-7D454D6EB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7FDD6-F8F5-474E-9F4D-F37044D3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F4AA-8B34-40F1-832D-E0D1EF766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9E489-7219-4DD7-92F1-C7B026FC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A39A9-09AC-4C0C-A2AC-1963FCBD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F6533-DD07-4044-B598-8483A54E6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B751E-C547-4F89-ABB0-F817F8C6E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D3937-2791-4CEA-8B70-0ACD10986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3BAF-2F79-4AC8-A03D-3F74E5E27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5326-65E4-4ED9-902F-3304A43EF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6AD8-EC3E-4B22-B5BC-91F46E090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5BC7-C631-4940-B5C8-42FCE4EB6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AC15-B6BC-4EEA-AFD1-C570B3E8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7F94-F15C-48DA-9083-F1C90E3D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E43D-A65A-45D4-891D-9BC08CFD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8C20F-90FB-4B63-B0A4-4B108DEA64B3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93F7D-43B5-43EB-A75A-D128ED3E76E7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4"/>
          <p:cNvSpPr/>
          <p:nvPr/>
        </p:nvSpPr>
        <p:spPr>
          <a:xfrm>
            <a:off x="1908000" y="189000"/>
            <a:ext cx="6191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Monotype Corsiva"/>
              </a:rPr>
              <a:t>Дати поштовх розвитку дитини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Monotype Corsiva"/>
              </a:rPr>
              <a:t>Її здібності розкрити до кінц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Monotype Corsiva"/>
              </a:rPr>
              <a:t>Допомогти становленню людини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Monotype Corsiva"/>
              </a:rPr>
              <a:t>Як особистості, дослідника, творц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8" name="Picture 5" descr="дева"/>
          <p:cNvPicPr/>
          <p:nvPr/>
        </p:nvPicPr>
        <p:blipFill>
          <a:blip r:embed="rId1"/>
          <a:stretch/>
        </p:blipFill>
        <p:spPr>
          <a:xfrm>
            <a:off x="3635280" y="2430360"/>
            <a:ext cx="4105440" cy="39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Verdana"/>
              </a:rPr>
              <a:t>Робота з ПК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Picture 6" descr="preview"/>
          <p:cNvPicPr/>
          <p:nvPr/>
        </p:nvPicPr>
        <p:blipFill>
          <a:blip r:embed="rId1"/>
          <a:stretch/>
        </p:blipFill>
        <p:spPr>
          <a:xfrm>
            <a:off x="4932360" y="1628640"/>
            <a:ext cx="3581280" cy="4648320"/>
          </a:xfrm>
          <a:prstGeom prst="rect">
            <a:avLst/>
          </a:prstGeom>
          <a:ln w="0">
            <a:noFill/>
          </a:ln>
        </p:spPr>
      </p:pic>
      <p:sp>
        <p:nvSpPr>
          <p:cNvPr id="210" name="WordArt 8"/>
          <p:cNvSpPr txBox="1"/>
          <p:nvPr/>
        </p:nvSpPr>
        <p:spPr>
          <a:xfrm>
            <a:off x="2411280" y="2565360"/>
            <a:ext cx="28195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ажаю успіху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1" name="Picture 9" descr="666"/>
          <p:cNvPicPr/>
          <p:nvPr/>
        </p:nvPicPr>
        <p:blipFill>
          <a:blip r:embed="rId2"/>
          <a:stretch/>
        </p:blipFill>
        <p:spPr>
          <a:xfrm>
            <a:off x="1547640" y="836640"/>
            <a:ext cx="839880" cy="461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Verdana"/>
              </a:rPr>
              <a:t>Релаксація очей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3" name="Picture 6" descr="12"/>
          <p:cNvPicPr/>
          <p:nvPr/>
        </p:nvPicPr>
        <p:blipFill>
          <a:blip r:embed="rId1"/>
          <a:stretch/>
        </p:blipFill>
        <p:spPr>
          <a:xfrm>
            <a:off x="1763640" y="1700280"/>
            <a:ext cx="7380360" cy="515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Verdana"/>
              </a:rPr>
              <a:t>Домашнє завдання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Picture 5" descr="Безымянный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Verdana"/>
              </a:rPr>
              <a:t>Підсумок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Що ми робили сьогодні на уроці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Яку програму ми використовували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Як надрукувати текст біля малюнка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WordArt 4"/>
          <p:cNvSpPr txBox="1"/>
          <p:nvPr/>
        </p:nvSpPr>
        <p:spPr>
          <a:xfrm>
            <a:off x="2700360" y="4005360"/>
            <a:ext cx="547200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Дякую за увагу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" dur="1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" dur="10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684360" y="1484280"/>
            <a:ext cx="7488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Verdana"/>
              </a:rPr>
              <a:t>Доповніть речення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Verdana"/>
              </a:rPr>
              <a:t>Спину тримай…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Verdana"/>
              </a:rPr>
              <a:t>Не працюй брудними і вологими…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Verdana"/>
              </a:rPr>
              <a:t>Сидіти на відстані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Verdana"/>
              </a:rPr>
              <a:t>Не розпочинай роботу за комп'ютером без дозволу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4789440" y="2060640"/>
            <a:ext cx="12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66ff"/>
                </a:solidFill>
                <a:latin typeface="Arial"/>
              </a:rPr>
              <a:t>рівн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3492000" y="3141720"/>
            <a:ext cx="163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3300"/>
                </a:solidFill>
                <a:latin typeface="Arial"/>
              </a:rPr>
              <a:t>рук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5415840" y="3716280"/>
            <a:ext cx="372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cc00"/>
                </a:solidFill>
                <a:latin typeface="Arial"/>
              </a:rPr>
              <a:t>витягнутої</a:t>
            </a:r>
            <a:r>
              <a:rPr b="0" i="1" lang="uk-UA" sz="32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i="1" lang="uk-UA" sz="3200" spc="-1" strike="noStrike">
                <a:solidFill>
                  <a:srgbClr val="00cc00"/>
                </a:solidFill>
                <a:latin typeface="Arial"/>
              </a:rPr>
              <a:t>ру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7237080" y="4797360"/>
            <a:ext cx="19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9933ff"/>
                </a:solidFill>
                <a:latin typeface="Arial"/>
              </a:rPr>
              <a:t>вчител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WordArt 10"/>
          <p:cNvSpPr txBox="1"/>
          <p:nvPr/>
        </p:nvSpPr>
        <p:spPr>
          <a:xfrm>
            <a:off x="1619280" y="404640"/>
            <a:ext cx="5977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a50021"/>
                  </a:solidFill>
                  <a:miter/>
                </a:ln>
                <a:solidFill>
                  <a:srgbClr val="cc99ff"/>
                </a:solidFill>
                <a:latin typeface="Arial"/>
              </a:rPr>
              <a:t>Повторення ТБ</a:t>
            </a:r>
            <a:endParaRPr b="0" lang="en-US" sz="1800" spc="1" strike="noStrike">
              <a:ln w="12600">
                <a:solidFill>
                  <a:srgbClr val="a50021"/>
                </a:solidFill>
                <a:miter/>
              </a:ln>
              <a:solidFill>
                <a:srgbClr val="cc99ff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Verdana"/>
              </a:rPr>
              <a:t>Повторення попереднього матеріалу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Picture 8" descr="клавиатура1"/>
          <p:cNvPicPr/>
          <p:nvPr/>
        </p:nvPicPr>
        <p:blipFill>
          <a:blip r:embed="rId1"/>
          <a:stretch/>
        </p:blipFill>
        <p:spPr>
          <a:xfrm>
            <a:off x="0" y="1758960"/>
            <a:ext cx="9144000" cy="42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Verdana"/>
              </a:rPr>
              <a:t>Розминка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179280" y="1484280"/>
            <a:ext cx="9145800" cy="47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Закінчи речення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66ff"/>
                </a:solidFill>
                <a:latin typeface="Verdana"/>
              </a:rPr>
              <a:t>Телевізор має...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(вікно, килим, аптека, ґудзик, їдальня, касета, екран)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cc00"/>
                </a:solidFill>
                <a:latin typeface="Verdana"/>
              </a:rPr>
              <a:t>У птаха є...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(папір, олівець, дзьоб, настільна лампа, квіти, диван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9900cc"/>
                </a:solidFill>
                <a:latin typeface="Verdana"/>
              </a:rPr>
              <a:t>Корабель має...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(спина, стіл, півень, гвинт, китиця, ваза, магнітофон)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c3300"/>
                </a:solidFill>
                <a:latin typeface="Verdana"/>
              </a:rPr>
              <a:t>Людина має...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(хвіст, крила, обличчя, гребінець, жало, лапи, вовна)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9966"/>
                </a:solidFill>
                <a:latin typeface="Verdana"/>
              </a:rPr>
              <a:t>Автомобіль має...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(шланг, свисток, м'ячик, парасолька, фари, ліжко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-38772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Verdana"/>
              </a:rPr>
              <a:t>Розминка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0" name="Picture 6" descr=""/>
          <p:cNvPicPr/>
          <p:nvPr/>
        </p:nvPicPr>
        <p:blipFill>
          <a:blip r:embed="rId1"/>
          <a:stretch/>
        </p:blipFill>
        <p:spPr>
          <a:xfrm>
            <a:off x="5076720" y="2492280"/>
            <a:ext cx="2770200" cy="3652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"/>
          <p:cNvPicPr/>
          <p:nvPr/>
        </p:nvPicPr>
        <p:blipFill>
          <a:blip r:embed="rId2"/>
          <a:stretch/>
        </p:blipFill>
        <p:spPr>
          <a:xfrm>
            <a:off x="1619280" y="2637000"/>
            <a:ext cx="2774880" cy="359244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7"/>
          <p:cNvSpPr/>
          <p:nvPr/>
        </p:nvSpPr>
        <p:spPr>
          <a:xfrm>
            <a:off x="613440" y="545040"/>
            <a:ext cx="10742760" cy="19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9360" rIns="3105720" tIns="842760" bIns="2286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34343"/>
                </a:solidFill>
                <a:latin typeface="Arial"/>
                <a:ea typeface="Arial"/>
              </a:rPr>
              <a:t>Знайти 10 розбіжностей на малюнках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0" y="-134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0" y="498600"/>
          <a:ext cx="208080" cy="30765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30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Rectangle 19"/>
          <p:cNvSpPr/>
          <p:nvPr/>
        </p:nvSpPr>
        <p:spPr>
          <a:xfrm>
            <a:off x="1800" y="3574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Rectangle 20"/>
          <p:cNvSpPr/>
          <p:nvPr/>
        </p:nvSpPr>
        <p:spPr>
          <a:xfrm>
            <a:off x="0" y="-134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0" y="4491000"/>
          <a:ext cx="208080" cy="28004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80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8" name="Rectangle 31"/>
          <p:cNvSpPr/>
          <p:nvPr/>
        </p:nvSpPr>
        <p:spPr>
          <a:xfrm>
            <a:off x="1800" y="72910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Verdana"/>
              </a:rPr>
              <a:t>Актуалізація опорних знань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395280" y="5229360"/>
            <a:ext cx="99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66ff"/>
                </a:solidFill>
                <a:latin typeface="Verdana"/>
              </a:rPr>
              <a:t>Пуск</a:t>
            </a:r>
            <a:r>
              <a:rPr b="1" lang="en-US" sz="2400" spc="-1" strike="noStrike">
                <a:solidFill>
                  <a:srgbClr val="3366ff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=&gt;</a:t>
            </a:r>
            <a:r>
              <a:rPr b="1" lang="uk-UA" sz="2400" spc="-1" strike="noStrike">
                <a:solidFill>
                  <a:srgbClr val="3366ff"/>
                </a:solidFill>
                <a:latin typeface="Verdana"/>
              </a:rPr>
              <a:t> программы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=&gt;</a:t>
            </a:r>
            <a:r>
              <a:rPr b="1" lang="en-US" sz="2400" spc="-1" strike="noStrike">
                <a:solidFill>
                  <a:srgbClr val="3366ff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3366ff"/>
                </a:solidFill>
                <a:latin typeface="Verdana"/>
              </a:rPr>
              <a:t>стандартные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=&gt;</a:t>
            </a:r>
            <a:r>
              <a:rPr b="1" lang="ru-RU" sz="2400" spc="-1" strike="noStrike">
                <a:solidFill>
                  <a:srgbClr val="3366ff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3366ff"/>
                </a:solidFill>
                <a:latin typeface="Verdana"/>
              </a:rPr>
              <a:t>Paint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1477800" y="1628640"/>
            <a:ext cx="15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Pain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3708360" y="177336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9900"/>
                </a:solidFill>
                <a:latin typeface="Verdana"/>
              </a:rPr>
              <a:t>писати фарба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Line 11"/>
          <p:cNvSpPr/>
          <p:nvPr/>
        </p:nvSpPr>
        <p:spPr>
          <a:xfrm>
            <a:off x="3132000" y="2060640"/>
            <a:ext cx="505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4" name="Picture 15" descr="f7aa4923f0"/>
          <p:cNvPicPr/>
          <p:nvPr/>
        </p:nvPicPr>
        <p:blipFill>
          <a:blip r:embed="rId1"/>
          <a:stretch/>
        </p:blipFill>
        <p:spPr>
          <a:xfrm>
            <a:off x="3059280" y="2565360"/>
            <a:ext cx="3240000" cy="244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77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77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" dur="77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" dur="77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4"/>
          <p:cNvSpPr/>
          <p:nvPr/>
        </p:nvSpPr>
        <p:spPr>
          <a:xfrm>
            <a:off x="3742200" y="4046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Paint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6" name="Picture 5" descr="666"/>
          <p:cNvPicPr/>
          <p:nvPr/>
        </p:nvPicPr>
        <p:blipFill>
          <a:blip r:embed="rId1"/>
          <a:stretch/>
        </p:blipFill>
        <p:spPr>
          <a:xfrm>
            <a:off x="7164360" y="1197000"/>
            <a:ext cx="839880" cy="46195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777"/>
          <p:cNvPicPr/>
          <p:nvPr/>
        </p:nvPicPr>
        <p:blipFill>
          <a:blip r:embed="rId2"/>
          <a:stretch/>
        </p:blipFill>
        <p:spPr>
          <a:xfrm>
            <a:off x="1979640" y="5229360"/>
            <a:ext cx="4319640" cy="72216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7"/>
          <p:cNvSpPr/>
          <p:nvPr/>
        </p:nvSpPr>
        <p:spPr>
          <a:xfrm>
            <a:off x="1267920" y="1628640"/>
            <a:ext cx="378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3366ff"/>
                </a:solidFill>
                <a:latin typeface="Verdana"/>
              </a:rPr>
              <a:t>Панель інструменті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Text Box 8"/>
          <p:cNvSpPr/>
          <p:nvPr/>
        </p:nvSpPr>
        <p:spPr>
          <a:xfrm>
            <a:off x="2050920" y="328464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33cc"/>
                </a:solidFill>
                <a:latin typeface="Verdana"/>
              </a:rPr>
              <a:t>Палітра залив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Line 9"/>
          <p:cNvSpPr/>
          <p:nvPr/>
        </p:nvSpPr>
        <p:spPr>
          <a:xfrm>
            <a:off x="5292720" y="1989000"/>
            <a:ext cx="1008000" cy="14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Line 10"/>
          <p:cNvSpPr/>
          <p:nvPr/>
        </p:nvSpPr>
        <p:spPr>
          <a:xfrm>
            <a:off x="3995640" y="400536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Verdana"/>
              </a:rPr>
              <a:t>Тема:Створення вітальної листівки з використанням графічного редактору і тексту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3" name="Picture 5" descr="19-2"/>
          <p:cNvPicPr/>
          <p:nvPr/>
        </p:nvPicPr>
        <p:blipFill>
          <a:blip r:embed="rId1"/>
          <a:stretch/>
        </p:blipFill>
        <p:spPr>
          <a:xfrm>
            <a:off x="4797360" y="1712880"/>
            <a:ext cx="3865680" cy="49435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1" descr="Listivka_Q_1-4"/>
          <p:cNvPicPr/>
          <p:nvPr/>
        </p:nvPicPr>
        <p:blipFill>
          <a:blip r:embed="rId2"/>
          <a:stretch/>
        </p:blipFill>
        <p:spPr>
          <a:xfrm>
            <a:off x="695160" y="1712880"/>
            <a:ext cx="4224600" cy="501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Verdana"/>
              </a:rPr>
              <a:t>Фізкультхвилинка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5" descr="40607900_40404123_Lesley_Anne_Ivory_2_ak"/>
          <p:cNvPicPr/>
          <p:nvPr/>
        </p:nvPicPr>
        <p:blipFill>
          <a:blip r:embed="rId1"/>
          <a:stretch/>
        </p:blipFill>
        <p:spPr>
          <a:xfrm>
            <a:off x="1332000" y="1557360"/>
            <a:ext cx="7632720" cy="5032440"/>
          </a:xfrm>
          <a:prstGeom prst="rect">
            <a:avLst/>
          </a:prstGeom>
          <a:ln w="0">
            <a:noFill/>
          </a:ln>
        </p:spPr>
      </p:pic>
      <p:pic>
        <p:nvPicPr>
          <p:cNvPr id="207" name="зарядка.mp3" descr=""/>
          <p:cNvPicPr/>
          <p:nvPr/>
        </p:nvPicPr>
        <p:blipFill>
          <a:blip r:embed="rId2"/>
          <a:stretch/>
        </p:blipFill>
        <p:spPr>
          <a:xfrm>
            <a:off x="3419640" y="5661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96790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0T09:16:32Z</dcterms:created>
  <dc:creator>USER</dc:creator>
  <dc:description/>
  <dc:language>en-US</dc:language>
  <cp:lastModifiedBy>User</cp:lastModifiedBy>
  <dcterms:modified xsi:type="dcterms:W3CDTF">2018-02-25T13:35:55Z</dcterms:modified>
  <cp:revision>16</cp:revision>
  <dc:subject/>
  <dc:title>Повторення ТБ</dc:title>
</cp:coreProperties>
</file>