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7783-8701-4E21-A05C-53F085789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304-5951-4F9C-8BBF-C2EFF6F8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51D-14F3-459E-983E-44485E5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073-D972-400A-8AE2-E1BA4F2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A2D-CE8C-4744-B12E-B4862DA3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DE9-A95F-4CAA-8650-7C693591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137-0582-4A13-BCAE-48A122D6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D14-88DD-4855-A1C8-D0534321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59B-5AAF-40DA-90E6-55E6DF1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3C6-AF84-4BF2-8EC3-E3A9A45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B24-CF9C-4AB4-AC4F-F595FCF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CCB-1533-4E6C-9085-D810454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BE7-DF85-44CB-BA82-02AEF882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C4A3-CA2C-42E4-90CC-F45B86A9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Arial"/>
              </a:rPr>
              <a:t>Урок української мови </a:t>
            </a:r>
            <a:br>
              <a:rPr sz="6000"/>
            </a:br>
            <a:r>
              <a:rPr b="1" i="1" lang="en-US" sz="6000" spc="-1" strike="noStrike">
                <a:solidFill>
                  <a:srgbClr val="000099"/>
                </a:solidFill>
                <a:latin typeface="Arial"/>
              </a:rPr>
              <a:t>у 6 клас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Робота з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499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Прочитайте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Сформулюйте тему та основну думку тек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Що відбиває заголовок – тему чи основну думку  текс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До якого стилю мовлення належить тек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Що ви можете сказати про виділені у тексті ім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Чи можна їх провідмін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Arial"/>
              </a:rPr>
              <a:t>Чи можна визначити рід у поданих іменн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86" name="Овальная выноска 1"/>
          <p:cNvSpPr/>
          <p:nvPr/>
        </p:nvSpPr>
        <p:spPr>
          <a:xfrm>
            <a:off x="3635280" y="404640"/>
            <a:ext cx="5184720" cy="1295640"/>
          </a:xfrm>
          <a:prstGeom prst="wedgeEllipseCallout">
            <a:avLst>
              <a:gd name="adj1" fmla="val -54134"/>
              <a:gd name="adj2" fmla="val 79166"/>
            </a:avLst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р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Результат пошуку зображень за запитом &quot;фото будильника&quot;"/>
          <p:cNvPicPr/>
          <p:nvPr/>
        </p:nvPicPr>
        <p:blipFill>
          <a:blip r:embed="rId2"/>
          <a:stretch/>
        </p:blipFill>
        <p:spPr>
          <a:xfrm>
            <a:off x="324000" y="2565360"/>
            <a:ext cx="323676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Горизонтальный свиток 3"/>
          <p:cNvSpPr/>
          <p:nvPr/>
        </p:nvSpPr>
        <p:spPr>
          <a:xfrm>
            <a:off x="3708360" y="2637000"/>
            <a:ext cx="4392720" cy="287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добається вам подорожувати? Як географія як навчальний предмет зможе вам допомогти у майбутньому, якщо захочите помандрувати сві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Результат пошуку зображень за запитом &quot;фото будильника&quot;"/>
          <p:cNvPicPr/>
          <p:nvPr/>
        </p:nvPicPr>
        <p:blipFill>
          <a:blip r:embed="rId3"/>
          <a:stretch/>
        </p:blipFill>
        <p:spPr>
          <a:xfrm>
            <a:off x="324000" y="2565360"/>
            <a:ext cx="3236760" cy="403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Результат пошуку зображень за запитом &quot;фото будильника&quot;"/>
          <p:cNvPicPr/>
          <p:nvPr/>
        </p:nvPicPr>
        <p:blipFill>
          <a:blip r:embed="rId4"/>
          <a:stretch/>
        </p:blipFill>
        <p:spPr>
          <a:xfrm>
            <a:off x="324000" y="2565360"/>
            <a:ext cx="3236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Українська 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Результат пошуку зображень за запитом &quot;фото підручник українська мова&quot;"/>
          <p:cNvPicPr/>
          <p:nvPr/>
        </p:nvPicPr>
        <p:blipFill>
          <a:blip r:embed="rId2"/>
          <a:stretch/>
        </p:blipFill>
        <p:spPr>
          <a:xfrm>
            <a:off x="5219640" y="1773360"/>
            <a:ext cx="30114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ЗНАЙДИ П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3200" spc="-1" strike="noStrike" u="sng">
                <a:solidFill>
                  <a:srgbClr val="000066"/>
                </a:solidFill>
                <a:uFillTx/>
                <a:latin typeface="Arial"/>
              </a:rPr>
              <a:t>Довідка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УТ, ООН, Ірина Гайдук, поні,   А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Токіо, пані Іваненко,тур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ортмане,шимпанзе, пю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змінювані іменники. Рід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змінюваних іменни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24280"/>
            <a:ext cx="2519640" cy="3025800"/>
          </a:xfrm>
          <a:prstGeom prst="cloudCallout">
            <a:avLst>
              <a:gd name="adj1" fmla="val -10555"/>
              <a:gd name="adj2" fmla="val -11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іменники іншомовного походжен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зокрема з кінцевим наголошеним голосни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кіно, фойє, журі, ательє, трюмо, кенгур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Марокко та ін. АЛЕ: пальто, паль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пальті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492280"/>
            <a:ext cx="2376360" cy="2664000"/>
          </a:xfrm>
          <a:prstGeom prst="cloudCallout">
            <a:avLst>
              <a:gd name="adj1" fmla="val -29425"/>
              <a:gd name="adj2" fmla="val 4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Arial"/>
              </a:rPr>
              <a:t>жіночі прізвища на приголосний та -о: Олійник Світлана, Коваленко Катерина; а також російські прізвища на -их, -ово: Черних, Остр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2924280"/>
            <a:ext cx="2016000" cy="2449440"/>
          </a:xfrm>
          <a:prstGeom prst="cloudCallout">
            <a:avLst>
              <a:gd name="adj1" fmla="val -47166"/>
              <a:gd name="adj2" fmla="val 3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деякі абревіатури: ЮНЕСКО, Є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1628640"/>
            <a:ext cx="5112000" cy="8002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До незмінюваних іменників нале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394920" cy="6632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4360" y="563760"/>
            <a:ext cx="8229960" cy="6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Рід незмінюваних імен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0377800">
            <a:off x="395280" y="2276640"/>
            <a:ext cx="2232000" cy="3024000"/>
          </a:xfrm>
          <a:prstGeom prst="wedgeEllipseCallout">
            <a:avLst>
              <a:gd name="adj1" fmla="val 995"/>
              <a:gd name="adj2" fmla="val -18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 u="sng">
                <a:solidFill>
                  <a:srgbClr val="000066"/>
                </a:solidFill>
                <a:uFillTx/>
                <a:latin typeface="Arial"/>
              </a:rPr>
              <a:t>Чоловіч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66"/>
                </a:solidFill>
                <a:latin typeface="Arial"/>
              </a:rPr>
              <a:t>слова, що називають чоловіків (мосьє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66"/>
                </a:solidFill>
                <a:latin typeface="Arial"/>
              </a:rPr>
              <a:t>назви тварин переважно належать до чоловічого роду: поні, шимпанзе, колібрі. АЛЕ: цеце (муха) - ж. p.; кенгуру — ч. і ж. р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492280"/>
            <a:ext cx="2376360" cy="2880000"/>
          </a:xfrm>
          <a:prstGeom prst="wedgeEllipseCallout">
            <a:avLst>
              <a:gd name="adj1" fmla="val 3976"/>
              <a:gd name="adj2" fmla="val 2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66"/>
                </a:solidFill>
                <a:uFillTx/>
                <a:latin typeface="Arial"/>
              </a:rPr>
              <a:t>Жіноч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Arial"/>
              </a:rPr>
              <a:t>слова, що називають жінок (місіс, мада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840000">
            <a:off x="6443280" y="2421000"/>
            <a:ext cx="2232000" cy="2735280"/>
          </a:xfrm>
          <a:prstGeom prst="wedgeEllipseCallout">
            <a:avLst>
              <a:gd name="adj1" fmla="val -21620"/>
              <a:gd name="adj2" fmla="val -3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66"/>
                </a:solidFill>
                <a:uFillTx/>
                <a:latin typeface="Arial"/>
              </a:rPr>
              <a:t>Середн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Arial"/>
              </a:rPr>
              <a:t>назви неістот належать до середнього роду: рагу, соло, шасі, де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143800">
            <a:off x="2268360" y="1483920"/>
            <a:ext cx="486000" cy="1081080"/>
          </a:xfrm>
          <a:prstGeom prst="downArrow">
            <a:avLst>
              <a:gd name="adj1" fmla="val 50000"/>
              <a:gd name="adj2" fmla="val 55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1484280"/>
            <a:ext cx="486000" cy="97488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266000">
            <a:off x="6516360" y="1341000"/>
            <a:ext cx="485640" cy="1262160"/>
          </a:xfrm>
          <a:prstGeom prst="downArrow">
            <a:avLst>
              <a:gd name="adj1" fmla="val 50000"/>
              <a:gd name="adj2" fmla="val 649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-  рід географічних назв, назв газет, журналів визначаємо за загальною назвою. НАПРИКЛАД: Туапсе - с. р. (бо це місто); Кіліманджаро - ж. р. (бо це го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-  рід абревіатур визначаємо за родом основного слова. НАПРИКЛАД: сучасна АЕС - ж. р. (атомна електростанція; основне слово - станці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04640"/>
            <a:ext cx="7920000" cy="914400"/>
          </a:xfrm>
          <a:custGeom>
            <a:avLst/>
            <a:gdLst>
              <a:gd name="textAreaLeft" fmla="*/ 0 w 7920000"/>
              <a:gd name="textAreaRight" fmla="*/ 7920360 w 792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ЗВЕРНИ УВАГУ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089960" y="502200"/>
            <a:ext cx="3865320" cy="80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Перер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Результат пошуку зображень за запитом &quot;фото будильника&quot;"/>
          <p:cNvPicPr/>
          <p:nvPr/>
        </p:nvPicPr>
        <p:blipFill>
          <a:blip r:embed="rId2"/>
          <a:stretch/>
        </p:blipFill>
        <p:spPr>
          <a:xfrm>
            <a:off x="0" y="2781360"/>
            <a:ext cx="3606840" cy="3606840"/>
          </a:xfrm>
          <a:prstGeom prst="rect">
            <a:avLst/>
          </a:prstGeom>
          <a:ln w="0">
            <a:noFill/>
          </a:ln>
        </p:spPr>
      </p:pic>
      <p:sp>
        <p:nvSpPr>
          <p:cNvPr id="117" name="Горизонтальный свиток 3"/>
          <p:cNvSpPr/>
          <p:nvPr/>
        </p:nvSpPr>
        <p:spPr>
          <a:xfrm>
            <a:off x="4211640" y="2492280"/>
            <a:ext cx="4392720" cy="288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Фізкультхвил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робуємо перевірити,як ви засвоїли тему «Рід незмінюваних іменникі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Результат пошуку зображень за запитом &quot;фото математика&quot;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Розв’яжіть задачу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Знайдіть у тексті незмінювані слова. Визначте, до якого роду вони віднос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У джунглях Африки її мешканці-какаду і шимпанзе-зібрали 48 бананів та розділили їх між собою у відношенні 5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:7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Скільки бананів отримав кожен і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какаду  :  шимпан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5       :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61320" y="429120"/>
            <a:ext cx="3655800" cy="80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99"/>
                </a:solidFill>
                <a:latin typeface="Arial"/>
              </a:rPr>
              <a:t>Перер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езультат пошуку зображень за запитом &quot;фото будильника&quot;"/>
          <p:cNvPicPr/>
          <p:nvPr/>
        </p:nvPicPr>
        <p:blipFill>
          <a:blip r:embed="rId2"/>
          <a:stretch/>
        </p:blipFill>
        <p:spPr>
          <a:xfrm>
            <a:off x="179280" y="3645000"/>
            <a:ext cx="2924280" cy="2923920"/>
          </a:xfrm>
          <a:prstGeom prst="rect">
            <a:avLst/>
          </a:prstGeom>
          <a:ln w="0">
            <a:noFill/>
          </a:ln>
        </p:spPr>
      </p:pic>
      <p:sp>
        <p:nvSpPr>
          <p:cNvPr id="127" name="Горизонтальный свиток 3"/>
          <p:cNvSpPr/>
          <p:nvPr/>
        </p:nvSpPr>
        <p:spPr>
          <a:xfrm>
            <a:off x="4211640" y="2492280"/>
            <a:ext cx="4392720" cy="288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згадування мов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Е т и к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Результат пошуку зображень за запитом &quot;етика підручник фото&quot;"/>
          <p:cNvPicPr/>
          <p:nvPr/>
        </p:nvPicPr>
        <p:blipFill>
          <a:blip r:embed="rId2"/>
          <a:stretch/>
        </p:blipFill>
        <p:spPr>
          <a:xfrm>
            <a:off x="2643120" y="1700280"/>
            <a:ext cx="2982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189000"/>
            <a:ext cx="7848720" cy="215892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63720 h 2158920"/>
              <a:gd name="textAreaBottom" fmla="*/ 161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Життєва ситу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Уявіть,що ви з другом чи подругою зайшли до кафе. Замовте в офіціанта три страви із запропонованого меню, дотримуючись правил культури спіл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189000"/>
            <a:ext cx="7667640" cy="1800000"/>
          </a:xfrm>
          <a:custGeom>
            <a:avLst/>
            <a:gdLst>
              <a:gd name="textAreaLeft" fmla="*/ 1917000 w 7667640"/>
              <a:gd name="textAreaRight" fmla="*/ 5751000 w 7667640"/>
              <a:gd name="textAreaTop" fmla="*/ 53280 h 1800000"/>
              <a:gd name="textAreaBottom" fmla="*/ 1350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П Е Р Е В І Р  С Е Б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400" spc="-1" strike="noStrike" u="sng">
                <a:solidFill>
                  <a:srgbClr val="000066"/>
                </a:solidFill>
                <a:uFillTx/>
                <a:latin typeface="Arial"/>
              </a:rPr>
              <a:t>Вправа “Незакінчене речення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Закінчити подані ре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1. Іменники, що називають чоловіків відносяться д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2. Іменники, що називають жінок відносяться до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3. Іменники, що називають тварин відносяться до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4. Іменники назви неістот відносяться до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5. Іменник ЄС відноситься до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99"/>
                </a:solidFill>
                <a:latin typeface="Arial"/>
              </a:rPr>
              <a:t>6.Іменник ООН відноситься до……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88320" y="3601800"/>
            <a:ext cx="4609080" cy="2015640"/>
            <a:chOff x="4288320" y="3601800"/>
            <a:chExt cx="4609080" cy="2015640"/>
          </a:xfrm>
        </p:grpSpPr>
        <p:sp>
          <p:nvSpPr>
            <p:cNvPr id="140" name="Выноска-облако 1"/>
            <p:cNvSpPr/>
            <p:nvPr/>
          </p:nvSpPr>
          <p:spPr>
            <a:xfrm>
              <a:off x="4288320" y="3601800"/>
              <a:ext cx="4609080" cy="201564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edfda"/>
                </a:gs>
              </a:gsLst>
              <a:lin ang="5400000"/>
            </a:gra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66"/>
                  </a:solidFill>
                  <a:latin typeface="Times New Roman"/>
                </a:rPr>
                <a:t>Проблемне питанн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Результат пошуку зображень за запитом &quot;смайлик думає&quot;"/>
          <p:cNvPicPr/>
          <p:nvPr/>
        </p:nvPicPr>
        <p:blipFill>
          <a:blip r:embed="rId2"/>
          <a:stretch/>
        </p:blipFill>
        <p:spPr>
          <a:xfrm>
            <a:off x="539640" y="1197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00720" y="692280"/>
            <a:ext cx="4103640" cy="1439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Чи можна у наш час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обмежитися тільки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власне українськими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словами? Чо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333360"/>
            <a:ext cx="7704000" cy="1924200"/>
          </a:xfrm>
          <a:prstGeom prst="downArrowCallout">
            <a:avLst>
              <a:gd name="adj1" fmla="val 100103"/>
              <a:gd name="adj2" fmla="val 10009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омашнє завд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7272360" cy="3024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писати твір-мініатюру «У зоопарку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икористовуючи незмінювані ім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16000" y="0"/>
            <a:ext cx="7775640" cy="4005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якую за роботу на у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Результат пошуку зображень за запитом &quot;смайлики фото&quot;"/>
          <p:cNvPicPr/>
          <p:nvPr/>
        </p:nvPicPr>
        <p:blipFill>
          <a:blip r:embed="rId2"/>
          <a:stretch/>
        </p:blipFill>
        <p:spPr>
          <a:xfrm>
            <a:off x="3276720" y="4292640"/>
            <a:ext cx="2361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Тема.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 Незмінювані іменники. Рід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змінюваних іменни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99"/>
                </a:solidFill>
                <a:uFillTx/>
                <a:latin typeface="Arial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ати учням поняття про незмінювані іменники, формувати вміння  вирізняти їх у реченнях та правильно вживати в мовленні; пояснити особливості відмінювання іменників,  формувати вміння визначати відмінки використаних у реченнях і текстах іменників, правильно вживати такі іменники у формах непрямих відмінків у власному мовленні; удосконалювати культуру усного та писемного мовл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0" y="765000"/>
            <a:ext cx="53388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Ми вчимо частини м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Всіх їх треба добре зна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Щоб здобути знань осно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І щоб грамотно пис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Л. Шв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Результат пошуку зображень за запитом &quot;малюнок дитини з книгою&quot;"/>
          <p:cNvPicPr/>
          <p:nvPr/>
        </p:nvPicPr>
        <p:blipFill>
          <a:blip r:embed="rId2"/>
          <a:stretch/>
        </p:blipFill>
        <p:spPr>
          <a:xfrm>
            <a:off x="0" y="2492280"/>
            <a:ext cx="3657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змінювані іменники. Рід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змінюваних іменників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(урок-розклад заня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ов’язане зображення"/>
          <p:cNvPicPr/>
          <p:nvPr/>
        </p:nvPicPr>
        <p:blipFill>
          <a:blip r:embed="rId2"/>
          <a:stretch/>
        </p:blipFill>
        <p:spPr>
          <a:xfrm>
            <a:off x="3419640" y="2133720"/>
            <a:ext cx="5040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Проблемне питан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в’язане зображення"/>
          <p:cNvPicPr/>
          <p:nvPr/>
        </p:nvPicPr>
        <p:blipFill>
          <a:blip r:embed="rId2"/>
          <a:stretch/>
        </p:blipFill>
        <p:spPr>
          <a:xfrm>
            <a:off x="6877080" y="1844640"/>
            <a:ext cx="1727280" cy="3535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1989000"/>
            <a:ext cx="5688000" cy="36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ому у нашій мові з’являю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лова іншомовного походже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Розклад зан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Географ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Українська м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Е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Результат пошуку зображень за запитом &quot;фото підручник географії&quot;"/>
          <p:cNvPicPr/>
          <p:nvPr/>
        </p:nvPicPr>
        <p:blipFill>
          <a:blip r:embed="rId2"/>
          <a:stretch/>
        </p:blipFill>
        <p:spPr>
          <a:xfrm>
            <a:off x="63360" y="1341360"/>
            <a:ext cx="1724040" cy="261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Результат пошуку зображень за запитом &quot;фото підручник українська мова&quot;"/>
          <p:cNvPicPr/>
          <p:nvPr/>
        </p:nvPicPr>
        <p:blipFill>
          <a:blip r:embed="rId3"/>
          <a:stretch/>
        </p:blipFill>
        <p:spPr>
          <a:xfrm>
            <a:off x="1811160" y="2781360"/>
            <a:ext cx="1668600" cy="250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Результат пошуку зображень за запитом &quot;фото підручник математика&quot;"/>
          <p:cNvPicPr/>
          <p:nvPr/>
        </p:nvPicPr>
        <p:blipFill>
          <a:blip r:embed="rId4"/>
          <a:stretch/>
        </p:blipFill>
        <p:spPr>
          <a:xfrm>
            <a:off x="3419640" y="3789360"/>
            <a:ext cx="1618920" cy="244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Результат пошуку зображень за запитом &quot;фото підручник етика&quot;"/>
          <p:cNvPicPr/>
          <p:nvPr/>
        </p:nvPicPr>
        <p:blipFill>
          <a:blip r:embed="rId5"/>
          <a:stretch/>
        </p:blipFill>
        <p:spPr>
          <a:xfrm>
            <a:off x="5076720" y="4149720"/>
            <a:ext cx="1710000" cy="2513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Результат пошуку зображень за запитом &quot;фото підручник етика&quot;"/>
          <p:cNvPicPr/>
          <p:nvPr/>
        </p:nvPicPr>
        <p:blipFill>
          <a:blip r:embed="rId6"/>
          <a:stretch/>
        </p:blipFill>
        <p:spPr>
          <a:xfrm>
            <a:off x="5076720" y="4149720"/>
            <a:ext cx="1710000" cy="251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Результат пошуку зображень за запитом &quot;фото підручник етика&quot;"/>
          <p:cNvPicPr/>
          <p:nvPr/>
        </p:nvPicPr>
        <p:blipFill>
          <a:blip r:embed="rId7"/>
          <a:stretch/>
        </p:blipFill>
        <p:spPr>
          <a:xfrm>
            <a:off x="5076720" y="4149720"/>
            <a:ext cx="1710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Г е о г р а ф і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Результат пошуку зображень за запитом &quot;фото підручник географії&quot;"/>
          <p:cNvPicPr/>
          <p:nvPr/>
        </p:nvPicPr>
        <p:blipFill>
          <a:blip r:embed="rId2"/>
          <a:stretch/>
        </p:blipFill>
        <p:spPr>
          <a:xfrm>
            <a:off x="2975040" y="1484280"/>
            <a:ext cx="2986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632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000066"/>
                </a:solidFill>
                <a:uFillTx/>
                <a:latin typeface="Arial"/>
              </a:rPr>
              <a:t>Африка-другий за розмірами</a:t>
            </a:r>
            <a:br>
              <a:rPr sz="4000"/>
            </a:br>
            <a:r>
              <a:rPr b="1" i="1" lang="uk-UA" sz="4000" spc="-1" strike="noStrike" u="sng">
                <a:solidFill>
                  <a:srgbClr val="000066"/>
                </a:solidFill>
                <a:uFillTx/>
                <a:latin typeface="Arial"/>
              </a:rPr>
              <a:t>материк земної ку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Пов’язане зображення"/>
          <p:cNvPicPr/>
          <p:nvPr/>
        </p:nvPicPr>
        <p:blipFill>
          <a:blip r:embed="rId2"/>
          <a:stretch/>
        </p:blipFill>
        <p:spPr>
          <a:xfrm rot="20793000">
            <a:off x="394920" y="1916280"/>
            <a:ext cx="330516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Результат пошуку зображень за запитом &quot;фото африка&quot;"/>
          <p:cNvPicPr/>
          <p:nvPr/>
        </p:nvPicPr>
        <p:blipFill>
          <a:blip r:embed="rId3"/>
          <a:stretch/>
        </p:blipFill>
        <p:spPr>
          <a:xfrm>
            <a:off x="324000" y="4292640"/>
            <a:ext cx="331452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Пов’язане зображення"/>
          <p:cNvPicPr/>
          <p:nvPr/>
        </p:nvPicPr>
        <p:blipFill>
          <a:blip r:embed="rId4"/>
          <a:stretch/>
        </p:blipFill>
        <p:spPr>
          <a:xfrm rot="1324800">
            <a:off x="5364000" y="1989000"/>
            <a:ext cx="3438720" cy="1924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Результат пошуку зображень за запитом &quot;фото африка&quot;"/>
          <p:cNvPicPr/>
          <p:nvPr/>
        </p:nvPicPr>
        <p:blipFill>
          <a:blip r:embed="rId5"/>
          <a:stretch/>
        </p:blipFill>
        <p:spPr>
          <a:xfrm rot="1050600">
            <a:off x="4355640" y="3860280"/>
            <a:ext cx="34005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10:31:48Z</dcterms:created>
  <dc:creator>admin</dc:creator>
  <dc:description/>
  <dc:language>en-US</dc:language>
  <cp:lastModifiedBy>admin</cp:lastModifiedBy>
  <dcterms:modified xsi:type="dcterms:W3CDTF">2018-01-04T19:27:11Z</dcterms:modified>
  <cp:revision>27</cp:revision>
  <dc:subject/>
  <dc:title>Слайд 1</dc:title>
</cp:coreProperties>
</file>