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9.jpeg" ContentType="image/jpeg"/>
  <Override PartName="/ppt/media/image11.wmf" ContentType="image/x-wmf"/>
  <Override PartName="/ppt/media/image17.jpeg" ContentType="image/jpeg"/>
  <Override PartName="/ppt/media/image26.png" ContentType="image/png"/>
  <Override PartName="/ppt/media/image30.png" ContentType="image/png"/>
  <Override PartName="/ppt/media/image29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5.png" ContentType="image/png"/>
  <Override PartName="/ppt/media/image42.gif" ContentType="image/gif"/>
  <Override PartName="/ppt/media/image34.png" ContentType="image/png"/>
  <Override PartName="/ppt/media/image41.gif" ContentType="image/gif"/>
  <Override PartName="/ppt/media/image44.png" ContentType="image/png"/>
  <Override PartName="/ppt/media/image13.png" ContentType="image/png"/>
  <Override PartName="/ppt/media/image36.wmf" ContentType="image/x-wmf"/>
  <Override PartName="/ppt/media/image37.png" ContentType="image/png"/>
  <Override PartName="/ppt/media/image39.png" ContentType="image/png"/>
  <Override PartName="/ppt/media/image3.png" ContentType="image/png"/>
  <Override PartName="/ppt/media/image40.gif" ContentType="image/gif"/>
  <Override PartName="/ppt/media/image8.jpeg" ContentType="image/jpeg"/>
  <Override PartName="/ppt/media/image45.gif" ContentType="image/gif"/>
  <Override PartName="/ppt/media/image38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3.gif" ContentType="image/gif"/>
  <Override PartName="/ppt/media/image6.png" ContentType="image/png"/>
  <Override PartName="/ppt/media/image25.jpeg" ContentType="image/jpeg"/>
  <Override PartName="/ppt/media/image2.png" ContentType="image/png"/>
  <Override PartName="/ppt/media/image3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16D-4357-4E77-A56E-2D1A59C3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BC5E-7912-43E1-9745-6718F04A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F6457-4650-40B9-A8EC-DFED3928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BF60A-7107-48CC-8889-46A22D91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3A742-EA5B-410B-8E39-ADA2D249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AE179-6810-4B42-8FA4-EC3D8504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32A48-086F-4F4C-B8EC-F51A3D55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3A818-7B71-4ABE-9DDF-E2C7E02B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A8D48-5EA9-4F26-879D-B8CCC877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E022D-F9BF-4570-A151-53B0B88C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2D6B3-8E20-47A3-97BE-7CEAE7BF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EE11-55CE-453F-95C1-71546F22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46B6-25FC-4DE8-A27E-5BC78222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A5BF-AD04-4762-9602-A4754DBD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3887-C8C4-4AD4-B611-75F068B4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92BF-631A-44D3-97A0-F07A5BB3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0B7C-22C0-4DC7-9FB1-CBA839E9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30A6-4424-4A1E-A58B-D65DAAA0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4520-FFB6-487E-8847-CAC10B97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8A23-5074-4039-8202-16574D2A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AB6-D3F7-450B-A442-8D326627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2301-CD6B-484B-B7F0-B31AA9F5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6C74-4722-4D03-994B-72ADCBA8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1C55-1BC1-4ADA-B2E6-FEE2ED97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A07F-18A4-4DF4-B321-0AE3B748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02C7-6CF8-4118-A975-2815D9CE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EB0A6-B74D-430D-8CE2-30855D4C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D062D-A3B0-4831-903D-7D806E3B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2573E-CDDE-40E6-A072-2B55A521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10132-9725-4C48-A1CB-DCEDCE05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50326-783A-4913-AB58-D44E5B22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718-B2C7-414C-90C0-87C111A7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B0700-51E8-4014-B287-EB4645AB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52057-1693-4214-97E1-2B2F0353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E2789-0A4F-46FB-9975-A328E2E9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B14F6-A682-41F5-A64E-01E8C94A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7B8A5-F0C0-42F0-91E3-0E9B4C5D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6D791-2844-42D8-9094-3C23FAAF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0E2E5-3A9F-45A7-8E9E-D5A11904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86298-9D3E-4228-A4C5-9F761134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CF50A-BA8F-4550-A93D-0AB229ED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4E7DF-546F-45B4-A4FD-897F3208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C4D-CEF0-4F7B-AC69-5C5F0A7F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704B5-8B2C-43C8-AA98-3EA78FE2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3CC35-F900-45CF-AD3A-8BC08017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06904-924E-450A-872C-F72CD076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0F98C-D722-4301-9326-A1D2117F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CB924-3BDD-4663-93AB-E8EDEFFC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1E50E-FFCA-45B1-9B1A-47AB7A30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422EF-8151-486A-B351-2DE6F904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EC713-081E-4B4B-9172-985AA01A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AC63C-0749-4942-9881-924EEAD7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78289-7FE1-448B-98D4-226A80EE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C9A2-A944-4330-8607-03313A20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5E9AF-526B-4AE8-A1EA-4055DF63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76F87-E90C-49EA-AD5F-F56B4BAB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F92FA-73A5-4CC2-8FAA-BDDF534E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107DA-A601-45F7-A8F7-BF318976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D6D62-4A63-4CBA-8CC8-65AE00FD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AE640-1498-4009-914C-65187400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ABECB-B0A5-4600-8D6C-529226AB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D9450-E2C9-4C8B-91BA-3AE69316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040CD-CEAB-42BF-A7A5-F7E56DB5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0FCD1-FF5B-4A07-B1A5-D28F5A25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12D6-BFE7-4FC1-882D-2CDE1137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62B93-9F6E-4F7D-9FD7-07494F4D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86281-A36D-4E3C-ADF9-5090AD24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1F30D-12B6-40AB-89C6-87928E38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55704-4FCE-41A3-A2A7-B1BBCD1A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DB832-1A2B-4726-A2C5-19262F72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E5366-DF29-4D76-B624-87C02E33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24983-0A9E-4883-9E9F-23014E65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A0359-AD81-4448-9603-ED70BBA2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2099C-D920-4F2A-9075-AA604DC2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0530C-E808-4ED6-9263-707F9998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BD1C-FBA6-4AFD-9F65-3532AC4A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09581-0F4A-4AAD-9446-0B62DFF9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5B29A-A032-4E3B-9BAF-EB6F5E73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9127D-4F79-4EB2-AC18-1421C8E4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778F6-53D1-4DF3-9B1A-8C6DBD45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45D63-3DB9-455D-A63B-37B3701D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0B3E2-EE6B-411E-B339-B8065B8B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8E18B-E4E7-4545-8829-F64C9D86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0D8B3-5DEA-4166-8F9B-6B0500FF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85832-76FF-469D-81F5-3BF52538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DD987-E973-4A23-BCB6-95DD75EC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6B2C-DF74-47E3-872F-39349608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0CB91-E5F6-4643-B311-B47818AD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B6009-9D5D-407E-9893-8259EDAA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32DD8-8263-471C-B8D2-475ABDAC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02C9D-5A02-42DF-A2C8-9FF2C625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9FC8F-B957-445B-8A0C-CEFD6995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49854-0909-415A-8179-5715819C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3A29F-1A6A-4CA0-8B1D-1426C73A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7F767-90BE-478D-B3F5-361DC00D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29F05-DDC7-4C15-A831-A23C1DFE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168E8-B200-40F0-8DE8-14F406F3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E71E-3C9F-48CE-AD6C-85B5C95A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70A43-1142-4885-A3A5-D91F227A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A8A6A-6409-465C-A7F1-44E859DA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9B98F-4A1B-4B7F-94AE-691801B9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181CF-FF37-4A06-8722-BF2188F1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23FE2-A0D9-4BBF-8564-9AA08DB5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C85AB-8352-4D7D-810B-95C25200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785BF-6181-46C5-9812-2A4E4101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000E1-E5B6-4BB6-916C-A65D0EC9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0C96B-E9BD-443D-B5E4-97CFA5D3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871FC-FDEC-484A-8392-1DAEFA51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 сполучна ліні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C35E-50F3-4E3D-ABA2-9C99461CE0E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 сполучна ліні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" name="Пряма сполучна ліні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 сполучна ліні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21F4-4343-4669-A003-0F4E67A60FC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 сполучна ліні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7" name="Пряма сполучна ліні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Пряма сполучна ліні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7FCC-0614-44FD-82E0-D87AED57A32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 сполучна ліні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8F63-0EE0-4EA2-92BA-3E9731831C7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 сполучна ліні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4757-6261-4EE5-83A4-5419312D6A9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9E93-94B5-4DEF-B3B2-6E065CC2C88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 сполучна ліні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6BE5-5307-4E80-8C41-DADCD1C895A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7326-5786-47D2-8822-2C4716618FD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EB99-98F6-495F-83C2-188373EA3E0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image" Target="../media/image43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189000" y="-176040"/>
            <a:ext cx="8369280" cy="36684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C:\Users\Тетяна\Documents\img12.png"/>
          <p:cNvPicPr/>
          <p:nvPr/>
        </p:nvPicPr>
        <p:blipFill>
          <a:blip r:embed="rId2"/>
          <a:stretch/>
        </p:blipFill>
        <p:spPr>
          <a:xfrm>
            <a:off x="4017960" y="3141720"/>
            <a:ext cx="4933800" cy="33433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C:\Users\Тетяна\Documents\завантаження.jpg"/>
          <p:cNvPicPr/>
          <p:nvPr/>
        </p:nvPicPr>
        <p:blipFill>
          <a:blip r:embed="rId3"/>
          <a:stretch/>
        </p:blipFill>
        <p:spPr>
          <a:xfrm>
            <a:off x="511200" y="3357720"/>
            <a:ext cx="3240000" cy="312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469800" y="5443560"/>
            <a:ext cx="8229600" cy="12812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Jan10712"/>
          <p:cNvPicPr/>
          <p:nvPr/>
        </p:nvPicPr>
        <p:blipFill>
          <a:blip r:embed="rId2"/>
          <a:stretch/>
        </p:blipFill>
        <p:spPr>
          <a:xfrm>
            <a:off x="0" y="19080"/>
            <a:ext cx="9144000" cy="5570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469800" y="5261040"/>
            <a:ext cx="8229600" cy="16398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Jan10713"/>
          <p:cNvPicPr/>
          <p:nvPr/>
        </p:nvPicPr>
        <p:blipFill>
          <a:blip r:embed="rId2"/>
          <a:stretch/>
        </p:blipFill>
        <p:spPr>
          <a:xfrm>
            <a:off x="0" y="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396720" y="5029200"/>
            <a:ext cx="8229600" cy="148752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" descr="3.jpg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52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469800" y="5241960"/>
            <a:ext cx="8229600" cy="14936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Jan10715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5157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396720" y="5315040"/>
            <a:ext cx="8229600" cy="149364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1" descr="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396720" y="5102280"/>
            <a:ext cx="8229600" cy="148752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1" descr="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2" descr=""/>
          <p:cNvPicPr/>
          <p:nvPr/>
        </p:nvPicPr>
        <p:blipFill>
          <a:blip r:embed="rId1"/>
          <a:stretch/>
        </p:blipFill>
        <p:spPr>
          <a:xfrm>
            <a:off x="324000" y="5157720"/>
            <a:ext cx="8229600" cy="1339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Jan10720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5327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324000" y="5473800"/>
            <a:ext cx="8229600" cy="1646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Jan10727"/>
          <p:cNvPicPr/>
          <p:nvPr/>
        </p:nvPicPr>
        <p:blipFill>
          <a:blip r:embed="rId2"/>
          <a:stretch/>
        </p:blipFill>
        <p:spPr>
          <a:xfrm>
            <a:off x="-108000" y="0"/>
            <a:ext cx="9360000" cy="5146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Місце для вмісту 7" descr=""/>
          <p:cNvPicPr/>
          <p:nvPr/>
        </p:nvPicPr>
        <p:blipFill>
          <a:blip r:embed="rId1"/>
          <a:stretch/>
        </p:blipFill>
        <p:spPr>
          <a:xfrm>
            <a:off x="4392720" y="3583080"/>
            <a:ext cx="509400" cy="469800"/>
          </a:xfrm>
          <a:prstGeom prst="rect">
            <a:avLst/>
          </a:prstGeom>
          <a:ln w="0">
            <a:noFill/>
          </a:ln>
        </p:spPr>
      </p:pic>
      <p:sp>
        <p:nvSpPr>
          <p:cNvPr id="448" name="Овал 16"/>
          <p:cNvSpPr/>
          <p:nvPr/>
        </p:nvSpPr>
        <p:spPr>
          <a:xfrm>
            <a:off x="-76320" y="1481040"/>
            <a:ext cx="3527640" cy="195264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wasche mich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9" name="Овал 18"/>
          <p:cNvSpPr/>
          <p:nvPr/>
        </p:nvSpPr>
        <p:spPr>
          <a:xfrm>
            <a:off x="5713560" y="1833480"/>
            <a:ext cx="3600360" cy="17049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, sie, es wäscht sich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Овал 19"/>
          <p:cNvSpPr/>
          <p:nvPr/>
        </p:nvSpPr>
        <p:spPr>
          <a:xfrm>
            <a:off x="3562200" y="-22320"/>
            <a:ext cx="2305080" cy="27147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 wäscht dich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1" name="Овал 21"/>
          <p:cNvSpPr/>
          <p:nvPr/>
        </p:nvSpPr>
        <p:spPr>
          <a:xfrm>
            <a:off x="3451320" y="4510080"/>
            <a:ext cx="2415960" cy="25542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r wascht euch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Овал 22"/>
          <p:cNvSpPr/>
          <p:nvPr/>
        </p:nvSpPr>
        <p:spPr>
          <a:xfrm>
            <a:off x="5603760" y="3789360"/>
            <a:ext cx="3527640" cy="179064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 waschen un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Овал 23"/>
          <p:cNvSpPr/>
          <p:nvPr/>
        </p:nvSpPr>
        <p:spPr>
          <a:xfrm>
            <a:off x="-76320" y="3789360"/>
            <a:ext cx="3527640" cy="20160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, Sie waschen sich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Овал 26"/>
          <p:cNvSpPr/>
          <p:nvPr/>
        </p:nvSpPr>
        <p:spPr>
          <a:xfrm>
            <a:off x="2889360" y="2670120"/>
            <a:ext cx="3456000" cy="1984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Franklin Gothic Book"/>
              </a:rPr>
              <a:t>Ichsissssssssssssssssssich i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55" name="Прямокутник 24" descr=""/>
          <p:cNvPicPr/>
          <p:nvPr/>
        </p:nvPicPr>
        <p:blipFill>
          <a:blip r:embed="rId2"/>
          <a:stretch/>
        </p:blipFill>
        <p:spPr>
          <a:xfrm>
            <a:off x="3035160" y="2755800"/>
            <a:ext cx="3402000" cy="2359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14400" y="22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95"/>
          <p:cNvPicPr/>
          <p:nvPr/>
        </p:nvPicPr>
        <p:blipFill>
          <a:blip r:embed="rId1"/>
          <a:stretch/>
        </p:blipFill>
        <p:spPr>
          <a:xfrm>
            <a:off x="2987640" y="692280"/>
            <a:ext cx="3529080" cy="20890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зарядка1"/>
          <p:cNvPicPr/>
          <p:nvPr/>
        </p:nvPicPr>
        <p:blipFill>
          <a:blip r:embed="rId2"/>
          <a:stretch/>
        </p:blipFill>
        <p:spPr>
          <a:xfrm>
            <a:off x="611280" y="404640"/>
            <a:ext cx="2119320" cy="30258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6516720" y="4292640"/>
            <a:ext cx="2376360" cy="21733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takeshower"/>
          <p:cNvPicPr/>
          <p:nvPr/>
        </p:nvPicPr>
        <p:blipFill>
          <a:blip r:embed="rId4"/>
          <a:stretch/>
        </p:blipFill>
        <p:spPr>
          <a:xfrm>
            <a:off x="152280" y="3706920"/>
            <a:ext cx="2554560" cy="28810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3" descr=""/>
          <p:cNvPicPr/>
          <p:nvPr/>
        </p:nvPicPr>
        <p:blipFill>
          <a:blip r:embed="rId5"/>
          <a:stretch/>
        </p:blipFill>
        <p:spPr>
          <a:xfrm>
            <a:off x="6516720" y="692280"/>
            <a:ext cx="2116080" cy="2519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C:\Users\Тетяна\Documents\15429742.gif"/>
          <p:cNvPicPr/>
          <p:nvPr/>
        </p:nvPicPr>
        <p:blipFill>
          <a:blip r:embed="rId6"/>
          <a:stretch/>
        </p:blipFill>
        <p:spPr>
          <a:xfrm>
            <a:off x="2612880" y="3686040"/>
            <a:ext cx="3903840" cy="288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480960" y="476280"/>
            <a:ext cx="8663040" cy="1285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C:\Users\Тетяна\Documents\1.gif"/>
          <p:cNvPicPr/>
          <p:nvPr/>
        </p:nvPicPr>
        <p:blipFill>
          <a:blip r:embed="rId2"/>
          <a:stretch/>
        </p:blipFill>
        <p:spPr>
          <a:xfrm>
            <a:off x="-12600" y="3860640"/>
            <a:ext cx="2820960" cy="28990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C:\Users\Тетяна\Documents\Smiley-Dancing-Graphic-smile26.gif"/>
          <p:cNvPicPr/>
          <p:nvPr/>
        </p:nvPicPr>
        <p:blipFill>
          <a:blip r:embed="rId3"/>
          <a:stretch/>
        </p:blipFill>
        <p:spPr>
          <a:xfrm>
            <a:off x="5580000" y="1027080"/>
            <a:ext cx="3378240" cy="34560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C:\Users\Тетяна\Documents\a04a27f2c2474b75d818aacdd6c19fe3.gif"/>
          <p:cNvPicPr/>
          <p:nvPr/>
        </p:nvPicPr>
        <p:blipFill>
          <a:blip r:embed="rId4"/>
          <a:stretch/>
        </p:blipFill>
        <p:spPr>
          <a:xfrm>
            <a:off x="5745240" y="44737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C:\Users\Тетяна\Downloads\f0193bf89cd4c10e0be63c21f437ec28.gif"/>
          <p:cNvPicPr/>
          <p:nvPr/>
        </p:nvPicPr>
        <p:blipFill>
          <a:blip r:embed="rId5"/>
          <a:stretch/>
        </p:blipFill>
        <p:spPr>
          <a:xfrm>
            <a:off x="1979640" y="1557360"/>
            <a:ext cx="3571920" cy="2735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Rectangle 2" descr=""/>
          <p:cNvPicPr/>
          <p:nvPr/>
        </p:nvPicPr>
        <p:blipFill>
          <a:blip r:embed="rId1"/>
          <a:stretch/>
        </p:blipFill>
        <p:spPr>
          <a:xfrm>
            <a:off x="414360" y="285840"/>
            <a:ext cx="8474040" cy="28224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C:\Users\Тетяна\Documents\oIYty1QRDj.jpg"/>
          <p:cNvPicPr/>
          <p:nvPr/>
        </p:nvPicPr>
        <p:blipFill>
          <a:blip r:embed="rId2"/>
          <a:stretch/>
        </p:blipFill>
        <p:spPr>
          <a:xfrm>
            <a:off x="684360" y="3068640"/>
            <a:ext cx="7345080" cy="3344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620280"/>
            <a:ext cx="8362800" cy="5505480"/>
          </a:xfrm>
          <a:prstGeom prst="rect">
            <a:avLst/>
          </a:prstGeom>
          <a:noFill/>
          <a:ln w="38160">
            <a:solidFill>
              <a:srgbClr val="f0a22e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9900cc"/>
                </a:solidFill>
                <a:latin typeface="Franklin Gothic Book"/>
              </a:rPr>
              <a:t>Das Thema </a:t>
            </a:r>
            <a:endParaRPr b="0" lang="en-US" sz="6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9900cc"/>
                </a:solidFill>
                <a:latin typeface="Franklin Gothic Book"/>
              </a:rPr>
              <a:t>unserer Stunde hei</a:t>
            </a:r>
            <a:r>
              <a:rPr b="1" lang="el-GR" sz="6700" spc="-1" strike="noStrike">
                <a:solidFill>
                  <a:srgbClr val="9900cc"/>
                </a:solidFill>
                <a:latin typeface="Franklin Gothic Book"/>
              </a:rPr>
              <a:t>β</a:t>
            </a:r>
            <a:r>
              <a:rPr b="1" lang="en-US" sz="6700" spc="-1" strike="noStrike">
                <a:solidFill>
                  <a:srgbClr val="9900cc"/>
                </a:solidFill>
                <a:latin typeface="Franklin Gothic Book"/>
              </a:rPr>
              <a:t>t</a:t>
            </a:r>
            <a:endParaRPr b="0" lang="en-US" sz="6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cc3300"/>
                </a:solidFill>
                <a:latin typeface="Franklin Gothic Book"/>
              </a:rPr>
              <a:t> </a:t>
            </a:r>
            <a:r>
              <a:rPr b="1" lang="ru-RU" sz="6700" spc="-1" strike="noStrike">
                <a:solidFill>
                  <a:srgbClr val="9900cc"/>
                </a:solidFill>
                <a:latin typeface="Franklin Gothic Book"/>
              </a:rPr>
              <a:t>«</a:t>
            </a:r>
            <a:r>
              <a:rPr b="1" lang="en-US" sz="6700" spc="-1" strike="noStrike">
                <a:solidFill>
                  <a:srgbClr val="9900cc"/>
                </a:solidFill>
                <a:latin typeface="Franklin Gothic Book"/>
              </a:rPr>
              <a:t>Mein Tagesablauf</a:t>
            </a:r>
            <a:r>
              <a:rPr b="1" lang="ru-RU" sz="6700" spc="-1" strike="noStrike">
                <a:solidFill>
                  <a:srgbClr val="9900cc"/>
                </a:solidFill>
                <a:latin typeface="Franklin Gothic Book"/>
              </a:rPr>
              <a:t>»</a:t>
            </a:r>
            <a:endParaRPr b="0" lang="en-US" sz="6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304920" y="249120"/>
            <a:ext cx="8686800" cy="14875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Ich strecke mich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(витягаюся)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und gähne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(позіхаю)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Dann putze ich meine Zähne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Dann wasche ich mich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d trockne ich mich ab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Ich ziehe mich sehr schnell an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Kämme mich und frühstücke fein (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добре)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nn gehe ich zur Schul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d treffe meine Klass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4" descr=""/>
          <p:cNvPicPr/>
          <p:nvPr/>
        </p:nvPicPr>
        <p:blipFill>
          <a:blip r:embed="rId1"/>
          <a:stretch/>
        </p:blipFill>
        <p:spPr>
          <a:xfrm>
            <a:off x="304920" y="328680"/>
            <a:ext cx="8686800" cy="13176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68000" y="1600200"/>
            <a:ext cx="40273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a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</a:t>
            </a:r>
            <a:r>
              <a:rPr b="1" lang="de-DE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f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– </a:t>
            </a:r>
            <a:r>
              <a:rPr b="1" lang="de-DE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t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– – </a:t>
            </a:r>
            <a:r>
              <a:rPr b="1" lang="de-DE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e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sch –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–</a:t>
            </a: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f – n     ge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– </a:t>
            </a: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en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f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ü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</a:t>
            </a:r>
            <a:r>
              <a:rPr b="1" lang="de-DE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st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  </a:t>
            </a:r>
            <a:r>
              <a:rPr b="1" lang="de-DE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k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</a:t>
            </a:r>
            <a:r>
              <a:rPr b="1" lang="de-DE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wa -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de-DE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ch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</a:t>
            </a:r>
            <a:r>
              <a:rPr b="1" lang="de-DE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</a:t>
            </a:r>
            <a:r>
              <a:rPr b="0" lang="de-DE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sich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a – z – eh –  –</a:t>
            </a:r>
            <a:r>
              <a:rPr b="0" lang="de-DE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(sich)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a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</a:t>
            </a:r>
            <a:r>
              <a:rPr b="1" lang="de-DE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tro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– </a:t>
            </a:r>
            <a:r>
              <a:rPr b="1" lang="de-DE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n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–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de-DE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</a:t>
            </a:r>
            <a:r>
              <a:rPr b="0" lang="de-DE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sich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k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–  </a:t>
            </a:r>
            <a:r>
              <a:rPr b="1" lang="de-DE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m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 –  </a:t>
            </a:r>
            <a:r>
              <a:rPr b="1" lang="de-DE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(</a:t>
            </a:r>
            <a:r>
              <a:rPr b="0" lang="de-DE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sich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die Z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– </a:t>
            </a:r>
            <a:r>
              <a:rPr b="1" lang="de-DE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–   </a:t>
            </a:r>
            <a:r>
              <a:rPr b="1" lang="de-DE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p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– </a:t>
            </a:r>
            <a:r>
              <a:rPr b="1" lang="de-DE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t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– – </a:t>
            </a:r>
            <a:r>
              <a:rPr b="1" lang="de-DE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das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– – </a:t>
            </a: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tt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m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–</a:t>
            </a: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– </a:t>
            </a: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642920" y="1789200"/>
            <a:ext cx="4038840" cy="50688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u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eh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ch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la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 ge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h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</a:t>
            </a:r>
            <a:r>
              <a:rPr b="0" lang="de-DE" sz="3200" spc="-1" strike="noStrike">
                <a:solidFill>
                  <a:srgbClr val="ff0000"/>
                </a:solidFill>
                <a:latin typeface="Franklin Gothic Book"/>
              </a:rPr>
              <a:t>r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ü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h</a:t>
            </a:r>
            <a:r>
              <a:rPr b="0" lang="de-DE" sz="3200" spc="-1" strike="noStrike">
                <a:solidFill>
                  <a:srgbClr val="4e3b30"/>
                </a:solidFill>
                <a:latin typeface="Franklin Gothic Book"/>
              </a:rPr>
              <a:t>st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üc</a:t>
            </a:r>
            <a:r>
              <a:rPr b="0" lang="de-DE" sz="3200" spc="-1" strike="noStrike">
                <a:solidFill>
                  <a:srgbClr val="4e3b30"/>
                </a:solidFill>
                <a:latin typeface="Franklin Gothic Book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e</a:t>
            </a:r>
            <a:r>
              <a:rPr b="0" lang="de-DE" sz="3200" spc="-1" strike="noStrike">
                <a:solidFill>
                  <a:srgbClr val="4e3b30"/>
                </a:solidFill>
                <a:latin typeface="Franklin Gothic Book"/>
              </a:rPr>
              <a:t>n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ch wa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ch a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n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i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h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e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ch a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b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ro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ck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ch k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ä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m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ie Z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äh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p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u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z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as 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B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t m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h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30240" y="365040"/>
            <a:ext cx="8905680" cy="11034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ufstehe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orgengymnastik mache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</a:t>
            </a:r>
            <a:r>
              <a:rPr b="0" lang="de-DE" sz="2800" spc="-1" strike="noStrike">
                <a:solidFill>
                  <a:srgbClr val="4e3b30"/>
                </a:solidFill>
                <a:latin typeface="Franklin Gothic Book"/>
              </a:rPr>
              <a:t>r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üh</a:t>
            </a:r>
            <a:r>
              <a:rPr b="0" lang="de-DE" sz="2800" spc="-1" strike="noStrike">
                <a:solidFill>
                  <a:srgbClr val="4e3b30"/>
                </a:solidFill>
                <a:latin typeface="Franklin Gothic Book"/>
              </a:rPr>
              <a:t>st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üc</a:t>
            </a:r>
            <a:r>
              <a:rPr b="0" lang="de-DE" sz="2800" spc="-1" strike="noStrike">
                <a:solidFill>
                  <a:srgbClr val="4e3b30"/>
                </a:solidFill>
                <a:latin typeface="Franklin Gothic Book"/>
              </a:rPr>
              <a:t>k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</a:t>
            </a:r>
            <a:r>
              <a:rPr b="0" lang="de-DE" sz="2800" spc="-1" strike="noStrike">
                <a:solidFill>
                  <a:srgbClr val="4e3b30"/>
                </a:solidFill>
                <a:latin typeface="Franklin Gothic Book"/>
              </a:rPr>
              <a:t>n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ich dusche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ich anziehe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ich abtrocknen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ich kämme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ie Zähne putze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as Bett mache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снідати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иймати душ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дягатис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стават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итиратис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истити зуб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обити ранкову зарядк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застеляти ліжк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ичісуватис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Line 7"/>
          <p:cNvSpPr/>
          <p:nvPr/>
        </p:nvSpPr>
        <p:spPr>
          <a:xfrm>
            <a:off x="2340000" y="1916280"/>
            <a:ext cx="2735280" cy="126828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8" name="Line 9"/>
          <p:cNvSpPr/>
          <p:nvPr/>
        </p:nvSpPr>
        <p:spPr>
          <a:xfrm>
            <a:off x="3124080" y="2425680"/>
            <a:ext cx="1800360" cy="2155680"/>
          </a:xfrm>
          <a:prstGeom prst="line">
            <a:avLst/>
          </a:prstGeom>
          <a:ln w="5724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9" name="Line 10"/>
          <p:cNvSpPr/>
          <p:nvPr/>
        </p:nvSpPr>
        <p:spPr>
          <a:xfrm flipV="1">
            <a:off x="2627280" y="1915920"/>
            <a:ext cx="2376360" cy="108108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Line 11"/>
          <p:cNvSpPr/>
          <p:nvPr/>
        </p:nvSpPr>
        <p:spPr>
          <a:xfrm flipV="1">
            <a:off x="2627280" y="2425680"/>
            <a:ext cx="2448000" cy="1130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1" name="Line 12"/>
          <p:cNvSpPr/>
          <p:nvPr/>
        </p:nvSpPr>
        <p:spPr>
          <a:xfrm flipV="1">
            <a:off x="2811600" y="2781000"/>
            <a:ext cx="2425680" cy="1244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2" name="Line 13"/>
          <p:cNvSpPr/>
          <p:nvPr/>
        </p:nvSpPr>
        <p:spPr>
          <a:xfrm>
            <a:off x="2811600" y="5106960"/>
            <a:ext cx="2270160" cy="669960"/>
          </a:xfrm>
          <a:prstGeom prst="line">
            <a:avLst/>
          </a:prstGeom>
          <a:ln w="5724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Line 14"/>
          <p:cNvSpPr/>
          <p:nvPr/>
        </p:nvSpPr>
        <p:spPr>
          <a:xfrm flipV="1">
            <a:off x="3068640" y="3561840"/>
            <a:ext cx="2305080" cy="100836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4" name="Line 15"/>
          <p:cNvSpPr/>
          <p:nvPr/>
        </p:nvSpPr>
        <p:spPr>
          <a:xfrm flipV="1">
            <a:off x="3286080" y="4255560"/>
            <a:ext cx="1951200" cy="118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5" name="Line 16"/>
          <p:cNvSpPr/>
          <p:nvPr/>
        </p:nvSpPr>
        <p:spPr>
          <a:xfrm flipV="1">
            <a:off x="3203640" y="5589720"/>
            <a:ext cx="1800000" cy="50328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e3b30"/>
                </a:solidFill>
                <a:latin typeface="Franklin Gothic Book"/>
              </a:rPr>
              <a:t>Was macht Sven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e3b30"/>
                </a:solidFill>
                <a:latin typeface="Franklin Gothic Book"/>
              </a:rPr>
              <a:t>täglich?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Jan10711"/>
          <p:cNvPicPr/>
          <p:nvPr/>
        </p:nvPicPr>
        <p:blipFill>
          <a:blip r:embed="rId1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684000" y="5157720"/>
            <a:ext cx="828036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e3b30"/>
                </a:solidFill>
                <a:latin typeface="Franklin Gothic Book"/>
              </a:rPr>
              <a:t>Sven steht um 7 Uhr auf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circl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609480" y="5157720"/>
            <a:ext cx="8229600" cy="133992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1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15:09Z</dcterms:created>
  <dc:creator>Александра</dc:creator>
  <dc:description/>
  <dc:language>en-US</dc:language>
  <cp:lastModifiedBy>Тетяна</cp:lastModifiedBy>
  <dcterms:modified xsi:type="dcterms:W3CDTF">2018-02-03T19:10:48Z</dcterms:modified>
  <cp:revision>53</cp:revision>
  <dc:subject/>
  <dc:title>Слайд 1</dc:title>
</cp:coreProperties>
</file>